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9774238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77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3173400" y="515520"/>
            <a:ext cx="3425760" cy="256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303200" y="3257640"/>
            <a:ext cx="716760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031680" y="6486120"/>
            <a:ext cx="9298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FED6E-2FA5-4CC9-B209-5B534B090359}" type="slidenum">
              <a:rPr b="0" lang="es-ES_trad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body"/>
          </p:nvPr>
        </p:nvSpPr>
        <p:spPr>
          <a:xfrm>
            <a:off x="1303200" y="3257640"/>
            <a:ext cx="716760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EL INCENTIVO A INVERTIR EN INVESTIGACION ES EL DESARROLLO DE NUEVOS PRODUCTOS QUE NO TENGAN COMPETENCIA EN EL MERCAD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ldImg"/>
          </p:nvPr>
        </p:nvSpPr>
        <p:spPr>
          <a:xfrm>
            <a:off x="3173400" y="515880"/>
            <a:ext cx="3425760" cy="2568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03840" y="7920"/>
            <a:ext cx="17536680" cy="13677480"/>
            <a:chOff x="-8403840" y="7920"/>
            <a:chExt cx="17536680" cy="1367748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0000ff"/>
                </a:gs>
                <a:gs pos="100000">
                  <a:srgbClr val="0000c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03840" y="7920"/>
              <a:ext cx="16807680" cy="13677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5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5905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cc00"/>
                </a:solidFill>
                <a:latin typeface="Arial"/>
              </a:rPr>
              <a:t>Propiedad Industrial: PATENTES </a:t>
            </a:r>
            <a:br>
              <a:rPr sz="4400"/>
            </a:b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852360" y="4869000"/>
            <a:ext cx="141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f0e30"/>
                </a:solidFill>
                <a:latin typeface="Times New Roman"/>
              </a:rPr>
              <a:t>In 56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8680" y="213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6bf69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6bf69"/>
                </a:solidFill>
                <a:latin typeface="Arial"/>
              </a:rPr>
              <a:t>QUE ES EL DEPARTAMENTO DE PROPIEDAD INDUSTRIAL</a:t>
            </a:r>
            <a:endParaRPr b="0" lang="en-US" sz="36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84120" y="1771200"/>
            <a:ext cx="8508960" cy="470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s un servicio público centralizado, perteneciente al Ministerio de Economía, Fomento y Reconstrucció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ontribuye a que el país adquiera conciencia, acerca de las protecciones y beneficios que le ofrece la propiedad industria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s un organismo que promueve y gestiona la política de propiedad industria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8520" y="168120"/>
            <a:ext cx="8810640" cy="1170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6bf69"/>
                </a:solidFill>
                <a:latin typeface="Arial"/>
              </a:rPr>
              <a:t>FUNCIONES DEL DEPARTAMENTO DE PROPIEDAD INDUSTRIAL</a:t>
            </a:r>
            <a:endParaRPr b="0" lang="en-US" sz="36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4760" y="1779480"/>
            <a:ext cx="8207280" cy="471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esolver las solicitudes de derechos de propiedad industrial: Privilegios industria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onceder los títulos y certificaciones cuando correspond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antener los registros de privilegios inscritos 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Ofrecer servicios de información tecnológica de su base de datos a nivel mundial.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6bf69"/>
                </a:solidFill>
                <a:latin typeface="Arial"/>
              </a:rPr>
              <a:t>CONVENIO DE PARIS</a:t>
            </a: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Patentes de invenció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Modelos de utilida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ibujos y modelos industria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Las marcas de fábrica o de comerci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Las indicaciones de procedencia o denominaciones de orig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La represión a la competencia desleal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37" dur="2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55640" y="361800"/>
            <a:ext cx="8067600" cy="906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6bf69"/>
                </a:solidFill>
                <a:latin typeface="Arial"/>
              </a:rPr>
              <a:t>Principios Básicos</a:t>
            </a:r>
            <a:r>
              <a:rPr b="1" lang="en-US" sz="3200" spc="-1" strike="noStrike">
                <a:solidFill>
                  <a:srgbClr val="f6bf69"/>
                </a:solidFill>
                <a:latin typeface="Arial"/>
              </a:rPr>
              <a:t>:</a:t>
            </a:r>
            <a:br>
              <a:rPr sz="3200"/>
            </a:br>
            <a:endParaRPr b="0" lang="en-US" sz="32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76280" y="1198440"/>
            <a:ext cx="8207280" cy="536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RATO NACIONAL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: Cada Estado contratante deberá conceder a los nacionales de los otros estados miembros, la misma protección que a sus propios nacional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DERECHO DE PRIORIDAD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:  Derecho preferente de protecció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INDEPENDENCIA DE LAS PATENTES Y MARCAS COMERCIAL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0" dur="50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851400" y="360360"/>
            <a:ext cx="71888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ROTECCION DE DERECHOS INTELECTUA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Y TECNOLOGIC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195720" y="1442880"/>
            <a:ext cx="2448000" cy="5151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MINISTERIO 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GRICULTUR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195720" y="2509920"/>
            <a:ext cx="2448000" cy="3020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UBSECRETARI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195720" y="3348000"/>
            <a:ext cx="2448000" cy="7282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.A.O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ERVICIO AGRICOLA Y GANADER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195720" y="4643280"/>
            <a:ext cx="2448000" cy="5151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DIVISION DE PROTECCION AGRICOL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052800" y="5710320"/>
            <a:ext cx="2809800" cy="6264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REGISTRO DE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VARIEDADES PROTEGIDA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419720" y="1987560"/>
            <a:ext cx="0" cy="52056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419720" y="2901960"/>
            <a:ext cx="0" cy="44460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419720" y="4121280"/>
            <a:ext cx="0" cy="52056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419720" y="5187960"/>
            <a:ext cx="0" cy="52056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440" y="1193760"/>
            <a:ext cx="31615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82520" indent="-182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Tema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82520" indent="-182520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Protección de l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82520" indent="-182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derechos de obtentor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82520" indent="-182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de variedades vegetales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82520" indent="-182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UPV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82520" indent="-182520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Denominaciones de oríg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82520" indent="-182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decreto 46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052720" y="833400"/>
            <a:ext cx="53434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ERC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778040" y="863640"/>
            <a:ext cx="5816520" cy="482400"/>
          </a:xfrm>
          <a:prstGeom prst="rect">
            <a:avLst/>
          </a:prstGeom>
          <a:noFill/>
          <a:ln w="507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128680" y="1519200"/>
            <a:ext cx="695520" cy="40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070000" y="1384200"/>
            <a:ext cx="736560" cy="3708360"/>
          </a:xfrm>
          <a:prstGeom prst="rect">
            <a:avLst/>
          </a:prstGeom>
          <a:noFill/>
          <a:ln w="255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262400" y="1519200"/>
            <a:ext cx="695520" cy="40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280040" y="1384200"/>
            <a:ext cx="736560" cy="3708360"/>
          </a:xfrm>
          <a:prstGeom prst="rect">
            <a:avLst/>
          </a:prstGeom>
          <a:noFill/>
          <a:ln w="255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778040" y="5130720"/>
            <a:ext cx="5816520" cy="482760"/>
          </a:xfrm>
          <a:prstGeom prst="rect">
            <a:avLst/>
          </a:prstGeom>
          <a:noFill/>
          <a:ln w="507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950280" y="5160960"/>
            <a:ext cx="1786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f0e30"/>
                </a:solidFill>
                <a:latin typeface="Times New Roman"/>
              </a:rPr>
              <a:t>PATEN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499080" y="1376280"/>
            <a:ext cx="736920" cy="3708360"/>
          </a:xfrm>
          <a:prstGeom prst="rect">
            <a:avLst/>
          </a:prstGeom>
          <a:noFill/>
          <a:ln w="255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469200" y="1522440"/>
            <a:ext cx="695160" cy="40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6bf69"/>
                </a:solidFill>
                <a:latin typeface="Arial"/>
              </a:rPr>
              <a:t>COMPETENCIA</a:t>
            </a:r>
            <a:endParaRPr b="0" lang="en-US" sz="28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39640" y="1987200"/>
            <a:ext cx="2502000" cy="8254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-343080" algn="ctr">
              <a:spcBef>
                <a:spcPts val="45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MPRESA      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RODUCTO X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1378080" y="4425480"/>
            <a:ext cx="6540480" cy="9781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RCA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4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 COMPITE LIBREMENTE POR EL PRODUCTO 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359160" y="1987560"/>
            <a:ext cx="2502000" cy="8254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 algn="ctr">
              <a:spcBef>
                <a:spcPts val="45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MPRESA        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RODUCTO X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330960" y="1987560"/>
            <a:ext cx="2502000" cy="8254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 algn="ctr">
              <a:spcBef>
                <a:spcPts val="45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MPRESA        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RODUCTO X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828800" y="2825640"/>
            <a:ext cx="0" cy="15876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648320" y="2825640"/>
            <a:ext cx="0" cy="15876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620120" y="2825640"/>
            <a:ext cx="0" cy="15876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685800" y="6094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CENTIVO A INVERTIR EN INVESTIGACION</a:t>
            </a:r>
            <a:br>
              <a:rPr sz="2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sarrollar nuevos productos y ganar con una patente en el merca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39640" y="1987560"/>
            <a:ext cx="2502000" cy="8254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 algn="ctr">
              <a:spcBef>
                <a:spcPts val="45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MPRESA      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RODUCTO 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378080" y="4425840"/>
            <a:ext cx="6540480" cy="5209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 algn="ctr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RCA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359160" y="1987560"/>
            <a:ext cx="2502000" cy="8254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 algn="ctr">
              <a:spcBef>
                <a:spcPts val="45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MPRESA        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RODUCTO X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330960" y="1987560"/>
            <a:ext cx="2502000" cy="8254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 algn="ctr">
              <a:spcBef>
                <a:spcPts val="45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MPRESA        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RODUCTO X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828800" y="2825640"/>
            <a:ext cx="0" cy="15876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648320" y="2825640"/>
            <a:ext cx="0" cy="15876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620120" y="2825640"/>
            <a:ext cx="0" cy="15876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378080" y="4959360"/>
            <a:ext cx="4101840" cy="6732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661040" y="5130720"/>
            <a:ext cx="35755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RODUCTO Y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(CON PATENTE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492880" y="4959360"/>
            <a:ext cx="2425680" cy="6732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776200" y="5130720"/>
            <a:ext cx="18028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RODUCTO 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0160" y="517680"/>
            <a:ext cx="859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847800" y="1617840"/>
            <a:ext cx="1519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</a:rPr>
              <a:t>EST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38800" y="3301920"/>
            <a:ext cx="1524240" cy="3938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Times New Roman"/>
              </a:rPr>
              <a:t>PATENT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43720" y="4444920"/>
            <a:ext cx="3174840" cy="857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00"/>
                </a:solidFill>
                <a:latin typeface="Times New Roman"/>
              </a:rPr>
              <a:t>EMPRES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DESARROLL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RODUCTO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858600" y="5923080"/>
            <a:ext cx="1787760" cy="4546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7a5"/>
                </a:solidFill>
                <a:latin typeface="Times New Roman"/>
              </a:rPr>
              <a:t>MERC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256000" y="1655640"/>
            <a:ext cx="2903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</a:rPr>
              <a:t>BANCO DE DAT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521080" y="1606680"/>
            <a:ext cx="2654280" cy="520560"/>
          </a:xfrm>
          <a:prstGeom prst="rightArrow">
            <a:avLst>
              <a:gd name="adj1" fmla="val 50000"/>
              <a:gd name="adj2" fmla="val 254968"/>
            </a:avLst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92280" y="1378080"/>
            <a:ext cx="1815840" cy="9014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187960" y="1378080"/>
            <a:ext cx="3035160" cy="10540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628720" y="1693800"/>
            <a:ext cx="12970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DMINISTR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296040" y="2432160"/>
            <a:ext cx="361440" cy="276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rot="16200000">
            <a:off x="4883040" y="3663720"/>
            <a:ext cx="3111480" cy="673200"/>
          </a:xfrm>
          <a:prstGeom prst="rightArrow">
            <a:avLst>
              <a:gd name="adj1" fmla="val 50000"/>
              <a:gd name="adj2" fmla="val 231117"/>
            </a:avLst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693760" y="5770440"/>
            <a:ext cx="15681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PUBLIC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362320" y="2438280"/>
            <a:ext cx="3201840" cy="1068480"/>
          </a:xfrm>
          <a:custGeom>
            <a:avLst/>
            <a:gdLst/>
            <a:ahLst/>
            <a:rect l="l" t="t" r="r" b="b"/>
            <a:pathLst>
              <a:path w="2017" h="673">
                <a:moveTo>
                  <a:pt x="0" y="672"/>
                </a:moveTo>
                <a:lnTo>
                  <a:pt x="2016" y="672"/>
                </a:lnTo>
                <a:lnTo>
                  <a:pt x="2016" y="0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523880" y="2292480"/>
            <a:ext cx="0" cy="9777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523880" y="3740040"/>
            <a:ext cx="0" cy="6732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523880" y="5340240"/>
            <a:ext cx="0" cy="5968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¿QUE GANA EL ESTADO CON OTORGAR UNA PATENTE?</a:t>
            </a:r>
            <a:endParaRPr b="0" lang="en-US" sz="2400" spc="-1" strike="noStrike">
              <a:solidFill>
                <a:srgbClr val="f6bf69"/>
              </a:solidFill>
              <a:latin typeface="Arial"/>
            </a:endParaRPr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6bf69"/>
                </a:solidFill>
                <a:uFillTx/>
                <a:latin typeface="Arial"/>
              </a:rPr>
              <a:t>REQUISITOS DE PATENTABILIDAD</a:t>
            </a:r>
            <a:endParaRPr b="0" lang="en-US" sz="36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0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PLICACION INDUSTRI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0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VEDA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0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IVEL INVENTIV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6bf69"/>
                </a:solidFill>
                <a:latin typeface="Arial"/>
              </a:rPr>
              <a:t>LA PROPIEDAD INTELECTUAL.</a:t>
            </a:r>
            <a:endParaRPr b="0" lang="en-US" sz="36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028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e trata de un tipo especial de propiedad, se refiere a las creaciones del ingenio humano,  del intelecto humano, de allí que se califica de "propiedad intelectual"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omprende bienes intangibl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6bf69"/>
                </a:solidFill>
                <a:latin typeface="Arial"/>
              </a:rPr>
              <a:t>APLICACION INDUSTRIAL</a:t>
            </a:r>
            <a:endParaRPr b="0" lang="en-US" sz="28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04920" y="4876560"/>
            <a:ext cx="853416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34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L CONCEPTO DE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INDUSTRIA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DEBE ENTENDERSE EN EL MAS AMPLIO SENTIDO: Actividad Productiv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34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NO SE DEBE CONFUNDIR LA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FACTIBILIDAD TECNICA-ECONOMICA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E LLEVAR A CABO LA INVENC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67920" y="2867040"/>
            <a:ext cx="2991600" cy="3632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PLICACION INDUSTRI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551480" y="1824120"/>
            <a:ext cx="4064040" cy="6375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QUE LA INVENCION SEA APLICADA DIRECTAMENTE A LA INDUSTRI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627440" y="3637080"/>
            <a:ext cx="3759480" cy="6375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QUE PUEDA SER PRODUCIDA EN LA INDUSTRI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038480" y="2209680"/>
            <a:ext cx="611280" cy="1754280"/>
          </a:xfrm>
          <a:custGeom>
            <a:avLst/>
            <a:gdLst/>
            <a:ahLst/>
            <a:rect l="l" t="t" r="r" b="b"/>
            <a:pathLst>
              <a:path w="385" h="1105">
                <a:moveTo>
                  <a:pt x="384" y="1104"/>
                </a:moveTo>
                <a:lnTo>
                  <a:pt x="0" y="1104"/>
                </a:lnTo>
                <a:lnTo>
                  <a:pt x="0" y="0"/>
                </a:lnTo>
                <a:lnTo>
                  <a:pt x="336" y="0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359160" y="3048120"/>
            <a:ext cx="6732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9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6bf69"/>
                </a:solidFill>
                <a:latin typeface="Arial"/>
              </a:rPr>
              <a:t>NOVEDAD</a:t>
            </a:r>
            <a:endParaRPr b="0" lang="en-US" sz="28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just">
              <a:spcBef>
                <a:spcPts val="125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STADO DE LA TECNIC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MPRENDE TODOS LOS DOCUMENTOS QUE EL PUBLICO PUEDA TENER ACCESO, TANTO A NIVEL NACIONAL COMO INTERNACIONAL, COMPRENDE ADEMAS, LAS SOLICITUDES EN TRAMITE QUE HAYAN INGRESADO CON ANTERIORIDAD A LA SOLICITUD EXAMINAD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125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NA SOLICITUD TIENE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NOVEDAD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SI NO EXISTE DOCUMENTO DEL ESTADO DE LA TECNICA QUE SEA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spcBef>
                <a:spcPts val="15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XACTAMENTE IGU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85800" y="434340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80880" y="3733920"/>
            <a:ext cx="77724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9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6bf69"/>
                </a:solidFill>
                <a:latin typeface="Arial"/>
              </a:rPr>
              <a:t>NOVEDAD</a:t>
            </a:r>
            <a:endParaRPr b="0" lang="en-US" sz="28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ESULTADO DE LA BUSQUEDA DE LA TECNICA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149480" y="1911240"/>
            <a:ext cx="901440" cy="12067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368440" y="1911240"/>
            <a:ext cx="901800" cy="12067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587760" y="1911240"/>
            <a:ext cx="901800" cy="12067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959360" y="1911240"/>
            <a:ext cx="901800" cy="12067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330960" y="1911240"/>
            <a:ext cx="901800" cy="12067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051560" y="1974960"/>
            <a:ext cx="10317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DOCTO 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270880" y="1974960"/>
            <a:ext cx="10317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DOCTO 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490200" y="1974960"/>
            <a:ext cx="10317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DOCTO 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861800" y="1974960"/>
            <a:ext cx="10317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DOCTO 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233400" y="1974960"/>
            <a:ext cx="10317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DOCTO 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332160" y="3606840"/>
            <a:ext cx="1549440" cy="10036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OLICITU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E PATEN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122480" y="5100480"/>
            <a:ext cx="61974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ANALISIS DE NOVEDAD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: SE COMPARA CADA UNO DE LOS DOCUMENTOS ENCONTRADOS EN EL ESTADO DE LA TECNICA CON EL PLIEGO DE REIVINDICACIONES DE LA SOLICITU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6bf69"/>
                </a:solidFill>
                <a:latin typeface="Arial"/>
              </a:rPr>
              <a:t>NIVEL INVENTIV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85800" y="1066680"/>
            <a:ext cx="7772400" cy="28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 algn="just">
              <a:spcBef>
                <a:spcPts val="125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ESULTADO DE LA BUSQUEDA DE LA TECN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125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 ANALIZA  SI LA SOLICITUD PLANTEADA AL PROBLEMA TECNICO DESCRITO EN LA SOLICITUD SE DERIVA DE MANERA EVIDENTE DEL ESTADO DE LA TECN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125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 DETERMINARA SI UN DOCUMENTO ES RELEVANTE POR SI SOLO O SI LA UNION O SUMA DE DOS O MAS DOCUMENTOS PUEDEN DESTRUIR EL NIVEL INVENTIVO EN LAS REIVINDICACIONES DE LA SOLICITU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125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85800" y="4648320"/>
            <a:ext cx="7772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4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CON NIVEL INVENTIVO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: SOLUCION NO OBVIA (para especialista), SINERGISM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6bf69"/>
                </a:solidFill>
                <a:uFillTx/>
                <a:latin typeface="Arial"/>
              </a:rPr>
              <a:t>¿QUE ES UNA INVENCION?</a:t>
            </a:r>
            <a:br>
              <a:rPr sz="3200"/>
            </a:br>
            <a:r>
              <a:rPr b="0" lang="en-US" sz="3200" spc="-1" strike="noStrike">
                <a:solidFill>
                  <a:srgbClr val="f6bf69"/>
                </a:solidFill>
                <a:latin typeface="Arial"/>
              </a:rPr>
              <a:t>LEY Nº 19.039, ARTICULO 31</a:t>
            </a:r>
            <a:endParaRPr b="0" lang="en-US" sz="32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 ENTIENDE POR INVENCION TODA SOLUCION A UN PROBLEMA DE LA TECNICA QUE ORIGINE UN QUEHACER INDUSTRI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A INVENCION PODRA SER UN PRODUCTO O UN PROCEDIMIENTO O ESTAR RELACIONADO CON ELL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09480" y="3200400"/>
            <a:ext cx="777240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38080" y="2133720"/>
            <a:ext cx="77724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20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2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2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2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20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6bf69"/>
                </a:solidFill>
                <a:latin typeface="Arial"/>
              </a:rPr>
              <a:t>LEY 19.039 ARTICULO 37</a:t>
            </a:r>
            <a:br>
              <a:rPr sz="2800"/>
            </a:br>
            <a:r>
              <a:rPr b="1" lang="en-US" sz="2000" spc="-1" strike="noStrike">
                <a:solidFill>
                  <a:srgbClr val="f6bf69"/>
                </a:solidFill>
                <a:latin typeface="Arial"/>
              </a:rPr>
              <a:t>NO SE CONSIDERARA INVENCION Y QUEDAN EXCLUIDOS DE LA PROTECCION POR PATENTE DE ESTA LEY</a:t>
            </a:r>
            <a:endParaRPr b="0" lang="en-US" sz="20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just">
              <a:spcBef>
                <a:spcPts val="25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OS DESCUBRIMIENTOS, LAS TEORIAS CIENTIFICAS Y LOS METODOS MATEMATIC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25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AS VARIEDADES VEGETALES Y LAS RAZAS ANIMA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25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OS SISTEMAS, METODOS, PRINCIPIOS O PLANES ECONOMICOS, FINANCIEROS, COMERCIALES DE SIMPLE VERIFICACION Y FISCALIZACION; Y LOS REFERIDOS A LAS ACTIVIDADES PURAMENTE MENTALES O INTELECTUALES O A MATERIAS DE JUEG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500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6bf69"/>
                </a:solidFill>
                <a:latin typeface="Arial"/>
              </a:rPr>
              <a:t>LEY 19.039 ARTICULO 37</a:t>
            </a:r>
            <a:br>
              <a:rPr sz="2800"/>
            </a:br>
            <a:r>
              <a:rPr b="1" lang="en-US" sz="2000" spc="-1" strike="noStrike">
                <a:solidFill>
                  <a:srgbClr val="f6bf69"/>
                </a:solidFill>
                <a:latin typeface="Arial"/>
              </a:rPr>
              <a:t>NO SE CONSIDERARA INVENCION Y QUEDAN EXCLUIDOS DE LA PROTECCION POR PATENTE DE ESTA LEY</a:t>
            </a:r>
            <a:endParaRPr b="0" lang="en-US" sz="20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just">
              <a:spcBef>
                <a:spcPts val="25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OS METODOS DE TRATAMIENTO QUIRURGICO O TERAPEUTICO DEL CUERPO HUMANO O ANIMAL, ASI COMO LOS METODOS DE DIAGNOSTICO APLICADOS AL CUERPO HUMANO O ANIMAL, SALVO LOS PRODUCTOS DESTINADOS A PONER EN PRACTICA UNO DE ESTOS METOD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25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L NUEVO USO DE ARTICULOS, OBJETOS O ELEMENTOS CONOCIDOS Y EMPLEADOS EN DETERMINADOS FINES Y EL CAMBIO DE FORMA, DIMENSIONES, PROPORCIONES Y MATERIAS DEL OBJETO SOLICITADO A NO SER QUE SE MODIFIQUEN ESENCIALMENTE LAS CUALIDADES DE AQUEL O CON SU UTILIZACION SE RESOLVIERE UN PROBLEMA TECNICO QUE ANTES NO TENIA SOLUC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2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200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20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20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6bf69"/>
                </a:solidFill>
                <a:latin typeface="Arial"/>
              </a:rPr>
              <a:t>LEY 19.039 ARTICULO 38</a:t>
            </a:r>
            <a:br>
              <a:rPr sz="2800"/>
            </a:br>
            <a:r>
              <a:rPr b="1" lang="en-US" sz="2400" spc="-1" strike="noStrike">
                <a:solidFill>
                  <a:srgbClr val="f6bf69"/>
                </a:solidFill>
                <a:latin typeface="Arial"/>
              </a:rPr>
              <a:t>NO SON PATENTABLES LOS INVENTOS:</a:t>
            </a:r>
            <a:endParaRPr b="0" lang="en-US" sz="2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TRARIO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LA LE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 ORDEN PUBLIC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LA SEGURIDAD DEL ESTA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LA MORAL Y A LAS BUENAS COSTUMB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ESENTADOS POR QUIEN NO ES SU LEGITIMO DUEÑ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1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" dur="4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4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1000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71" dur="500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9" dur="1000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6bf69"/>
                </a:solidFill>
                <a:latin typeface="Arial"/>
              </a:rPr>
              <a:t>¿</a:t>
            </a:r>
            <a:r>
              <a:rPr b="1" lang="en-US" sz="3200" spc="-1" strike="noStrike">
                <a:solidFill>
                  <a:srgbClr val="f6bf69"/>
                </a:solidFill>
                <a:latin typeface="Arial"/>
              </a:rPr>
              <a:t>QUE ES UN MODELO DE UTILIDAD</a:t>
            </a:r>
            <a:r>
              <a:rPr b="0" lang="en-US" sz="3200" spc="-1" strike="noStrike">
                <a:solidFill>
                  <a:srgbClr val="f6bf69"/>
                </a:solidFill>
                <a:latin typeface="Arial"/>
              </a:rPr>
              <a:t>?</a:t>
            </a:r>
            <a:br>
              <a:rPr sz="3200"/>
            </a:br>
            <a:r>
              <a:rPr b="0" lang="en-US" sz="2000" spc="-1" strike="noStrike">
                <a:solidFill>
                  <a:srgbClr val="f6bf69"/>
                </a:solidFill>
                <a:latin typeface="Arial"/>
              </a:rPr>
              <a:t>LEY Nº 19.039 ARTICULO 54</a:t>
            </a:r>
            <a:endParaRPr b="0" lang="en-US" sz="20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 consideran como modelos de utilidad los instrumentos, aparatos, herramientas, dispositivos y objetos o partes de los mismos, en los que la forma sea reivindicable, tanto en su aspecto externo como en su funcionamiento, y siempre que esta produzca una utilidad, esto es, que aporte a la función a que son destinados un beneficio, ventaja o efecto que antes no ten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86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6bf69"/>
                </a:solidFill>
                <a:latin typeface="Arial"/>
              </a:rPr>
              <a:t>¿</a:t>
            </a:r>
            <a:r>
              <a:rPr b="1" lang="en-US" sz="3200" spc="-1" strike="noStrike">
                <a:solidFill>
                  <a:srgbClr val="f6bf69"/>
                </a:solidFill>
                <a:latin typeface="Arial"/>
              </a:rPr>
              <a:t>QUE ES UN DISEÑO INDUSTRIAL</a:t>
            </a:r>
            <a:r>
              <a:rPr b="0" lang="en-US" sz="3200" spc="-1" strike="noStrike">
                <a:solidFill>
                  <a:srgbClr val="f6bf69"/>
                </a:solidFill>
                <a:latin typeface="Arial"/>
              </a:rPr>
              <a:t>?</a:t>
            </a:r>
            <a:br>
              <a:rPr sz="3200"/>
            </a:br>
            <a:r>
              <a:rPr b="0" lang="en-US" sz="2000" spc="-1" strike="noStrike">
                <a:solidFill>
                  <a:srgbClr val="f6bf69"/>
                </a:solidFill>
                <a:latin typeface="Arial"/>
              </a:rPr>
              <a:t>LEY Nº 19.039 ARTICULO 62</a:t>
            </a:r>
            <a:endParaRPr b="0" lang="en-US" sz="20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861084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prende toda forma tridimensional asociada o no con colores, y cualquier articulo industrial o artesanal que sirva de patrón para la fabricación de otras unidades y que se distinga de sus similares sea por su forma, configuración geométrica, ornamentación o una combinación de estas, siempre que dichas características le den una apariencia especial perceptible por medio de la vista, de tal manera que resulte una fisonomía original, nueva y diferent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66840" y="476280"/>
            <a:ext cx="8091360" cy="954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</a:rPr>
              <a:t>PROPIEDAD   INTELECTUAL</a:t>
            </a: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93280" y="2406600"/>
            <a:ext cx="3328920" cy="1625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PIEDAD  INDUSTRI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275000" y="3984480"/>
            <a:ext cx="3016440" cy="17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6bf6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DERECHOS CONEX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201920" y="2430360"/>
            <a:ext cx="3902040" cy="113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RECHO DE AUT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4851360" y="341280"/>
            <a:ext cx="801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732040" y="466560"/>
            <a:ext cx="5743800" cy="163368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2887560" y="2362320"/>
            <a:ext cx="5608800" cy="183816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2793960" y="4495680"/>
            <a:ext cx="5730840" cy="190512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4267080" y="228600"/>
            <a:ext cx="16002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90800" y="376200"/>
            <a:ext cx="2362320" cy="302040"/>
          </a:xfrm>
          <a:prstGeom prst="rect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c0128"/>
                </a:solidFill>
                <a:latin typeface="Times New Roman"/>
              </a:rPr>
              <a:t>ESTADO DE LA TECNIC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967120" y="2281320"/>
            <a:ext cx="2361960" cy="302040"/>
          </a:xfrm>
          <a:prstGeom prst="rect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c0128"/>
                </a:solidFill>
                <a:latin typeface="Times New Roman"/>
              </a:rPr>
              <a:t>ESTADO DE LA TECNIC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890800" y="4414680"/>
            <a:ext cx="2362320" cy="302040"/>
          </a:xfrm>
          <a:prstGeom prst="rect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c0128"/>
                </a:solidFill>
                <a:latin typeface="Times New Roman"/>
              </a:rPr>
              <a:t>ESTADO DE LA TECNIC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624720" y="376200"/>
            <a:ext cx="1143000" cy="302040"/>
          </a:xfrm>
          <a:prstGeom prst="rect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c0128"/>
                </a:solidFill>
                <a:latin typeface="Times New Roman"/>
              </a:rPr>
              <a:t>CREAC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548400" y="2281320"/>
            <a:ext cx="1143000" cy="302040"/>
          </a:xfrm>
          <a:prstGeom prst="rect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c0128"/>
                </a:solidFill>
                <a:latin typeface="Times New Roman"/>
              </a:rPr>
              <a:t>CREAC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700680" y="4414680"/>
            <a:ext cx="1143000" cy="302040"/>
          </a:xfrm>
          <a:prstGeom prst="rect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c0128"/>
                </a:solidFill>
                <a:latin typeface="Times New Roman"/>
              </a:rPr>
              <a:t>CREAC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04800" y="1062000"/>
            <a:ext cx="17622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INVENC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4800" y="2967120"/>
            <a:ext cx="145728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MODELO DE UTILIDA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81120" y="5176800"/>
            <a:ext cx="153360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DISEÑO INDUSTRI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6bf69"/>
                </a:solidFill>
                <a:latin typeface="Arial"/>
              </a:rPr>
              <a:t>ESTRUCTURA DE UN DOCUMENTO DE PATENTE</a:t>
            </a:r>
            <a:endParaRPr b="0" lang="en-US" sz="32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5000"/>
          </a:bodyPr>
          <a:p>
            <a:pPr marL="291600" indent="-291600">
              <a:spcBef>
                <a:spcPts val="799"/>
              </a:spcBef>
              <a:spcAft>
                <a:spcPts val="1599"/>
              </a:spcAft>
              <a:buClr>
                <a:srgbClr val="fafd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LICITUD FICH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spcAft>
                <a:spcPts val="1599"/>
              </a:spcAft>
              <a:buClr>
                <a:srgbClr val="fafd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SUMEN (HOJA TECNICA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spcAft>
                <a:spcPts val="1599"/>
              </a:spcAft>
              <a:buClr>
                <a:srgbClr val="fafd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MORIA DESCRIPTIV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spcAft>
                <a:spcPts val="1599"/>
              </a:spcAft>
              <a:buClr>
                <a:srgbClr val="fafd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LIEGO DE REIVINDICACIO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spcAft>
                <a:spcPts val="1599"/>
              </a:spcAft>
              <a:buClr>
                <a:srgbClr val="fafd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BUJ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6" dur="10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11" dur="2000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6" dur="500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4" dur="1000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1000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6bf69"/>
                </a:solidFill>
                <a:latin typeface="Arial"/>
              </a:rPr>
              <a:t>MEMORIA DESCRIPTIVA</a:t>
            </a:r>
            <a:endParaRPr b="0" lang="en-US" sz="32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spcAft>
                <a:spcPts val="2976"/>
              </a:spcAft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Problema tecnico que resuel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spcAft>
                <a:spcPts val="2976"/>
              </a:spcAft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Descripción de lo conocido en la mater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spcAft>
                <a:spcPts val="2976"/>
              </a:spcAft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Descripción de los dibuj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spcAft>
                <a:spcPts val="2976"/>
              </a:spcAft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Descripción detallada de la invenc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spcAft>
                <a:spcPts val="2976"/>
              </a:spcAft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Ejemplos de aplicac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6" dur="1000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59" dur="2000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5000" fill="hold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0" fill="hold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6bf69"/>
                </a:solidFill>
                <a:latin typeface="Arial"/>
              </a:rPr>
              <a:t>REIVINDICACIONES</a:t>
            </a:r>
            <a:endParaRPr b="0" lang="en-US" sz="32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 algn="just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L PLIEGO SE COMPONE POR UNA CLAUSULA PRINCIPAL EN QUE SE MENCIONAN LOS ELEMENTOS QUE COMPONEN LA INVENC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 algn="just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L RESTO DE LAS CLAUSULAS DEBE ESTAR LIGADAS A LA REIVINDICACION PRINCIPAL Y ESPECIFICARAN O DETALLARAN LOS ELEMENTOS MENCIONADOS EN LA CLAUSULA PRINCIP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6bf69"/>
                </a:solidFill>
                <a:latin typeface="Arial"/>
              </a:rPr>
              <a:t>REIVINDICACIONES</a:t>
            </a:r>
            <a:endParaRPr b="0" lang="en-US" sz="32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143000" y="1371600"/>
            <a:ext cx="6707160" cy="915840"/>
          </a:xfrm>
          <a:custGeom>
            <a:avLst/>
            <a:gdLst/>
            <a:ahLst/>
            <a:rect l="l" t="t" r="r" b="b"/>
            <a:pathLst>
              <a:path w="4225" h="577">
                <a:moveTo>
                  <a:pt x="0" y="576"/>
                </a:moveTo>
                <a:lnTo>
                  <a:pt x="0" y="0"/>
                </a:lnTo>
                <a:lnTo>
                  <a:pt x="4224" y="0"/>
                </a:lnTo>
                <a:lnTo>
                  <a:pt x="4224" y="432"/>
                </a:lnTo>
                <a:lnTo>
                  <a:pt x="864" y="432"/>
                </a:lnTo>
                <a:lnTo>
                  <a:pt x="864" y="576"/>
                </a:lnTo>
                <a:lnTo>
                  <a:pt x="0" y="576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214280" y="1442880"/>
            <a:ext cx="22194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XORDI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09920" y="2128680"/>
            <a:ext cx="50385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CARACTERIZADO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porqu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149480" y="2521080"/>
            <a:ext cx="6692760" cy="11300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214280" y="3957480"/>
            <a:ext cx="20671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n.......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143000" y="3886200"/>
            <a:ext cx="6707160" cy="611280"/>
          </a:xfrm>
          <a:custGeom>
            <a:avLst/>
            <a:gdLst/>
            <a:ahLst/>
            <a:rect l="l" t="t" r="r" b="b"/>
            <a:pathLst>
              <a:path w="4225" h="385">
                <a:moveTo>
                  <a:pt x="0" y="384"/>
                </a:moveTo>
                <a:lnTo>
                  <a:pt x="0" y="0"/>
                </a:lnTo>
                <a:lnTo>
                  <a:pt x="4224" y="0"/>
                </a:lnTo>
                <a:lnTo>
                  <a:pt x="4224" y="192"/>
                </a:lnTo>
                <a:lnTo>
                  <a:pt x="2137" y="192"/>
                </a:lnTo>
                <a:lnTo>
                  <a:pt x="2137" y="384"/>
                </a:lnTo>
                <a:lnTo>
                  <a:pt x="0" y="384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747800" y="4186080"/>
            <a:ext cx="28288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....según reivindicación nº 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67320" y="4262400"/>
            <a:ext cx="3819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CARACTERIZADO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porqu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149480" y="4654440"/>
            <a:ext cx="6692760" cy="9781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2520" y="1366920"/>
            <a:ext cx="4665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1.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28480" y="3881520"/>
            <a:ext cx="466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2.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28480" y="5786280"/>
            <a:ext cx="466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3.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138320" y="5786280"/>
            <a:ext cx="20667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n.......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6bf69"/>
                </a:solidFill>
                <a:uFillTx/>
                <a:latin typeface="Arial"/>
              </a:rPr>
              <a:t>INFORMACION TECNOLOGICA DE PUNTA</a:t>
            </a:r>
            <a:endParaRPr b="0" lang="en-US" sz="3200" spc="-1" strike="noStrike">
              <a:solidFill>
                <a:srgbClr val="f6bf69"/>
              </a:solidFill>
              <a:latin typeface="Arial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689040" y="1968480"/>
          <a:ext cx="7007040" cy="405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9040" y="1968480"/>
                    <a:ext cx="7007040" cy="405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9" name=""/>
          <p:cNvSpPr/>
          <p:nvPr/>
        </p:nvSpPr>
        <p:spPr>
          <a:xfrm>
            <a:off x="5938920" y="1747800"/>
            <a:ext cx="267660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95% EN DOCUMENTOS DE PATEN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257800" y="2286000"/>
            <a:ext cx="687240" cy="611280"/>
          </a:xfrm>
          <a:custGeom>
            <a:avLst/>
            <a:gdLst/>
            <a:ahLst/>
            <a:rect l="l" t="t" r="r" b="b"/>
            <a:pathLst>
              <a:path w="433" h="385">
                <a:moveTo>
                  <a:pt x="432" y="0"/>
                </a:moveTo>
                <a:lnTo>
                  <a:pt x="336" y="144"/>
                </a:lnTo>
                <a:lnTo>
                  <a:pt x="192" y="96"/>
                </a:lnTo>
                <a:lnTo>
                  <a:pt x="0" y="384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862600" y="4795920"/>
            <a:ext cx="2981520" cy="15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% EN PAPER, LIBROS, GACETAS Y OTRAS PUBLICACION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876920" y="5486400"/>
            <a:ext cx="915840" cy="458640"/>
          </a:xfrm>
          <a:custGeom>
            <a:avLst/>
            <a:gdLst/>
            <a:ahLst/>
            <a:rect l="l" t="t" r="r" b="b"/>
            <a:pathLst>
              <a:path w="577" h="289">
                <a:moveTo>
                  <a:pt x="576" y="192"/>
                </a:moveTo>
                <a:lnTo>
                  <a:pt x="240" y="288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6bf69"/>
                </a:solidFill>
                <a:uFillTx/>
                <a:latin typeface="Arial"/>
              </a:rPr>
              <a:t>INFORMACION TECNOLOGICA DE PUNTA</a:t>
            </a:r>
            <a:endParaRPr b="0" lang="en-US" sz="32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 algn="just">
              <a:spcBef>
                <a:spcPts val="700"/>
              </a:spcBef>
              <a:spcAft>
                <a:spcPts val="1749"/>
              </a:spcAft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La importancia de patentar un invento radica en que se obtiene un monopolio exclusivo para la comercializacion de la invenc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 algn="just">
              <a:spcBef>
                <a:spcPts val="700"/>
              </a:spcBef>
              <a:spcAft>
                <a:spcPts val="1749"/>
              </a:spcAft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A esto se suma el hecho de que la novedad debe ser de caracter mundi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 algn="just">
              <a:spcBef>
                <a:spcPts val="700"/>
              </a:spcBef>
              <a:spcAft>
                <a:spcPts val="1749"/>
              </a:spcAft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En el caso especifico de solicitudes chilenas se buscan en diferentes bases de datos de patentes de invencion y que contienen lo ultimo en tecnolog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8" dur="20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9" dur="20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20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1000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2" dur="2000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3" dur="2000" fill="hold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2000" fill="hold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6bf69"/>
                </a:solidFill>
                <a:uFillTx/>
                <a:latin typeface="Arial"/>
              </a:rPr>
              <a:t>INFORMACION TECNOLOGICA DE PUNTA</a:t>
            </a:r>
            <a:endParaRPr b="0" lang="en-US" sz="32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just">
              <a:spcBef>
                <a:spcPts val="601"/>
              </a:spcBef>
              <a:spcAft>
                <a:spcPts val="1500"/>
              </a:spcAft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e este modo las solicitudes de los distintos tipos de privilegios son comparadas con documentos de todo el mun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spcAft>
                <a:spcPts val="1500"/>
              </a:spcAft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e uno u otro modo se tiene un amplio grado de certeza que si de las busquedas no aparece nada similar es porque antes jamas se habia cre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1" dur="10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0" dur="100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6bf69"/>
                </a:solidFill>
                <a:latin typeface="Arial"/>
              </a:rPr>
              <a:t>DIAGRAMA DE FLUJO DE TRAMITACION DE PATENTES</a:t>
            </a:r>
            <a:endParaRPr b="0" lang="en-US" sz="20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947040" y="1101600"/>
            <a:ext cx="1324440" cy="27144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RESENTAC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671280" y="1863720"/>
            <a:ext cx="1801440" cy="27144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XAMEN PRELIMINA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848040" y="2590920"/>
            <a:ext cx="1449360" cy="1068120"/>
          </a:xfrm>
          <a:custGeom>
            <a:avLst/>
            <a:gdLst/>
            <a:ahLst/>
            <a:rect l="l" t="t" r="r" b="b"/>
            <a:pathLst>
              <a:path w="913" h="673">
                <a:moveTo>
                  <a:pt x="456" y="0"/>
                </a:moveTo>
                <a:lnTo>
                  <a:pt x="0" y="310"/>
                </a:lnTo>
                <a:lnTo>
                  <a:pt x="399" y="672"/>
                </a:lnTo>
                <a:lnTo>
                  <a:pt x="912" y="362"/>
                </a:lnTo>
                <a:lnTo>
                  <a:pt x="456" y="0"/>
                </a:lnTo>
              </a:path>
            </a:pathLst>
          </a:custGeom>
          <a:noFill/>
          <a:ln cap="rnd"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963960" y="2814480"/>
            <a:ext cx="1217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A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BSERVACIO-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133720" y="3048120"/>
            <a:ext cx="1753920" cy="534960"/>
          </a:xfrm>
          <a:custGeom>
            <a:avLst/>
            <a:gdLst/>
            <a:ahLst/>
            <a:rect l="l" t="t" r="r" b="b"/>
            <a:pathLst>
              <a:path w="1105" h="337">
                <a:moveTo>
                  <a:pt x="1104" y="0"/>
                </a:moveTo>
                <a:lnTo>
                  <a:pt x="0" y="0"/>
                </a:lnTo>
                <a:lnTo>
                  <a:pt x="0" y="336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57800" y="3124080"/>
            <a:ext cx="2058840" cy="459000"/>
          </a:xfrm>
          <a:custGeom>
            <a:avLst/>
            <a:gdLst/>
            <a:ahLst/>
            <a:rect l="l" t="t" r="r" b="b"/>
            <a:pathLst>
              <a:path w="1297" h="289">
                <a:moveTo>
                  <a:pt x="0" y="0"/>
                </a:moveTo>
                <a:lnTo>
                  <a:pt x="1296" y="0"/>
                </a:lnTo>
                <a:lnTo>
                  <a:pt x="1296" y="288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575800" y="2784600"/>
            <a:ext cx="4010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081120" y="2860560"/>
            <a:ext cx="3171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I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549080" y="3616200"/>
            <a:ext cx="1246680" cy="45396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E ACEPTA A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RAMITAC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766560" y="3540240"/>
            <a:ext cx="1263600" cy="27144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TIFICAC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572000" y="1454040"/>
            <a:ext cx="0" cy="3682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572000" y="2216160"/>
            <a:ext cx="0" cy="3682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429200" y="4530600"/>
            <a:ext cx="1484640" cy="45396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UBLICACION EN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IARIO OFICIA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133720" y="4121280"/>
            <a:ext cx="0" cy="3682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423440" y="5445000"/>
            <a:ext cx="1499760" cy="6364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VENCE PLAZ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ARA PRESENTA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POSIC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133720" y="5035680"/>
            <a:ext cx="0" cy="3682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499480" y="4156200"/>
            <a:ext cx="7272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60 DIA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423160" y="5070600"/>
            <a:ext cx="7272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60 DIA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057400" y="6178680"/>
            <a:ext cx="0" cy="3682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423160" y="6213600"/>
            <a:ext cx="7272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0 DIA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591240" y="4267080"/>
            <a:ext cx="1449360" cy="1068480"/>
          </a:xfrm>
          <a:custGeom>
            <a:avLst/>
            <a:gdLst/>
            <a:ahLst/>
            <a:rect l="l" t="t" r="r" b="b"/>
            <a:pathLst>
              <a:path w="913" h="673">
                <a:moveTo>
                  <a:pt x="456" y="0"/>
                </a:moveTo>
                <a:lnTo>
                  <a:pt x="0" y="310"/>
                </a:lnTo>
                <a:lnTo>
                  <a:pt x="399" y="672"/>
                </a:lnTo>
                <a:lnTo>
                  <a:pt x="912" y="362"/>
                </a:lnTo>
                <a:lnTo>
                  <a:pt x="456" y="0"/>
                </a:lnTo>
              </a:path>
            </a:pathLst>
          </a:custGeom>
          <a:noFill/>
          <a:ln cap="rnd"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765840" y="4537080"/>
            <a:ext cx="1037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A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SPUEST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648320" y="1600200"/>
            <a:ext cx="4192560" cy="3201840"/>
          </a:xfrm>
          <a:custGeom>
            <a:avLst/>
            <a:gdLst/>
            <a:ahLst/>
            <a:rect l="l" t="t" r="r" b="b"/>
            <a:pathLst>
              <a:path w="2641" h="2017">
                <a:moveTo>
                  <a:pt x="2112" y="2016"/>
                </a:moveTo>
                <a:lnTo>
                  <a:pt x="2640" y="2016"/>
                </a:lnTo>
                <a:lnTo>
                  <a:pt x="2640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8214480" y="4460760"/>
            <a:ext cx="3171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I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690960" y="5749920"/>
            <a:ext cx="1172160" cy="6364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E TIENE P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RESENTAD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315200" y="3892680"/>
            <a:ext cx="0" cy="3682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7238880" y="5340240"/>
            <a:ext cx="0" cy="3682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7376400" y="5299200"/>
            <a:ext cx="4010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76040" y="3927600"/>
            <a:ext cx="7272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40 DIA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6bf69"/>
                </a:solidFill>
                <a:latin typeface="Arial"/>
              </a:rPr>
              <a:t>DIAGRAMA DE FLUJO DE TRAMITACION DE PATENTES</a:t>
            </a:r>
            <a:endParaRPr b="0" lang="en-US" sz="20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642480" y="1558800"/>
            <a:ext cx="912960" cy="45396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AGO  D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ERITAJ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314880" y="2819520"/>
            <a:ext cx="1449360" cy="1068120"/>
          </a:xfrm>
          <a:custGeom>
            <a:avLst/>
            <a:gdLst/>
            <a:ahLst/>
            <a:rect l="l" t="t" r="r" b="b"/>
            <a:pathLst>
              <a:path w="913" h="673">
                <a:moveTo>
                  <a:pt x="456" y="0"/>
                </a:moveTo>
                <a:lnTo>
                  <a:pt x="0" y="310"/>
                </a:lnTo>
                <a:lnTo>
                  <a:pt x="399" y="672"/>
                </a:lnTo>
                <a:lnTo>
                  <a:pt x="912" y="362"/>
                </a:lnTo>
                <a:lnTo>
                  <a:pt x="456" y="0"/>
                </a:lnTo>
              </a:path>
            </a:pathLst>
          </a:custGeom>
          <a:noFill/>
          <a:ln cap="rnd"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511440" y="3089160"/>
            <a:ext cx="9936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A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POSIC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730760" y="3352680"/>
            <a:ext cx="6732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449680" y="3083040"/>
            <a:ext cx="2178000" cy="54576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RAMITAC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UNIDAD JURIDIC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207240" y="4759200"/>
            <a:ext cx="1479960" cy="45396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MBRAMIENTO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E PERIT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752480" y="3276720"/>
            <a:ext cx="2059200" cy="839520"/>
          </a:xfrm>
          <a:custGeom>
            <a:avLst/>
            <a:gdLst/>
            <a:ahLst/>
            <a:rect l="l" t="t" r="r" b="b"/>
            <a:pathLst>
              <a:path w="1297" h="529">
                <a:moveTo>
                  <a:pt x="1008" y="0"/>
                </a:moveTo>
                <a:lnTo>
                  <a:pt x="0" y="0"/>
                </a:lnTo>
                <a:lnTo>
                  <a:pt x="0" y="528"/>
                </a:lnTo>
                <a:lnTo>
                  <a:pt x="1296" y="528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962520" y="3657600"/>
            <a:ext cx="2439720" cy="458640"/>
          </a:xfrm>
          <a:custGeom>
            <a:avLst/>
            <a:gdLst/>
            <a:ahLst/>
            <a:rect l="l" t="t" r="r" b="b"/>
            <a:pathLst>
              <a:path w="1537" h="289">
                <a:moveTo>
                  <a:pt x="1536" y="0"/>
                </a:moveTo>
                <a:lnTo>
                  <a:pt x="1536" y="288"/>
                </a:lnTo>
                <a:lnTo>
                  <a:pt x="0" y="288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886200" y="4273560"/>
            <a:ext cx="0" cy="4446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038480" y="2063880"/>
            <a:ext cx="0" cy="7491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347200" y="2936880"/>
            <a:ext cx="4010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709520" y="3013200"/>
            <a:ext cx="3171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I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</a:rPr>
              <a:t>Propiedad Intelectual</a:t>
            </a: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240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35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recho de autor comprend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reaciones sobre obras literarias,  artísticas y musical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328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35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Derechos conexos comprend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reaciones de los artístas intérpretes y ejecutantes, productores fonográficos y de la radiodifusió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6bf69"/>
                </a:solidFill>
                <a:latin typeface="Arial"/>
              </a:rPr>
              <a:t>DIAGRAMA DE FLUJO DE TRAMITACION DE PATENTES</a:t>
            </a:r>
            <a:endParaRPr b="0" lang="en-US" sz="20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225800" y="1482840"/>
            <a:ext cx="1479960" cy="45396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MBRAMIENTO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E PERIT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441800" y="2701800"/>
            <a:ext cx="1048680" cy="45396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FORM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EL PERIT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356480" y="3921120"/>
            <a:ext cx="1263600" cy="27144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TIFICAC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380240" y="4911840"/>
            <a:ext cx="1170360" cy="6364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SPUESTA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EL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OLICITAN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09480" y="2286000"/>
            <a:ext cx="1144800" cy="2744640"/>
          </a:xfrm>
          <a:custGeom>
            <a:avLst/>
            <a:gdLst/>
            <a:ahLst/>
            <a:rect l="l" t="t" r="r" b="b"/>
            <a:pathLst>
              <a:path w="721" h="1729">
                <a:moveTo>
                  <a:pt x="480" y="1728"/>
                </a:moveTo>
                <a:lnTo>
                  <a:pt x="0" y="1728"/>
                </a:lnTo>
                <a:lnTo>
                  <a:pt x="0" y="0"/>
                </a:lnTo>
                <a:lnTo>
                  <a:pt x="720" y="0"/>
                </a:lnTo>
              </a:path>
            </a:pathLst>
          </a:custGeom>
          <a:noFill/>
          <a:ln cap="rnd" w="255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981080" y="2063880"/>
            <a:ext cx="0" cy="5968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981080" y="3282840"/>
            <a:ext cx="0" cy="5968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981080" y="4273560"/>
            <a:ext cx="0" cy="5968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229280" y="2590920"/>
            <a:ext cx="1449360" cy="1068120"/>
          </a:xfrm>
          <a:custGeom>
            <a:avLst/>
            <a:gdLst/>
            <a:ahLst/>
            <a:rect l="l" t="t" r="r" b="b"/>
            <a:pathLst>
              <a:path w="913" h="673">
                <a:moveTo>
                  <a:pt x="456" y="0"/>
                </a:moveTo>
                <a:lnTo>
                  <a:pt x="0" y="310"/>
                </a:lnTo>
                <a:lnTo>
                  <a:pt x="399" y="672"/>
                </a:lnTo>
                <a:lnTo>
                  <a:pt x="912" y="362"/>
                </a:lnTo>
                <a:lnTo>
                  <a:pt x="456" y="0"/>
                </a:lnTo>
              </a:path>
            </a:pathLst>
          </a:custGeom>
          <a:noFill/>
          <a:ln cap="rnd"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344840" y="2814480"/>
            <a:ext cx="121788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A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BSERVACIO-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152960" y="4267080"/>
            <a:ext cx="1449360" cy="1068480"/>
          </a:xfrm>
          <a:custGeom>
            <a:avLst/>
            <a:gdLst/>
            <a:ahLst/>
            <a:rect l="l" t="t" r="r" b="b"/>
            <a:pathLst>
              <a:path w="913" h="673">
                <a:moveTo>
                  <a:pt x="456" y="0"/>
                </a:moveTo>
                <a:lnTo>
                  <a:pt x="0" y="310"/>
                </a:lnTo>
                <a:lnTo>
                  <a:pt x="399" y="672"/>
                </a:lnTo>
                <a:lnTo>
                  <a:pt x="912" y="362"/>
                </a:lnTo>
                <a:lnTo>
                  <a:pt x="456" y="0"/>
                </a:lnTo>
              </a:path>
            </a:pathLst>
          </a:custGeom>
          <a:noFill/>
          <a:ln cap="rnd"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405680" y="4460760"/>
            <a:ext cx="96948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OLI-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ITAN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SPON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327920" y="5826240"/>
            <a:ext cx="1051560" cy="27144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BANDON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876920" y="3664080"/>
            <a:ext cx="0" cy="5968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800600" y="5340240"/>
            <a:ext cx="0" cy="4446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666880" y="3048120"/>
            <a:ext cx="1525680" cy="1068120"/>
          </a:xfrm>
          <a:custGeom>
            <a:avLst/>
            <a:gdLst/>
            <a:ahLst/>
            <a:rect l="l" t="t" r="r" b="b"/>
            <a:pathLst>
              <a:path w="961" h="673">
                <a:moveTo>
                  <a:pt x="0" y="672"/>
                </a:moveTo>
                <a:lnTo>
                  <a:pt x="576" y="672"/>
                </a:lnTo>
                <a:lnTo>
                  <a:pt x="576" y="0"/>
                </a:lnTo>
                <a:lnTo>
                  <a:pt x="960" y="0"/>
                </a:lnTo>
              </a:path>
            </a:pathLst>
          </a:custGeom>
          <a:noFill/>
          <a:ln cap="rnd" w="255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590920" y="4724280"/>
            <a:ext cx="1601640" cy="459000"/>
          </a:xfrm>
          <a:custGeom>
            <a:avLst/>
            <a:gdLst/>
            <a:ahLst/>
            <a:rect l="l" t="t" r="r" b="b"/>
            <a:pathLst>
              <a:path w="1009" h="289">
                <a:moveTo>
                  <a:pt x="1008" y="0"/>
                </a:moveTo>
                <a:lnTo>
                  <a:pt x="655" y="0"/>
                </a:lnTo>
                <a:lnTo>
                  <a:pt x="655" y="288"/>
                </a:lnTo>
                <a:lnTo>
                  <a:pt x="0" y="288"/>
                </a:lnTo>
              </a:path>
            </a:pathLst>
          </a:custGeom>
          <a:noFill/>
          <a:ln cap="rnd" w="255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718800" y="4384800"/>
            <a:ext cx="3171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I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938120" y="3774960"/>
            <a:ext cx="3171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I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61800" y="5375160"/>
            <a:ext cx="4010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18400" y="3165480"/>
            <a:ext cx="8031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20 DIA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651760" y="3774960"/>
            <a:ext cx="8031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20 DIA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7082640" y="1635120"/>
            <a:ext cx="891720" cy="45396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VIS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ORMA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892560" y="2854440"/>
            <a:ext cx="1424880" cy="45396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IRMA DEL JEF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EPARTAMENT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185600" y="4149720"/>
            <a:ext cx="986040" cy="45396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AGO D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ERECHO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7008120" y="5445000"/>
            <a:ext cx="1188720" cy="6364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ERTIFICAD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ITUL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638680" y="1905120"/>
            <a:ext cx="1449360" cy="1220760"/>
          </a:xfrm>
          <a:custGeom>
            <a:avLst/>
            <a:gdLst/>
            <a:ahLst/>
            <a:rect l="l" t="t" r="r" b="b"/>
            <a:pathLst>
              <a:path w="913" h="769">
                <a:moveTo>
                  <a:pt x="0" y="768"/>
                </a:moveTo>
                <a:lnTo>
                  <a:pt x="384" y="768"/>
                </a:lnTo>
                <a:lnTo>
                  <a:pt x="384" y="0"/>
                </a:lnTo>
                <a:lnTo>
                  <a:pt x="912" y="0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700240" y="2784600"/>
            <a:ext cx="4010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7543800" y="2139840"/>
            <a:ext cx="0" cy="6732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7543800" y="3359160"/>
            <a:ext cx="0" cy="7491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7543800" y="4654440"/>
            <a:ext cx="0" cy="7495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890000" y="2098800"/>
            <a:ext cx="8031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20 DIA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</a:rPr>
              <a:t>PROPIEDAD INDUSTRIAL</a:t>
            </a: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52600" y="1701360"/>
            <a:ext cx="7951680" cy="495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 Narrow"/>
              </a:rPr>
              <a:t>La propiedad industrial tiene hoy en día una gran importancia, tanto en las relaciones comerciales internacionales, como en la economía interna de los países y se ha constituído en una herramienta eficaz para el desarrollo de los mercados y de la industria. Su fin se relaciona con el intercambio de bienes y servicios, la inversión, el desarrollo tecnológico y la competencia leal, beneficiándose con ello las empresas, instituciones de educación, centros de investigación y por tanto, Chile.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63480" y="167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6bf69"/>
                </a:solidFill>
                <a:latin typeface="Arial"/>
              </a:rPr>
              <a:t>CARACTERISTICAS </a:t>
            </a:r>
            <a:r>
              <a:rPr b="1" i="1" lang="en-US" sz="3600" spc="-1" strike="noStrike">
                <a:solidFill>
                  <a:srgbClr val="f6bf69"/>
                </a:solidFill>
                <a:latin typeface="Arial"/>
              </a:rPr>
              <a:t>	</a:t>
            </a:r>
            <a:r>
              <a:rPr b="1" i="1" lang="en-US" sz="3600" spc="-1" strike="noStrike">
                <a:solidFill>
                  <a:srgbClr val="f6bf69"/>
                </a:solidFill>
                <a:latin typeface="Arial"/>
              </a:rPr>
              <a:t>DE LA PROPIEDAD INDUSTRIAL</a:t>
            </a:r>
            <a:endParaRPr b="0" lang="en-US" sz="36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7480" y="1639440"/>
            <a:ext cx="8921520" cy="4971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TEMPORALIDAD: La protección que otorgan las leyes de propiedad industrial, tienen una duración determinada en el tiempo, vencido ese periódo cesa el derecho exclusiv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TERRITORIALIDAD: Las leyes otorgan protección sólo dentro del territorio del estado respectivo, salvo, de que exista un tratado internacional, que permita la protección en varios países  ó que el derecho haya sido reconocido por varios estados a petición del propio titular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9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04840" y="501480"/>
            <a:ext cx="8850240" cy="1068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6bf69"/>
                </a:solidFill>
                <a:latin typeface="Arial"/>
              </a:rPr>
              <a:t>LA PROPIEDAD INDUSTRIAL COMPRENDE</a:t>
            </a:r>
            <a:endParaRPr b="0" lang="en-US" sz="36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AS MARCAS COMERCIA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ATENTES DE INVENC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ODELO  DE UTILIDA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SEÑO INDUSTRI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851400" y="360360"/>
            <a:ext cx="71888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ROTECCION DE DERECHOS INTELECTUA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Y TECNOLOGIC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195720" y="1595520"/>
            <a:ext cx="2448000" cy="7027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MINISTERIO D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EDUCACION PUBLIC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95720" y="2967120"/>
            <a:ext cx="2448000" cy="3322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SUBSECRETARI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95720" y="3881520"/>
            <a:ext cx="2448000" cy="8190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DIRECCION DE BIBLIOTECAS ARCHIVOS Y MUSE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195720" y="5329080"/>
            <a:ext cx="2448000" cy="8190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REGISTRO DE PROPIEDAD INTELECTU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851400" y="360360"/>
            <a:ext cx="71888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ROTECCION DE DERECHOS INTELECTUA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Y TECNOLOGIC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128680" y="1442880"/>
            <a:ext cx="2448000" cy="7282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MINISTERIO DE ECONOMIA, FOMENTO Y RECONSTRUCC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52520" y="2890800"/>
            <a:ext cx="2448000" cy="5151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UBSECRETARIA DE PESC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576600" y="2890800"/>
            <a:ext cx="2448000" cy="839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UBSECRETARI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DE ECONOMIA, FOMENTO Y RECONSTRUCC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576600" y="4262400"/>
            <a:ext cx="2448000" cy="5151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DEPARTAMENTO DE PROPIEDAD INDUSTRIA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76200" y="5634000"/>
            <a:ext cx="2448000" cy="5151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UBDEPARTAMENTO JURIDIC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500280" y="5634000"/>
            <a:ext cx="2448000" cy="5151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UBDEPARTAMENTO PATENTES DE INVENC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319800" y="5634000"/>
            <a:ext cx="2448000" cy="5151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UBDEPARTAMENTO DE MARCAS COMERCIAL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352680" y="2216160"/>
            <a:ext cx="0" cy="36828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600200" y="2590920"/>
            <a:ext cx="3354480" cy="306360"/>
          </a:xfrm>
          <a:custGeom>
            <a:avLst/>
            <a:gdLst/>
            <a:ahLst/>
            <a:rect l="l" t="t" r="r" b="b"/>
            <a:pathLst>
              <a:path w="2113" h="193">
                <a:moveTo>
                  <a:pt x="0" y="192"/>
                </a:moveTo>
                <a:lnTo>
                  <a:pt x="0" y="0"/>
                </a:lnTo>
                <a:lnTo>
                  <a:pt x="2112" y="0"/>
                </a:lnTo>
                <a:lnTo>
                  <a:pt x="2112" y="192"/>
                </a:lnTo>
              </a:path>
            </a:pathLst>
          </a:custGeom>
          <a:noFill/>
          <a:ln cap="rnd" w="12600">
            <a:solidFill>
              <a:srgbClr val="ffffff"/>
            </a:solidFill>
            <a:custDash>
              <a:ds d="499000" sp="201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952880" y="3740040"/>
            <a:ext cx="0" cy="52092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952880" y="4883040"/>
            <a:ext cx="0" cy="29232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447920" y="5181480"/>
            <a:ext cx="6478560" cy="459000"/>
          </a:xfrm>
          <a:custGeom>
            <a:avLst/>
            <a:gdLst/>
            <a:ahLst/>
            <a:rect l="l" t="t" r="r" b="b"/>
            <a:pathLst>
              <a:path w="4081" h="289">
                <a:moveTo>
                  <a:pt x="0" y="288"/>
                </a:moveTo>
                <a:lnTo>
                  <a:pt x="0" y="0"/>
                </a:lnTo>
                <a:lnTo>
                  <a:pt x="4080" y="0"/>
                </a:lnTo>
                <a:lnTo>
                  <a:pt x="4080" y="288"/>
                </a:lnTo>
              </a:path>
            </a:pathLst>
          </a:custGeom>
          <a:noFill/>
          <a:ln cap="rnd" w="12600">
            <a:solidFill>
              <a:srgbClr val="ffffff"/>
            </a:solidFill>
            <a:custDash>
              <a:ds d="499000" sp="201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52880" y="5187960"/>
            <a:ext cx="0" cy="44460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11-22T20:55:50Z</dcterms:created>
  <dc:creator>Andrés Escobar López</dc:creator>
  <dc:description>Preparado para dictar charla el miércoles 28 de Agosto de 1996</dc:description>
  <dc:language>en-US</dc:language>
  <cp:lastModifiedBy>alumno</cp:lastModifiedBy>
  <dcterms:modified xsi:type="dcterms:W3CDTF">2003-07-21T13:07:46Z</dcterms:modified>
  <cp:revision>15</cp:revision>
  <dc:subject>sistema de patentes e informacion tecnologica</dc:subject>
  <dc:title>Seminario de Patentes</dc:title>
</cp:coreProperties>
</file>