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97742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77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3173400" y="515520"/>
            <a:ext cx="3425760" cy="25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03200" y="3257640"/>
            <a:ext cx="716760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031680" y="6486120"/>
            <a:ext cx="92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0052-255D-4C91-A8C4-A983D3F3838C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1303200" y="3257640"/>
            <a:ext cx="716760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INCENTIVO A INVERTIR EN INVESTIGACION ES EL DESARROLLO DE NUEVOS PRODUCTOS QUE NO TENGAN COMPETENCIA EN EL MER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ldImg"/>
          </p:nvPr>
        </p:nvSpPr>
        <p:spPr>
          <a:xfrm>
            <a:off x="3173400" y="515880"/>
            <a:ext cx="3425760" cy="2568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3840" y="7920"/>
            <a:ext cx="17536680" cy="13677480"/>
            <a:chOff x="-8403840" y="7920"/>
            <a:chExt cx="17536680" cy="1367748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3840" y="7920"/>
              <a:ext cx="16807680" cy="136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Propiedad Industrial: PATENTES </a:t>
            </a:r>
            <a:br>
              <a:rPr sz="4400"/>
            </a:b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52360" y="4869000"/>
            <a:ext cx="141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f0e30"/>
                </a:solidFill>
                <a:latin typeface="Times New Roman"/>
              </a:rPr>
              <a:t>In 56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86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QUE ES EL DEPARTAMENTO DE PROPIEDAD INDUSTRIAL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4120" y="1771200"/>
            <a:ext cx="8508960" cy="470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s un servicio público centralizado, perteneciente al Ministerio de Economía, Fomento y Reconstruc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tribuye a que el país adquiera conciencia, acerca de las protecciones y beneficios que le ofrece la propiedad industr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s un organismo que promueve y gestiona la política de propiedad industr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8520" y="168120"/>
            <a:ext cx="8810640" cy="117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FUNCIONES DEL DEPARTAMENTO DE PROPIEDAD INDUSTRIAL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4760" y="1779480"/>
            <a:ext cx="8207280" cy="471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solver las solicitudes de derechos de propiedad industrial: Privilegios industri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ceder los títulos y certificaciones cuando correspon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ntener los registros de privilegios inscritos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recer servicios de información tecnológica de su base de datos a nivel mundial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15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6bf69"/>
                </a:solidFill>
                <a:latin typeface="Arial"/>
              </a:rPr>
              <a:t>CONVENIO DE PARIS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tentes de inven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delos de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bujos y modelos industr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s marcas de fábrica o de comerc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s indicaciones de procedencia o denominaciones de ori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 represión a la competencia desle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9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361800"/>
            <a:ext cx="8067600" cy="90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6bf69"/>
                </a:solidFill>
                <a:latin typeface="Arial"/>
              </a:rPr>
              <a:t>Principios Básicos</a:t>
            </a: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76280" y="1198440"/>
            <a:ext cx="8207280" cy="536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TO NACIONA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Cada Estado contratante deberá conceder a los nacionales de los otros estados miembros, la misma protección que a sus propios nacion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RECHO DE PRIORIDA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 Derecho preferente de protec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NDEPENDENCIA DE LAS PATENTES Y MARCAS COMERCIA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95720" y="144288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NISTERIO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GRICULTU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95720" y="2509920"/>
            <a:ext cx="2448000" cy="302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95720" y="3348000"/>
            <a:ext cx="244800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.A.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RVICIO AGRICOLA Y GANADE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95720" y="464328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IVISION DE PROTECCION AGRICO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52800" y="5710320"/>
            <a:ext cx="2809800" cy="626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GISTRO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VARIEDADES PROTEGID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198756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2901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19720" y="412128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19720" y="518796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440" y="1193760"/>
            <a:ext cx="3161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em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otección de l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rechos de obtentor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variedades vegetale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P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nominaciones de orí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creto 4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052720" y="833400"/>
            <a:ext cx="534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78040" y="863640"/>
            <a:ext cx="5816520" cy="482400"/>
          </a:xfrm>
          <a:prstGeom prst="rect">
            <a:avLst/>
          </a:prstGeom>
          <a:noFill/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28680" y="1519200"/>
            <a:ext cx="69552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70000" y="1384200"/>
            <a:ext cx="736560" cy="3708360"/>
          </a:xfrm>
          <a:prstGeom prst="rect">
            <a:avLst/>
          </a:pr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2400" y="1519200"/>
            <a:ext cx="69552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0040" y="1384200"/>
            <a:ext cx="736560" cy="3708360"/>
          </a:xfrm>
          <a:prstGeom prst="rect">
            <a:avLst/>
          </a:pr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78040" y="5130720"/>
            <a:ext cx="5816520" cy="482760"/>
          </a:xfrm>
          <a:prstGeom prst="rect">
            <a:avLst/>
          </a:prstGeom>
          <a:noFill/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50280" y="5160960"/>
            <a:ext cx="178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Times New Roman"/>
              </a:rPr>
              <a:t>PAT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99080" y="1376280"/>
            <a:ext cx="736920" cy="3708360"/>
          </a:xfrm>
          <a:prstGeom prst="rect">
            <a:avLst/>
          </a:pr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69200" y="1522440"/>
            <a:ext cx="69516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COMPETENCIA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98720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8080" y="4425480"/>
            <a:ext cx="6540480" cy="978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COMPITE LIBREMENTE POR EL PRODUCTO 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91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309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01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CENTIVO A INVERTIR EN INVESTIGACION</a:t>
            </a:r>
            <a:br>
              <a:rPr sz="2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arrollar nuevos productos y ganar con una patente en el merc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8080" y="4425840"/>
            <a:ext cx="6540480" cy="520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591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309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01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8080" y="4959360"/>
            <a:ext cx="4101840" cy="673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61040" y="5130720"/>
            <a:ext cx="3575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O Y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CON PATENT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92880" y="4959360"/>
            <a:ext cx="2425680" cy="673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76200" y="5130720"/>
            <a:ext cx="1802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0160" y="517680"/>
            <a:ext cx="859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7800" y="1617840"/>
            <a:ext cx="151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800" y="3301920"/>
            <a:ext cx="1524240" cy="393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PAT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3720" y="4444920"/>
            <a:ext cx="3174840" cy="85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EMPRES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DESARROL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O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58600" y="5923080"/>
            <a:ext cx="1787760" cy="454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6000" y="1655640"/>
            <a:ext cx="290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BANCO DE DA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21080" y="1606680"/>
            <a:ext cx="2654280" cy="520560"/>
          </a:xfrm>
          <a:prstGeom prst="rightArrow">
            <a:avLst>
              <a:gd name="adj1" fmla="val 50000"/>
              <a:gd name="adj2" fmla="val 254968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2280" y="1378080"/>
            <a:ext cx="1815840" cy="901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87960" y="1378080"/>
            <a:ext cx="3035160" cy="1054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28720" y="1693800"/>
            <a:ext cx="1297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MINIST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96040" y="2432160"/>
            <a:ext cx="361440" cy="27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rot="16200000">
            <a:off x="4883040" y="3663720"/>
            <a:ext cx="3111480" cy="673200"/>
          </a:xfrm>
          <a:prstGeom prst="rightArrow">
            <a:avLst>
              <a:gd name="adj1" fmla="val 50000"/>
              <a:gd name="adj2" fmla="val 23111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93760" y="5770440"/>
            <a:ext cx="1568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PUBL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2438280"/>
            <a:ext cx="3201840" cy="1068480"/>
          </a:xfrm>
          <a:custGeom>
            <a:avLst/>
            <a:gdLst/>
            <a:ahLst/>
            <a:rect l="l" t="t" r="r" b="b"/>
            <a:pathLst>
              <a:path w="2017" h="673">
                <a:moveTo>
                  <a:pt x="0" y="672"/>
                </a:moveTo>
                <a:lnTo>
                  <a:pt x="2016" y="672"/>
                </a:lnTo>
                <a:lnTo>
                  <a:pt x="201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2292480"/>
            <a:ext cx="0" cy="9777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3740040"/>
            <a:ext cx="0" cy="673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534024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¿QUE GANA EL ESTADO CON OTORGAR UNA PATENTE?</a:t>
            </a:r>
            <a:endParaRPr b="0" lang="en-US" sz="2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6bf69"/>
                </a:solidFill>
                <a:uFillTx/>
                <a:latin typeface="Arial"/>
              </a:rPr>
              <a:t>REQUISITOS DE PATENTABILIDAD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LICACION INDUST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VE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VEL INVEN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LA PROPIEDAD INTELECTUAL.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028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 trata de un tipo especial de propiedad, se refiere a las creaciones del ingenio humano,  del intelecto humano, de allí que se califica de "propiedad intelectual"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rende bienes intangib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APLICACION INDUSTRIAL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4876560"/>
            <a:ext cx="85341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CONCEPTO DE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DUSTRI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DEBE ENTENDERSE EN EL MAS AMPLIO SENTIDO: Actividad Produc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 SE DEBE CONFUNDIR L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FACTIBILIDAD TECNICA-ECONOMICA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 LLEVAR A CABO LA INVENC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7920" y="2867040"/>
            <a:ext cx="2991600" cy="36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LICACION INDUSTR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51480" y="1824120"/>
            <a:ext cx="4064040" cy="637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UE LA INVENCION SEA APLICADA DIRECTAMENTE A LA INDUST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27440" y="3637080"/>
            <a:ext cx="3759480" cy="637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UE PUEDA SER PRODUCIDA EN LA INDUST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2209680"/>
            <a:ext cx="611280" cy="1754280"/>
          </a:xfrm>
          <a:custGeom>
            <a:avLst/>
            <a:gdLst/>
            <a:ahLst/>
            <a:rect l="l" t="t" r="r" b="b"/>
            <a:pathLst>
              <a:path w="385" h="1105">
                <a:moveTo>
                  <a:pt x="384" y="1104"/>
                </a:moveTo>
                <a:lnTo>
                  <a:pt x="0" y="1104"/>
                </a:ln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9160" y="3048120"/>
            <a:ext cx="67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NOVEDAD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TADO DE LA TECNIC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RENDE TODOS LOS DOCUMENTOS QUE EL PUBLICO PUEDA TENER ACCESO, TANTO A NIVEL NACIONAL COMO INTERNACIONAL, COMPRENDE ADEMAS, LAS SOLICITUDES EN TRAMITE QUE HAYAN INGRESADO CON ANTERIORIDAD A LA SOLICITUD EXAMIN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A SOLICITUD TIEN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VEDA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 NO EXISTE DOCUMENTO DEL ESTADO DE LA TECNICA QUE SE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CTAMENTE IG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43434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37339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NOVEDAD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ULTADO DE LA BUSQUEDA DE LA TECNIC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49480" y="1911240"/>
            <a:ext cx="90144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6844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77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93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309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5156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7088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902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618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334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32160" y="3606840"/>
            <a:ext cx="1549440" cy="1003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LICIT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 PAT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22480" y="5100480"/>
            <a:ext cx="61974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NALISIS DE NOVEDA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: SE COMPARA CADA UNO DE LOS DOCUMENTOS ENCONTRADOS EN EL ESTADO DE LA TECNICA CON EL PLIEGO DE REIVINDICACIONES DE LA SOLICITU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NIVEL INVEN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066680"/>
            <a:ext cx="77724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ULTADO DE LA BUSQUEDA DE LA TE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ANALIZA  SI LA SOLICITUD PLANTEADA AL PROBLEMA TECNICO DESCRITO EN LA SOLICITUD SE DERIVA DE MANERA EVIDENTE DEL ESTADO DE LA TE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DETERMINARA SI UN DOCUMENTO ES RELEVANTE POR SI SOLO O SI LA UNION O SUMA DE DOS O MAS DOCUMENTOS PUEDEN DESTRUIR EL NIVEL INVENTIVO EN LAS REIVINDICACIONES DE LA SOLICIT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46483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 NIVEL INVENTIV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SOLUCION NO OBVIA (para especialista), SINERGISM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¿QUE ES UNA INVENCION?</a:t>
            </a:r>
            <a:br>
              <a:rPr sz="3200"/>
            </a:b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LEY Nº 19.039, ARTICULO 31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 ENTIENDE POR INVENCION TODA SOLUCION A UN PROBLEMA DE LA TECNICA QUE ORIGINE UN QUEHACER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A INVENCION PODRA SER UN PRODUCTO O UN PROCEDIMIENTO O ESTAR RELACIONADO CON EL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20040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21337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19.039 ARTICULO 37</a:t>
            </a:r>
            <a:br>
              <a:rPr sz="2800"/>
            </a:b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NO SE CONSIDERARA INVENCION Y QUEDAN EXCLUIDOS DE LA PROTECCION POR PATENTE DE ESTA LEY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DESCUBRIMIENTOS, LAS TEORIAS CIENTIFICAS Y LOS METODOS MATEMAT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S VARIEDADES VEGETALES Y LAS RAZAS ANIM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SISTEMAS, METODOS, PRINCIPIOS O PLANES ECONOMICOS, FINANCIEROS, COMERCIALES DE SIMPLE VERIFICACION Y FISCALIZACION; Y LOS REFERIDOS A LAS ACTIVIDADES PURAMENTE MENTALES O INTELECTUALES O A MATERIAS DE JUE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3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19.039 ARTICULO 37</a:t>
            </a:r>
            <a:br>
              <a:rPr sz="2800"/>
            </a:b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NO SE CONSIDERARA INVENCION Y QUEDAN EXCLUIDOS DE LA PROTECCION POR PATENTE DE ESTA LEY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METODOS DE TRATAMIENTO QUIRURGICO O TERAPEUTICO DEL CUERPO HUMANO O ANIMAL, ASI COMO LOS METODOS DE DIAGNOSTICO APLICADOS AL CUERPO HUMANO O ANIMAL, SALVO LOS PRODUCTOS DESTINADOS A PONER EN PRACTICA UNO DE ESTOS METO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 NUEVO USO DE ARTICULOS, OBJETOS O ELEMENTOS CONOCIDOS Y EMPLEADOS EN DETERMINADOS FINES Y EL CAMBIO DE FORMA, DIMENSIONES, PROPORCIONES Y MATERIAS DEL OBJETO SOLICITADO A NO SER QUE SE MODIFIQUEN ESENCIALMENTE LAS CUALIDADES DE AQUEL O CON SU UTILIZACION SE RESOLVIERE UN PROBLEMA TECNICO QUE ANTES NO TENIA SOLU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19.039 ARTICULO 38</a:t>
            </a:r>
            <a:br>
              <a:rPr sz="2800"/>
            </a:br>
            <a:r>
              <a:rPr b="1" lang="en-US" sz="2400" spc="-1" strike="noStrike">
                <a:solidFill>
                  <a:srgbClr val="f6bf69"/>
                </a:solidFill>
                <a:latin typeface="Arial"/>
              </a:rPr>
              <a:t>NO SON PATENTABLES LOS INVENTOS:</a:t>
            </a:r>
            <a:endParaRPr b="0" lang="en-US" sz="2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ARI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 ORDEN PUBL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 SEGURIDAD DEL ES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 MORAL Y A LAS BUENAS COSTUMB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ADOS POR QUIEN NO ES SU LEGITIMO DU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8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¿</a:t>
            </a: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QUE ES UN MODELO DE UTILIDAD</a:t>
            </a: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?</a:t>
            </a:r>
            <a:br>
              <a:rPr sz="3200"/>
            </a:br>
            <a:r>
              <a:rPr b="0" lang="en-US" sz="2000" spc="-1" strike="noStrike">
                <a:solidFill>
                  <a:srgbClr val="f6bf69"/>
                </a:solidFill>
                <a:latin typeface="Arial"/>
              </a:rPr>
              <a:t>LEY Nº 19.039 ARTICULO 54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 consideran como modelos de utilidad los instrumentos, aparatos, herramientas, dispositivos y objetos o partes de los mismos, en los que la forma sea reivindicable, tanto en su aspecto externo como en su funcionamiento, y siempre que esta produzca una utilidad, esto es, que aporte a la función a que son destinados un beneficio, ventaja o efecto que antes no te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¿</a:t>
            </a: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QUE ES UN DISEÑO INDUSTRIAL</a:t>
            </a: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?</a:t>
            </a:r>
            <a:br>
              <a:rPr sz="3200"/>
            </a:br>
            <a:r>
              <a:rPr b="0" lang="en-US" sz="2000" spc="-1" strike="noStrike">
                <a:solidFill>
                  <a:srgbClr val="f6bf69"/>
                </a:solidFill>
                <a:latin typeface="Arial"/>
              </a:rPr>
              <a:t>LEY Nº 19.039 ARTICULO 62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rende toda forma tridimensional asociada o no con colores, y cualquier articulo industrial o artesanal que sirva de patrón para la fabricación de otras unidades y que se distinga de sus similares sea por su forma, configuración geométrica, ornamentación o una combinación de estas, siempre que dichas características le den una apariencia especial perceptible por medio de la vista, de tal manera que resulte una fisonomía original, nueva y difer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9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6840" y="476280"/>
            <a:ext cx="809136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OPIEDAD   INTELECTUA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3280" y="2406600"/>
            <a:ext cx="3328920" cy="162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IEDAD 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75000" y="3984480"/>
            <a:ext cx="301644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6bf6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RECHOS CONEX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01920" y="2430360"/>
            <a:ext cx="3902040" cy="113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RECHO DE AU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851360" y="34128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732040" y="466560"/>
            <a:ext cx="5743800" cy="16336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887560" y="2362320"/>
            <a:ext cx="5608800" cy="18381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2793960" y="4495680"/>
            <a:ext cx="5730840" cy="19051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267080" y="228600"/>
            <a:ext cx="1600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90800" y="376200"/>
            <a:ext cx="236232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67120" y="2281320"/>
            <a:ext cx="236196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90800" y="4414680"/>
            <a:ext cx="236232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24720" y="37620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48400" y="228132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00680" y="441468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4800" y="1062000"/>
            <a:ext cx="1762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VENC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4800" y="2967120"/>
            <a:ext cx="14572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ODELO DE UT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1120" y="5176800"/>
            <a:ext cx="1533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ISEÑO INDUST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ESTRUCTURA DE UN DOCUMENTO DE PATENTE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ICITUD FICH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MEN (HOJA TECNIC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ORIA DESCRIP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IEGO DE REIVINDIC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BUJ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9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MEMORIA DESCRIPTIV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blema tecnico que resuel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cripción de lo conocido en la mate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cripción de los dibuj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cripción detallada de la invenc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jemplos de aplicac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REIVINDICACIONES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PLIEGO SE COMPONE POR UNA CLAUSULA PRINCIPAL EN QUE SE MENCIONAN LOS ELEMENTOS QUE COMPONEN LA INVEN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RESTO DE LAS CLAUSULAS DEBE ESTAR LIGADAS A LA REIVINDICACION PRINCIPAL Y ESPECIFICARAN O DETALLARAN LOS ELEMENTOS MENCIONADOS EN LA CLAUSULA PRINCIP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8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REIVINDICACIONES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1371600"/>
            <a:ext cx="6707160" cy="915840"/>
          </a:xfrm>
          <a:custGeom>
            <a:avLst/>
            <a:gdLst/>
            <a:ahLst/>
            <a:rect l="l" t="t" r="r" b="b"/>
            <a:pathLst>
              <a:path w="4225" h="577">
                <a:moveTo>
                  <a:pt x="0" y="576"/>
                </a:moveTo>
                <a:lnTo>
                  <a:pt x="0" y="0"/>
                </a:lnTo>
                <a:lnTo>
                  <a:pt x="4224" y="0"/>
                </a:lnTo>
                <a:lnTo>
                  <a:pt x="4224" y="432"/>
                </a:lnTo>
                <a:lnTo>
                  <a:pt x="864" y="432"/>
                </a:lnTo>
                <a:lnTo>
                  <a:pt x="864" y="576"/>
                </a:lnTo>
                <a:lnTo>
                  <a:pt x="0" y="57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14280" y="1442880"/>
            <a:ext cx="2219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ORD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09920" y="2128680"/>
            <a:ext cx="5038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ARACTERIZAD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por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49480" y="2521080"/>
            <a:ext cx="6692760" cy="113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4280" y="3957480"/>
            <a:ext cx="2067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....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3886200"/>
            <a:ext cx="6707160" cy="611280"/>
          </a:xfrm>
          <a:custGeom>
            <a:avLst/>
            <a:gdLst/>
            <a:ahLst/>
            <a:rect l="l" t="t" r="r" b="b"/>
            <a:pathLst>
              <a:path w="4225" h="385">
                <a:moveTo>
                  <a:pt x="0" y="384"/>
                </a:moveTo>
                <a:lnTo>
                  <a:pt x="0" y="0"/>
                </a:lnTo>
                <a:lnTo>
                  <a:pt x="4224" y="0"/>
                </a:lnTo>
                <a:lnTo>
                  <a:pt x="4224" y="192"/>
                </a:lnTo>
                <a:lnTo>
                  <a:pt x="2137" y="192"/>
                </a:lnTo>
                <a:lnTo>
                  <a:pt x="2137" y="384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47800" y="4186080"/>
            <a:ext cx="2828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...según reivindicación nº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67320" y="4262400"/>
            <a:ext cx="3819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ARACTERIZAD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por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49480" y="4654440"/>
            <a:ext cx="6692760" cy="978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2520" y="1366920"/>
            <a:ext cx="466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8480" y="3881520"/>
            <a:ext cx="46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8480" y="5786280"/>
            <a:ext cx="46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38320" y="5786280"/>
            <a:ext cx="2066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....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INFORMACION TECNOLOGICA DE PUNT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89040" y="1968480"/>
          <a:ext cx="7007040" cy="40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968480"/>
                    <a:ext cx="700704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5938920" y="1747800"/>
            <a:ext cx="2676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5% EN DOCUMENTOS DE PAT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2286000"/>
            <a:ext cx="687240" cy="611280"/>
          </a:xfrm>
          <a:custGeom>
            <a:avLst/>
            <a:gdLst/>
            <a:ahLst/>
            <a:rect l="l" t="t" r="r" b="b"/>
            <a:pathLst>
              <a:path w="433" h="385">
                <a:moveTo>
                  <a:pt x="432" y="0"/>
                </a:moveTo>
                <a:lnTo>
                  <a:pt x="336" y="144"/>
                </a:lnTo>
                <a:lnTo>
                  <a:pt x="192" y="96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62600" y="4795920"/>
            <a:ext cx="29815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% EN PAPER, LIBROS, GACETAS Y OTRAS PUBLIC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5486400"/>
            <a:ext cx="915840" cy="458640"/>
          </a:xfrm>
          <a:custGeom>
            <a:avLst/>
            <a:gdLst/>
            <a:ahLst/>
            <a:rect l="l" t="t" r="r" b="b"/>
            <a:pathLst>
              <a:path w="577" h="289">
                <a:moveTo>
                  <a:pt x="576" y="192"/>
                </a:moveTo>
                <a:lnTo>
                  <a:pt x="240" y="28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INFORMACION TECNOLOGICA DE PUNT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 algn="just"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importancia de patentar un invento radica en que se obtiene un monopolio exclusivo para la comercializacion de la invenc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 esto se suma el hecho de que la novedad debe ser de caracter mund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el caso especifico de solicitudes chilenas se buscan en diferentes bases de datos de patentes de invencion y que contienen lo ultimo en tecnolog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6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8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1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INFORMACION TECNOLOGICA DE PUNT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15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este modo las solicitudes de los distintos tipos de privilegios son comparadas con documentos de todo el mu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spcAft>
                <a:spcPts val="15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uno u otro modo se tiene un amplio grado de certeza que si de las busquedas no aparece nada similar es porque antes jamas se habia cre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0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DIAGRAMA DE FLUJO DE TRAMITACION DE PATENTES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47040" y="1101600"/>
            <a:ext cx="132444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ENT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71280" y="1863720"/>
            <a:ext cx="180144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EN PRELIMIN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48040" y="2590920"/>
            <a:ext cx="1449360" cy="106812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63960" y="2814480"/>
            <a:ext cx="1217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ACIO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133720" y="3048120"/>
            <a:ext cx="1753920" cy="534960"/>
          </a:xfrm>
          <a:custGeom>
            <a:avLst/>
            <a:gdLst/>
            <a:ahLst/>
            <a:rect l="l" t="t" r="r" b="b"/>
            <a:pathLst>
              <a:path w="1105" h="337">
                <a:moveTo>
                  <a:pt x="1104" y="0"/>
                </a:moveTo>
                <a:lnTo>
                  <a:pt x="0" y="0"/>
                </a:lnTo>
                <a:lnTo>
                  <a:pt x="0" y="33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57800" y="3124080"/>
            <a:ext cx="2058840" cy="459000"/>
          </a:xfrm>
          <a:custGeom>
            <a:avLst/>
            <a:gdLst/>
            <a:ahLst/>
            <a:rect l="l" t="t" r="r" b="b"/>
            <a:pathLst>
              <a:path w="1297" h="289">
                <a:moveTo>
                  <a:pt x="0" y="0"/>
                </a:moveTo>
                <a:lnTo>
                  <a:pt x="1296" y="0"/>
                </a:lnTo>
                <a:lnTo>
                  <a:pt x="1296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75800" y="27846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81120" y="28605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49080" y="3616200"/>
            <a:ext cx="124668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 ACEPTA 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MIT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66560" y="3540240"/>
            <a:ext cx="126360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IFIC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145404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0" y="22161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29200" y="4530600"/>
            <a:ext cx="148464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CACION E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ARIO OFIC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33720" y="41212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23440" y="5445000"/>
            <a:ext cx="149976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NCE PLAZ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 PRESENT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OSI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5035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99480" y="41562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23160" y="50706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57400" y="6178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23160" y="62136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91240" y="4267080"/>
            <a:ext cx="1449360" cy="106848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765840" y="4537080"/>
            <a:ext cx="1037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PUES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48320" y="1600200"/>
            <a:ext cx="4192560" cy="3201840"/>
          </a:xfrm>
          <a:custGeom>
            <a:avLst/>
            <a:gdLst/>
            <a:ahLst/>
            <a:rect l="l" t="t" r="r" b="b"/>
            <a:pathLst>
              <a:path w="2641" h="2017">
                <a:moveTo>
                  <a:pt x="2112" y="2016"/>
                </a:moveTo>
                <a:lnTo>
                  <a:pt x="2640" y="2016"/>
                </a:lnTo>
                <a:lnTo>
                  <a:pt x="2640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214480" y="44607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690960" y="5749920"/>
            <a:ext cx="117216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 TIENE P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ENTA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15200" y="3892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238880" y="534024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376400" y="52992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76040" y="39276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DIAGRAMA DE FLUJO DE TRAMITACION DE PATENTES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642480" y="1558800"/>
            <a:ext cx="91296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GO  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ITAJ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314880" y="2819520"/>
            <a:ext cx="1449360" cy="106812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11440" y="3089160"/>
            <a:ext cx="993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OSI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730760" y="3352680"/>
            <a:ext cx="673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49680" y="3083040"/>
            <a:ext cx="2178000" cy="5457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MIT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IDAD JURID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207240" y="4759200"/>
            <a:ext cx="147996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MBRAMIENT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 PER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52480" y="3276720"/>
            <a:ext cx="2059200" cy="839520"/>
          </a:xfrm>
          <a:custGeom>
            <a:avLst/>
            <a:gdLst/>
            <a:ahLst/>
            <a:rect l="l" t="t" r="r" b="b"/>
            <a:pathLst>
              <a:path w="1297" h="529">
                <a:moveTo>
                  <a:pt x="1008" y="0"/>
                </a:moveTo>
                <a:lnTo>
                  <a:pt x="0" y="0"/>
                </a:lnTo>
                <a:lnTo>
                  <a:pt x="0" y="528"/>
                </a:lnTo>
                <a:lnTo>
                  <a:pt x="1296" y="52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3657600"/>
            <a:ext cx="2439720" cy="458640"/>
          </a:xfrm>
          <a:custGeom>
            <a:avLst/>
            <a:gdLst/>
            <a:ahLst/>
            <a:rect l="l" t="t" r="r" b="b"/>
            <a:pathLst>
              <a:path w="1537" h="289">
                <a:moveTo>
                  <a:pt x="1536" y="0"/>
                </a:moveTo>
                <a:lnTo>
                  <a:pt x="1536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86200" y="42735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038480" y="2063880"/>
            <a:ext cx="0" cy="749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47200" y="293688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709520" y="301320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opiedad Intelectua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24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5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recho de autor compren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aciones sobre obras literarias,  artísticas y music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32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5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rechos conexos compren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reaciones de los artístas intérpretes y ejecutantes, productores fonográficos y de la radiodifus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DIAGRAMA DE FLUJO DE TRAMITACION DE PATENTES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25800" y="1482840"/>
            <a:ext cx="147996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MBRAMIENT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 PER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41800" y="2701800"/>
            <a:ext cx="104868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OR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L PER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56480" y="3921120"/>
            <a:ext cx="126360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IFIC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80240" y="4911840"/>
            <a:ext cx="117036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PUEST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ICITAN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2286000"/>
            <a:ext cx="1144800" cy="2744640"/>
          </a:xfrm>
          <a:custGeom>
            <a:avLst/>
            <a:gdLst/>
            <a:ahLst/>
            <a:rect l="l" t="t" r="r" b="b"/>
            <a:pathLst>
              <a:path w="721" h="1729">
                <a:moveTo>
                  <a:pt x="480" y="1728"/>
                </a:moveTo>
                <a:lnTo>
                  <a:pt x="0" y="1728"/>
                </a:lnTo>
                <a:lnTo>
                  <a:pt x="0" y="0"/>
                </a:lnTo>
                <a:lnTo>
                  <a:pt x="72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81080" y="206388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81080" y="328284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81080" y="427356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229280" y="2590920"/>
            <a:ext cx="1449360" cy="106812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44840" y="2814480"/>
            <a:ext cx="12178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ACIO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52960" y="4267080"/>
            <a:ext cx="1449360" cy="106848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05680" y="4460760"/>
            <a:ext cx="9694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I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TAN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PON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27920" y="5826240"/>
            <a:ext cx="105156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ANDO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76920" y="366408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00600" y="53402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3048120"/>
            <a:ext cx="1525680" cy="1068120"/>
          </a:xfrm>
          <a:custGeom>
            <a:avLst/>
            <a:gdLst/>
            <a:ahLst/>
            <a:rect l="l" t="t" r="r" b="b"/>
            <a:pathLst>
              <a:path w="961" h="673">
                <a:moveTo>
                  <a:pt x="0" y="672"/>
                </a:moveTo>
                <a:lnTo>
                  <a:pt x="576" y="672"/>
                </a:lnTo>
                <a:lnTo>
                  <a:pt x="576" y="0"/>
                </a:lnTo>
                <a:lnTo>
                  <a:pt x="96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90920" y="4724280"/>
            <a:ext cx="1601640" cy="459000"/>
          </a:xfrm>
          <a:custGeom>
            <a:avLst/>
            <a:gdLst/>
            <a:ahLst/>
            <a:rect l="l" t="t" r="r" b="b"/>
            <a:pathLst>
              <a:path w="1009" h="289">
                <a:moveTo>
                  <a:pt x="1008" y="0"/>
                </a:moveTo>
                <a:lnTo>
                  <a:pt x="655" y="0"/>
                </a:lnTo>
                <a:lnTo>
                  <a:pt x="655" y="288"/>
                </a:lnTo>
                <a:lnTo>
                  <a:pt x="0" y="28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18800" y="438480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8120" y="37749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1800" y="537516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8400" y="316548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651760" y="377496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82640" y="1635120"/>
            <a:ext cx="89172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92560" y="2854440"/>
            <a:ext cx="142488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RMA DEL JEF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PARTAME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185600" y="4149720"/>
            <a:ext cx="98604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GO 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RECH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008120" y="5445000"/>
            <a:ext cx="118872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RTIFICA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TUL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38680" y="1905120"/>
            <a:ext cx="1449360" cy="1220760"/>
          </a:xfrm>
          <a:custGeom>
            <a:avLst/>
            <a:gdLst/>
            <a:ahLst/>
            <a:rect l="l" t="t" r="r" b="b"/>
            <a:pathLst>
              <a:path w="913" h="769">
                <a:moveTo>
                  <a:pt x="0" y="768"/>
                </a:moveTo>
                <a:lnTo>
                  <a:pt x="384" y="768"/>
                </a:lnTo>
                <a:lnTo>
                  <a:pt x="384" y="0"/>
                </a:lnTo>
                <a:lnTo>
                  <a:pt x="912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00240" y="27846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43800" y="2139840"/>
            <a:ext cx="0" cy="673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543800" y="3359160"/>
            <a:ext cx="0" cy="749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43800" y="4654440"/>
            <a:ext cx="0" cy="749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890000" y="209880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OPIEDAD INDUSTRIA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52600" y="1701360"/>
            <a:ext cx="7951680" cy="495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La propiedad industrial tiene hoy en día una gran importancia, tanto en las relaciones comerciales internacionales, como en la economía interna de los países y se ha constituído en una herramienta eficaz para el desarrollo de los mercados y de la industria. Su fin se relaciona con el intercambio de bienes y servicios, la inversión, el desarrollo tecnológico y la competencia leal, beneficiándose con ello las empresas, instituciones de educación, centros de investigación y por tanto, Chil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3480" y="16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6bf69"/>
                </a:solidFill>
                <a:latin typeface="Arial"/>
              </a:rPr>
              <a:t>CARACTERISTICAS </a:t>
            </a:r>
            <a:r>
              <a:rPr b="1" i="1" lang="en-US" sz="3600" spc="-1" strike="noStrike">
                <a:solidFill>
                  <a:srgbClr val="f6bf69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6bf69"/>
                </a:solidFill>
                <a:latin typeface="Arial"/>
              </a:rPr>
              <a:t>DE LA PROPIEDAD INDUSTRIAL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7480" y="1639440"/>
            <a:ext cx="8921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EMPORALIDAD: La protección que otorgan las leyes de propiedad industrial, tienen una duración determinada en el tiempo, vencido ese periódo cesa el derecho exclusiv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ERRITORIALIDAD: Las leyes otorgan protección sólo dentro del territorio del estado respectivo, salvo, de que exista un tratado internacional, que permita la protección en varios países  ó que el derecho haya sido reconocido por varios estados a petición del propio titula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4840" y="501480"/>
            <a:ext cx="8850240" cy="106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LA PROPIEDAD INDUSTRIAL COMPRENDE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MARCAS COMERC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ENTES DE INVEN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DELO  DE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EÑO INDUST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95720" y="1595520"/>
            <a:ext cx="2448000" cy="702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INISTERIO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DUCACION PUBL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95720" y="2967120"/>
            <a:ext cx="2448000" cy="33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95720" y="3881520"/>
            <a:ext cx="2448000" cy="81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RECCION DE BIBLIOTECAS ARCHIVOS Y MUSE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95720" y="5329080"/>
            <a:ext cx="2448000" cy="81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GISTRO DE PROPIEDAD INTELECT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28680" y="1442880"/>
            <a:ext cx="244800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NISTERIO DE ECONOMIA, FOMENTO Y RECONSTRU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2520" y="28908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SECRETARIA DE PES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76600" y="2890800"/>
            <a:ext cx="2448000" cy="83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 ECONOMIA, FOMENTO Y RECONSTRU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76600" y="42624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PARTAMENTO DE PROPIEDAD INDUSTR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620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DEPARTAMENTO JURIDI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028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DEPARTAMENTO PATENTES DE INVEN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1980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DEPARTAMENTO DE MARCAS COMERCI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22161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2590920"/>
            <a:ext cx="3354480" cy="306360"/>
          </a:xfrm>
          <a:custGeom>
            <a:avLst/>
            <a:gdLst/>
            <a:ahLst/>
            <a:rect l="l" t="t" r="r" b="b"/>
            <a:pathLst>
              <a:path w="2113" h="193">
                <a:moveTo>
                  <a:pt x="0" y="192"/>
                </a:moveTo>
                <a:lnTo>
                  <a:pt x="0" y="0"/>
                </a:lnTo>
                <a:lnTo>
                  <a:pt x="2112" y="0"/>
                </a:lnTo>
                <a:lnTo>
                  <a:pt x="2112" y="192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52880" y="3740040"/>
            <a:ext cx="0" cy="5209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4883040"/>
            <a:ext cx="0" cy="2923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5181480"/>
            <a:ext cx="6478560" cy="459000"/>
          </a:xfrm>
          <a:custGeom>
            <a:avLst/>
            <a:gdLst/>
            <a:ahLst/>
            <a:rect l="l" t="t" r="r" b="b"/>
            <a:pathLst>
              <a:path w="4081" h="289">
                <a:moveTo>
                  <a:pt x="0" y="288"/>
                </a:moveTo>
                <a:lnTo>
                  <a:pt x="0" y="0"/>
                </a:lnTo>
                <a:lnTo>
                  <a:pt x="4080" y="0"/>
                </a:lnTo>
                <a:lnTo>
                  <a:pt x="4080" y="288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5187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22T20:55:50Z</dcterms:created>
  <dc:creator>Andrés Escobar López</dc:creator>
  <dc:description>Preparado para dictar charla el miércoles 28 de Agosto de 1996</dc:description>
  <dc:language>en-US</dc:language>
  <cp:lastModifiedBy>alumno</cp:lastModifiedBy>
  <dcterms:modified xsi:type="dcterms:W3CDTF">2003-07-21T13:07:46Z</dcterms:modified>
  <cp:revision>15</cp:revision>
  <dc:subject>sistema de patentes e informacion tecnologica</dc:subject>
  <dc:title>Seminario de Patentes</dc:title>
</cp:coreProperties>
</file>