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EBEA-04BA-4F1A-A19B-8B233325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E6EA-904E-4537-9877-728DD948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E88-400F-4BB1-BB0E-B66476E7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1668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49100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272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1668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49100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EF6-6CF1-49E8-B4CD-87EBF4E7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4030-5597-4E61-8D64-4E72E672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FED3-CF0E-478C-9BFD-E5201F95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1EDE-5611-47F1-B5B7-4F58F105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C6E6-9F23-4C9D-8FA6-26EFD91A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2439-A4B9-4448-BE1E-0EF96B4D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62103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E181-B89F-48FC-BA25-C6E7B5CF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1FAF-A19C-42EE-9851-EB8EB13E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7E6-47F9-4590-85F3-DB087E4D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EB75-5C09-4638-A84D-E166D565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CCDC-6377-40AC-B701-D4D0CFFC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1C8D-B7CD-4B0E-87D3-2F9B9E77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2D88-24C5-4027-96F4-22426530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41668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491000" y="251460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4272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41668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491000" y="5420160"/>
            <a:ext cx="19749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7E95-A8C2-4FCE-AE9C-6397B5BB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0B90-CF8D-4E63-829A-C90D7A36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E5A0-6C07-4116-AB6D-C70220AF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11EB-F2F5-4BC0-A364-5778CE11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621036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DD4-EF4E-409C-B1D3-6F3E6735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BE83-BD06-432A-AEA4-9E8BCE43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86240" y="542016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01EC-1449-4D7D-A3E7-B9636D53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86240" y="2514600"/>
            <a:ext cx="29934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2720" y="5420160"/>
            <a:ext cx="61340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4FBB-377A-48E5-B001-D24875DB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8305560"/>
            <a:ext cx="1428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0556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47920" y="83055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C8FE-413E-450D-8786-B26421F799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6172200" cy="5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3080" y="914040"/>
            <a:ext cx="6286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33160" y="8305560"/>
            <a:ext cx="1447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362320" y="8305560"/>
            <a:ext cx="2133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4952880" y="830556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6FC3-6E4F-4241-BABB-3A1E9B9691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6172200" cy="51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25320" y="372960"/>
          <a:ext cx="5583240" cy="832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372960"/>
                    <a:ext cx="5583240" cy="832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55480" y="-108000"/>
          <a:ext cx="5747040" cy="772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-108000"/>
                    <a:ext cx="5747040" cy="772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Sistema Nacional de Innovació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junto de agentes (consumidores, empresas, trabajadores e instituciones) que involucrados en la introducción de una innovación, se interrelacionan mediante cuatro proces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absorción de tecnología extranj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transformación doméstica de tecnolog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roducción de recursos huma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difusión de tecnolog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La absorción tecnológ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ptura de tecnologí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rategia inicial: “seguidor tecnológico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es canales para absor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rsión extranjera direc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tratos de licencia tecnoló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mportaciones de bienes de cap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Transformación tecnológic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reación, adaptación y mejo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ponentes de la estructura productiv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amaño del mercado (costo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nsidad del tejido industrial (proveedor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ructura del mercad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6210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Formación de capital human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514600"/>
            <a:ext cx="6134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capacidad tecnológica está influida por el capital huma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&gt; Saber seleccionar, adquirir, usar, adaptar, mejorar y crear tecnología en forma efic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60640" y="3490920"/>
            <a:ext cx="2808360" cy="2376360"/>
          </a:xfrm>
          <a:prstGeom prst="flowChartExtra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9000" y="4067280"/>
            <a:ext cx="2952720" cy="1441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621036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La difusión tecnológic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1876320" y="298764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BSORCIÓN TECNOLÓ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4800" y="614988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DUC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15320" y="61498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NS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19600" y="4140360"/>
            <a:ext cx="2866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4240" indent="-8424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URSOS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2T20:56:02Z</dcterms:created>
  <dc:creator>DESKPRO</dc:creator>
  <dc:description/>
  <dc:language>en-US</dc:language>
  <cp:lastModifiedBy>alumno</cp:lastModifiedBy>
  <dcterms:modified xsi:type="dcterms:W3CDTF">2003-07-21T13:07:11Z</dcterms:modified>
  <cp:revision>9</cp:revision>
  <dc:subject/>
  <dc:title>Sin título de diapositiva</dc:title>
</cp:coreProperties>
</file>