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In551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tasa  de descuento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4799880" y="3808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00"/>
                </a:solidFill>
                <a:latin typeface="Verdana"/>
              </a:rPr>
              <a:t>francisco j. errandonea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00"/>
                </a:solidFill>
                <a:latin typeface="Verdana"/>
              </a:rPr>
              <a:t>nov.05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Índices de mercado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Verdana"/>
              </a:rPr>
              <a:t>Son índices que tratan de medir cuanto renta el mercado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Verdana"/>
              </a:rPr>
              <a:t>Mercado: Rentabilidad equivalente al de todos los activos de la economía.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Verdana"/>
              </a:rPr>
              <a:t>Índices relevantes: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Verdana"/>
              </a:rPr>
              <a:t>IPSA, IGPA, Chile 65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Verdana"/>
              </a:rPr>
              <a:t>MSCI, IFCI, DJ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Verdana"/>
              </a:rPr>
              <a:t>Price index: tener una acción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Verdana"/>
              </a:rPr>
              <a:t>Value weighted: mantener % empresa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Verdana"/>
              </a:rPr>
              <a:t>Traded volume weighted.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Prima por riesgo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Características generales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Verdana"/>
              </a:rPr>
              <a:t>Mayor que cero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Verdana"/>
              </a:rPr>
              <a:t>Aumentar con aumentos de aversión al riesgo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Verdana"/>
              </a:rPr>
              <a:t>Aumentar con el aumento del riesgo del activo riesgoso (vlr)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Responde a la pregunta: RV vs Rf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Prima por riesgo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Encuestas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Datos históricos : Método general es el de tomar datos de EEUU y sumar riesgo país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Riesgo implícito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Prima por riesgo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7458120" cy="1819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3733920"/>
            <a:ext cx="8382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Verdana"/>
              </a:rPr>
              <a:t>La idea es tomar mayor cantidad de datos y ser consistente con Rf.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Verdana"/>
              </a:rPr>
              <a:t>Tomar Promedios aritméticos en CP y geométricos en LP.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7166160" y="6451560"/>
            <a:ext cx="129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3300"/>
                </a:solidFill>
                <a:latin typeface="Arial"/>
              </a:rPr>
              <a:t>Fuente: damodaran.com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Usando riesgo paí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Asume que riesgo de no pago = riesgo de las acciones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Una opción es ajustarla: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Verdana"/>
              </a:rPr>
              <a:t>Desviación estándar Bovespa = 30,64%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Verdana"/>
              </a:rPr>
              <a:t>Desviación estándar Brazil-C=15,28%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Verdana"/>
              </a:rPr>
              <a:t>Riesgo país = 483 puntos bas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Verdana"/>
              </a:rPr>
              <a:t>Prima = 4,83%*30,64%/15,28%=9.69% sobre EEUU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Prima por riesgo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Riesgo implícito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Ej: El índice de mercado está en 900 puntos y se espera que el rendimiento de dividendos (Div. Yield) es de 2%. El crecimiento esperado de las utilidades (dividendos) es de 7%, entonces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Verdana"/>
              </a:rPr>
              <a:t>900=2%*900/(r-7%) </a:t>
            </a:r>
            <a:r>
              <a:rPr b="0" lang="es-CL" sz="2800" spc="-1" strike="noStrike">
                <a:solidFill>
                  <a:srgbClr val="003300"/>
                </a:solidFill>
                <a:latin typeface="Wingdings"/>
                <a:ea typeface="Wingdings"/>
              </a:rPr>
              <a:t></a:t>
            </a:r>
            <a:r>
              <a:rPr b="0" lang="es-CL" sz="2800" spc="-1" strike="noStrike">
                <a:solidFill>
                  <a:srgbClr val="003300"/>
                </a:solidFill>
                <a:latin typeface="Verdana"/>
              </a:rPr>
              <a:t> Rm=9%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Bet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Rj = a + b Rm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Período de estimación: 2 a 5 años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Diario, semanal, mensua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Índice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Comparables BL=Bu(1+(1-T)D/E)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Bet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Concha y Toro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90920" y="2209680"/>
            <a:ext cx="48765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Bet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70106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Costo de la deud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El costo de la deuda debe ser marginal, de una nueva deuda a cada período del flujo de caja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Una opción es GF/DEUDA PROMEDIO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Analisis de spread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Tasa de descuento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WACC, CAPM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Tasa libre de riesgo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Bullet, Curva cero cupón.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Beta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Índices de mercado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Tasa libre de riesgo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E(retorno) = retorno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Verdana"/>
              </a:rPr>
              <a:t>No tiene riesgo de no pago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Verdana"/>
              </a:rPr>
              <a:t>Su flujo debiera ser equivalente a los flujos de caja a descontar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Verdana"/>
              </a:rPr>
              <a:t>Generalmente se ocupa una tasa de largo plazo de un instrumento de gobierno. Si no existe crecimiento de largo plazo de la economía.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Instrumentos Rf Chil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8658360" cy="4762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166160" y="6451560"/>
            <a:ext cx="175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3300"/>
                </a:solidFill>
                <a:latin typeface="Arial"/>
              </a:rPr>
              <a:t>Fuente: Banco Central, Bloomberg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Bono soberano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7010280" cy="5019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013160" y="6643800"/>
            <a:ext cx="10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3300"/>
                </a:solidFill>
                <a:latin typeface="Arial"/>
              </a:rPr>
              <a:t>Fuente: Bloomberg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Sea la siguiente estructura de tasas cero cupón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2060640" cy="2743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819520" y="2514600"/>
            <a:ext cx="61243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Supongamos un bono con cupón del 6% y vencimiento a 6 años. ¿Cuál es la TIR?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Precio = 109,572% (descontado los flujo de caja)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TIR = 4,16%  (solver de excel)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Impacto en el cálculo de un VPN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61246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5943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Si los flujo de caja son: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VP (TIR promedio) = 564,54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Verdana"/>
              </a:rPr>
              <a:t>VP (TIR por período) = 571,13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477120" y="1600200"/>
            <a:ext cx="2222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50:29Z</dcterms:created>
  <dc:creator>Francisco Javier Errandonea II</dc:creator>
  <dc:description/>
  <cp:keywords/>
  <dc:language>en-US</dc:language>
  <cp:lastModifiedBy>Francisco Javier Errandonea Terán</cp:lastModifiedBy>
  <dcterms:modified xsi:type="dcterms:W3CDTF">2005-11-09T21:09:05Z</dcterms:modified>
  <cp:revision>24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91033</vt:lpwstr>
  </property>
</Properties>
</file>