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MAQS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. Dimaqsa no necesitaba a Mocesa, la necesitaban los accionistas para diversificar negoc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hay relación funcional ni vertical (proveedor-cliente) no horizon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maqsa no es accionista de Moce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hay datos sobre la participación de cada socio en cada u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¿Que pasaría si el accionista A tiene el 80% de Dimaqsa y el B el 80% de Moces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MAQS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8. ROA de Moce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19 /(183-6) = 10,73% (cercano al interés de mercado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glose:(19/90)*(90/177) = 21,1%* 0,51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¿Si pagara intereses? Supongamos de 8% sobre el crédito de Dimaqsa y el arriendo pend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50+13)*0,08= 5,04, se agregan a los 14 millones de gasto financiero que ya tie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¡Tendrían pérdida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MAQS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palancamiento sin corregir intereses: da positivo (hacerlo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 corrección da negat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 nuevo: graves consecuencias para los accionistas de Dimaqsa, lo que no pierden los accionisatas de Mocesa lo dejan de ganar los de Dimaq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MAQS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. Es obvio que sin la ayuda de Dimaqsa, Mocesa no podría sobreviv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¿Por qué? Bajo ROA, tanto el margen como la rotación son meno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ajo margen: por política agresiva de prec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rotación también es más baja a pesar de que no contabilizan buena parte de sus inversion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MAQS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¿Por qué a pesar de lo anterior la rotación es tan baj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mparemos rotación de Act. Circulan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ocesa: Stocks/(Ventas a p.c) *365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72 /(44,5+6)*365 = 520,4 dí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maqsa: 73 /(70+7)*365= 346 dí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tan menos a pesar de política de pre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ólo sostenible por el financiamiento de Dimaq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MAQS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lazo cobro a clien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ocesa: Deudas clientes/(Ventas + IVA)*365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100/ 90*1,18) = 343,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maqsa: 129/ 250*1,18 = 159,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Gracias a Dimaqsa, Mocesa se permite facilidades de pago de un año de plazo, e contrapartida, Dimaqsa no ha podido ser tan genero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MAQS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0. ¿Conviene seguir apoyando a Mocesa?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maqsa es una muy buena empresa como par haber podido ayudar tanto a Moce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án afectando su rendimiento y posiblemente su capacidad de acceder a financiamiento exter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deudamiento Dimaqs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ño 1: E= 1,5 alto Año 2: 2,02 ¡Argg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¿A los accionistas? Dividendos decrecientes, rendimiento y rentabilidad decreci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MAQS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ocesa no hace que Dimaqsa venda 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hace que produzca mejor o en forma mas efici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le ayuda a comercializ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hace que Dimaqsa dirija o controle mejor su nego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. Dado que no hay relación funcional entre ambas, esta inversión (edificio) es claramente extrafunc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¿Conviene mantener esos extrafunciona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MAQS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JO: hay más extrafuncionales; parte del equipo computacional, un crédito (¡sin intereses!) y arriendos pendientes de cob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 En preguntas 7 y 8 se hacen los cálculos de rendimiento. Por ahora, si se determina que no rentan, se trataría de inversiones absurdas desde un punto de vista financier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MAQS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4. Empleos: Edificio Dimaqsa (0) + Maquinaria (2)+ Otros Inmovilizados (2)+ 1/2 Equip. Comp.(5)= 9 millo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irculante: Stocks + Clientes = 8+31, total 48 millones (41,7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trafuncional fijo 1/2 Equip. Comp.+ Edificio Antofagasta= 14 millones Extrafuncional circulante: 53 millones, Total inversiones extrafuncionales 67  millones (58,3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MAQS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entes: Patrimonio (11,5) + Depreciación Acumulada (30) = 41,5 (36,1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uda LP (20, 17,4%) + Deuda CP (51,5,44,8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entes relativas a disminución de activos: disponible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MAQS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 El activo bruto en el año 1 era 244 millones, luego los 115 invertidos son una gran invers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-2192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o 67 millones son extrafuncionales. (subsidio cruzado a Moces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-2192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 ¿Cómo se financió? Si ni hubiera invertido en Mocesa podría haber cubierto casi el 100% de sus inversiones funcionales con fuentes propias + un pequeño complemento de deuda LP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MAQS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inversión en Mocesa “forzó la máquina” haciendolos tomar deuda C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fortunadamente buena parte de esa deuda de CP es de carácter cíc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¿Afectó esto el plazo de pago a proveedor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veedores/(CostoMP+IVA)= (20/72,8)*365 = 100 días en el año 1, sube a 121,4 días en el año 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MAQS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4000"/>
          </a:bodyPr>
          <a:p>
            <a:pPr marL="1508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6880" indent="-125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7. ROA = (BAIT+ Rdo. no operacional)/AT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26880" indent="-125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= (42+3)/(244-20) = 20,08% en año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26880" indent="-125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= (57+3)/(357-50) = 19,54% en el año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26880" indent="-125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lto pero decrece, ¿ROA funcion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26880" indent="-125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ctivo funcional = 244-18-10-8-2-20= 186 en el año 1, en el año 5 es 20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26880" indent="-125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OAf 1 = 42/186 = 22,58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26880" indent="-125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OAf2 = 57/202 = 28,21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26880" indent="-125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¡Mejor que el global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4200" y="562464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MAQS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1000"/>
          </a:bodyPr>
          <a:p>
            <a:pPr marL="72000" indent="-720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glose ROA glob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2000" indent="-720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ño 1: 20,08 % = 45 /(200+3) * (203/22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2000" indent="-720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0,08 = 22,16% margen* 0,9026 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2000" indent="-720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ño 5 19,54% = 23,71% margen* 0,824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2000" indent="-720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glose ROA fun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2000" indent="-720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ño 1: 22,58% = (42/200)* (200/18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2000" indent="-720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2,58% = 21% *1,0752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2000" indent="-720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ño 5 28,21% = 22,8% * 1,2376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2000" indent="-720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mayores margenes con extrafuncionales no compensan la perdida de rotac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4T15:19:40Z</dcterms:created>
  <dc:creator>Eduardo Contreras Villablanca</dc:creator>
  <dc:description/>
  <dc:language>en-US</dc:language>
  <cp:lastModifiedBy>.</cp:lastModifiedBy>
  <cp:lastPrinted>1997-04-16T17:24:08Z</cp:lastPrinted>
  <dcterms:modified xsi:type="dcterms:W3CDTF">1999-01-07T16:13:33Z</dcterms:modified>
  <cp:revision>10</cp:revision>
  <dc:subject>Planificación financiera</dc:subject>
  <dc:title>PLANIFICACION FINANCIERA</dc:title>
</cp:coreProperties>
</file>