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0360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161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907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0360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161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5560" y="1371600"/>
            <a:ext cx="7975440" cy="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trikeoption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ÁLISIS ECONÓMIC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1.Rendimiento del ac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2.Detalle de rendimiento de ac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3.Rentabilidad de fondos prop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4.Detalle de rentabilidad de fondos prop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.El apalancamiento financiero (leverag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.Return on Equity Breakdown (ROEB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ÁLISIS ECONÓMIC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.Apalancamiento Financiero (leverag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045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fecto de la deud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fecto (+) Rotación; aumenta Vtas./F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fecto (-) Margen; disminuye BPT/Vt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¿Hasta donde conviene endeudar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pongamos ahora Interés de 25% anu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OA = 20/100= 20% y ROE = (20-12,5)/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OE = 15% .....¡Disminuy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79240" indent="-222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 conviene si i &gt; ROA &lt;=&gt; ROA &gt; RO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ÁLISIS ECONÓMIC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.Apalancamiento Financiero (leverag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81044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fecto de la deuda: Lo que determina que el apalancamiento sea positivo es el tipo de interés (i). Recordem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fecto (+) Rotación; aumenta Vtas./F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fecto (-) Margen; disminuye BPT/Vt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uando i &gt; ROA, el “efecto gasto financiero” sobre el margen anula el efecto rot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ÁLISIS ECONÓMIC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.Apalancamiento Financiero (leverag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SU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9480" y="2901960"/>
            <a:ext cx="4940280" cy="105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91800" y="3186000"/>
            <a:ext cx="3380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A &gt; i =&gt; ROE &gt; RO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76680" y="3110040"/>
            <a:ext cx="2182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alanc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si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9480" y="4425840"/>
            <a:ext cx="4940280" cy="9781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80800" y="4786200"/>
            <a:ext cx="3304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A &lt; i =&gt; ROA &gt; RO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28960" y="4481640"/>
            <a:ext cx="21823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alanca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ga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ÁLISIS ECONÓMIC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.Return on Equity Breakdown (Descomposición de Rentabilidad de F.P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odelo ROE = f(RO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PT/FP = (BAIT + Atípicos)/ Act.T.N. * FA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 FAFF: Factor de apalancamiento Financiero-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62080" y="5396040"/>
            <a:ext cx="6667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FF =------------------ * --------------- * --------------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141280" y="5091120"/>
            <a:ext cx="516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ct. Tot. Neto         BAT                  B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321640" y="5700600"/>
            <a:ext cx="5110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ondos P.         BAIT + Atíp.          B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20880" y="5035680"/>
            <a:ext cx="7073640" cy="1358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ÁLISIS ECONÓMIC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.Return on Equity Breakdow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6869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scomposición del FA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AFF = FAF * Efecto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AF = (Act. T. N.)/ FP * BAT / (BAIT+Atíp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AF: Factor de apalancamiento financie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AF = Endeudamiento *Efecto Gts.Financier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ordar E`= Activo/FP = 1 +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37080" indent="-18720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ecto Gastos Fin. = BAT / (BAIT + Atípic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fecto Fiscal = BPT / B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ÁLISIS ECONÓMIC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.Return on Equity Breakdow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SUME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" y="3643200"/>
            <a:ext cx="82159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E = ROA * ENDEUDAMIENTO * IMPACTO   * IMPA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NCIERO     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5080" y="3435480"/>
            <a:ext cx="8445240" cy="1206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45021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01960" y="5029200"/>
            <a:ext cx="3720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629400" y="4489200"/>
            <a:ext cx="0" cy="546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22120" y="5091120"/>
            <a:ext cx="739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4349880"/>
            <a:ext cx="0" cy="1206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92480" y="5562720"/>
            <a:ext cx="585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8153280" y="4565160"/>
            <a:ext cx="0" cy="1003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22600" y="5700600"/>
            <a:ext cx="908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F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74600" y="6005520"/>
            <a:ext cx="879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TA: La Empresa sólo puede influir en el FAF, el FAFF es exóge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ÁLISIS ECONÓMIC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6.Return on Equity Breakdow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074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4400" indent="-284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gulación del FAF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OA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estión de los ejecutivos de operaciones, marketing, finazas, et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j.: Políticas de crédito a clientes, innovaciones tecnológic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16680" indent="-2372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` y Gastos Financier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tructura de 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cisiones de propietarios y aversión al ries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48600" indent="-18972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po de inter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TROS INDICADOR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odos los indicadores vistos hasta ahora en el curso son ùtiles para el análisis bursátil: análisis fundament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ambién existe la escuela de análisis técn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Una ayuda a decidir que comprar, la otra cuando entrar y cuando sali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OTROS INDICADOR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178840" cy="4305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itios de interé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http://www.bloomberg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http://marketguide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http://www.stockselector.com/industry.as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http://cbs.marketwatch.com/tools/stockresearch/default.asp?siteid=mkt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http://www.stern.nyu.edu/~adamodar/New_Home_Page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http://www.financewise.com/public/unregistered/riskm.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http://www.corporateinformation.com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http://www.bancosantiago.cl/inversion/indexe.htm (ver en “Información Bursátil”: Empresas Nacionales y Empresas Internacio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http://www.salafinanciera.com/chile (análisis técnic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http://www.federalreserve.go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http://www.futuresource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-274320">
              <a:spcBef>
                <a:spcPts val="4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strikeoption.com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(análisis técnico) 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ÁLISIS ECONÓMICO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¿Cómo analizar la cuenta de resultados una vez ordenad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Rendimiento del ac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30360" y="3511440"/>
            <a:ext cx="2044800" cy="1130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812960" y="3567240"/>
            <a:ext cx="1800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F fun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12960" y="4024440"/>
            <a:ext cx="183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 fun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29360" y="3809880"/>
            <a:ext cx="4021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=&gt; Resultado Opera-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cional ó BAI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30360" y="4959360"/>
            <a:ext cx="2044800" cy="977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76800" y="5014800"/>
            <a:ext cx="187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F extrafun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07960" y="5396040"/>
            <a:ext cx="2095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C extrafun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3080" y="5243400"/>
            <a:ext cx="42642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&gt; Ingresos o Gastos  Atípicos ó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operacio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ÁLISIS ECONÓMICO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dto. del activo = Return on Assets (RO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4560" y="3054240"/>
            <a:ext cx="5931000" cy="1511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82080" y="3567240"/>
            <a:ext cx="1085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D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85560" y="356724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25640" y="3809880"/>
            <a:ext cx="3264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4680" y="3262320"/>
            <a:ext cx="258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IT + ATIP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38480" y="3948120"/>
            <a:ext cx="42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O TOTAL 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5400" y="5091120"/>
            <a:ext cx="66812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 EL DENOMINADOR “NETO” SE REFIERE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O DE DEPRECIACION ACUMUL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ÁLISIS ECONÓMICO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dto. Específico (o técnico) del ac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4560" y="2673360"/>
            <a:ext cx="5931000" cy="15876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05040" y="3110040"/>
            <a:ext cx="108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D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7320" y="3110040"/>
            <a:ext cx="352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25640" y="3352680"/>
            <a:ext cx="3264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21040" y="2881440"/>
            <a:ext cx="891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38480" y="3490920"/>
            <a:ext cx="42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CTIVO FUNCIONAL 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49320" y="4253040"/>
            <a:ext cx="267336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ctivo Total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AF extrafun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AC extrafun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 Depreciación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44560" y="4349880"/>
            <a:ext cx="3111480" cy="21207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48320" y="3968640"/>
            <a:ext cx="0" cy="1359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8640" y="5334120"/>
            <a:ext cx="673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ÁLISIS ECONÓMICO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. Detalle del rendimiento del ac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0" y="2530440"/>
            <a:ext cx="89870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A  =   ---------------------  =  ---------------  * ----------------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86920" y="2225520"/>
            <a:ext cx="1009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05800" y="2911320"/>
            <a:ext cx="2369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ct. func. N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77840" y="2149560"/>
            <a:ext cx="1009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02000" y="2911320"/>
            <a:ext cx="2063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ntas Ne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64320" y="2149560"/>
            <a:ext cx="2063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ntas Ne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39560" y="2911320"/>
            <a:ext cx="23698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ct. func. Ne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1520" y="4100400"/>
            <a:ext cx="852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OA = MARGEN DE VENTAS (%) * ROTACION DEL 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95320" y="4710240"/>
            <a:ext cx="674388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 ROA es el rendimiento que debería cubrir el cost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medio  ponderado  del  capital (WACC), es decir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bería cubrir el costo del capital propio y el cost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 deuda.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ÁLISIS ECONÓMICO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212400" indent="-212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2. Detalle del rendimiento del ac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60440" indent="-1771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ROA que calculemos son buenos o malos en término relativos (comparados con otros del sect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60440" indent="-1771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teresa analizar las diferencias intersectoriales en la  descomposición del rendimiento (márgen y rotació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j.1: Venta de antiguedades de colección; Alto Margen y Baja Rota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708480" indent="-141480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j.2: Bombas de Bencina; Bajo Margen y Altísima R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ÁLISIS ECONÓMIC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 algn="ctr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3.Rentabilidad de los fondos propios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tdad. F.P. = Return on Equity (RO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just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OE = BPT / Fondos Prop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usa BPT porque es lo que realmente interesa a los accionist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¿De que depende la rentabilida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pende del mercado específico y sus riesgos, a mayor riesgo mayor RO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TA: ROA y ROE son aproximaciones del corto plazo a los retornos del CAP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ÁLISIS ECONÓMIC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9000"/>
          </a:bodyPr>
          <a:p>
            <a:pPr marL="167760" indent="-167760" algn="ctr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4.Detalle de rentabilidad de  fondos prop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67760" indent="-167760">
              <a:spcBef>
                <a:spcPts val="601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OE = BPT / FP = BPT/ Vtas. Netas * Vtas Netas / F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67760" indent="-1677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rgen global neto = BPT / Vtas. Ne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67760" indent="-1677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otación de fondos propios= Vtas.N. / F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167760" indent="-16776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rotación de FP depende del grado de aversión al riesg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63960" indent="-140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utofinanciación =&gt; Incremento de FP =&gt; Menor rentabilidad (RO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63960" indent="-1400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aumentamos “E” (deuda) =&gt; Aumenta rotación de FP pero cae el BPT. Por lo tanto el resultado no es cla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4200" y="5624640"/>
            <a:ext cx="257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ANÁLISIS ECONÓMIC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0000"/>
          </a:bodyPr>
          <a:p>
            <a:pPr marL="68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5.Apalancamiento Financiero (leverag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 ausencia de endeudamiento y de impuest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48320" indent="-568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AIT = BPT =&gt; ROA = RO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48320" indent="-568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.: BAIT=BPT=20 y FP=Act.Total Neto = 1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8400" indent="-68400">
              <a:spcBef>
                <a:spcPts val="799"/>
              </a:spcBef>
              <a:buClr>
                <a:srgbClr val="ff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¿Conviene endeudars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48320" indent="-568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j:Act Total Neto = 100, FP = 50 y Deuda = 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48320" indent="-568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terés 10%/año=&gt; Gts. Financ.= 5 =&gt; BPT=1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48320" indent="-568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OA = 20/100 = 20% y ROE = 15/50 =30 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48320" indent="-568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viene endeudarse (en este caso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4T15:19:40Z</dcterms:created>
  <dc:creator>Eduardo Contreras Villablanca</dc:creator>
  <dc:description/>
  <dc:language>en-US</dc:language>
  <cp:lastModifiedBy>Eduardo Contreras</cp:lastModifiedBy>
  <cp:lastPrinted>1999-04-13T15:41:05Z</cp:lastPrinted>
  <dcterms:modified xsi:type="dcterms:W3CDTF">2004-05-28T02:38:15Z</dcterms:modified>
  <cp:revision>13</cp:revision>
  <dc:subject>Planificación financiera</dc:subject>
  <dc:title>PLANIFICACION FINANCIERA</dc:title>
</cp:coreProperties>
</file>