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iario.cl/resultados/generales/generales.htm%20(2001" TargetMode="External"/><Relationship Id="rId2" Type="http://schemas.openxmlformats.org/officeDocument/2006/relationships/hyperlink" Target="http://www.eldiario.cl/prc_eldiario/application/RESULTADOS%20OK.pdf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Concepto económico financiero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Concepto económico financiero del pa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Solidez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Análisis de la estructura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Análisis de la estructura del pa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le equilibrio para adversos al ries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9480" y="1835280"/>
            <a:ext cx="6692760" cy="387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53880" y="2112840"/>
            <a:ext cx="133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09160" y="2112840"/>
            <a:ext cx="128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4160" y="3179880"/>
            <a:ext cx="26654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Activo 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Activo Fij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9360" y="3255840"/>
            <a:ext cx="1969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Exigible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Exigible 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808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2000"/>
          </a:bodyPr>
          <a:p>
            <a:pPr marL="75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SOLIDEZ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5240" indent="-752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euda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3440" indent="-6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 E= Exigible (CP y LP)/ Capital Prop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3440" indent="-6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’ = Activo Total/Capital Propio= E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3440" indent="-6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os (Chil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251280" indent="-5004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&lt;0,4 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51280" indent="-5004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=0,4 Med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51280" indent="-5004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4&lt;E&lt;1 Medio 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51280" indent="-5004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&gt;1 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ros paí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ñ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: 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: Medio 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: 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: Extremadamente 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: 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:Medio 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: Extremadamente 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ros Paí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ncia: Más arriesgado (más apalancados que  USA, Chile y Españ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pón y “Tigres asiáticos”: La banca es más arriesg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¿Propiedades cruzadas sectores financiero e industria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gunos ejemplos en Ch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Q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69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28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DELNO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,1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Tepua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,69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,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ña S.Pedr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7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,39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er pagin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www.eldiario.cl/fotos/DOCUMENTOS/RESULTADOS.pdf (2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eldiario.cl/resultados/generales/generales.htm (200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ldiario.cl/prc_eldiario/application/RESULTADOS%20OK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ALISIS PATRIMONIAL I (ESTATICO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1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SOLIDEZ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3040" indent="-113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3040" indent="-113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” alto =&gt; Ries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tencial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o la empresa podría responder si genera suficiente liquide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3040" indent="-113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” alto y baja liquidez =&gt; Falta de garantías crediti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3040" indent="-113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3040" indent="-113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” depende del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Análisis de la estructura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ructura General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resas deberían tender a diferenciarse según su activ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oras (Minería, empresas de energía y de transportes, manufactureras, etc.):AF &gt; 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rcializadoras (consultoras, tiendas de abarrotes, restaurantes, etc.):AC&gt;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Análisis de la estructura del pa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financi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ción interna de recursos, cuando aplicamos las utilidades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JO: La ampliación de capital no es de generación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Análisis de la estructura del pa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tofinanci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ntido restringido: Autofinanc.&lt;=&gt;Reser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financiación =&gt; Restringir dividen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porción capital propio vs reservas dependerá de los intereses de los accioni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troducción y 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undización del Análisis Patrimonial Gene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conoce también como análisis de Solvencia o Financi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udiaremos la “Solvencia” de la empresa, es decir su capacidad de cumplir con sus oblig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Concepto económico financiero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nómico: Riqueza en funcionamiento para generar más riquez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: Una máquina abandonada no es activo desde el punto de vista econó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ncipio financiero: Fuerza interna (tendencia) a la liquid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660960" indent="-25416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trata de estudiar las masas patrimoniales que se mueven (circulan) con mayor rapide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 Circulante =&gt; Partidas más líquidas del activo (menos consolidad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 Circulante =&gt; Exigible de corto plazo (lo que se hace exigible en un  ciclo de maduración o en el “Corto Plazo”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 finalmente determinar si la empresa puede mantenerse o desarrollarse manejando su estructura actual de Activo / Pasivo Circula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Definición y Clases de Solv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28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ncia de Capac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ando una empresa tiene bienes suficientes en su Activo para responder a su Pasivo Exig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7280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ncia de Pun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ando una empresa tiene la capacidad de atender a sus compromisos de pago en la fecha previ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Definición y Clases de Solv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vente de Capac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olvente de Pun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ncia Final o de Garant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puede definir como el Total del Activo menos el Pasivo Exigible, es decir el activo que sobra si cancelo todo mis oblig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s permite mayor endeud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der, en caso de pérdida de valor del activo, cubriendo la deu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úa a la empresa en una perspectiva de liquid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vencia Corriente ( o de Funcionamiento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mpla a la empresa Viva, en funcion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scinde de la garantía ofrecida por el Activo Fi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scinde de los vencimientos de Largo 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peocupa de la capacidad que tiene el Activo Circulante para hacer frente al Pasivo Circul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casos que el Activo circulante supera al Pasivo Circulante, nos permite mayor endeudamiento o garantiza pérdida de valor del ac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 algn="just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a primera idea de buena Gestión Financie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707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 algn="just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planteo fina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das de la Solvencia Corr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Fondo de Mani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ció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quella porción del Activo Circulante financiada por Capitales Perman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707480" indent="-189720">
              <a:spcBef>
                <a:spcPts val="499"/>
              </a:spcBef>
              <a:buClr>
                <a:srgbClr val="ffffff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quella porción de Capitales Permanentes destinada a financiar Activo Circulant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das de la Solvencia Corr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Fondo de Mani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7040" y="5548320"/>
            <a:ext cx="153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562720"/>
            <a:ext cx="143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495680"/>
            <a:ext cx="143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5410080"/>
            <a:ext cx="143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53080" y="3567240"/>
            <a:ext cx="1011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r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7960" y="3643200"/>
            <a:ext cx="121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g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/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4572000"/>
            <a:ext cx="1287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gi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352680" y="4495680"/>
            <a:ext cx="12319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1640" y="4405320"/>
            <a:ext cx="1368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95680" y="4495680"/>
            <a:ext cx="12319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6080" y="57150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 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s de Solvencia Corr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zón Circulante “ ó  “ Ratio de Solvenci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143" name=""/>
            <p:cNvGrpSpPr/>
            <p:nvPr/>
          </p:nvGrpSpPr>
          <p:grpSpPr>
            <a:xfrm>
              <a:off x="4382280" y="3262320"/>
              <a:ext cx="2360880" cy="911880"/>
              <a:chOff x="4382280" y="3262320"/>
              <a:chExt cx="2360880" cy="911880"/>
            </a:xfrm>
          </p:grpSpPr>
          <p:sp>
            <p:nvSpPr>
              <p:cNvPr id="144" name=""/>
              <p:cNvSpPr/>
              <p:nvPr/>
            </p:nvSpPr>
            <p:spPr>
              <a:xfrm>
                <a:off x="4382280" y="3262320"/>
                <a:ext cx="23608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ctivo Circula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90560" y="3719520"/>
                <a:ext cx="234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asivo Circula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255840" y="3490920"/>
              <a:ext cx="95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.S.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1240" y="4481640"/>
            <a:ext cx="901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iempre hay que observar el contenido del Activo y Pasivo Circul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i R.S.= 1, desde el punto de vista del acreedor a C/P es preocup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i R.S = 1, desde el punto de vista de la empresa, se debe financi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mente el activo circulante para perpetuar su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uego : R.S. = 1 justito, R.S. = 2 valores al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s de Solvencia Corr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o de Tesorería “ ó  “ Prueba Aci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880" y="4481640"/>
            <a:ext cx="9119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de la capacidad de la empresa de hacer frente a su Pasivo 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las partidas más líquidas del Activo Circula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i R.T.= 1, la empresa está en una excelente posición de tesorer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i R.T.= 1, desde el punto de vista del acreedor, hay cierta seguridad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o de su deuda. (Si la cartera de clientes es relativamente sana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154" name=""/>
            <p:cNvSpPr/>
            <p:nvPr/>
          </p:nvSpPr>
          <p:spPr>
            <a:xfrm>
              <a:off x="1943280" y="3262320"/>
              <a:ext cx="342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ctivo Circulante - Stoc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57200" y="3719520"/>
              <a:ext cx="234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sivo Circula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3360" y="3490920"/>
              <a:ext cx="97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.T.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5960" y="349092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16520" y="3262320"/>
              <a:ext cx="254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lientes + Efectiv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14800" y="3795840"/>
              <a:ext cx="234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sivo Circula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o económico financiero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nde a la liquidez el circul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9480" y="3054240"/>
            <a:ext cx="669276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3054240"/>
            <a:ext cx="0" cy="326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25280" y="3255840"/>
            <a:ext cx="133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94760" y="3255840"/>
            <a:ext cx="128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08960" y="3941640"/>
            <a:ext cx="2868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T. 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tas. por cob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tock P.acab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tock P.en curs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tock Mat. 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800" y="4503600"/>
            <a:ext cx="29196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9520" y="4884840"/>
            <a:ext cx="44388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5187960"/>
            <a:ext cx="74916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ÁLISIS DE CIRCUL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ases y medidas de la Solvencia de      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ios de Solvencia Corr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“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o de Liquidez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166" name=""/>
            <p:cNvGrpSpPr/>
            <p:nvPr/>
          </p:nvGrpSpPr>
          <p:grpSpPr>
            <a:xfrm>
              <a:off x="4390560" y="3262320"/>
              <a:ext cx="2343960" cy="911880"/>
              <a:chOff x="4390560" y="3262320"/>
              <a:chExt cx="2343960" cy="911880"/>
            </a:xfrm>
          </p:grpSpPr>
          <p:sp>
            <p:nvSpPr>
              <p:cNvPr id="167" name=""/>
              <p:cNvSpPr/>
              <p:nvPr/>
            </p:nvSpPr>
            <p:spPr>
              <a:xfrm>
                <a:off x="4589640" y="3262320"/>
                <a:ext cx="1943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aja y Banc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90560" y="3719520"/>
                <a:ext cx="234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asivo Circula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249360" y="3490920"/>
              <a:ext cx="97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.L.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800" y="4481640"/>
            <a:ext cx="9169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 debe usar el saldo medio mantenido durante el 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¿ Los saldos medios han de ser función del Pasivo Exigible a C/P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l saldo medio a mantener es una norma de seguridad, que debería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función de la posibilidad de estancamiento de la conversión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rculante a Disponible.(Retraso de clientes, recesión de ventas, etc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Tiende a la liquidez el Activo Fij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¡También! =&gt; Vía depre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preciación es una parte del cash flow que debería considerarse para reposiciones de equip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cepciones: Terrenos y 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95480" indent="-195480" algn="ctr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Concepto económico financiero del Pa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23360" indent="-162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: El pasivo es la lista de agentes económicos, dueños del activo, a ser retribuí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651240" indent="-1299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pital Propio (Patrimonio): Propietarios de pleno der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11880" indent="-12996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retribuye con dividen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51240" indent="-1299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pital Exigible (deuda):Propietarios trans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11880" indent="-12996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retribuye con inter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23360" indent="-162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incipio financiero: Tendencia a la exig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io Financi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dencia interna a la exig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el exigible de CP tenemos  la mayor exigi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LP tiende por definición a la exigi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0880" y="3130560"/>
            <a:ext cx="6083280" cy="2959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7200" y="3338640"/>
            <a:ext cx="133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13520" y="3338640"/>
            <a:ext cx="128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3000" y="4176720"/>
            <a:ext cx="17236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gible 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gible L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74480" y="4343400"/>
            <a:ext cx="74808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4120" y="4425840"/>
            <a:ext cx="74844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Y el patrimoni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¡Tambi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extremo: Al liquidar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normal: Cuando hay pérdidas (previsiones y regularización de pérdidas contra reserv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exigibilidad sin fecha concreta, no contract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60920" indent="-160920" algn="ctr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SOLIDEZ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-16092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librio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9200" indent="-134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librio contable ACT=PAS (por defini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9200" indent="-134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o: Debe haber un equilibrio financier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537120" indent="-1072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fuerza interna a la liquidez debe equilibrarse con la tendencia a la exigibili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9200" indent="-134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j.: Maquina que vale 100, vida útil 5 años, financiada con crédito a 3 a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537120" indent="-1072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nde a la liquidez a razón de 20/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537120" indent="-1072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gibilidad de 33,3/año más inter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752040" indent="-10728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Y DESEQUILIBRIO PATRIMO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ISIS FINANCIE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SOLIDEZ PATRIMO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ejemplo anterior, en ausencia de otros activos y pasiv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: Pagar con utilidades del proyecto (cash flo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o  hay riesgo (Ej.: caída de vent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8T06:20:00Z</dcterms:created>
  <dc:creator>Eduardo Contreras</dc:creator>
  <dc:description/>
  <dc:language>en-US</dc:language>
  <cp:lastModifiedBy>Eduardo Contreras</cp:lastModifiedBy>
  <cp:lastPrinted>1999-04-13T15:00:30Z</cp:lastPrinted>
  <dcterms:modified xsi:type="dcterms:W3CDTF">2005-08-17T18:59:27Z</dcterms:modified>
  <cp:revision>14</cp:revision>
  <dc:subject>Curso Diploma</dc:subject>
  <dc:title>Análisis de Circulante I</dc:title>
</cp:coreProperties>
</file>