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395280" y="6416640"/>
            <a:ext cx="68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imes New Roman"/>
              </a:rPr>
              <a:t>Eduardo Contreras - 2004</a:t>
            </a:r>
            <a:endParaRPr b="0" lang="en-US" sz="2000" spc="-1" strike="noStrike">
              <a:solidFill>
                <a:srgbClr val="ffffff"/>
              </a:solidFill>
              <a:latin typeface="Times New Roman"/>
            </a:endParaRPr>
          </a:p>
        </p:txBody>
      </p:sp>
      <p:sp>
        <p:nvSpPr>
          <p:cNvPr id="4" name=""/>
          <p:cNvSpPr/>
          <p:nvPr/>
        </p:nvSpPr>
        <p:spPr>
          <a:xfrm>
            <a:off x="395280" y="6524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2"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SO PESQUERA (real – modificado):</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ecopilación de información de fuentes secundarias públicas y privadas (INE, Banco Central, datos de exportaciones de Prochile, Asociación de Productores de Salmón y Trucha de Chile (AG)), etc.</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rocesamiento de la información de fuentes secunda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nvestigación de Mercado (fuentes primarias: entrevistas con ejecutiv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os Estados de Resultados y Balances auditad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nálisis de las proyecciones proporcionadas por la empres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 a partir del análisis de la información de todas las fuentes y las entrevistas con expertos y ejecutivos.</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pic>
        <p:nvPicPr>
          <p:cNvPr id="62" name="" descr=""/>
          <p:cNvPicPr/>
          <p:nvPr/>
        </p:nvPicPr>
        <p:blipFill>
          <a:blip r:embed="rId1"/>
          <a:stretch/>
        </p:blipFill>
        <p:spPr>
          <a:xfrm>
            <a:off x="1041480" y="2527200"/>
            <a:ext cx="7624800" cy="241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4"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SO PESQUERA.</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ercado del salmó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incipales consumidores de salmón y trucha chilenos son EE.UU. (42.5%) y Japón (41.4%)</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rincipal país consumidor de productos del mar es Japón. Este país explica el 45% del consumo mundial. La producción mundial ha crecido sostenidamente los últimos años superando el 120%.</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incipales productores en el ámbito mundial de salmón y trucha cultivado al 2002 s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Noruega, que concentra el 36.7% de la producción mundial</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Chile, que concentra el 35%</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Reino Unido con el 10.3%</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Canadá con el 6.4;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Islas Faroe con el 3.4%</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6" name="PlaceHolder 2"/>
          <p:cNvSpPr>
            <a:spLocks noGrp="1"/>
          </p:cNvSpPr>
          <p:nvPr>
            <p:ph/>
          </p:nvPr>
        </p:nvSpPr>
        <p:spPr>
          <a:xfrm>
            <a:off x="762120" y="1371600"/>
            <a:ext cx="7772400" cy="493704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SO PESQUERA.</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Clientes y Producto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incipales países de destino del salmón y la trucha cultivado por Chile s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E.UU., que concentra el 42.5% del total, con MMU$ 413.7</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Japón, con un 41.4%, con MMU$ 403</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Brasil, con un 2.8%, con MMU$ 27.4</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crecimiento, en U$, observado entre 1991 y 2002 es el siguient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EE.UU.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7.4 vec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Japón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4.4 vec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Brasil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30 veces</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48"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SO PESQUER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las Hipótesis Básicas de Análisis Competitiv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Clientes y Product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gresiones y proyectamos?..N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Competenc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competencia continúa proviniendo de países productores como Canadá y Noruega</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nálisis más fino de clientes: Consumo en Japón se ha estancado, los crecimientos de 20% anual ya no se dan. No pueden consumir más pescado del que consumen “habría que inventar jugo de pescado”</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0"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SO PESQUERA.</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Formulación de las Hipótesis Básicas de Análisis Competitivo:</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Cuellos de Botell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trolados. Nos referimos a: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Manejo de los sitios de cultivo con el objeto de reducir los riesgos de enfermedades y aumentar las rotacione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Inversión en sistemas de producción e instalaciones libre de bacteri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Investigación para desarrollar vacunas que neutralicen el efecto de enfermedad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solucionar estos problemas, en especial los bacteriológicos, los últimos avances en tecnología han logrado desarrollar innumerables herramientas respecto al manejo de bacterias, enfermedades y crecimiento de los productos.</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sp>
        <p:nvSpPr>
          <p:cNvPr id="52" name="PlaceHolder 2"/>
          <p:cNvSpPr>
            <a:spLocks noGrp="1"/>
          </p:cNvSpPr>
          <p:nvPr>
            <p:ph/>
          </p:nvPr>
        </p:nvSpPr>
        <p:spPr>
          <a:xfrm>
            <a:off x="762120" y="1371600"/>
            <a:ext cx="7772400" cy="5486400"/>
          </a:xfrm>
          <a:prstGeom prst="rect">
            <a:avLst/>
          </a:prstGeom>
          <a:noFill/>
          <a:ln w="0">
            <a:noFill/>
          </a:ln>
        </p:spPr>
        <p:txBody>
          <a:bodyPr lIns="90360" rIns="90360" tIns="44280" bIns="44280" anchor="t">
            <a:normAutofit/>
          </a:bodyPr>
          <a:p>
            <a:pPr marL="343080" indent="-343080">
              <a:lnSpc>
                <a:spcPct val="80000"/>
              </a:lnSpc>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ASO PESQUERA.</a:t>
            </a:r>
            <a:endParaRPr b="0" lang="en-US" sz="20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ormulación de las Hipótesis Básicas de Análisis Competitiv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imes New Roman"/>
              </a:rPr>
              <a:t>Se han presentado sólo algunos elementos de la fuerzas de mercado (fuerzas de Porter) y de la cadena de valor (los elementos críticos)</a:t>
            </a:r>
            <a:r>
              <a:rPr b="1" lang="es-ES_tradnl" sz="1800" spc="-1" strike="noStrike">
                <a:solidFill>
                  <a:srgbClr val="ffffff"/>
                </a:solidFill>
                <a:latin typeface="Times New Roman"/>
              </a:rPr>
              <a:t>.</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nclusione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ercados naturales son Japón y USA. Sin embargo, la incipiente apertura de los mercados de valor agregado en este último país, lo pone como el principal mercado, con una perspectiva de crecimiento. Pero es un desafío (que a la fecha de este estudio aún se estaba concretando) no será considerado (criterio conservador).</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situación en Japón es más compleja, en vista de los niveles de penetración del pescado crudo y de la alta competencia, este mercado ya casi no crece.</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el caso de Europa, la competencia Noruega es dura, y por tanto no se prevén esfuerzos adicionales, dado que los mayores retornos se esperan en USA. En este sentido es importante recordar la apertura económica a partir del TLC con EEUU permitiría una mayor demanda por parte de este país de los productos de valor agregad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rasil y Argentina no son prioritari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considerará una tasa de crecimiento de las exportaciones del orden de cero.</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8367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pic>
        <p:nvPicPr>
          <p:cNvPr id="54" name="" descr=""/>
          <p:cNvPicPr/>
          <p:nvPr/>
        </p:nvPicPr>
        <p:blipFill>
          <a:blip r:embed="rId1"/>
          <a:stretch/>
        </p:blipFill>
        <p:spPr>
          <a:xfrm>
            <a:off x="990720" y="2205000"/>
            <a:ext cx="6821280" cy="936720"/>
          </a:xfrm>
          <a:prstGeom prst="rect">
            <a:avLst/>
          </a:prstGeom>
          <a:ln w="0">
            <a:noFill/>
          </a:ln>
        </p:spPr>
      </p:pic>
      <p:pic>
        <p:nvPicPr>
          <p:cNvPr id="55" name="" descr=""/>
          <p:cNvPicPr/>
          <p:nvPr/>
        </p:nvPicPr>
        <p:blipFill>
          <a:blip r:embed="rId2"/>
          <a:stretch/>
        </p:blipFill>
        <p:spPr>
          <a:xfrm>
            <a:off x="611280" y="3902040"/>
            <a:ext cx="7921440" cy="1974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66400"/>
            <a:ext cx="858384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pic>
        <p:nvPicPr>
          <p:cNvPr id="57" name="" descr=""/>
          <p:cNvPicPr/>
          <p:nvPr/>
        </p:nvPicPr>
        <p:blipFill>
          <a:blip r:embed="rId1"/>
          <a:stretch/>
        </p:blipFill>
        <p:spPr>
          <a:xfrm>
            <a:off x="990720" y="1844640"/>
            <a:ext cx="5957640" cy="2089080"/>
          </a:xfrm>
          <a:prstGeom prst="rect">
            <a:avLst/>
          </a:prstGeom>
          <a:ln w="0">
            <a:noFill/>
          </a:ln>
        </p:spPr>
      </p:pic>
      <p:pic>
        <p:nvPicPr>
          <p:cNvPr id="58" name="" descr=""/>
          <p:cNvPicPr/>
          <p:nvPr/>
        </p:nvPicPr>
        <p:blipFill>
          <a:blip r:embed="rId2"/>
          <a:stretch/>
        </p:blipFill>
        <p:spPr>
          <a:xfrm>
            <a:off x="971640" y="4479840"/>
            <a:ext cx="6192720" cy="1541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66400"/>
            <a:ext cx="85122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MÉTODOS DE VALORIZACIÓN PARA S. A.  CERRADAS.</a:t>
            </a:r>
            <a:endParaRPr b="0" lang="en-US" sz="4400" spc="-1" strike="noStrike">
              <a:solidFill>
                <a:srgbClr val="ffff00"/>
              </a:solidFill>
              <a:latin typeface="Times New Roman"/>
            </a:endParaRPr>
          </a:p>
        </p:txBody>
      </p:sp>
      <p:pic>
        <p:nvPicPr>
          <p:cNvPr id="60" name="" descr=""/>
          <p:cNvPicPr/>
          <p:nvPr/>
        </p:nvPicPr>
        <p:blipFill>
          <a:blip r:embed="rId1"/>
          <a:stretch/>
        </p:blipFill>
        <p:spPr>
          <a:xfrm>
            <a:off x="468360" y="1413000"/>
            <a:ext cx="7488360" cy="525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9T23:48:26Z</dcterms:created>
  <dc:creator>Eduardo Contreras</dc:creator>
  <dc:description/>
  <dc:language>en-US</dc:language>
  <cp:lastModifiedBy>Eduardo Contreras</cp:lastModifiedBy>
  <cp:lastPrinted>1997-06-27T12:45:24Z</cp:lastPrinted>
  <dcterms:modified xsi:type="dcterms:W3CDTF">2005-08-10T21:47:08Z</dcterms:modified>
  <cp:revision>30</cp:revision>
  <dc:subject>Selección de portafolios</dc:subject>
  <dc:title>Gestión Financiera-Tema 6</dc:title>
</cp:coreProperties>
</file>