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1D8-0E76-4B77-973C-29BE4EF9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6A2-CD62-4914-9189-4B8CC45D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9F9-EDCF-4654-A84C-D5A0E4FB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84E-4456-4227-981A-29B38631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F2C-E39D-40C4-901B-FDCF9B2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804-568C-4CD1-9E29-1F7132C3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2A8-2792-4B54-9872-255FB906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8FC-0EC6-4057-8CDC-3C89AB01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135-65A9-47AD-9D6B-AC51D631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FCE-497F-4A9E-B66F-F424F2B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E7C-63F7-44C3-8633-12BFC7EF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C91-1D80-42BF-8A20-92F0CF5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DD67-87E6-4938-A47A-F4FE2C9CC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080" y="4051440"/>
            <a:ext cx="452592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MNOS: YOCELIN ASTEN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OLGA  CONTRER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LUIS OLIVA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JUAN ANDRES MOR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INES WEINBER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fesor: E. Contr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1960" y="4367160"/>
            <a:ext cx="35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SO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stión Financi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140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 Distribución de riesgos entre el estado y el concesionar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ngresos por pasajeros embarcados &lt;= 530.000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so mínimo garantizad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lgunos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explotación              Ingreso mínimo(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                   39.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                    43.4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                             47.9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                                    52.8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135900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562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 Distribución de riesgos entre el estado y el concesionar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ngresos por pasajeros embarcados &gt;= 530.000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mparte el 50% de los ingresos con e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1612800"/>
            <a:ext cx="12952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31120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os:VALORES EN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embar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tación de la superficie interna y circundante del terminal 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6520" y="1411200"/>
            <a:ext cx="398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 en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X:Pasajeros emba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3276720"/>
          <a:ext cx="8915400" cy="114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276720"/>
                    <a:ext cx="8915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04920" y="141120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5560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stos de administración, operación y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uales estables en el horizonte de evalua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fase de explotación,  25348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DE ADMINISTRACION: 14265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ÓN Y MANTENCION: 11083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57464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71764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ión inicial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9.060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to administrativo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83 U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ión adicion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.000 U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de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3202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57464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X por año en función del P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587680"/>
          <a:ext cx="8153280" cy="42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87680"/>
                    <a:ext cx="81532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52280" y="152244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ión para proyección de P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2728800"/>
          <a:ext cx="8763120" cy="322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28800"/>
                    <a:ext cx="876312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123640" y="1419120"/>
            <a:ext cx="404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PA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variable independiente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41912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yección PAX y variación P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1981080"/>
          <a:ext cx="7543800" cy="458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81080"/>
                    <a:ext cx="754380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6040" y="1117440"/>
            <a:ext cx="10177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:  6954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descuento(modelo CAPM): 11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: 11,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BI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5%  VARIACIÓN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2% VARIACION 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YECTO 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IZACION DE LA CONCESION DEL TERMINAL DE PASAJEROS DEL AEROPUERTO CERRO MORENO DE LA CIUDAD DE ANTOFAGASTA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212688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O CA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libre de riesg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iciente de riesgo sistemátic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o esperado del portafol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10,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a de descuento = 11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 (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0384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6120" y="5853240"/>
          <a:ext cx="8596440" cy="66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5853240"/>
                    <a:ext cx="85964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126360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1952640"/>
          <a:ext cx="7772400" cy="363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52640"/>
                    <a:ext cx="77724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914400" y="5791320"/>
          <a:ext cx="3124080" cy="761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791320"/>
                    <a:ext cx="3124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52280" y="113976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161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riesgos son bajos considerando que el fisco garantiza flujos míni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ntorno del negocio es sensible al tráfico embarcado y a las inver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ún con el aumento de10% en el valor de la tarifa,para el año 6, no se logra un repunte en los flujos, dado que existe inversión adicional en ese perí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asa de crecimiento estimada a través de la proyección de tráfico para el período 1999 - 2010, arroja un valor cercano  al 9%, menor a la serie de añ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30176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63680"/>
            <a:ext cx="8686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 fue muy realista el uso del PIB para el cálculo proyectado en embarque de pasajeros. Sabiendo que el crecimiento es función de varias variables y que estas se ven afectadas, sobre todo en épocas de  cr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 la economía mundial se venía contrayendo hace tiempo , por lo que un 7% no era un valor muy promete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blema es que los menores flujos de tráfico verificados en la actualidad ponen en riesgo la rentabilidad futura de los proyectos. La situación podría obligar al gobierno a tener que desembolsar cuantiosos recursos para pagar los llamados ingresos mínimos garantizados por cada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órmula anterior obliga al MOP a pagar a los privados las diferencias  que se produzcan entre una cifra anual comprometida y la demanda real de trá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308240"/>
            <a:ext cx="14335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803680"/>
            <a:ext cx="86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los antecedentes recogidos , ya hay un aeropuerto que ha recurrido al meca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e consideró la correlación del PIB, y el costo de mayor inversión u operación fueron minim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 no se consideró un factor que correlacione a la explotación minera y el entorno de é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oblación de Antofagasta ha tenido una tasa de crecimiento en torno al 2% y 4% en los últimos 10 y 20 años respectivamente, y no es éste público el que hace aumentar o disminuir el trá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397160"/>
            <a:ext cx="14749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IPO GESTOR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ORCIO INTEGRADO POR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  EMPRESA CONSTRUCTOR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 LINEA AEREA 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FONDOS DE INVERSIÓN DE DESARROLLO PARA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366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37680"/>
            <a:ext cx="7124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CION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ncesión del terminal aéreo Cerro Moreno, para determinar el precio a ofertar en la  lic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contrato entre el estado y un concesionario, mediante el cual este último se obliga a efectuar inversiones en la construcción de una obra pública, a mantener y explotar dicha obra de acuerdo con estándares predefinidos  y durante un plazo prefijado. El estado otorga a cambio el derecho a cobrar por el uso de la ob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160" y="1176480"/>
            <a:ext cx="129528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licit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es generales D.S. N°900/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 la conc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Entrega de la oferta téc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Entrega de la ofert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os de postu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OS       TARIFA                 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$3000                 10 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    $2500 A $3000  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  $2500             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106704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ras a constr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Remodelación: 5150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Ampliación 2350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rovisión e instalación de embarques móv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Mejoras a la vialidad de acceso e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de nuevo edificio para la DGAC(400m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nueva estación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de tratamiento de aguas serv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uminación de áreas públicas y plataformas de estacionamiento para aeron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Obras comple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160" y="144792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320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cutar ampliación del terminal de 2500m2, durante la conc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se activa bajo 2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- Pasajeros embarcados igual a 450.000 al año ,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Cumplidos 6 años de la conc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153360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3795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Operación del terminal de pasa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 Servicios aeronáutic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 Servicios aeronáuticos no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Servicios no aeronáutic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. Servicios no aeronáuticos no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37952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02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condiciones económicas de la conces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lazos de concesión:                                        10 año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Tarifa por pasajero embarcado:                        $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ago por bienes y derechos:                              6954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Tarifa post-ampliación:                                      $2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123516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20:34Z</dcterms:created>
  <dc:creator>188 Mundo Telefonica</dc:creator>
  <dc:description/>
  <dc:language>en-US</dc:language>
  <cp:lastModifiedBy>Eduardo Contreras</cp:lastModifiedBy>
  <cp:lastPrinted>2002-08-08T17:53:34Z</cp:lastPrinted>
  <dcterms:modified xsi:type="dcterms:W3CDTF">2006-07-26T16:16:19Z</dcterms:modified>
  <cp:revision>47</cp:revision>
  <dc:subject/>
  <dc:title>VALORIZACION DE LA CONCESION DEL TERMINAL DE PASAJEROS DEL AEROPUERTO CERRO MORENO DE LA CIUDAD DE ANTOFAGASTA   ALUMNOS: YOCELIN ASTENGO                       OLGA                         LUIS OLIVARES                       JUAN ANDRES MORA                        INES WEINBERGER                       LUIS VARELA  AGOSTO 2002</dc:title>
</cp:coreProperties>
</file>