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C6E-AA7E-42BC-8D5C-B77AEBF8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5E7-4EF6-4C9F-B545-21B723E3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D0B-CD43-48C1-87E4-F2E18097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078-8F49-4DBB-AB58-833583EF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6DE-BA31-4B8B-9AFC-C0CAF5A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A59-BCDB-4B6B-8396-7FA5F02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D9D-191F-466D-8298-8241335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7B5-25EA-48D2-8CAA-BEC4ED77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024-E989-49BC-A53E-7E783BB4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34C-E0B4-4C8D-8901-285F9E4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E41-321A-48C6-9F34-00187C5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491-9ED0-4BA7-9BEB-EF7424B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62BB-9AEB-4392-9082-E55BAD3C7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080" y="4051440"/>
            <a:ext cx="45259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MNOS: YOCELIN ASTEN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OLGA  CONTRER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LUIS OLIVA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JUAN ANDRES MO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INES WEINBER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esor: E. Contr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960" y="4367160"/>
            <a:ext cx="35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SO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ión Financ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l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 mínimo garantizad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lgun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explotación              Ingreso mínimo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                   39.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                  43.4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                            47.9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                                   52.8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35900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5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g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te el 50% de los ingresos con 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12800"/>
            <a:ext cx="12952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31120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s: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emb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tación de la superficie interna y circundante del terminal 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6520" y="141120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X:Pasajeros emba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3276720"/>
          <a:ext cx="891540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276720"/>
                    <a:ext cx="8915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141120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560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os de administración, operación y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uales estables en el horizonte de evalu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fase de explotación,  25348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DE ADMINISTRACION: 14265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ÓN Y MANTENCION: 11083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1764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inicial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9.060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o administrativo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83 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adic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.000 U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202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X por año en función del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587680"/>
          <a:ext cx="815328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87680"/>
                    <a:ext cx="81532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52280" y="152244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ión para proyección de P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728800"/>
          <a:ext cx="8763120" cy="32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28800"/>
                    <a:ext cx="87631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23640" y="1419120"/>
            <a:ext cx="404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P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variable independiente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419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yección PAX y variación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1981080"/>
          <a:ext cx="7543800" cy="45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81080"/>
                    <a:ext cx="754380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6040" y="1117440"/>
            <a:ext cx="10177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:  6954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descuento(modelo CAPM): 11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: 11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BI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5%  VARIACIÓN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2% VARIACION 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YECTO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IZACION DE LA CONCESION DEL TERMINAL DE PASAJEROS DEL AEROPUERTO CERRO MORENO DE LA CIUDAD DE ANTOFAGAST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12688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 CA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libre de riesg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iciente de riesgo sistemátic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esperado del porta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10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a de descuento = 11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 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038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6120" y="5853240"/>
          <a:ext cx="8596440" cy="66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5853240"/>
                    <a:ext cx="85964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12636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952640"/>
          <a:ext cx="7772400" cy="36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52640"/>
                    <a:ext cx="77724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5791320"/>
          <a:ext cx="3124080" cy="761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791320"/>
                    <a:ext cx="312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52280" y="113976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161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iesgos son bajos considerando que el fisco garantiza flujos mín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ntorno del negocio es sensible al tráfico embarcado y a las in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n con el aumento de10% en el valor de la tarifa,para el año 6, no se logra un repunte en los flujos, dado que existe inversión adicional en ese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asa de crecimiento estimada a través de la proyección de tráfico para el período 1999 - 2010, arroja un valor cercano  al 9%, menor a la serie de añ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30176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63680"/>
            <a:ext cx="86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 fue muy realista el uso del PIB para el cálculo proyectado en embarque de pasajeros. Sabiendo que el crecimiento es función de varias variables y que estas se ven afectadas, sobre todo en épocas de 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la economía mundial se venía contrayendo hace tiempo , por lo que un 7% no era un valor muy promete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blema es que los menores flujos de tráfico verificados en la actualidad ponen en riesgo la rentabilidad futura de los proyectos. La situación podría obligar al gobierno a tener que desembolsar cuantiosos recursos para pagar los llamados ingresos mínimos garantizados por cada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órmula anterior obliga al MOP a pagar a los privados las diferencias  que se produzcan entre una cifra anual comprometida y la demanda real de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308240"/>
            <a:ext cx="1433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036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los antecedentes recogidos , ya hay un aeropuerto que ha recurrido al mec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e consideró la correlación del PIB, y el costo de mayor inversión u operación fueron minim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no se consideró un factor que correlacione a la explotación minera y el entorno de é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oblación de Antofagasta ha tenido una tasa de crecimiento en torno al 2% y 4% en los últimos 10 y 20 años respectivamente, y no es éste público el que hace aumentar o disminuir el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97160"/>
            <a:ext cx="14749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O GESTOR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ORCIO INTEGRADO POR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 EMPRESA CONSTRUCTOR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LINEA AEREA 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ONDOS DE INVERSIÓN DE DESARROLLO PARA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37680"/>
            <a:ext cx="712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CION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cesión del terminal aéreo Cerro Moreno, para determinar el precio a ofertar en la  lic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contrato entre el estado y un concesionario, mediante el cual este último se obliga a efectuar inversiones en la construcción de una obra pública, a mantener y explotar dicha obra de acuerdo con estándares predefinidos  y durante un plazo prefijado. El estado otorga a cambio el derecho a cobrar por el uso de la o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160" y="1176480"/>
            <a:ext cx="12952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lici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es generales D.S. N°900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de postu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      TARIFA                 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$3000                 10 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   $2500 A $3000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$2500         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106704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Remodelación: 51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Ampliación 23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rovisión e instalación de embarques mó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Mejoras a la vialidad de acceso e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nuevo edificio para la DGAC(400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nueva estación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tratamiento de aguas serv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uminación de áreas públicas y plataformas de estacionamiento para aeron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Obras comple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160" y="144792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cutar ampliación del terminal de 2500m2, durant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se activa bajo 2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Pasajeros embarcados igual a 450.000 al año ,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Cumplidos 6 años de la conc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53360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3795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Operación del terminal de pasa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ervicios no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. Servicios no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37952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02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condiciones económicas de la conces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lazos de concesión:                                        10 año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r pasajero embarcado:                        $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ago por bienes y derechos:                              6954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st-ampliación:                                      $2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23516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20:34Z</dcterms:created>
  <dc:creator>188 Mundo Telefonica</dc:creator>
  <dc:description/>
  <dc:language>en-US</dc:language>
  <cp:lastModifiedBy>Eduardo Contreras</cp:lastModifiedBy>
  <cp:lastPrinted>2002-08-08T17:53:34Z</cp:lastPrinted>
  <dcterms:modified xsi:type="dcterms:W3CDTF">2006-07-26T16:16:19Z</dcterms:modified>
  <cp:revision>47</cp:revision>
  <dc:subject/>
  <dc:title>VALORIZACION DE LA CONCESION DEL TERMINAL DE PASAJEROS DEL AEROPUERTO CERRO MORENO DE LA CIUDAD DE ANTOFAGASTA   ALUMNOS: YOCELIN ASTENGO                       OLGA                         LUIS OLIVARES                       JUAN ANDRES MORA                        INES WEINBERGER                       LUIS VARELA  AGOSTO 2002</dc:title>
</cp:coreProperties>
</file>