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B927-509D-4681-9E05-8F922FA7E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CA88-429B-4F6E-B981-65C4410D7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0BE1-B0E8-4857-82B0-BFBBCEAE6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F0F3-6354-47AE-B5B0-CE190689E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5120-4A6D-4C1D-A041-028F75458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953F-BA71-45A3-9BC9-8F4C78EBD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3DFD-250A-40BF-A842-56EF73ABE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BB8D-9051-4102-BA89-E6A21511F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D673-3F2B-4FB8-95B6-5D9645F1D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B90B-0C07-49A2-B0D7-77A6F5A2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F8A0-A3C3-4EDC-AF90-F699F6AC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8902-0BB4-4E0B-9A7B-FFA401BD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56CF7-F395-422D-98DF-B0782B1FA7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0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18080" y="4051440"/>
            <a:ext cx="4525920" cy="18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MNOS: YOCELIN ASTENG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OLGA  CONTRERA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LUIS OLIVAR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JUAN ANDRES MORA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INES WEINBERG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fesor: E. Contre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1960" y="4367160"/>
            <a:ext cx="353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URSO 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stión Financi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o de licitación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1400" y="17524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- Distribución de riesgos entre el estado y el concesionario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ingresos por pasajeros embarcados &lt;= 530.000U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greso mínimo garantizado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 algunos añ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ño explotación              Ingreso mínimo(U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                                    39.44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                                    43.48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                                    47.94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                                     52.86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28600" y="1359000"/>
            <a:ext cx="129528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o de licitación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25621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- Distribución de riesgos entre el estado y el concesionario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ingresos por pasajeros embarcados &gt;= 530.000U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comparte el 50% de los ingresos con el Es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1612800"/>
            <a:ext cx="1295280" cy="7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231120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gresos:VALORES EN 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a de embarq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tación de la superficie interna y circundante del terminal  aére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129528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s del proyec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76520" y="1411200"/>
            <a:ext cx="398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ores en 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X:Pasajeros emba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28600" y="3276720"/>
          <a:ext cx="8915400" cy="1143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3276720"/>
                    <a:ext cx="89154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304920" y="1411200"/>
            <a:ext cx="12189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s del proyec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2556000"/>
            <a:ext cx="8076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stos de administración, operación y man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nuales estables en el horizonte de evaluació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otal fase de explotación,  25348 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STOS DE ADMINISTRACION: 14265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PERACIÓN Y MANTENCION: 11083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04920" y="1574640"/>
            <a:ext cx="12189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s del proyec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2717640"/>
            <a:ext cx="807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ersión inicial 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79.060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sto administrativo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183 U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ersión adiciona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4.000 UF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ital de trabaj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3202 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33520" y="1574640"/>
            <a:ext cx="12189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X por año en función del PI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2587680"/>
          <a:ext cx="8153280" cy="4270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587680"/>
                    <a:ext cx="8153280" cy="42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152280" y="1522440"/>
            <a:ext cx="121932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nción para proyección de PA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0" y="2728800"/>
          <a:ext cx="8763120" cy="3224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728800"/>
                    <a:ext cx="8763120" cy="32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2123640" y="1419120"/>
            <a:ext cx="4048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n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=PA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 variable independiente P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52280" y="1419120"/>
            <a:ext cx="121932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yección PAX y variación PI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914400" y="1981080"/>
          <a:ext cx="7543800" cy="4581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981080"/>
                    <a:ext cx="7543800" cy="458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176040" y="1117440"/>
            <a:ext cx="101772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s del proyec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N:  6954 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a de descuento(modelo CAPM): 11,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R: 11,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A INTERN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SIBILIZ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/-5%  VARIACIÓN IN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/- 2% VARIACION INGRE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13716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YECTO :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LORIZACION DE LA CONCESION DEL TERMINAL DE PASAJEROS DEL AEROPUERTO CERRO MORENO DE LA CIUDAD DE ANTOFAGASTA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28195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696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tos del proye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240" y="212688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DELO CA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a libre de riesgo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6,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eficiente de riesgo sistemático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1,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orno esperado del portafolio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10,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sa de descuento = 11,3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UJOS DE CAJA (U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4038480"/>
            <a:ext cx="281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76120" y="5853240"/>
          <a:ext cx="8596440" cy="664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6120" y="5853240"/>
                    <a:ext cx="8596440" cy="66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228600" y="1263600"/>
            <a:ext cx="129528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696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os del proyec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4038480"/>
            <a:ext cx="2819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62120" y="1952640"/>
          <a:ext cx="7772400" cy="3638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952640"/>
                    <a:ext cx="7772400" cy="36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914400" y="5791320"/>
          <a:ext cx="3124080" cy="7617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14400" y="5791320"/>
                    <a:ext cx="312408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152280" y="1139760"/>
            <a:ext cx="121932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21616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riesgos son bajos considerando que el fisco garantiza flujos míni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entorno del negocio es sensible al tráfico embarcado y a las inver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ún con el aumento de10% en el valor de la tarifa,para el año 6, no se logra un repunte en los flujos, dado que existe inversión adicional en ese perío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tasa de crecimiento estimada a través de la proyección de tráfico para el período 1999 - 2010, arroja un valor cercano  al 9%, menor a la serie de años anteri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28600" y="1301760"/>
            <a:ext cx="13716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bserva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2263680"/>
            <a:ext cx="86868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 fue muy realista el uso del PIB para el cálculo proyectado en embarque de pasajeros. Sabiendo que el crecimiento es función de varias variables y que estas se ven afectadas, sobre todo en épocas de  cri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 ejemplo la economía mundial se venía contrayendo hace tiempo , por lo que un 7% no era un valor muy prometed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problema es que los menores flujos de tráfico verificados en la actualidad ponen en riesgo la rentabilidad futura de los proyectos. La situación podría obligar al gobierno a tener que desembolsar cuantiosos recursos para pagar los llamados ingresos mínimos garantizados por cada proye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fórmula anterior obliga al MOP a pagar a los privados las diferencias  que se produzcan entre una cifra anual comprometida y la demanda real de tráf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28600" y="1308240"/>
            <a:ext cx="1433520" cy="95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bserva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2803680"/>
            <a:ext cx="86868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gún los antecedentes recogidos , ya hay un aeropuerto que ha recurrido al mecanis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ólo se consideró la correlación del PIB, y el costo de mayor inversión u operación fueron minimiz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 ejemplo no se consideró un factor que correlacione a la explotación minera y el entorno de és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población de Antofagasta ha tenido una tasa de crecimiento en torno al 2% y 4% en los últimos 10 y 20 años respectivamente, y no es éste público el que hace aumentar o disminuir el tráf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57200" y="1397160"/>
            <a:ext cx="1474920" cy="9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QUIPO GESTOR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SORCIO INTEGRADO POR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A  EMPRESA CONSTRUCTORA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A LINEA AEREA Y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FONDOS DE INVERSIÓN DE DESARROLLO PARA EMPRE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57200" y="1336680"/>
            <a:ext cx="28954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337680"/>
            <a:ext cx="71247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CRIPCION DEL PROYE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or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Concesión del terminal aéreo Cerro Moreno, para determinar el precio a ofertar en la  licit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es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s un contrato entre el estado y un concesionario, mediante el cual este último se obliga a efectuar inversiones en la construcción de una obra pública, a mantener y explotar dicha obra de acuerdo con estándares predefinidos  y durante un plazo prefijado. El estado otorga a cambio el derecho a cobrar por el uso de la obr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8160" y="1176480"/>
            <a:ext cx="1295280" cy="80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o de licitación.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o de licit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cedentes generales D.S. N°900/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citación de la conces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- Entrega de la oferta técn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- Entrega de la oferta económ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mos de postul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MOS       TARIFA                  A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                 $3000                 10 A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            $2500 A $3000        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                  $2500                   1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52280" y="1447920"/>
            <a:ext cx="1067040" cy="71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o de licitación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2388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ras a constru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- Remodelación: 5150 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- Ampliación 2350 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- Provisión e instalación de embarques móv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- Mejoras a la vialidad de acceso e inter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- construcción de nuevo edificio para la DGAC(400m2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- Construcción nueva estación eléctr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- Construcción de tratamiento de aguas servi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Iluminación de áreas públicas y plataformas de estacionamiento para aerona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- Obras complementar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160" y="1447920"/>
            <a:ext cx="129528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o de licitación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320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jecutar ampliación del terminal de 2500m2, durante la conces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 se activa bajo 2 condi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- Pasajeros embarcados igual a 450.000 al año ,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- Cumplidos 6 años de la conce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1533600"/>
            <a:ext cx="121932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o de licitación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920" y="13795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Operación del terminal de pasaje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-  Servicios aeronáuticos comerc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-  Servicios aeronáuticos no comerci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Servicios no aeronáuticos comerc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-. Servicios no aeronáuticos no comerci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28600" y="1379520"/>
            <a:ext cx="121932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o de licitación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2022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s condiciones económicas de la concesión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- Plazos de concesión:                                        10 años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- Tarifa por pasajero embarcado:                        $2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- Pago por bienes y derechos:                              6954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- Tarifa post-ampliación:                                      $27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28600" y="1235160"/>
            <a:ext cx="129528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8T22:20:34Z</dcterms:created>
  <dc:creator>188 Mundo Telefonica</dc:creator>
  <dc:description/>
  <dc:language>en-US</dc:language>
  <cp:lastModifiedBy>Eduardo Contreras</cp:lastModifiedBy>
  <cp:lastPrinted>2002-08-08T17:53:34Z</cp:lastPrinted>
  <dcterms:modified xsi:type="dcterms:W3CDTF">2006-07-26T16:16:19Z</dcterms:modified>
  <cp:revision>47</cp:revision>
  <dc:subject/>
  <dc:title>VALORIZACION DE LA CONCESION DEL TERMINAL DE PASAJEROS DEL AEROPUERTO CERRO MORENO DE LA CIUDAD DE ANTOFAGASTA   ALUMNOS: YOCELIN ASTENGO                       OLGA                         LUIS OLIVARES                       JUAN ANDRES MORA                        INES WEINBERGER                       LUIS VARELA  AGOSTO 2002</dc:title>
</cp:coreProperties>
</file>