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1A4-CC64-4DBC-B7A2-36792299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93E2-7CF0-4D4F-B99C-3373A633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267-497E-4C71-9D65-E4DB6998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DA4-8B4E-47C7-93A4-4A21EF1C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B9C-E9B0-4B71-8D0F-D1481732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F6E-037C-448D-9BB2-A96183F6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B160-B80C-40DC-AF96-28843178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78C-DFF3-4DE6-9EDE-B387185F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4CD-FB50-4570-94BF-4882FA6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D9F-0BF8-43A6-B4CA-1F4F3F2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975-8DF7-4F8A-8D8A-EB92CCE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1D3-45B3-491C-91ED-67255BFB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D215-7FF7-4B26-937C-C1AEC65EF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080" y="4051440"/>
            <a:ext cx="4525920" cy="18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MNOS: YOCELIN ASTEN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OLGA  CONTRER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LUIS OLIVA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JUAN ANDRES MOR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INES WEINBERG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fesor: E. Contr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1960" y="4367160"/>
            <a:ext cx="35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SO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stión Financi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1400" y="17524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l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so mínimo garantizad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algunos añ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ño explotación              Ingreso mínimo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                   39.4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                  43.4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                                 47.9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                                    52.86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28600" y="135900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5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- Distribución de riesgos entre el estado y el concesionari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ngresos por pasajeros embarcados &gt;= 530.000U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omparte el 50% de los ingresos con el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1612800"/>
            <a:ext cx="129528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231120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gresos: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embar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tación de la superficie interna y circundante del terminal 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6520" y="1411200"/>
            <a:ext cx="398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en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X:Pasajeros emba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3276720"/>
          <a:ext cx="8915400" cy="1143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276720"/>
                    <a:ext cx="89154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304920" y="141120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55600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stos de administración, operación y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uales estables en el horizonte de evalua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fase de explotación,  25348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DE ADMINISTRACION: 14265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ÓN Y MANTENCION: 11083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1764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inicial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9.060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o administrativo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83 U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rsión adic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.000 U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de trabaj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3202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1574640"/>
            <a:ext cx="121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X por año en función del PI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587680"/>
          <a:ext cx="815328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87680"/>
                    <a:ext cx="815328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52280" y="152244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ión para proyección de P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2728800"/>
          <a:ext cx="8763120" cy="322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28800"/>
                    <a:ext cx="8763120" cy="32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123640" y="1419120"/>
            <a:ext cx="404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PA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variable independiente P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52280" y="141912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yección PAX y variación P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914400" y="1981080"/>
          <a:ext cx="7543800" cy="458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981080"/>
                    <a:ext cx="7543800" cy="45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6040" y="1117440"/>
            <a:ext cx="10177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N:  6954 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de descuento(modelo CAPM): 11,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R: 11,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INTERN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IBI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5%  VARIACIÓN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/- 2% VARIACION 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YECTO 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IZACION DE LA CONCESION DEL TERMINAL DE PASAJEROS DEL AEROPUERTO CERRO MORENO DE LA CIUDAD DE ANTOFAGASTA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12688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 CA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a libre de riesg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6,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ficiente de riesgo sistemátic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esperado del portafol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10,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a de descuento = 11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JOS DE CAJA (U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0384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76120" y="5853240"/>
          <a:ext cx="8596440" cy="664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6120" y="5853240"/>
                    <a:ext cx="85964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126360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os d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03848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62120" y="1952640"/>
          <a:ext cx="7772400" cy="363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952640"/>
                    <a:ext cx="77724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914400" y="5791320"/>
          <a:ext cx="3124080" cy="761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791320"/>
                    <a:ext cx="31240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52280" y="1139760"/>
            <a:ext cx="121932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161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riesgos son bajos considerando que el fisco garantiza flujos míni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entorno del negocio es sensible al tráfico embarcado y a las inver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ún con el aumento de10% en el valor de la tarifa,para el año 6, no se logra un repunte en los flujos, dado que existe inversión adicional en ese perí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tasa de crecimiento estimada a través de la proyección de tráfico para el período 1999 - 2010, arroja un valor cercano  al 9%, menor a la serie de añ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8600" y="1301760"/>
            <a:ext cx="1371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263680"/>
            <a:ext cx="8686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 fue muy realista el uso del PIB para el cálculo proyectado en embarque de pasajeros. Sabiendo que el crecimiento es función de varias variables y que estas se ven afectadas, sobre todo en épocas de 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la economía mundial se venía contrayendo hace tiempo , por lo que un 7% no era un valor muy promete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blema es que los menores flujos de tráfico verificados en la actualidad ponen en riesgo la rentabilidad futura de los proyectos. La situación podría obligar al gobierno a tener que desembolsar cuantiosos recursos para pagar los llamados ingresos mínimos garantizados por cada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fórmula anterior obliga al MOP a pagar a los privados las diferencias  que se produzcan entre una cifra anual comprometida y la demanda real de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308240"/>
            <a:ext cx="143352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803680"/>
            <a:ext cx="86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los antecedentes recogidos , ya hay un aeropuerto que ha recurrido al mecan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e consideró la correlación del PIB, y el costo de mayor inversión u operación fueron minimiz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ejemplo no se consideró un factor que correlacione a la explotación minera y el entorno de és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oblación de Antofagasta ha tenido una tasa de crecimiento en torno al 2% y 4% en los últimos 10 y 20 años respectivamente, y no es éste público el que hace aumentar o disminuir el tráf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397160"/>
            <a:ext cx="147492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IPO GESTOR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ORCIO INTEGRADO POR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 EMPRESA CONSTRUCTOR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 LINEA AEREA 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FONDOS DE INVERSIÓN DE DESARROLLO PARA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13366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37680"/>
            <a:ext cx="7124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CION DEL PROYE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ncesión del terminal aéreo Cerro Moreno, para determinar el precio a ofertar en la  lic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s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contrato entre el estado y un concesionario, mediante el cual este último se obliga a efectuar inversiones en la construcción de una obra pública, a mantener y explotar dicha obra de acuerdo con estándares predefinidos  y durante un plazo prefijado. El estado otorga a cambio el derecho a cobrar por el uso de la ob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160" y="1176480"/>
            <a:ext cx="129528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o de licit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es generales D.S. N°900/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citación d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téc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Entrega de la ofert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de postu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MOS       TARIFA                 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        $3000                 10 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    $2500 A $3000       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         $2500             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106704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as a constr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Remodelación: 51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Ampliación 2350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rovisión e instalación de embarques móv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Mejoras a la vialidad de acceso e in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nuevo edificio para la DGAC(400m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nueva estación eléct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Construcción de tratamiento de aguas serv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luminación de áreas públicas y plataformas de estacionamiento para aeron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Obras complemen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160" y="144792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320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cutar ampliación del terminal de 2500m2, durante la conc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 se activa bajo 2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- Pasajeros embarcados igual a 450.000 al año ,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- Cumplidos 6 años de la conce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153360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3795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Operación del terminal de pasa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 Servicios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Servicios no aeronáuticos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. Servicios no aeronáuticos no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379520"/>
            <a:ext cx="12193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licitación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02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condiciones económicas de la conces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lazos de concesión:                                        10 años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r pasajero embarcado:                        $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Pago por bienes y derechos:                              6954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 Tarifa post-ampliación:                                      $27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8600" y="1235160"/>
            <a:ext cx="12952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22:20:34Z</dcterms:created>
  <dc:creator>188 Mundo Telefonica</dc:creator>
  <dc:description/>
  <dc:language>en-US</dc:language>
  <cp:lastModifiedBy>Eduardo Contreras</cp:lastModifiedBy>
  <cp:lastPrinted>2002-08-08T17:53:34Z</cp:lastPrinted>
  <dcterms:modified xsi:type="dcterms:W3CDTF">2006-07-26T16:16:19Z</dcterms:modified>
  <cp:revision>47</cp:revision>
  <dc:subject/>
  <dc:title>VALORIZACION DE LA CONCESION DEL TERMINAL DE PASAJEROS DEL AEROPUERTO CERRO MORENO DE LA CIUDAD DE ANTOFAGASTA   ALUMNOS: YOCELIN ASTENGO                       OLGA                         LUIS OLIVARES                       JUAN ANDRES MORA                        INES WEINBERGER                       LUIS VARELA  AGOSTO 2002</dc:title>
</cp:coreProperties>
</file>