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FD82-5CE1-4BFD-BF4E-B02BFCC3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9648-08AD-4424-BC0C-5278E146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6644-2FB8-4E72-B8B6-00155D95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FD6D-39F7-4DDE-8FA1-F8B227DB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C95D-F441-4E8A-B782-F2010B0D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2323-1C86-481B-9E36-65B27B5B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4C2A-1CAD-489F-93F2-6470FC19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6EF2-2F79-4A71-90CF-7503FBBB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7521-A6D5-4138-87FD-2DD317A2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6280-1F0B-4441-9A9E-93AA9786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ED64-B1DB-4464-9531-51E516AE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3B01-F14B-45A7-947C-8A6550A6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C1DA-3CB6-4E15-92D7-1413FF8E5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9360" y="0"/>
            <a:ext cx="1898640" cy="21337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979640" y="1600200"/>
            <a:ext cx="6562800" cy="0"/>
          </a:xfrm>
          <a:prstGeom prst="line">
            <a:avLst/>
          </a:prstGeom>
          <a:ln w="38160">
            <a:solidFill>
              <a:srgbClr val="0e0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70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MX" sz="40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s-MX" sz="4000" spc="-1" strike="noStrike">
                <a:solidFill>
                  <a:srgbClr val="333399"/>
                </a:solidFill>
                <a:latin typeface="Trebuchet MS"/>
              </a:rPr>
              <a:t>IN50</a:t>
            </a:r>
            <a:r>
              <a:rPr b="0" lang="es-MX" sz="4000" spc="-1" strike="noStrike">
                <a:solidFill>
                  <a:srgbClr val="000066"/>
                </a:solidFill>
                <a:latin typeface="Trebuchet MS"/>
              </a:rPr>
              <a:t> </a:t>
            </a:r>
            <a:br>
              <a:rPr sz="4000"/>
            </a:br>
            <a:r>
              <a:rPr b="0" lang="es-MX" sz="4000" spc="-1" strike="noStrike">
                <a:solidFill>
                  <a:srgbClr val="333399"/>
                </a:solidFill>
                <a:latin typeface="Trebuchet MS"/>
              </a:rPr>
              <a:t>Elementos de Diagnóstico Organizacional.</a:t>
            </a:r>
            <a:br>
              <a:rPr sz="4000"/>
            </a:br>
            <a:r>
              <a:rPr b="0" lang="es-MX" sz="4000" spc="-1" strike="noStrike">
                <a:solidFill>
                  <a:srgbClr val="333399"/>
                </a:solidFill>
                <a:latin typeface="Trebuchet MS"/>
              </a:rPr>
              <a:t>¿Qué estamos buscan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131640" y="5635800"/>
            <a:ext cx="284004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Trebuchet MS"/>
              </a:rPr>
              <a:t>Julio 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4556160"/>
            <a:ext cx="3600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70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45640" y="1773000"/>
            <a:ext cx="77583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M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V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Organi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Lineamientos estraté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ervicios-nego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Procesos de organización de trabajo formales (manuales, instructivo, sistemas de inducción)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4556160"/>
            <a:ext cx="3600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66920" y="83664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rebuchet MS"/>
              </a:rPr>
              <a:t>Organización For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70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4556160"/>
            <a:ext cx="3600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72800" y="709560"/>
            <a:ext cx="554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rebuchet MS"/>
              </a:rPr>
              <a:t>Organización Infor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023920"/>
            <a:ext cx="7993080" cy="45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Rutinas cotidi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olución de problemas emer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Dinámicas de aprendiz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Generación y manejo de confli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Pautas de comportamiento no prescritas por la organ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70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4556160"/>
            <a:ext cx="3600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31560" y="782640"/>
            <a:ext cx="227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rebuchet MS"/>
              </a:rPr>
              <a:t>Méto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773360"/>
            <a:ext cx="7989840" cy="48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Entrevi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Obser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Análisis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Cualitativo (Senti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Cuantitativo (Contabilidad, Negoc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Dii</cp:lastModifiedBy>
  <dcterms:modified xsi:type="dcterms:W3CDTF">2006-07-26T20:26:07Z</dcterms:modified>
  <cp:revision>14</cp:revision>
  <dc:subject/>
  <dc:title>Título </dc:title>
</cp:coreProperties>
</file>