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730-448A-46E3-94D8-F2FFD12F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58A-2DAA-47D5-9CE8-71DFEA1D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B1A-2B25-41F2-B585-1B9DEC6D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914B-9FFF-46EE-9400-1612E195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135-44C1-4CFF-8312-B645409A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3D0-215C-4BD9-9CF9-CFF414B1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3CE9-2F73-40F1-BEA4-92F39C3D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4FD-93D2-47EE-BD8D-7D1B443D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B19-AF0C-4586-A30F-EFBA6F85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36F-2FE8-4CFD-B5C8-EC9F87F1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7F0-F1CF-4718-805E-67AAD473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9C5-B6B8-41D9-B40D-E2DACA9F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C509-0A73-4923-BC99-684131332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9360" y="0"/>
            <a:ext cx="1898640" cy="2133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979640" y="1600200"/>
            <a:ext cx="6562800" cy="0"/>
          </a:xfrm>
          <a:prstGeom prst="line">
            <a:avLst/>
          </a:prstGeom>
          <a:ln w="38160">
            <a:solidFill>
              <a:srgbClr val="0e0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IN50</a:t>
            </a:r>
            <a:r>
              <a:rPr b="0" lang="es-MX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Elementos de Diagnóstico Organizacional.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¿Qué estamos busca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131640" y="5635800"/>
            <a:ext cx="28400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Julio 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45640" y="1773000"/>
            <a:ext cx="77583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Organi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Lineamientos estraté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ervicios-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1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rocesos de organización de trabajo formales (manuales, instructivo, sistemas de inducción)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66920" y="8366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Organización F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2800" y="709560"/>
            <a:ext cx="554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Organización Infor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023920"/>
            <a:ext cx="7993080" cy="45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Rutinas cotidi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olución de problemas emer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inámicas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Generación y manejo de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autas de comportamiento no prescritas por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70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4556160"/>
            <a:ext cx="3600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1560" y="782640"/>
            <a:ext cx="22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rebuchet MS"/>
              </a:rPr>
              <a:t>Méto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773360"/>
            <a:ext cx="798984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Entrev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Obser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Análisis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Cualitativo (Sent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rebuchet MS"/>
              </a:rPr>
              <a:t>Cuantitativo (Contabilidad, Nego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Dii</cp:lastModifiedBy>
  <dcterms:modified xsi:type="dcterms:W3CDTF">2006-07-26T20:26:07Z</dcterms:modified>
  <cp:revision>14</cp:revision>
  <dc:subject/>
  <dc:title>Título </dc:title>
</cp:coreProperties>
</file>