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6EF-336F-4460-B757-BD6A403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921-D336-4714-AE1A-555FD9AB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337-34FD-45E0-B4BB-B08496C9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DD6-FB64-4423-8B34-8AC56BC8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1CB-D642-464D-A0FC-BC9342F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E2A-8D39-4F8A-8B33-8DFAD2B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36E-7CC0-4D39-BA65-B1AEBF2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99B-F692-4EE5-8F81-A23D712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A23-CB7A-41AC-BAF1-79ADA08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395-50D8-49F6-9D69-BD758D2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DC7-2307-4FC5-BAFA-804B253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04B-4ED3-4793-A2EF-E35EF52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3AC-59C2-4CEF-B071-C0037F8E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9360" y="0"/>
            <a:ext cx="189864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979640" y="1600200"/>
            <a:ext cx="6562800" cy="0"/>
          </a:xfrm>
          <a:prstGeom prst="line">
            <a:avLst/>
          </a:prstGeom>
          <a:ln w="38160">
            <a:solidFill>
              <a:srgbClr val="0e0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IN50</a:t>
            </a:r>
            <a:r>
              <a:rPr b="0" lang="es-MX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Elementos de Diagnóstico Organizacional.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¿Qué estamos busc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31640" y="5635800"/>
            <a:ext cx="2840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Julio 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640" y="1773000"/>
            <a:ext cx="775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ineamientos estraté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rvicios-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cesos de organización de trabajo formales (manuales, instructivo, sistemas de inducción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6920" y="836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2800" y="709560"/>
            <a:ext cx="55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In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023920"/>
            <a:ext cx="7993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utinas cotidi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lución de problema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námica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Generación y manejo de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autas de comportamiento no prescritas por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1560" y="7826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73360"/>
            <a:ext cx="79898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Ent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Análisis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litativo (Sent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ntitativo (Contabilidad, Nego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6-07-26T20:26:07Z</dcterms:modified>
  <cp:revision>14</cp:revision>
  <dc:subject/>
  <dc:title>Título </dc:title>
</cp:coreProperties>
</file>