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A38-BB97-4573-BCAF-325AFE72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F92-3D6E-45F5-8128-5A14300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7B0-5C38-4881-9CF6-1C7ED50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8B9-8BC3-4506-B6AB-F7100B85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DA3-436B-4EA6-B930-F9ACB828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71A-2842-4FDC-BA12-0D287F82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412-482A-4493-BE25-8EF3BC28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0F3-9100-4B7E-A321-6772CDE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84C-D900-48ED-A9DE-E9D911E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BCA-FF13-4000-884B-494B625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CAF-1FAD-49C5-A6FB-16EDB2C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769-3CF5-466F-B56F-3C3DC50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A26E-FA08-4EC9-98AE-BA1DFD62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9360" y="0"/>
            <a:ext cx="189864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979640" y="1600200"/>
            <a:ext cx="6562800" cy="0"/>
          </a:xfrm>
          <a:prstGeom prst="line">
            <a:avLst/>
          </a:prstGeom>
          <a:ln w="38160">
            <a:solidFill>
              <a:srgbClr val="0e0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IN50</a:t>
            </a:r>
            <a:r>
              <a:rPr b="0" lang="es-MX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Elementos de Diagnóstico Organizacional.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¿Qué estamos busc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31640" y="5635800"/>
            <a:ext cx="2840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Julio 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640" y="1773000"/>
            <a:ext cx="775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ineamientos estraté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rvicios-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cesos de organización de trabajo formales (manuales, instructivo, sistemas de inducción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6920" y="836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2800" y="709560"/>
            <a:ext cx="55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In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023920"/>
            <a:ext cx="7993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utinas cotidi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lución de problema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námica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Generación y manejo de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autas de comportamiento no prescritas por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1560" y="7826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73360"/>
            <a:ext cx="79898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Ent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Análisis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litativo (Sent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ntitativo (Contabilidad, Nego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6-07-26T20:26:07Z</dcterms:modified>
  <cp:revision>14</cp:revision>
  <dc:subject/>
  <dc:title>Título </dc:title>
</cp:coreProperties>
</file>