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4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6B32-3774-447A-9652-31AC3B35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EB8-3BD2-404D-8BEB-DD132758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3F6-8529-49D9-AA30-2E0488CAA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1E2-AF73-4D21-A458-A90454FD7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E5F8-1AC6-4CAA-B8B7-A73AB3332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2462-127B-413B-BA14-072C611A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0AED7-72FE-43A1-B1D3-21AFB39B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F702C-633E-4033-8060-27241B955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5A57-BCB8-4918-9533-43236D59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54DB-1DD1-410E-8DF7-D3B17368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801D-B461-4A87-96AE-6421AF6A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942C-47C6-410A-B1BD-75558843F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4565-3C48-4D88-9E02-142AF2CE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E7C67-B2E9-4E95-8BD3-6B8970E6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7D29-6B25-490C-BFE7-D8530499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11ED-C793-4E75-9B27-2E287274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1E3B-A4BA-4440-AB3F-D973C7FAB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AF0-22A9-4D12-85C0-B3E410F1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EF9-D5B0-488F-94B5-A422DF35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7A7-78A6-4B6A-814B-3E71C1FC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E47-D8A4-4568-B328-1B048A9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F2B-0A66-40B7-BD3F-F24ED2D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987-08D4-4AC8-B9C9-B6F2BDD5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6F43-F372-4AC6-BCC8-C290BE7D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754-6091-4DAE-8DB7-EC6AA000E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E492-2EC6-4211-ACAF-6E19FBD14DE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uxiliar N°8:</a:t>
            </a:r>
            <a:br>
              <a:rPr sz="3000"/>
            </a:b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osteo ABC y presupues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35200" y="5516280"/>
            <a:ext cx="6400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eonardo López H. (lelopez@ing.uchile.c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65320" y="2976480"/>
            <a:ext cx="2925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549360"/>
            <a:ext cx="8893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0000"/>
                </a:solidFill>
                <a:latin typeface="Arial"/>
              </a:rPr>
              <a:t>IN46A-1: Contabilidad y Control de Gest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435880" cy="2016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3429000"/>
            <a:ext cx="84358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642160" cy="47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878508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229600" cy="41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2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2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82000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42920" y="1082520"/>
            <a:ext cx="69138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28720" y="1600200"/>
            <a:ext cx="7485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22960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a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2296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Asignación de Costos Indirectos: Método Conven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a Departamento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Prim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a cada Dp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Secundaria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 de Dpto. no productivos a Dpto. de produ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r CI de los Departamentos de Producción a los produ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¿Cómo?: usando bases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os –(ba)-&gt; Dpto –(ba)-&gt;Produ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312840" y="1601640"/>
            <a:ext cx="8358120" cy="709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3516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33051"/>
          <a:stretch/>
        </p:blipFill>
        <p:spPr>
          <a:xfrm>
            <a:off x="611280" y="1341360"/>
            <a:ext cx="82818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3, (b), solu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82036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ursos –(driver)-&gt; Actividades –(driver)-&gt;Produc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734400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123560"/>
            <a:ext cx="896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idea del costeo ABC es asignar los CI a los productos a través de las actividades que consum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1911240"/>
            <a:ext cx="8678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os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re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recur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dentificar las activ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a cada actividad a partir de las cuotas de costos indire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coger los generadores de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las cuotas de costos indirectos generadas a través de los generadores de ac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signar los costos indirectos de cada actividad a  cada producto a partir de las cuotas de costos indir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000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58136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lcular el costo unitario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8000" y="1424160"/>
            <a:ext cx="8893080" cy="337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353440" cy="53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136000" cy="1973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8000" y="3790800"/>
            <a:ext cx="88567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oblema 1, Solución, 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643960" cy="2205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3480" y="1719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24000" y="3801960"/>
            <a:ext cx="86421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onica Mena Valderas</dc:creator>
  <dc:description/>
  <dc:language>en-US</dc:language>
  <cp:lastModifiedBy>López Herrera</cp:lastModifiedBy>
  <cp:lastPrinted>2000-06-08T22:31:45Z</cp:lastPrinted>
  <dcterms:modified xsi:type="dcterms:W3CDTF">2006-10-31T18:42:00Z</dcterms:modified>
  <cp:revision>33</cp:revision>
  <dc:subject/>
  <dc:title>Contabilidad Administrativa</dc:title>
</cp:coreProperties>
</file>