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344-F6F4-43CE-B0FE-6B470324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364-D3F1-4D33-BF65-28185305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E90-134C-438F-AAF5-9C231365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834-2BD8-416B-81D3-0A1F3F5F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0B81-8767-494E-99C0-C6D31AF9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E9AD-2187-4090-8414-4925C581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1C1C-8FC7-4242-8FEA-67C41BF0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424-D5D6-43A9-83F2-6681A4F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05C1-319F-4845-9577-92A128D7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E4F8-9043-4EDA-A1E8-85235A7B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44DA-D2CE-4891-A425-DAD0136A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D40-2570-4AB5-B495-357E018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A0A5-FF50-4C1D-B01D-DD71BA0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F317-894C-4553-AE30-A975AE6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88B3-0521-4F37-803B-40076C70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6EC6-9EB9-40B7-B9E5-78A96D95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91B4-ABF4-4BDE-889F-39D20FAA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237-3618-4D84-ABD1-8BF597F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51A-B29A-4DE9-B869-9E405BED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1CF-ADDF-43BD-9009-8849C21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FC6-A2CA-4182-B079-988AD29C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29D-98E0-460F-9390-33093A4A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272-37AE-4FDD-BD5F-E8F18EB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F69-0F00-4B12-B4C1-28E166E1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3465-BF69-4882-9EEC-7B5126025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BA3F-E222-42F2-8149-6009F79C85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uxiliar N°8: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osteo ABC y presupues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35200" y="551628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onardo López H. (lelopez@ing.uchile.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5320" y="2976480"/>
            <a:ext cx="29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65320" y="2976480"/>
            <a:ext cx="29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4936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IN46A-1: Contabilidad y Control de Gest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35880" cy="2016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84358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87850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22960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2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820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1082520"/>
            <a:ext cx="69138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8720" y="1600200"/>
            <a:ext cx="748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296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Primari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 a cada Dp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Secundari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 de Dpto. no productivos a Dpto.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?: usando bases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os –(ba)-&gt; Dpto –(ba)-&gt;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2840" y="1601640"/>
            <a:ext cx="8358120" cy="709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3516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33051"/>
          <a:stretch/>
        </p:blipFill>
        <p:spPr>
          <a:xfrm>
            <a:off x="611280" y="1341360"/>
            <a:ext cx="82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2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ursos –(driver)-&gt; Actividades –(driver)-&gt;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344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235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dea del costeo ABC es asignar los CI a los productos a través de las actividades que consu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11240"/>
            <a:ext cx="867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dentificar los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oger los generadores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las cuotas de costos indirectos generadas a través de los generadores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dentificar las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r los costos indirectos a cada actividad a partir de las cuotas de costos indire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oger los generadores de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las cuotas de costos indirectos generadas a través de los generadore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r los costos indirectos de cada actividad a  cada producto a partir de las cuotas de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el costo unitario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000" y="1424160"/>
            <a:ext cx="88930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53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197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8000" y="3790800"/>
            <a:ext cx="88567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3960" cy="220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3801960"/>
            <a:ext cx="86421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López Herrera</cp:lastModifiedBy>
  <cp:lastPrinted>2000-06-08T22:31:45Z</cp:lastPrinted>
  <dcterms:modified xsi:type="dcterms:W3CDTF">2006-10-31T18:42:00Z</dcterms:modified>
  <cp:revision>33</cp:revision>
  <dc:subject/>
  <dc:title>Contabilidad Administrativa</dc:title>
</cp:coreProperties>
</file>