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5D3-06B2-4DB7-AAF7-D089D7AB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A5A-A269-4A93-A48D-BF02A1F2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E76-B184-44E6-BB5E-36DB6F01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869-9965-4B94-8646-1A39058C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E886-78CB-4725-8F3D-97660CDB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5886-E279-48BD-AC0D-4D7480AA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984F-0EFB-4D61-81BE-E6379FA3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D71B-6BA9-4BB9-B011-6A6C9E14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DACE-CE7D-4BFE-BA2A-4095891E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3004-FDD1-4880-AFC0-A1844856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2620-EBED-47C8-8126-166D7D04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5CF-280F-4E2A-9458-C26282FA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50FD-CD2C-421B-A2EA-98A30017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AD01-93C8-4574-A8F7-097EF906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C209-FF97-452D-8CE1-687A9D78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2567-DDFD-405F-BA2D-EFEB57BD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E9C7-2B7D-47D8-908E-20DEC377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556-A616-4D0C-9DA5-5B0273C8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109-DBAD-435B-B88D-1CFA3F82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F00-0367-4A5A-AEDA-EC848E18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FF3-E64D-47D3-97C7-B1D4CBF3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5B3-EDA3-4432-8614-BEB38CD4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F35-1753-4AC0-800F-9ECD66AA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B8F-82E4-49B9-98F7-10B6F084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0C4C-DFDC-46C2-92C9-707A2870A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FAC9-1024-4E4E-9456-4E97AF00B7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uxiliar N°8: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Costeo ABC y presupues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35200" y="5516280"/>
            <a:ext cx="6400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onardo López H. (lelopez@ing.uchile.c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65320" y="2976480"/>
            <a:ext cx="29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65320" y="2976480"/>
            <a:ext cx="29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549360"/>
            <a:ext cx="88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IN46A-1: Contabilidad y Control de Gest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Primavera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, Solución,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35880" cy="2016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84358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87850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22960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2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82000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1082520"/>
            <a:ext cx="691380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a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8720" y="1600200"/>
            <a:ext cx="748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a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2960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a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296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signación de Costos Indirectos: Método Conve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r CI a Departamentos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Primaria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 a cada Dp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Secundaria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 de Dpto. no productivos a Dpto. de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r CI de los Departamentos de Producción a l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?: usando bases de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os –(ba)-&gt; Dpto –(ba)-&gt;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2840" y="1601640"/>
            <a:ext cx="8358120" cy="709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3516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b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33051"/>
          <a:stretch/>
        </p:blipFill>
        <p:spPr>
          <a:xfrm>
            <a:off x="611280" y="1341360"/>
            <a:ext cx="8281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b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8203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ursos –(driver)-&gt; Actividades –(driver)-&gt;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34400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1235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dea del costeo ABC es asignar los CI a los productos a través de las actividades que consu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911240"/>
            <a:ext cx="8678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dentificar los 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oger los generadores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lcular las cuotas de costos indirectos generadas a través de los generadores de 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dentificar las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r los costos indirectos a cada actividad a partir de las cuotas de costos indirec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oger los generadores de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lcular las cuotas de costos indirectos generadas a través de los generadores de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r los costos indirectos de cada actividad a  cada producto a partir de las cuotas de 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lcular el costo unitario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8000" y="1424160"/>
            <a:ext cx="88930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, Solución,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3534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, Solución,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1973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8000" y="3790800"/>
            <a:ext cx="885672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, Solución,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3960" cy="220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3801960"/>
            <a:ext cx="86421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López Herrera</cp:lastModifiedBy>
  <cp:lastPrinted>2000-06-08T22:31:45Z</cp:lastPrinted>
  <dcterms:modified xsi:type="dcterms:W3CDTF">2006-10-31T18:42:00Z</dcterms:modified>
  <cp:revision>33</cp:revision>
  <dc:subject/>
  <dc:title>Contabilidad Administrativa</dc:title>
</cp:coreProperties>
</file>