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C8D-3378-4116-8A58-8607921D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BB2-E053-41D1-80F1-5F5EBCA4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DB14-1A44-4F36-9860-CB198563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713-5C14-4B76-AC2F-E038C000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650E-92A3-4624-A9E4-3BD1F9DE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7B97-8FAE-4ACC-974F-9B6FE0F3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9AEF-97C3-486D-9A66-A521CAC8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46E7-FDF2-4AD5-8174-FDBE86A8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F702-80B5-4FBD-8949-62C0EECBF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8AD6-E231-4200-8907-862265F8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2676-65BE-4C7C-8EF6-90DD9A24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8858-73AE-4D38-9FF9-DD3C509E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603E0F7-9535-4A31-A82B-9DF3365170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trol Presupuestario y Costos Estánd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1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758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especificar tanto los objetivos concretos que se quieren alcanzar como los medios necesarios para conseguir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Para poder alcanzar las ventas deseadas, Anfersa deberá incurrir en los siguientes gasto de v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362320" y="3524400"/>
            <a:ext cx="525780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ferentes variables o conceptos que lo componen deben venir desagregadas por centros de responsabilidad. Esto facilita la evaluación en base a los objetivos asignados a cada unidad de la organización (control de gestió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esupuestos parciales e integración presupuest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s distintas actividades llevadas a cabo dentro de la organización dará lugar a la necesidad de elaborar presupuesto en cada centro de responsabilidad, que se conocen como presupuestos parciales. Por ejemplo: presupuesto de ventas, presupuestos de fabricación, presupuestos de compras, presupuestos financiero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in embargo, la empresa debe ser vista como un todo unitario, coordinado y coherente, en busca de un objetivo comú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a integración de los presupuestos parciales dará lugar al presupuesto maest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Normalmente se usa el método de integración sucesiva, en donde el punto de partida es el presupuesto de ventas. La secuencia de la integración sucesiva es la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ventas y gastos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productos en proceso y productos termin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La empresa Anfersa tiene un stock de 1.200 computadores valorados en $60 millones. Desea mantener un stock de seguridad de 900 unidades. Luego, necesitará producir 9.200 computadores el próximo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8001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stos de producción por departamentos o centros de actividad. Con la información anterior es posible planificar la producción, señalando los recursos necesari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Anfersa a determinado que para producir 9.200 computadores requerirá los siguientes recurs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52480" y="3643200"/>
            <a:ext cx="6477120" cy="26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440" y="6091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existencias de materias primas. En función del inventario actual y de las necesidades de producción, el responsable del almacén deberá determinar el volumen de existencias a mantener a lo largo del perío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l responsable del almacén de Anfersa SA, ha estimado mantener siempre un stock de seguridad que le permitan atender la producción de 850 unida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s de compras y gastos de compras. Con la información del punto anterior, el responsable de las compras determinará los volúmenes que deberá solicitar mensualmente a los proveedores, así como los precios, las fechas de pago y los demás costos asociados a las comp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00200" y="3389400"/>
            <a:ext cx="640080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inversiones. Paralelamente, los ingenieros de producción determinarán las necesidades de nuevos equipos, para llevar a cabo la fabricación previs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gastos de administración. El responsable de administración calculará las necesidades de la empresa en estas func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00200" y="3530520"/>
            <a:ext cx="640080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15328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8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de caja y de gastos financiero. El centro de administración financiera estimará los recursos líquidos necesarios para hacer frente a todos los pagos y las necesidades de financiamiento. Además, deberá presupuestar los costos del propio cent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95280" y="3525840"/>
            <a:ext cx="7086600" cy="27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JEMPLO DE ELABORACIÓN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empresa comercial se encuentra en el proceso de elaboración del presupuesto maestro para los primeros cuatro mese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para lo cual dispone de la siguient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5888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nóstico d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proyecta vender las siguientes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ntidades de mercaderí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8915400" cy="892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685800" y="4842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ventas en diciembre pasado alcanzaron a las 4.000 unidades. El precio de venta es de $10 por unidad y se espera que no cambie en el futuro. Las ventas se efectúan 60% al contado y el resto pagadero a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1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ulación de Presupues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y Cicl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esupues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la expresión en términos monetarios de los planes de acción que una empresa tiene previsto llevar a cabo a lo largo de un período determin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sto de ventas y niveles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empresa vende con un margen de explotación del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desea mantener existencias de $20.000 como base más un 80% del costo de venta del mes sigu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mercaderías se compran pagando un 50% al contado y el resto al mes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administración y 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muneracion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 pagan cada 15 días, en el período siguiente al que son ganadas, ascendiendo a $2.500 por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isiones sobre venta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scienden al 15% de las ventas y se pagan de la misma forma que las remuneracion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variable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canzan al 5% de las ventas y se pagan al con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tros gastos de administración y ventas fijos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be pagarse $2.000 al mes por concepto de arriendo, se consumen seguros por $200 y la depreciación se calcula en $400 al 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052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proyecta realizar una inversión de $3.000, al contado, durante el primer mes, en un vehículo que se destinará al transporte de mercadería. Este se deprecia en 30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II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aja y financiamien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desea mantener, por motivos de seguridad, un saldo de caja mínimo de $10.000 a fines de cada 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casos de déficit de caja, la empresa dispone de una línea de crédito, cuya tasa de interés es del 2% mensual. Las amortizaciones y el pago de intereses pueden efectuarse cuando la empresa lo des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V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general al 31 de diciembre de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76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1201680"/>
            <a:ext cx="91440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6320" y="1509840"/>
            <a:ext cx="8915400" cy="39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6320" y="1143000"/>
            <a:ext cx="8839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52280" y="139680"/>
            <a:ext cx="868680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3000" y="658800"/>
            <a:ext cx="716292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1490760"/>
            <a:ext cx="8915400" cy="39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f) Otros tipos de presupues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l período temporal que comprend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estancado: se efectua una vez al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progresivo: una vez transcurrido un subperiodo (mes, trimestre o cuatrimestre) se agrega el sigui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posibilidad de introducir modificaci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único: se mantiene pase lo que p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revisado: se actualiza, para reflejar los cambios en las condiciones que sirvieron de base para su elabo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457200"/>
            <a:ext cx="80769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iclo Presupuestari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 el proceso por el cual una empresa elabora el presupuesto para un determinado período. En él se definen tres concep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lanes de acción y sus respectivos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440" indent="-3744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sultados previstos de los planes de ac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 acuerdo a la adaptación de los valores presupuestados a los volúmenes realmente alcanz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i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Presupuesto flexible: se ajusta o se rehace con los valores reales de cantidades vendidas y produc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2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ol Presupuestario y Análisis de Desvi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ol presupuestari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ceso permanente de comparación entre lo planificado (plasmado en los presupuestos) y lo acontecido en la real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38592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sviación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erencia entre el resultado real y el proyectado (puede ser favorable o desfavorab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análisis de las desviaciones es importante porqu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on indicadores de gran utilidad para saber si los responsables están cumpliendo o no con los objetivos especific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ermite el feed-back o proceso de retroalimentación, mediante el cual la empresa tomará las medidas correctivas para ajustarse a lo pla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85800" y="304920"/>
            <a:ext cx="784872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04920" y="1530360"/>
            <a:ext cx="853416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4920" y="1450800"/>
            <a:ext cx="8458200" cy="392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610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484360"/>
            <a:ext cx="838188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ntajas del Proceso Presupues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liga a los ejecutivos o administradores a pensar en forma estructurada sobre el futur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establecer metas que posibiliten la evaluación del desempeño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 obtiene una mayor coordinación y coherencia en el trabajo de las distintas unidades o centros de responsabilidad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rve como motivació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mite comunicar los objetivos de la alta dirección a las divisiones operativa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3.3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ostos Estánd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écnica de la contabilidad de costos que compara el costo considerado normal de cada producto, servicio o elemento con su costo real. Son una herramienta del control presupuestario.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ermite evaluar la eficiencia de la gestión y tomar inmediatamente las acciones correctivas que se estimen pertin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on costos preestablecidos, se calculan antes de comenzar las opera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medida que se conocen los costos e ingresos reales, se van registrando en la contabilidad de co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os datos reales se comparan con los estándar, y las desviaciones entre unos y otros se ponen de manifiesto por el propio sistema cont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entajas de los costos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“dirección por excepción”, que consiste en centrar la atención de la dirección en aquellas situaciones que se apartan de la norm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Facilitan la valoración de los stocks y la fijación de precios, entre ot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xigen una definición de responsabilidades por centros de cos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ipos de estánd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datos de la empresa en ejercicios anteriores, pero correg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 partir de estudios técnicos. En este caso el estándar puede represent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mejor actuación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Una actuación efic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905120" y="934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19320" y="581040"/>
            <a:ext cx="6858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terias Pri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500 x 800 x 6 – 550 x 800 x 5 = 2.400.000 – 2.200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0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500x800 – 550x800) x 6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2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Q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6 - 5) x 550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+ 4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sviaciones en Mano de Ob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Global =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25 x 800 x 40 – 26,25 x 800 x 45 = 800.000 – 945.0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4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as cantidades (técn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25x800 – 26,25x800) x 4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40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sviación por causa de los precios (económic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– P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) H</a:t>
            </a:r>
            <a:r>
              <a:rPr b="0" lang="es-CL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= (40 - 45) x 26,25 x 800 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- 105.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pos de Presupue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320"/>
            <a:ext cx="81536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endiendo del horizonte de planific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resupuestos Maestros (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Oper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upuesto Financi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4960" y="4554360"/>
            <a:ext cx="73479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Presupuesto de Capital (más de 1 año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upuesto Maest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 Operacio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V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Prod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P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M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Gastos de Fabr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4495680"/>
            <a:ext cx="5181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upuestos Financi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upuesto de Ca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.G.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ERR presupu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72800" y="5370480"/>
            <a:ext cx="5050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ymbol"/>
                <a:ea typeface="Symbol"/>
              </a:rPr>
              <a:t>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18280" y="5546880"/>
            <a:ext cx="2454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tado Financiero Profor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05320" y="3657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3657600"/>
            <a:ext cx="0" cy="281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733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4419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4479840"/>
            <a:ext cx="182880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novación-A.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as Instal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m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504960" y="6477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30492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1240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195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raté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1432080"/>
            <a:ext cx="19810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interno y 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es de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22860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153280" y="228600"/>
            <a:ext cx="0" cy="2895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8520" y="30492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9907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1295280"/>
            <a:ext cx="1828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ER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10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upuesto de 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3049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486400" y="304920"/>
            <a:ext cx="0" cy="281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380880"/>
            <a:ext cx="1828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05320" y="10666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81280" y="1127160"/>
            <a:ext cx="1981440" cy="19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stos Administr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6920" indent="-19692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504960" y="31240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676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124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426708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86400" y="43434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162920" y="312372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Características de los presupuestos opera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compreder todas y cada una de las funciones que se desarrollan en la empresa, en situación de normalidad. Entonces habrán presupuestos de ventas, de compras, de remuneraciones, de producción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presentan la actuación futura de la organización, por lo que la información que contienen se refiere a proyecciones y no a hechos histór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uelen comprender el horizonte temporal correspondiente al ejercicio contable, generalmente un añ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Deben presentar información en términos cuantitati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Times New Roman"/>
              </a:rPr>
              <a:t>Ejemplo: La empresa Anfersa SA planea vender 9.500 computadores el próximo año. Su presupuesto de ventas es el sigu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286000" y="2363760"/>
            <a:ext cx="43434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dc:language>en-US</dc:language>
  <cp:lastModifiedBy>Mjorrat</cp:lastModifiedBy>
  <cp:lastPrinted>1999-04-29T23:00:42Z</cp:lastPrinted>
  <dcterms:modified xsi:type="dcterms:W3CDTF">2003-11-07T05:00:15Z</dcterms:modified>
  <cp:revision>9</cp:revision>
  <dc:subject/>
  <dc:title>Sin título de diapositiva</dc:title>
</cp:coreProperties>
</file>