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0C7-74A5-44D2-8B7C-11FFE54B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348-5E68-45E2-9B3D-CD6AF6DC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EB5-44C8-4CEF-825E-3CA878AE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989-9969-4111-ADD7-0544785B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4DF-C104-4FFC-A13C-77F4A934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B346-1BCF-4A5A-ACDC-F772073C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95F-859E-4285-AEB3-D4F2A75C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07C-6319-4204-ADF4-C35FE363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AA0-44DD-44B9-886D-066BD873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ED9-AB4F-4BA5-BC8B-3E47124B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538F-2F1A-426C-B4C5-2C7A4E4E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C1D-6A4C-4457-9537-FAC96BFD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12C725-1411-4A57-9D07-90DFE9683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trol Presupuestario y Costos Está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especificar tanto los objetivos concretos que se quieren alcanzar como los medios necesarios para consegui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Para poder alcanzar las ventas deseadas, Anfersa deberá incurrir en los siguientes gasto de v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35244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Presupuestos parciales e integración presupues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stintas actividades llevadas a cabo dentro de la organización dará lugar a la necesidad de elaborar presupuesto en cada centro de responsabilidad, que se conocen como presupuestos parciales. Por ejemplo: presupuesto de ventas, presupuestos de fabricación, presupuestos de compras, presupuestos financier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n embargo, la empresa debe ser vista como un todo unitario, coordinado y coherente, en busca de un objetivo comú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integración de los presupuestos parciales dará lugar al presupuesto mae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rmalmente se usa el método de integración sucesiva, en donde el punto de partida es el presupuesto de ventas. La secuencia de la integración sucesiva es la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ventas y gastos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productos en proceso y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La empresa Anfersa tiene un stock de 1.200 computadores valorados en $60 millones. Desea mantener un stock de seguridad de 900 unidades. Luego, necesitará producir 9.200 computadores el próximo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Anfersa a determinado que para producir 9.200 computadores requerirá los siguientes recurs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3643200"/>
            <a:ext cx="64771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l responsable del almacén de Anfersa SA, ha estimado mantener siempre un stock de seguridad que le permitan atender la producción de 850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3389400"/>
            <a:ext cx="64008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gastos de administración. El responsable de administración calculará las necesidades de la empresa en estas fu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00200" y="353052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3525840"/>
            <a:ext cx="70866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MPLO DE ELABOR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comercial se encuentra en el proceso de elaboración del presupuesto maestro para los primeros cuatro mese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para lo cual dispone de la siguient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nóstico d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royecta vender las siguient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ntidades de mercade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8915400" cy="892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48420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entas en diciembre pasado alcanzaron a las 4.000 unidades. El precio de venta es de $10 por unidad y se espera que no cambie en el futuro. Las ventas se efectúan 60% al contado y el resto pagadero a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y Cicl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supu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expresión en términos monetarios de los planes de acción que una empresa tiene previsto llevar a cabo a lo largo de un período determi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ventas y niveles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mpresa vende con un margen de explotación del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sea mantener existencias de $20.000 como base más un 80% del costo de venta de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mercaderías se compran pagando un 50% al contado y el resto al mes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muneracion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 pagan cada 15 días, en el período siguiente al que son ganadas, ascendiendo a $2.500 por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isiones sobr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cienden al 15% de las ventas y se pagan de la misma forma que las remuneracion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variabl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canzan al 5% de las ventas y se pagan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de administración y ventas fijo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be pagarse $2.000 al mes por concepto de arriendo, se consumen seguros por $200 y la depreciación se calcula en $400 al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ja y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desea mantener, por motivos de seguridad, un saldo de caja mínimo de $10.000 a fines de cada 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general al 31 de diciembre de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6312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201680"/>
            <a:ext cx="91440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320" y="1509840"/>
            <a:ext cx="891540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8839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658800"/>
            <a:ext cx="716292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490760"/>
            <a:ext cx="891540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) Otros tipos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l período temporal que compren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estancado: se efectua una vez al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progresivo: una vez transcurrido un subperiodo (mes, trimestre o cuatrimestre) se agrega el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posibilidad de introducir mod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único: se mantiene pase lo que p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revisado: se actualiza, para reflejar los cambios en las condiciones que sirvieron de base para su elabo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457200"/>
            <a:ext cx="8076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clo Presupuestar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el proceso por el cual una empresa elabora el presupuesto para un determinado período. En él se definen tres concep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nes de acción y sus respectivos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ultados previstos de los planes de 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adaptación de los valores presupuestados a los volúmenes realmente alcanz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i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lexible: se ajusta o se rehace con los valores reales de cantidades vendidas y produc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 presupuest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ceso permanente de comparación entre lo planificado (plasmado en los presupuestos) y lo acontecido en la re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viació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 entre el resultado real y el proyectado (puede ser favorable o desfavor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análisis de las desviaciones es importante por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indicadores de gran utilidad para saber si los responsables están cumpliendo o no con los objetivos espec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el feed-back o proceso de retroalimentación, mediante el cual la empresa tomará las medidas correctivas para ajustarse a lo pla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530360"/>
            <a:ext cx="85341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450800"/>
            <a:ext cx="8458200" cy="39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610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484360"/>
            <a:ext cx="83818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ntajas del Proces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liga a los ejecutivos o administradores a pensar en forma estructurada sobre el futu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establecer metas que posibiliten la evaluación del desempeñ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 obtiene una mayor coordinación y coherencia en el trabajo de las distintas unidades o centros de responsabilid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rve como motiv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comunicar los objetivos de la alta dirección a las divisiones operativ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écnica de la contabilidad de costos que compara el costo considerado normal de cada producto, servicio o elemento con su costo real. Son una herramienta del control presupuestario.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rmite evaluar la eficiencia de la gestión y tomar inmediatamente las acciones correctivas que se estimen perti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n costos preestablecidos, se calculan antes de comenzar las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medida que se conocen los costos e ingresos reales, se van registrando en la 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os datos reales se comparan con los estándar, y las desviaciones entre unos y otros se ponen de manifiesto por el propio sistema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ntajas de los costos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“dirección por excepción”, que consiste en centrar la atención de la dirección en aquellas situaciones que se apartan de la norm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valoración de los stocks y la fijación de precios, entre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igen una definición de responsabilidades por centros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ipos de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, pero correg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estudios técnicos. En este caso el estándar puede represent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mejor actuación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actuación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934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581040"/>
            <a:ext cx="6858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terias Pr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00 x 800 x 6 – 550 x 800 x 5 = 2.400.000 – 2.200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500x800 – 550x800) x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2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6 - 5) x 550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 4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no de Ob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5 x 800 x 40 – 26,25 x 800 x 45 = 800.000 – 945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4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25x800 – 26,25x800) x 4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40 - 45) x 26,25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0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iendo del horizonte de planifi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esupuestos Maestros (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960" y="4554360"/>
            <a:ext cx="734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resupuesto de Capital (más de 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Maest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Opera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P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Gastos de Fabr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495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s Financie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Ca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G.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RR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72800" y="537048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18280" y="5546880"/>
            <a:ext cx="2454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tado Financiero Pro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479840"/>
            <a:ext cx="18288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ovación-A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04960" y="6477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432080"/>
            <a:ext cx="1981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1295280"/>
            <a:ext cx="1828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upuest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aracterísticas de los presupuestos oper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compreder todas y cada una de las funciones que se desarrollan en la empresa, en situación de normalidad. Entonces habrán presupuestos de ventas, de compras, de remuneraciones, de producc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presentan la actuación futura de la organización, por lo que la información que contienen se refiere a proyecciones y no a hechos histó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elen comprender el horizonte temporal correspondiente al ejercicio contable, generalmente un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presentar información en términos cuantita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La empresa Anfersa SA planea vender 9.500 computadores el próximo año. Su presupuesto de ventas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0" y="2363760"/>
            <a:ext cx="43434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dc:language>en-US</dc:language>
  <cp:lastModifiedBy>Mjorrat</cp:lastModifiedBy>
  <cp:lastPrinted>1999-04-29T23:00:42Z</cp:lastPrinted>
  <dcterms:modified xsi:type="dcterms:W3CDTF">2003-11-07T05:00:15Z</dcterms:modified>
  <cp:revision>9</cp:revision>
  <dc:subject/>
  <dc:title>Sin título de diapositiva</dc:title>
</cp:coreProperties>
</file>