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5B2D-1B05-4411-9E71-A1524965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846C-DA44-40B5-83D3-49151AAA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47EF-5037-46D9-B1A6-85D68F04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C3F8-0983-4E0C-9069-4B7CF243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6B0F-FC34-4BDD-AF1D-FCFD94F6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D441-6F26-4617-8F93-342FB136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6051-35DD-4A92-B60D-3B30587E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4EC5-E240-476E-BDEC-AF4B40D7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682C-3E24-4991-BA18-A00855F3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8C2E-FC21-44E8-A923-0A8322A1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66CC-F026-444D-81FD-8286443D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E2BE-470C-4FD6-A529-18084BCF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DA16-9846-4066-A5B6-4D292C58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DD22-9D0B-4A3D-81AF-BFEFB287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65C9-5C96-47A9-9BF6-9E8247FE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C6F5-E5A5-45B6-B0D9-6C310005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1CC0-0468-47DF-9B68-7E917170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F313-AA6C-4F5A-9BDC-3062A451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A829-2823-4673-B05B-73E0AD3C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4A03-E700-4866-94F9-91C28CF7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9330-EF6D-4467-B3B8-4F3262CE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5C4F-477B-40B0-A031-9AEB8894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714F-008C-4A42-87EE-71AC6CFF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4FA0-1229-438D-A17B-0E3E895D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C6D8-7757-4D36-8982-94F35661F65B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2D54-B739-4AD4-B2CC-3BAC18E29AF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8062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Flujo Neto Originado por Actividades d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iación Neta del Efectivo y Efectiv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qui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77720" indent="0">
              <a:buNone/>
              <a:tabLst>
                <a:tab algn="l" pos="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que no son flujo de efectivo (depreciación, provisione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activos circulantes (clientes, existencia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pasivos circulantes (proveedores, retencion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Fluj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20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 de E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1092240"/>
            <a:ext cx="85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lance Inicial (en M$)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urante los tres meses siguientes realiza las siguientes transa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vende mercadería por un monto de M$ 1.200, pagándose 50% a plazo y el resto al contado. El costo de la mercadería fue de M$ 9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lientes pagan M$ 500 que adeudaban 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400 que se adeudaba a los prove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ntrega el 50% de los bienes pagados por anticipado, obteniendo un margen de ganancia, sobre ingresos, del 4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200 por concepto de remun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mite acciones de pago por M$ 7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un préstamo bancario por M$ 800, a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ompra activo fijo por M$ 2000, pagando al con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amortiza el 10% de las obligaciones con bancos vigentes a fines del ejercicio anterior y se cancelan los intereses devengados en el trim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NOT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deuda inicial se contrajo a un tasa de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 activo fijo le resta una vida útil de 20 años y su valor residual es c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guro tiene una duración de 1 año y fue contratado hace 2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5543640" cy="5976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189000"/>
            <a:ext cx="25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ibro D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8000" y="1611360"/>
            <a:ext cx="8964720" cy="3709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alance 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781280"/>
            <a:ext cx="633744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78000" y="677880"/>
            <a:ext cx="83880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Operac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1.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a proveedo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2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1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Oper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316,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Financi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éstamos obteni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3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Financiamiento      1.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Invers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a de activo fij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Negativo por Actividades de Inversión  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Total Negati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(4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85720" y="1057320"/>
            <a:ext cx="8307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iliación entre el flujo neto originado por actividade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ción y el resultado ne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rdida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71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ciación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37,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eudores por ven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(1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existenc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1.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segu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cuentas por pagar                     (4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ingresos anticipados                 (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ujo Neto Operacion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316,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generación de flujos de efectivo es un objetivo relevante dentro del contexto de la administración financiera de las em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apacidad para producirlos es materia de constante atención por parte de quienes se interesan por la marcha financiera de la entidad, tales como inversionistas, acreedores y otros entes involucr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l situación hace necesario incorporar un estado financiero que de cuenta de e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stado de Flujo de Efectivo (EFE) es un estado financi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yo  objetivo es proveer información relevante sobre 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Egresos de Efectivo de una entidad produci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nte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084640"/>
            <a:ext cx="8699400" cy="130932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ibliografía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eigs &amp; Meigs: “Contabilidad, la base para las decisiones gerenciales”, capítulo 19 (“Medición del Flujo de Efectiv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oletín Técnico N° 50 del Colegio de Cont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ircular N° 1312 de la Superintendencia de Valores y Segu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EFE ayuda a los inversionistas, acreedores y otros 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generar flujos de efectivo netos posi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cumplir con sus obligaciones y repartir utilidades en efec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r sus necesidades de financiamiento ex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las causas que explican la diferencia entre el Resultado del Ejercicio y el flujo de efectivo neto oper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ocer los efectos que producen, en la posición financiera de la empresa, las actividades de financiamiento e inversiones que involucran efectivo y aquellas que no lo involucr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concepto de Efectivo incluye dos elementos: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aldos disponibles en caja y bancos</a:t>
            </a:r>
            <a:br>
              <a:rPr sz="2400"/>
            </a:br>
            <a:br>
              <a:rPr sz="2400"/>
            </a:b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 equivalente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Inversiones de corto plazo que cumplen los siguientes requisitos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pueden convertir rápidamente en efectivo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intención de convertirlos en efectivo ant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 días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riesgo mínimo de pérdida significativa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ducto de la conversión, (Ej: depósitos a plazo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eriores a 90 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691920"/>
            <a:ext cx="883944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FE tiene dos par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jo neto total del periodo, o flujo clasificado por activ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4200" y="1052280"/>
            <a:ext cx="748980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la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y otros repart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a proveedores y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 pagado, IVA y o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gastos pagados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60360" y="260280"/>
            <a:ext cx="7632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2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ención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s fuent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dividen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t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por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88680" y="333000"/>
            <a:ext cx="701532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3"/>
              <a:tabLst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 activo fi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 de 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Venta de otras 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ción de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instrumen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dc:language>en-US</dc:language>
  <cp:lastModifiedBy>ivan.alvarez</cp:lastModifiedBy>
  <cp:lastPrinted>1999-03-18T21:04:38Z</cp:lastPrinted>
  <dcterms:modified xsi:type="dcterms:W3CDTF">2006-04-24T12:13:23Z</dcterms:modified>
  <cp:revision>24</cp:revision>
  <dc:subject/>
  <dc:title>ESTADISTICAS DE POLIMEROS</dc:title>
</cp:coreProperties>
</file>