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3C78-32FA-4C02-919C-73C386F7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3812-9EF9-427E-B33C-1D241116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097-13D2-4130-9E08-8F998F78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248D-78A3-42C5-8C6D-A99ABE6C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E599-0106-42E2-9043-339BB2EC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8CDF-041B-49DC-A55B-3CC37A7E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4CA9-EFE4-4447-B217-9EF80D0C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B80C-5F74-4FF3-A17C-0B2E3972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F4C6-F737-4582-A4D4-1B7AB02F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ACDE-7477-4906-83E3-7A73C04B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F191-A7DA-4313-9321-BD4C9702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AA44-FF22-4111-82CB-8B1C1E07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D3B4-FD98-4B98-84AD-8AE4A90B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9E31-3FB6-4F12-92B4-B2F8EC23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5361-8AB3-4CB9-BCC4-1DFA8722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6AF3-7E5C-4A88-90ED-5DE45A28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331A-6FF4-46A9-973B-1147926D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D638-9596-4F46-A238-4DA74C37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B417-AB61-4A6A-9292-14396B89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248B-42C6-43B6-A8FB-7BC35EAF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59D9-2575-4508-9F8D-8F3DF22D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DCC-37AA-4885-BAAD-0019319C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C60B-A03C-4177-BD9A-44262B1D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4BCB-2673-4C4B-8619-6589715F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D0BD-CABA-4B39-B7A6-5C2F16DD7F2B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D1AF-A94B-4B95-B6C0-C48496C9B48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dc:language>en-US</dc:language>
  <cp:lastModifiedBy>IVAN ALVAREZ VALDES</cp:lastModifiedBy>
  <cp:lastPrinted>1999-03-18T20:56:04Z</cp:lastPrinted>
  <dcterms:modified xsi:type="dcterms:W3CDTF">2006-04-10T04:49:51Z</dcterms:modified>
  <cp:revision>12</cp:revision>
  <dc:subject/>
  <dc:title>Primera Parte: Contabilidad Financiera</dc:title>
</cp:coreProperties>
</file>