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E4B-3D6C-4825-91DB-C80AA958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523-C7DF-4B8B-A501-178CCEAB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493-2BDC-4A77-AEF0-40BD5CCB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58D-AAC0-4609-B176-60CF69A5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7BF1-9135-4442-B853-41ED28D1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DC19-7873-4926-B68E-62BB4420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4170-DE58-4B5E-9670-ADD0D81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589A-3887-47E0-BD15-E7256789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DD9A-863C-4812-BDA7-8DCAAF43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F4A-285F-4498-AAEB-AC7D9E8E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080F-1C17-435B-B2CF-88401C0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415-B358-4F2F-9B09-81CF2C54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2CD2-FA39-41A6-95B0-DED223E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8AE-1C99-408D-8B2D-F29A74E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CA34-F9A5-4163-A6CC-A857819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A38D-13B8-4CB5-8433-08B67235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9BB4-9173-42C6-8D17-68577C7F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B76-3EDC-46A9-B373-167F6E99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B5B-55C6-4CC2-AC97-7D8D6E2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0A9-EE7D-444B-B8D8-275E5B22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7D3-2D5F-420D-A00F-17566EA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CB7-7773-40F9-849B-11B7BBD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D64-5C47-4862-8554-96D5301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013-0A3A-48F9-B02E-EC67D165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C7F-D84B-42BD-B823-EA478788504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B2DB-423B-47E0-8DFB-EE45387B8B6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IVAN ALVAREZ VALDES</cp:lastModifiedBy>
  <cp:lastPrinted>1999-03-18T20:54:39Z</cp:lastPrinted>
  <dcterms:modified xsi:type="dcterms:W3CDTF">2006-04-01T03:56:21Z</dcterms:modified>
  <cp:revision>23</cp:revision>
  <dc:subject/>
  <dc:title>Primera Parte: Contabilidad Financiera</dc:title>
</cp:coreProperties>
</file>