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979C-919F-48D5-85D5-5646C7B57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2918-2125-4915-8C0D-FEA3E64D7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41B6-AD20-4426-B343-19FF79D1D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B1AA9-C456-46F7-9A7C-D084EF9B2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3DC45-01A1-426E-8DAF-47121113F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5012C-75A3-4314-902B-68BDCDF48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D20A4-CC8E-4559-8B79-FF2A6A5C6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40EFB-9EC0-4767-A002-7E8459580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FECA9-B208-4DB6-84A4-AD80A7D5D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39A6C-4EF0-4B58-82E2-E6DF90F54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ADE07-8420-4316-AB69-67B17F39E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DEF5-47D8-414C-B868-2962DBA7F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2A01F-06F6-4513-B2B2-777653655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74964-F222-4CF2-BFF3-6F13D18E5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FF9D3-987B-429F-B966-4A058CAE7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BA283-2BF7-48F3-8CC9-F329348987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F0DFC-E060-49F4-AA79-C695C7077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7371-8F40-48FB-B22D-AC8BFE74C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DB7CA-2535-48CC-8572-57C55C666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62183-2AE9-45EA-A42D-5A518EE41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6AB1E-977D-4FE6-9E47-47E45FE4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6EED8-3B18-4525-AA0B-6E8C58702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9330-7E6A-4A71-B144-7719A5A8D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DA5F7-827C-4CC3-9A05-2C64A4BF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F500-2AC9-4204-9E95-1C26C50C7E5C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4C58-B13B-40F1-BF6C-B0C10C576B8A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371240" y="990360"/>
            <a:ext cx="708660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2774880"/>
            <a:ext cx="8229600" cy="3355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4: Activ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uenta Complementaria del Activo (CA): Cuenta que se comporta como un pasivo pero que se presenta en el balance general como un activo negativo, rebajando al activo que complem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822240" y="3962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4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 u="sng">
                <a:solidFill>
                  <a:srgbClr val="ffffff"/>
                </a:solidFill>
                <a:uFillTx/>
                <a:latin typeface="Arial"/>
              </a:rPr>
              <a:t>(2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 (neto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4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upóngase que se logran recuperar $1.000 de la deuda previamente castig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57200" y="2743200"/>
            <a:ext cx="845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470052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as normas tributarias permiten rebajar como gasto los castigos, pero no las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79995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Existencia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27417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IODICO : Se cierra el negocio cada cierto tiempo, se cuentan las unidades físicas y se valoriza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 PERPETU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La cuenta existencias se mantiene permanentemente al d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62120" y="1752480"/>
            <a:ext cx="8001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 de Inventario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ió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974880" y="2057400"/>
            <a:ext cx="7788240" cy="41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mpras del Períod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ía 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ntario Final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8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tiliza una cuenta transitori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que se carga con el inventario inicial y las compras (al costo) y se abona con la ventas (a precio de venta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e detectan robos ni mermas de mercaderí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stema 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vender mercadería se reduce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ercaderí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y se aumenta la cuent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conoce 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ada vez que ocurre una v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quiere poder asociar cada venta con la mercaderí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ha realizado las siguientes compras de mercaderí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1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 unidades a $10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08.0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 unidades a $11 cada un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el 10.04 vende dos un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uál es el costo de venta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$20, $22, el promedio ponderado, ...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 las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Unidades Específic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gistro Permanente que permite Identificar cuál es el Costo de Adquisición de Cada Unidad Vendi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con volúmenes de venta peq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usa para activos de alto valor unitar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10920" y="228600"/>
            <a:ext cx="784692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28600" y="1700280"/>
            <a:ext cx="8610480" cy="4471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del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osto Promedio Ponder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valor del Inventario se calcula aplicando a cada artículo en existencias el costo de adquisición promedio ponderado, incluyendo el costo de adquisición de las existencias inicial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-31212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da vez que ocurre una compra se calcula un nuevo promed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3*10  +5*11)/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10,6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&gt;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,2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*10,62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,75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 Método FIFO (o P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 : La mercadería que primero entra al inventario es la que primero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más antiguo, y el inventario queda valorado al costo de adquisición más reci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2*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2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 + 5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$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10920" y="228240"/>
            <a:ext cx="7846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2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étodos de Contabilización d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vent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 LIFO (o UEP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UESTO: La mercadería que ingresó al último es la primera que se vend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mercadería vendida se valora al costo de adquisición más reciente, y las existencias se valoran al costo más antiguo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*1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*11 + 3*10  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87360" y="6026040"/>
            <a:ext cx="8064360" cy="8240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BUTARIAMENTE SE ACEPTA FIFO Y CPP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de Valoración de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838188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tiene un Inventario Inicial de 300 unidades a $0,95 c/u. El Inventario Final es de 330 uni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116000" y="2276640"/>
            <a:ext cx="3978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50840" y="2743200"/>
            <a:ext cx="7712280" cy="22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sto ($/u)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   Costo Total ($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0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1,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2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5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1,1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2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116000" y="5029200"/>
            <a:ext cx="67327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DEL PERIOD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í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4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MEN 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5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4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ntario Final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stem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F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iódic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4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pe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8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6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49228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65300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9640" y="3645000"/>
            <a:ext cx="74170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250*1,12+80*1,1 = 36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I = 300*0,95=2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s = 1.0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la venta = 285 + 1.015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 = 1300 - 368 = 93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= 300*0,95+30*1,0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para venta no varía = 1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 = 1300- 315 = 9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1280" y="48690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 que al usar LIFO da un costo de venta mayor qu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FIF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IODIC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PP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300*0,95+101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1,04 $/uni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300+9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IF = 330*1,04 = 343,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para la venta = 1.3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sto de Venta = 1300 – 343,2=  956,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87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821880" y="2498760"/>
            <a:ext cx="384264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UNI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895480"/>
            <a:ext cx="48006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438280" y="2590920"/>
            <a:ext cx="0" cy="12189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71240" y="22824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09120" y="1371240"/>
            <a:ext cx="845676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F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0,95+200*1= 48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00*1,05 = 3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 : Costo Venta = 300*1,05+120*1,1=44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= 315 +200*1,1-447=88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22000" y="3809880"/>
            <a:ext cx="8550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COSTO VTA.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485=31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15+200*1,1=53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4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35-447=8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8+250*1,12=36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3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920" y="4191120"/>
            <a:ext cx="883764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724280" y="4038480"/>
            <a:ext cx="0" cy="2818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LIF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300*1,05+200*1= 5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ía 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sto Venta = 200*1,1+220*0,95= 429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7200" y="3352680"/>
            <a:ext cx="822960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COSTO VTA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*0,95+200*1=4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+300*1,05=8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-515=28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85+200*1,1=50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429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5-429=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6+250*1,12=35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94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04920" y="3733920"/>
            <a:ext cx="853416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3352680"/>
            <a:ext cx="0" cy="3124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 SIST.PERPETU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R CP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0" y="2639880"/>
            <a:ext cx="8991720" cy="33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V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EXISTENCI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CP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*0,95+200*1=485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85/500 = 0,97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485+300*1,05=8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0/800 =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00-500=3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300+200*1,1=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/500 =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3   420*1,04=436,8   520-436,8 = 83,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1,0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7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83,2+250*1,12=363,2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63,2/330 = 1,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936.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8600" y="2971800"/>
            <a:ext cx="86868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48120" y="2743200"/>
            <a:ext cx="0" cy="25146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09480" y="2666880"/>
            <a:ext cx="0" cy="26672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477120" y="2666880"/>
            <a:ext cx="0" cy="25909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520" y="475920"/>
            <a:ext cx="82947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IJOS (o de Largo Plazo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763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Todo bien o derecho obtenido con el propósito de emplearlo en la explotación, representativo de un potencial de servicio utilizable durante un período, que en general trasciende un ejercicio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Físicos (o tangibles)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, construcciones y obras de ingeniería, maquinarias y equipo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s Intangibles: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tentes, marcas comerciales, derechos de llave, licencias o franquicia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 3 métodos para valorar activ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ació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nformación objetiva y verific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necesariamente coincide con valor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de Mercado (o de Reemplaz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el Valor Real del A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No siempre es objetivo, no es único y no todos los activos se transan en el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92468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1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s Físic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1676520"/>
            <a:ext cx="8686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ación: A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osto de adquisi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, que comprende el precio del activo más los gastos conexo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s Conexos: Transporte, instalaciones, comisiones, gastos notariales, etc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lgunos activos de bajo valor relativo se registran directamente como gastos (ej: repuestos, materiales de oficina, libros, etc.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396360"/>
            <a:ext cx="8229600" cy="75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joras y Reparacion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joras: Cambios Estructurales del activo (ampliación a adición de elementos). So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pitaliz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es decir, incrementan en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araciones y mantenimiento: Dejan al activo en condiciones normales de funcionamiento. No son  capitalizables, es decir, se consideran un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1752480"/>
            <a:ext cx="914256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0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76320" y="1371600"/>
            <a:ext cx="8991360" cy="541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a propiedad que costó $50.000.000. Una tasación técnica indica lo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-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3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5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1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emás se incurrió en los siguientes gast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norarios del abog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Transferen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notar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m$ 0,0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Compr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51920" y="1752480"/>
            <a:ext cx="8915400" cy="4724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Total = mm$50 + mm$0.15 = $50.1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siento Con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rren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16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trucción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58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acione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*0.2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1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086600" cy="1067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 Venta de 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667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una máquina en $60.000, cuyo valor contable neto es el siguient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(10.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ne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6160" y="3956040"/>
            <a:ext cx="8775720" cy="234792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Acumul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Fijo Bru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Fuera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381880" cy="5105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f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Distribución del costo del activo como gasto en los períodos en que presta sus servici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es consecuencia del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terio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u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solescenci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no es un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xisten varios métodos de depreciación. Nosotros estudiaremos tre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elerada (suma de los dígitos de los años y saldos decrecient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lineal acelerada (tributari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33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AN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 : Costo de Adquisi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: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: Vida U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31640" y="3632040"/>
            <a:ext cx="3937320" cy="187992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-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943600" y="2362320"/>
            <a:ext cx="0" cy="281916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5943600" y="5181480"/>
            <a:ext cx="30481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746200" y="531828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943600" y="4495680"/>
            <a:ext cx="2286000" cy="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943600" y="2971800"/>
            <a:ext cx="2286000" cy="1523880"/>
          </a:xfrm>
          <a:prstGeom prst="line">
            <a:avLst/>
          </a:prstGeom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546880" y="27288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5317920" y="4253040"/>
            <a:ext cx="489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985160" y="5318280"/>
            <a:ext cx="354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8229600" y="4495680"/>
            <a:ext cx="0" cy="68580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5699160" y="196704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7848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étodo de la Suma de los Dígitos de los Añ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00280" y="1333440"/>
            <a:ext cx="7467480" cy="19051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ON t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n -t + 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*(P - Vr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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j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708800" y="2803680"/>
            <a:ext cx="599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=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514600" y="3809880"/>
            <a:ext cx="0" cy="2286000"/>
          </a:xfrm>
          <a:prstGeom prst="line">
            <a:avLst/>
          </a:prstGeom>
          <a:ln w="12600">
            <a:solidFill>
              <a:srgbClr val="ffffff"/>
            </a:solidFill>
            <a:miter/>
            <a:head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6095880"/>
            <a:ext cx="35053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1812960" y="4100400"/>
            <a:ext cx="387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307560" y="5853240"/>
            <a:ext cx="27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6040" y="2438640"/>
            <a:ext cx="4267080" cy="35046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21600"/>
                </a:moveTo>
                <a:arcTo wR="10800" hR="10800" stAng="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21600"/>
                </a:moveTo>
                <a:arcTo wR="10800" hR="10800" stAng="5400000" swAng="5400000"/>
              </a:path>
            </a:pathLst>
          </a:custGeom>
          <a:noFill/>
          <a:ln cap="rnd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89280" y="3413160"/>
            <a:ext cx="15397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A.F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84360" y="333000"/>
            <a:ext cx="72324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Método de los saldos decrecien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628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 = Tasa anual de depreci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 = años de vida úti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VR = valor resid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A = Depreciación acumul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1042920" y="3645000"/>
            <a:ext cx="6384960" cy="18795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(P –DA)* 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lang="en-US" sz="2400" spc="-1" strike="noStrike" baseline="-25000">
                <a:solidFill>
                  <a:srgbClr val="ffffff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saldo no depreciado - V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preciación Lineal Acelerad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iste en depreciar el activo linealmente, considerando una vida útil igual a [1/3] de la vida útil normal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método aceptado por el SII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ne como objetivo incentivar la inversión en activo fijo, a través de la postergación del impuesto a la ren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000" y="476280"/>
            <a:ext cx="7543800" cy="99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53352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Presente : Valor del activo es función de los flujos fut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s una buena estimación del precio de merc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sventaja: Se debe estimar flujos futuros, tasa de descuento y período de madurez del a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99640" y="18900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414360" y="2590920"/>
          <a:ext cx="8577360" cy="3886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4360" y="2590920"/>
                    <a:ext cx="8577360" cy="3886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1" name=""/>
          <p:cNvSpPr/>
          <p:nvPr/>
        </p:nvSpPr>
        <p:spPr>
          <a:xfrm>
            <a:off x="1203480" y="1203480"/>
            <a:ext cx="616104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125360"/>
            <a:ext cx="8153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un AF por $100.000, vida útil 5 años y Vr = 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93400" y="1766880"/>
            <a:ext cx="2941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27" name=""/>
          <p:cNvGraphicFramePr/>
          <p:nvPr/>
        </p:nvGraphicFramePr>
        <p:xfrm>
          <a:off x="642960" y="2590920"/>
          <a:ext cx="8312040" cy="33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2590920"/>
                    <a:ext cx="8312040" cy="339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"/>
          <p:cNvSpPr/>
          <p:nvPr/>
        </p:nvSpPr>
        <p:spPr>
          <a:xfrm>
            <a:off x="756000" y="1484280"/>
            <a:ext cx="7471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uma de los dígitos)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66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33" name=""/>
          <p:cNvGraphicFramePr/>
          <p:nvPr/>
        </p:nvGraphicFramePr>
        <p:xfrm>
          <a:off x="641520" y="2589120"/>
          <a:ext cx="8288280" cy="3954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1520" y="2589120"/>
                    <a:ext cx="8288280" cy="395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5" name=""/>
          <p:cNvSpPr/>
          <p:nvPr/>
        </p:nvSpPr>
        <p:spPr>
          <a:xfrm>
            <a:off x="1285560" y="1538280"/>
            <a:ext cx="64821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preciación Acelerada (saldos decreciente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45760" y="328680"/>
            <a:ext cx="8140680" cy="614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887480" y="2347920"/>
            <a:ext cx="2105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´= [5/3] = 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90440" y="3238560"/>
            <a:ext cx="8913960" cy="2362320"/>
          </a:xfrm>
          <a:prstGeom prst="rect">
            <a:avLst/>
          </a:prstGeom>
          <a:noFill/>
          <a:ln w="763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.Acumulad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.F.Ne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%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 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433520" y="1386000"/>
            <a:ext cx="5115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Depreciación Lineal Acelerada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99640" y="404640"/>
            <a:ext cx="75438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LINE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07960" y="2489040"/>
            <a:ext cx="8508960" cy="248940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3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4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20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2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5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8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3911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¿ Qué Ocurre con la Utilidad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20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SO CON DEPRECIACION  LINEAL ACELER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84280" y="3098880"/>
            <a:ext cx="7899480" cy="279396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3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0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8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7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17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25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n activos no físicos que presentan un potencial de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registran contablemente sólo cuando son adquiridos de terceros (al costo de adquisición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mortización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: Proceso a través del cual el valor de adquisición del intangible se convierte parcial y periódicamente en gas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étodo: Línea recta con VR = 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ida Util: Mín {Plazo del Contrato; Plazo estimado razonable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Intangi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68000" y="162864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ent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oncesión del gobierno en favor de un inventor, mediante la cual le otorga el derecho exclusivo para producir y explotar su inven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Marcas Comercia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ara el uso exclusivo de identificaciones distintivas de un producto o serv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recho de llav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Exceso de costo de un activo o empresa por sobre el valor comercial de las partes que lo compon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Licencia o franquic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Privilegio obtenido por una firma para la comercialización de un producto bajo condiciones específic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un instrumento constitutivo de una obligación y emitido por un banco, empresa, o institución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Bonos, Depósitos a Plazo, Pagarés, acciones,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corto plazo: Su objetivo es obtener rentabilidad de los excedentes de ca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Financieros de largo plazo: Inversiones permanentes en otras socie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CTIVO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37160" y="2727360"/>
            <a:ext cx="226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NANCIER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 flipV="1">
            <a:off x="2514600" y="1676520"/>
            <a:ext cx="1447920" cy="137160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514600" y="3048120"/>
            <a:ext cx="1523880" cy="1523880"/>
          </a:xfrm>
          <a:prstGeom prst="line">
            <a:avLst/>
          </a:prstGeom>
          <a:ln w="10152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096440" y="1355760"/>
            <a:ext cx="484848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to Plazo (Activo Circulante) :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isponibl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Depósitos a plaz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 Valores Negociables (acciones,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ectos de comercio, bonos, etc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253040" y="4251240"/>
            <a:ext cx="46731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rgo Plazo (Otros Activos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Empresas Relacion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- Inv. en Otras Sociedad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 Valor Prese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846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hoy se depositan $100 al 10%, en el próximo período se tendrán $11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5920" y="409896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940360" y="2637000"/>
            <a:ext cx="692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37339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6324480" y="3276720"/>
            <a:ext cx="0" cy="4572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143000" y="3733920"/>
            <a:ext cx="0" cy="3045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811880" y="4481640"/>
            <a:ext cx="21265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P  =  110/1.1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15960" y="5187960"/>
            <a:ext cx="7378560" cy="12826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CTUALIZAN LOS MONTOS A UNA TAS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1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pósito a Plaz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9528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de Fondos a un Plazo Fijo (30, 60 o 90 días). Hay una tasa de Interés Involuc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Simple : Se aplica sobre el Capital Inici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Compuesta : Se aplica sobre el Capital Inicial y sobre el Interés Deveng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7010640" cy="9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Simp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invierten $100 a una tasa del 10% an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78" name=""/>
          <p:cNvGraphicFramePr/>
          <p:nvPr/>
        </p:nvGraphicFramePr>
        <p:xfrm>
          <a:off x="1152360" y="2209680"/>
          <a:ext cx="6834240" cy="3048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52360" y="2209680"/>
                    <a:ext cx="6834240" cy="304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0" name=""/>
          <p:cNvSpPr/>
          <p:nvPr/>
        </p:nvSpPr>
        <p:spPr>
          <a:xfrm>
            <a:off x="25560" y="5511960"/>
            <a:ext cx="9016920" cy="109188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al = N * i * C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 :Tas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ño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: Capital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Interés Compuest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84" name=""/>
          <p:cNvGraphicFramePr/>
          <p:nvPr/>
        </p:nvGraphicFramePr>
        <p:xfrm>
          <a:off x="1076400" y="2057400"/>
          <a:ext cx="6834240" cy="2971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76400" y="2057400"/>
                    <a:ext cx="683424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"/>
          <p:cNvSpPr/>
          <p:nvPr/>
        </p:nvSpPr>
        <p:spPr>
          <a:xfrm>
            <a:off x="25560" y="5207040"/>
            <a:ext cx="9091440" cy="1549440"/>
          </a:xfrm>
          <a:prstGeom prst="rect">
            <a:avLst/>
          </a:prstGeom>
          <a:noFill/>
          <a:ln w="507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acumulado = C * [(1+i)^n - 1]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período 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R:Interés Total Simple=100, Interés Total Compuesto=159.4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sas de interé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762120" y="26668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Nominal : Porcentaje que se paga sobre lo adeud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sa de Interés Real : Aumento del Poder Adquisitivo del que Presta el Dine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= Tasa de Inflación : (1+in) = (1+ir) * (1+</a:t>
            </a:r>
            <a:r>
              <a:rPr b="0" lang="en-US" sz="24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46040" y="1650960"/>
            <a:ext cx="4165920" cy="584280"/>
          </a:xfrm>
          <a:prstGeom prst="rect">
            <a:avLst/>
          </a:prstGeom>
          <a:noFill/>
          <a:ln w="10152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an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 = (1+i</a:t>
            </a:r>
            <a:r>
              <a:rPr b="0" lang="es-ES_tradnl" sz="2400" spc="-1" strike="noStrike" baseline="-25000">
                <a:solidFill>
                  <a:srgbClr val="ffffff"/>
                </a:solidFill>
                <a:latin typeface="Arial"/>
              </a:rPr>
              <a:t>mensual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)^12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610920" y="476280"/>
            <a:ext cx="6933960" cy="689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dispone de $1MM. Se hará un depósito a plazo a 5 meses y se tiene las siguientes alternativ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no reajustable al 1.5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F (reajustable) al 0.6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ósito en US$ al 0.8% mensu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tiene además las siguientes expectativa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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= 1% mensu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c=0.7% mensu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¿Cuál alternativa convien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51920" y="1752120"/>
            <a:ext cx="899028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(1+0.015)^5 = 1.077.2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=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[(1+ir)*(1+ 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)] ^5 = 1.000.000*[(1+0.006)*(1+0.01)] ^5 = $1.082.91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86d1ec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Valor del depósito al quinto mes =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.000.000*(1+in)^5 = 1.000.000*[(1+ir)*(1+</a:t>
            </a:r>
            <a:r>
              <a:rPr b="0" lang="es-ES_tradnl" sz="2000" spc="-1" strike="noStrike">
                <a:solidFill>
                  <a:srgbClr val="ffffff"/>
                </a:solidFill>
                <a:latin typeface="Symbol"/>
                <a:ea typeface="Symbol"/>
              </a:rPr>
              <a:t>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Tc)] ^5 = 1.000.000*[(1+0.008)*(1+0.007)] ^5 = 1.077.58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228600" y="159984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hace un depósito a plazo a 90 días por m$400 al 1.2% mensual. El cierre es a 60 días de hecho el depósit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                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 los 60 día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 a Plazo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0*(1.012)^2-4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inancieros (I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400*(1.012)^2-4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6960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2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228600" y="1294920"/>
            <a:ext cx="8686800" cy="541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gistran bajo este concepto las inversiones en acciones, bonos, efectos de comercio, fondos mutuos y otros títulos de oferta públic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c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que otorga a su poseedor la participación en la propiedad de una sociedad anónim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Bon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Título de deuda, emitido por una empresa o por el gobierno, que promete a su poseedor el pago de una cantidad cierta de dinero, en un plazo determinado. Duración may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Efectos de Comer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Idéntico al bono, pero su duración es inferior a 1 añ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Fondo Mutu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Fondo formado por el aporte de muchas persona y cuyo destino es la inversión en acciones o instrumento de renta fij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693432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un efecto de comercio que paga al vencimiento $1.200.000. Se adquiere faltando 4 meses para su vencimiento, en $960.000. El cierre del ejercicio ocurre 3 meses después de efectuada la ope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93840" y="3365640"/>
            <a:ext cx="8584920" cy="32511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fec. de Comercio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24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=9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tereses No Devengados (CA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 Financiero (I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5105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be distinguir si el objetivo de la inversión es de corto o larg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Valor Negoci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Activo Circulante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acción se cotiza en bol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10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enos del 5% de los activos del inversionist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71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loración de Activ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general, la Contabilidad Financiera usa la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valoración al costo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Principio Contab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gunas veces se usa el valor de mercado (acciones en calidad de valores nego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 otras se usa el valor presente (activos en leasing o inversiones en 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394920" y="115560"/>
            <a:ext cx="70866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686800" cy="533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Empresa Relacionad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(“Otros Activos”) si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monto invertido representa má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interesa si la acción tiene o no cotización bursáti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inversión en acciones será 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versión en Otras Sociedad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“Otros Activos”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, representa menos del 10% del capital de la emisora y más del 5% de los activ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 bien, si no se cotiza en bolsa y representa menos del 10 % del capital de la Empresa Emiso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938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3 Inversión en Accion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98440" y="1676520"/>
            <a:ext cx="8699400" cy="3765960"/>
          </a:xfrm>
          <a:prstGeom prst="rect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290520" indent="-2905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¿Cómo se valoran contablemente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 Negociable: Mín. {Costo Adquisición.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mpresas Relacionadas: Valor Patrimonial Propor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90520" indent="-29052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ón en Otras Sociedade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se cotiza en bolsa: Mín. {Costo Adquisición; Valor de Mercado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952560" indent="-380880">
              <a:lnSpc>
                <a:spcPct val="100000"/>
              </a:lnSpc>
              <a:spcBef>
                <a:spcPts val="601"/>
              </a:spcBef>
              <a:buClr>
                <a:srgbClr val="86d1ec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no se cotiza en bolsa: Costo de Adquisi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826920" y="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jemplo de Valor Negocia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04920" y="762120"/>
            <a:ext cx="861048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n acciones de una S.A en $4.500.000. Al momento de preparar los estados financieros su valor de mercado era de $4.000.000. Posteriormente, se venden en $4.2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380880" y="2666880"/>
            <a:ext cx="8597880" cy="419112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compr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Deb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cierr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egresos fuera de la explotación (G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Times New Roman"/>
              </a:rPr>
              <a:t>Al momento de la venta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Provisión menor valor acciones (C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Valores negociables (A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4.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Otros ingresos fuera de la explot. (I)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Times New Roman"/>
              </a:rPr>
              <a:t>   2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693432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61048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dquiere en MM$600 el 20% de las acciones de una compañía, cuyo patrimonio contable es de MM$2.5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80880" y="2362320"/>
            <a:ext cx="8597880" cy="4190760"/>
          </a:xfrm>
          <a:prstGeom prst="rect">
            <a:avLst/>
          </a:prstGeom>
          <a:noFill/>
          <a:ln w="255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Registro de la compra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(VPP = 2.500 x 0,2 = 500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Debe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 u="sng">
                <a:solidFill>
                  <a:srgbClr val="ffffff"/>
                </a:solidFill>
                <a:uFillTx/>
                <a:latin typeface="Arial"/>
              </a:rPr>
              <a:t>Hab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Inversión en empresas relacionada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enor valor inversiones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Disponible (A)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60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La cuenta “Menor valor inversiones” se debe amortizar en un plaz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Máximo de 5 añ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recho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a exigir de un tercero un pago, o la entrega de bienes y servicios, por un cierto monto, a una fecha fu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Tienen</a:t>
            </a: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 su origen en la venta de bienes o prestación de servicios a crédito, o en la cesión de un bien del activo a un tercero bajo compromiso de pago a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 el balance general normalmente se presentan rebajadas por las estimaciones (provisiones) de deudores incobrables y por los intereses no deveng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152280" y="1676520"/>
            <a:ext cx="883944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Se clasifican en las siguientes partid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: Provenientes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por cobrar: Provenientes de las operaciones comerciales y documentadas a través de letras, pagares u ot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varios: Las que no provienen de las operaciones comerciale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ocumentos y cuentas por cobrar a empresas relacion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a largo plazo: Vencimiento superior a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304560" y="17524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Una empresa tiene cuentas por cobrar de $50.000. Por quiebra de un cliente no será posible recaudar $6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3200" spc="-1" strike="noStrike">
                <a:solidFill>
                  <a:srgbClr val="ffffff"/>
                </a:solidFill>
                <a:latin typeface="Arial"/>
              </a:rPr>
              <a:t>Cuentas por Cobra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69960" y="2743200"/>
            <a:ext cx="7940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Castigo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6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57200" y="4038480"/>
            <a:ext cx="84582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l momento de preparar los estados financieros, se estima que $2.000 podrían no recuperars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22240" y="5105520"/>
            <a:ext cx="794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Debe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Hab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ón incobrables (G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Provisiones (CA)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2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1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02T21:47:36Z</dcterms:created>
  <dc:creator>DPTO. INFORMATICA</dc:creator>
  <dc:description/>
  <dc:language>en-US</dc:language>
  <cp:lastModifiedBy>IVAN ALVAREZ VALDES</cp:lastModifiedBy>
  <cp:lastPrinted>1999-03-18T20:54:39Z</cp:lastPrinted>
  <dcterms:modified xsi:type="dcterms:W3CDTF">2006-04-01T03:56:21Z</dcterms:modified>
  <cp:revision>23</cp:revision>
  <dc:subject/>
  <dc:title>Primera Parte: Contabilidad Financiera</dc:title>
</cp:coreProperties>
</file>