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D18D-2F13-46D7-9A9E-39FACBFAE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6A56-0504-4126-AFEF-46EF215AB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0006-8648-43DE-9703-C43DAF94C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0B26-0D59-4F0C-B39A-93E6297D9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A652A-D978-43D7-B71C-038FEBC42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8DAFA-7F6C-45A5-8679-5E838903A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ABDCB-FDF2-428D-B426-0C14294C0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484C4-422B-422E-80A8-19B57B43A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D2718-17C6-47D0-93E0-27281C1E4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56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A1A2F-E2F3-45C1-8B88-C2E2BB143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59A08-D3AF-4461-93CE-67D6F90C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4463-54A9-414D-932B-3223EA8B4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F2994-AA52-4ACE-9E3D-D7FD1790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378F7-BD43-4995-A722-11EE6C10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CBB6F-0963-40CB-88DC-194F9FB7B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72FEC-EF16-43C5-A8DF-B6321B5EE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E8FF4-0619-4A65-A74E-9F1A4CDC8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4CD5-8B9D-4794-AC93-E031D87B6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9299-536E-4293-85B7-FB688462C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3B03-2A83-4246-B971-387DEF71C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56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4E71-82EB-4424-8219-05A0D98AA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24C4-D54B-4BA0-BF41-CF04E54C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FB76-F17F-45D0-AD66-D380D139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68D3-F287-4C48-B29F-1B1437EB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666699"/>
                </a:solidFill>
                <a:latin typeface="Arial"/>
              </a:rPr>
              <a:t>Click to edit the title text format</a:t>
            </a: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9A4D3-A001-4429-BE10-44EB5222E7A3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79280" y="333360"/>
            <a:ext cx="1098720" cy="10987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50920" y="1413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666699"/>
                </a:solidFill>
                <a:latin typeface="Arial Black"/>
              </a:rPr>
              <a:t>IN42A</a:t>
            </a:r>
            <a:endParaRPr b="0" lang="en-US" sz="18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195640" y="1557360"/>
            <a:ext cx="6553080" cy="0"/>
          </a:xfrm>
          <a:prstGeom prst="line">
            <a:avLst/>
          </a:prstGeom>
          <a:ln w="3816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6699"/>
                </a:solidFill>
                <a:latin typeface="AardvarkBold"/>
              </a:rPr>
              <a:t>Click to edit the title text format</a:t>
            </a:r>
            <a:endParaRPr b="1" i="1" lang="en-US" sz="4400" spc="-1" strike="noStrike">
              <a:solidFill>
                <a:srgbClr val="666699"/>
              </a:solidFill>
              <a:latin typeface="Aardvark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074CD-59DA-444F-9266-6FA074EF5480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1280" y="1413000"/>
            <a:ext cx="1692360" cy="1692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58560" y="1628280"/>
            <a:ext cx="698508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666699"/>
                </a:solidFill>
                <a:latin typeface="AardvarkBold"/>
              </a:rPr>
              <a:t>IN42A</a:t>
            </a:r>
            <a:br>
              <a:rPr sz="4000"/>
            </a:br>
            <a:r>
              <a:rPr b="1" i="1" lang="es-ES_tradnl" sz="3600" spc="-1" strike="noStrike">
                <a:solidFill>
                  <a:srgbClr val="666699"/>
                </a:solidFill>
                <a:latin typeface="AardvarkBold"/>
              </a:rPr>
              <a:t>Evaluación de Proyectos</a:t>
            </a:r>
            <a:endParaRPr b="1" i="1" lang="en-US" sz="3600" spc="-1" strike="noStrike">
              <a:solidFill>
                <a:srgbClr val="666699"/>
              </a:solidFill>
              <a:latin typeface="AardvarkBol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533160" y="1980720"/>
            <a:ext cx="830556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reparación y Evaluación de Proyectos.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3a. ed.,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Sapag Nassir y Reinaldo Sapag. Capítulo 1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Bibliografía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3059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_tradnl" sz="2500" spc="-1" strike="noStrike">
                <a:solidFill>
                  <a:srgbClr val="000000"/>
                </a:solidFill>
                <a:latin typeface="Arial"/>
              </a:rPr>
              <a:t>Un proyecto no es más ni menos que la búsqueda de una solución inteligente al planteamiento de un problema que tiende a resolver, entre tantas, una necesidad humana”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(Preparación y Evaluación de proyectos, Sapag y Sapag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Proyecto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3059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17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_tradnl" sz="2600" spc="-1" strike="noStrike">
                <a:solidFill>
                  <a:srgbClr val="0000ff"/>
                </a:solidFill>
                <a:latin typeface="Arial"/>
              </a:rPr>
              <a:t>Es una idea de asignación de recursos que sigue un objetivo y que genera beneficios y costos, cualitativos y cuantitativos, tanto al realizador del proyecto como a terceros.</a:t>
            </a:r>
            <a:r>
              <a:rPr b="0" i="1" lang="es-ES_tradnl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emplazo de una tecnología obsol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lantación y tala de un bosque de pi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nzar un nuevo produ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joramiento de una carrete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Proyecto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24000" y="609480"/>
            <a:ext cx="8591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l proyecto como un proceso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5334120"/>
            <a:ext cx="1752840" cy="718920"/>
          </a:xfrm>
          <a:prstGeom prst="flowChartAlternateProcess">
            <a:avLst/>
          </a:prstGeom>
          <a:noFill/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66"/>
                </a:solidFill>
                <a:latin typeface="Tahoma"/>
              </a:rPr>
              <a:t>Operación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95480" y="5410080"/>
            <a:ext cx="581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66"/>
                </a:solidFill>
                <a:latin typeface="Tahoma"/>
              </a:rPr>
              <a:t>Se pone en marcha el proyecto y se concretan los beneficios netos que fueron estimados previamente.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2971800"/>
            <a:ext cx="1881000" cy="719280"/>
          </a:xfrm>
          <a:prstGeom prst="flowChartAlternateProcess">
            <a:avLst/>
          </a:prstGeom>
          <a:solidFill>
            <a:srgbClr val="ffcc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Preinversión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666880"/>
            <a:ext cx="58687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Tahoma"/>
              </a:rPr>
              <a:t>Se prepara y evalúa el proyecto de manera de obtener de él, el máximo excedente económico  a lo largo de su vida útil, realizando para esto estudios de mercado, técnicos, económicos, financieros y otros.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71600" y="3657600"/>
            <a:ext cx="573120" cy="609480"/>
          </a:xfrm>
          <a:prstGeom prst="downArrow">
            <a:avLst>
              <a:gd name="adj1" fmla="val 50000"/>
              <a:gd name="adj2" fmla="val 26586"/>
            </a:avLst>
          </a:prstGeom>
          <a:solidFill>
            <a:srgbClr val="a50021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4191120"/>
            <a:ext cx="1752480" cy="718920"/>
          </a:xfrm>
          <a:prstGeom prst="flowChartAlternateProcess">
            <a:avLst/>
          </a:prstGeom>
          <a:noFill/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66"/>
                </a:solidFill>
                <a:latin typeface="Tahoma"/>
              </a:rPr>
              <a:t>Inversión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267080"/>
            <a:ext cx="5867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66"/>
                </a:solidFill>
                <a:latin typeface="Tahoma"/>
              </a:rPr>
              <a:t>Se diseña y se materializa físicamente la inversión requerida por el proyecto de acuerdo a lo especificado en la etapa anterior.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71600" y="4800600"/>
            <a:ext cx="533520" cy="609480"/>
          </a:xfrm>
          <a:prstGeom prst="downArrow">
            <a:avLst>
              <a:gd name="adj1" fmla="val 50000"/>
              <a:gd name="adj2" fmla="val 28559"/>
            </a:avLst>
          </a:prstGeom>
          <a:solidFill>
            <a:srgbClr val="a50021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2438280"/>
            <a:ext cx="573120" cy="609840"/>
          </a:xfrm>
          <a:prstGeom prst="downArrow">
            <a:avLst>
              <a:gd name="adj1" fmla="val 50000"/>
              <a:gd name="adj2" fmla="val 26602"/>
            </a:avLst>
          </a:prstGeom>
          <a:solidFill>
            <a:srgbClr val="a50021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1752480"/>
            <a:ext cx="1752840" cy="719280"/>
          </a:xfrm>
          <a:prstGeom prst="flowChartAlternateProcess">
            <a:avLst/>
          </a:prstGeom>
          <a:noFill/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66"/>
                </a:solidFill>
                <a:latin typeface="Tahoma"/>
              </a:rPr>
              <a:t>Idea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95480" y="1676520"/>
            <a:ext cx="586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66"/>
                </a:solidFill>
                <a:latin typeface="Tahoma"/>
              </a:rPr>
              <a:t>Identificar problemas que puedan resolverse y oportunidades de negocio que puedan aprovecharse.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143000" y="5335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3880" y="609480"/>
            <a:ext cx="72392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Ciclo de Vida de un Proyecto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1828800"/>
            <a:ext cx="1752480" cy="719280"/>
          </a:xfrm>
          <a:prstGeom prst="flowChartAlternateProcess">
            <a:avLst/>
          </a:prstGeom>
          <a:noFill/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Tahoma"/>
              </a:rPr>
              <a:t>Idea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0" y="2819520"/>
            <a:ext cx="1752480" cy="718920"/>
          </a:xfrm>
          <a:prstGeom prst="flowChartAlternateProcess">
            <a:avLst/>
          </a:prstGeom>
          <a:noFill/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Tahoma"/>
              </a:rPr>
              <a:t>Perfil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3809880"/>
            <a:ext cx="1752480" cy="719280"/>
          </a:xfrm>
          <a:prstGeom prst="flowChartAlternateProcess">
            <a:avLst/>
          </a:prstGeom>
          <a:noFill/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Tahoma"/>
              </a:rPr>
              <a:t>Prefactibilidad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19720" y="4724280"/>
            <a:ext cx="1752480" cy="719280"/>
          </a:xfrm>
          <a:prstGeom prst="flowChartAlternateProcess">
            <a:avLst/>
          </a:prstGeom>
          <a:noFill/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Tahoma"/>
              </a:rPr>
              <a:t>Factibilidad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4120" y="5715000"/>
            <a:ext cx="1752480" cy="719280"/>
          </a:xfrm>
          <a:prstGeom prst="flowChartAlternateProcess">
            <a:avLst/>
          </a:prstGeom>
          <a:noFill/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Tahoma"/>
              </a:rPr>
              <a:t>Diseño y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336666"/>
                </a:solidFill>
                <a:latin typeface="Tahoma"/>
              </a:rPr>
              <a:t>ejecución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14600" y="251460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541008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449568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429000" y="3505320"/>
            <a:ext cx="30492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934320" y="594360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000000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47920" y="5562720"/>
            <a:ext cx="7391160" cy="0"/>
          </a:xfrm>
          <a:prstGeom prst="line">
            <a:avLst/>
          </a:prstGeom>
          <a:ln w="381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48520" y="21337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b2b2b2"/>
                </a:solidFill>
                <a:latin typeface="Arial Narrow"/>
              </a:rPr>
              <a:t>Plano de las ideas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47920" y="56386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b2b2b2"/>
                </a:solidFill>
                <a:latin typeface="Arial Narrow"/>
              </a:rPr>
              <a:t>Plano de las acciones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24480" y="2895480"/>
            <a:ext cx="381240" cy="2438640"/>
          </a:xfrm>
          <a:custGeom>
            <a:avLst/>
            <a:gdLst>
              <a:gd name="textAreaLeft" fmla="*/ 0 w 381240"/>
              <a:gd name="textAreaRight" fmla="*/ 137520 w 38124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391520" y="5734080"/>
            <a:ext cx="1523880" cy="719280"/>
          </a:xfrm>
          <a:prstGeom prst="flowChartAlternateProcess">
            <a:avLst/>
          </a:prstGeom>
          <a:noFill/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Tahoma"/>
              </a:rPr>
              <a:t>Operación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629400" y="3886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Arial Narrow"/>
              </a:rPr>
              <a:t>Preinversión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81280" y="58672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Arial Narrow"/>
              </a:rPr>
              <a:t>Inversión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52880" y="5638680"/>
            <a:ext cx="76320" cy="76212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5400000">
            <a:off x="7962480" y="5143680"/>
            <a:ext cx="304920" cy="990360"/>
          </a:xfrm>
          <a:custGeom>
            <a:avLst/>
            <a:gdLst>
              <a:gd name="textAreaLeft" fmla="*/ 194760 w 304920"/>
              <a:gd name="textAreaRight" fmla="*/ 305280 w 30492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411"/>
                </a:lnTo>
                <a:cubicBezTo>
                  <a:pt x="10800" y="9311"/>
                  <a:pt x="5400" y="10211"/>
                  <a:pt x="0" y="10211"/>
                </a:cubicBezTo>
                <a:cubicBezTo>
                  <a:pt x="5400" y="10211"/>
                  <a:pt x="10800" y="11111"/>
                  <a:pt x="10800" y="1201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15200" y="5105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Arial Narrow"/>
              </a:rPr>
              <a:t>Operación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71800" y="1676520"/>
            <a:ext cx="380880" cy="990360"/>
          </a:xfrm>
          <a:custGeom>
            <a:avLst/>
            <a:gdLst>
              <a:gd name="textAreaLeft" fmla="*/ 0 w 380880"/>
              <a:gd name="textAreaRight" fmla="*/ 137520 w 38088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29000" y="1905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Arial Narrow"/>
              </a:rPr>
              <a:t>Idea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95280" y="177300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lnSpc>
                <a:spcPct val="8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Cada una de ellas busca reproducir el ciclo de vida del proyecto, de manera que a medida que se avanza en las etapas, los estudios van tomando mayor profundidad y se va reduciendo la incertidumbre, respecto a los beneficios netos esperados del mism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La secuencia iterativa tiene por justificación evitar los elevados costos de los estudios y poder desechar en las primeras etapas los proyectos que no son adecuad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Cada etapa se presenta en la forma de un informe, cuyo objetivo fundamental es presentar los elementos que intervienen orientados claramente a la toma de decisiones de abandonar o proseguir la ide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380880"/>
            <a:ext cx="760104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Ciclo de Vida de un Proyecto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1657440" y="514440"/>
            <a:ext cx="0" cy="287640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3333600"/>
            <a:ext cx="6381720" cy="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1638360" y="2666880"/>
            <a:ext cx="3047040" cy="160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3124080" y="1771560"/>
            <a:ext cx="3047760" cy="160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4743360" y="914400"/>
            <a:ext cx="3047760" cy="160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6400800" y="57240"/>
            <a:ext cx="3047040" cy="159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304920"/>
            <a:ext cx="15811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ahoma"/>
              </a:rPr>
              <a:t>Costos/ tiempo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981920" y="3581280"/>
            <a:ext cx="933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ahoma"/>
              </a:rPr>
              <a:t>Tiempo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695600" y="3733560"/>
            <a:ext cx="0" cy="260964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714680" y="6362640"/>
            <a:ext cx="6553080" cy="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" y="3429000"/>
            <a:ext cx="201924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ahoma"/>
              </a:rPr>
              <a:t>Grado de Incertidumbre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05000" y="1162080"/>
            <a:ext cx="0" cy="56959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1047600"/>
            <a:ext cx="38160" cy="58104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305400" y="762120"/>
            <a:ext cx="0" cy="609588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62000" y="2266920"/>
            <a:ext cx="1009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ahoma"/>
              </a:rPr>
              <a:t>Idea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333600" y="1486080"/>
            <a:ext cx="99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ahoma"/>
              </a:rPr>
              <a:t>Perfil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81520" y="628560"/>
            <a:ext cx="135252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ahoma"/>
              </a:rPr>
              <a:t>Prefactibilidad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38920" y="781200"/>
            <a:ext cx="1790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ahoma"/>
              </a:rPr>
              <a:t>Factibilidad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76520" y="4133880"/>
            <a:ext cx="6781680" cy="0"/>
          </a:xfrm>
          <a:prstGeom prst="line">
            <a:avLst/>
          </a:prstGeom>
          <a:ln w="9360">
            <a:solidFill>
              <a:srgbClr val="3366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71640" y="4057560"/>
            <a:ext cx="66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imes New Roman"/>
              </a:rPr>
              <a:t>100%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28880" y="4971960"/>
            <a:ext cx="590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imes New Roman"/>
              </a:rPr>
              <a:t>50%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04840" y="6058080"/>
            <a:ext cx="5907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imes New Roman"/>
              </a:rPr>
              <a:t>0%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5640" y="4133880"/>
            <a:ext cx="281808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714680" y="4686480"/>
            <a:ext cx="281880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8480" y="5295960"/>
            <a:ext cx="3237840" cy="110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495680" y="5867280"/>
            <a:ext cx="3619440" cy="26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277040" y="5581800"/>
            <a:ext cx="1638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ahoma"/>
              </a:rPr>
              <a:t>Umbral de lo previsible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077320" y="6324480"/>
            <a:ext cx="933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ahoma"/>
              </a:rPr>
              <a:t>Tiempo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2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borda en forma explícita el problema de la asignación de recursos escasos en forma ópti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2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comienda al tomador de decisiones, a través de distintas metodologías, para determinar la conveniencia relativa de una acción o un proyecto, pero no es la única alternativa a consider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2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dentifica, mide y valoriza, cuantitativa y cualitativamente, los beneficios y costos para la(s) persona(s) o instituciones releva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838080"/>
            <a:ext cx="762012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valuación de Proyectos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23640" y="1699920"/>
            <a:ext cx="80010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Proceso iterativo, etapas de idea y preinvers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752480" y="2637000"/>
            <a:ext cx="5802480" cy="2542320"/>
            <a:chOff x="1752480" y="2637000"/>
            <a:chExt cx="5802480" cy="2542320"/>
          </a:xfrm>
        </p:grpSpPr>
        <p:grpSp>
          <p:nvGrpSpPr>
            <p:cNvPr id="180" name=""/>
            <p:cNvGrpSpPr/>
            <p:nvPr/>
          </p:nvGrpSpPr>
          <p:grpSpPr>
            <a:xfrm>
              <a:off x="1763640" y="2637000"/>
              <a:ext cx="5791320" cy="685080"/>
              <a:chOff x="1763640" y="2637000"/>
              <a:chExt cx="5791320" cy="685080"/>
            </a:xfrm>
          </p:grpSpPr>
          <p:sp>
            <p:nvSpPr>
              <p:cNvPr id="181" name=""/>
              <p:cNvSpPr/>
              <p:nvPr/>
            </p:nvSpPr>
            <p:spPr>
              <a:xfrm>
                <a:off x="1763640" y="2637000"/>
                <a:ext cx="5791320" cy="456840"/>
              </a:xfrm>
              <a:prstGeom prst="flowChartAlternateProcess">
                <a:avLst/>
              </a:prstGeom>
              <a:noFill/>
              <a:ln w="12600">
                <a:solidFill>
                  <a:srgbClr val="33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336666"/>
                    </a:solidFill>
                    <a:latin typeface="Tahoma"/>
                  </a:rPr>
                  <a:t>Generación y Análisis de la idea del proyecto</a:t>
                </a:r>
                <a:endParaRPr b="0" lang="en-US" sz="2000" spc="-1" strike="noStrike">
                  <a:solidFill>
                    <a:srgbClr val="3366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354560" y="3093840"/>
                <a:ext cx="380880" cy="22824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a50021"/>
              </a:solidFill>
              <a:ln w="12600">
                <a:solidFill>
                  <a:srgbClr val="33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66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1752480" y="3351240"/>
              <a:ext cx="5791320" cy="1828080"/>
              <a:chOff x="1752480" y="3351240"/>
              <a:chExt cx="5791320" cy="1828080"/>
            </a:xfrm>
          </p:grpSpPr>
          <p:grpSp>
            <p:nvGrpSpPr>
              <p:cNvPr id="184" name=""/>
              <p:cNvGrpSpPr/>
              <p:nvPr/>
            </p:nvGrpSpPr>
            <p:grpSpPr>
              <a:xfrm>
                <a:off x="1752480" y="3351240"/>
                <a:ext cx="5791320" cy="685080"/>
                <a:chOff x="1752480" y="3351240"/>
                <a:chExt cx="5791320" cy="68508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1752480" y="3351240"/>
                  <a:ext cx="5791320" cy="456840"/>
                </a:xfrm>
                <a:prstGeom prst="flowChartAlternateProcess">
                  <a:avLst/>
                </a:prstGeom>
                <a:noFill/>
                <a:ln w="12600">
                  <a:solidFill>
                    <a:srgbClr val="33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2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336666"/>
                      </a:solidFill>
                      <a:latin typeface="Tahoma"/>
                    </a:rPr>
                    <a:t>Estudio en el Nivel de Perfil</a:t>
                  </a:r>
                  <a:endParaRPr b="0" lang="en-US" sz="2000" spc="-1" strike="noStrike">
                    <a:solidFill>
                      <a:srgbClr val="336666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343400" y="3808080"/>
                  <a:ext cx="380880" cy="22824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a50021"/>
                </a:solidFill>
                <a:ln w="12600">
                  <a:solidFill>
                    <a:srgbClr val="33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66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7" name=""/>
              <p:cNvSpPr/>
              <p:nvPr/>
            </p:nvSpPr>
            <p:spPr>
              <a:xfrm>
                <a:off x="1752480" y="4722480"/>
                <a:ext cx="5791320" cy="456840"/>
              </a:xfrm>
              <a:prstGeom prst="flowChartAlternateProcess">
                <a:avLst/>
              </a:prstGeom>
              <a:noFill/>
              <a:ln w="12600">
                <a:solidFill>
                  <a:srgbClr val="33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336666"/>
                    </a:solidFill>
                    <a:latin typeface="Tahoma"/>
                  </a:rPr>
                  <a:t>Estudio de Factibilidad</a:t>
                </a:r>
                <a:endParaRPr b="0" lang="en-US" sz="2000" spc="-1" strike="noStrike">
                  <a:solidFill>
                    <a:srgbClr val="336666"/>
                  </a:solidFill>
                  <a:latin typeface="Times New Roman"/>
                </a:endParaRPr>
              </a:p>
            </p:txBody>
          </p:sp>
          <p:grpSp>
            <p:nvGrpSpPr>
              <p:cNvPr id="188" name=""/>
              <p:cNvGrpSpPr/>
              <p:nvPr/>
            </p:nvGrpSpPr>
            <p:grpSpPr>
              <a:xfrm>
                <a:off x="1752480" y="4036680"/>
                <a:ext cx="5791320" cy="685080"/>
                <a:chOff x="1752480" y="4036680"/>
                <a:chExt cx="5791320" cy="68508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1752480" y="4036680"/>
                  <a:ext cx="5791320" cy="456840"/>
                </a:xfrm>
                <a:prstGeom prst="flowChartAlternateProcess">
                  <a:avLst/>
                </a:prstGeom>
                <a:noFill/>
                <a:ln w="12600">
                  <a:solidFill>
                    <a:srgbClr val="33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2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336666"/>
                      </a:solidFill>
                      <a:latin typeface="Tahoma"/>
                    </a:rPr>
                    <a:t>Estudio de Prefactibilidad</a:t>
                  </a:r>
                  <a:endParaRPr b="0" lang="en-US" sz="2000" spc="-1" strike="noStrike">
                    <a:solidFill>
                      <a:srgbClr val="336666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343400" y="4493520"/>
                  <a:ext cx="380880" cy="22824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a50021"/>
                </a:solidFill>
                <a:ln w="12600">
                  <a:solidFill>
                    <a:srgbClr val="33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6666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91" name=""/>
          <p:cNvSpPr/>
          <p:nvPr/>
        </p:nvSpPr>
        <p:spPr>
          <a:xfrm>
            <a:off x="914400" y="974880"/>
            <a:ext cx="762012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tapas de la Evaluación de Proyectos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rot="10516200">
            <a:off x="826200" y="2852640"/>
            <a:ext cx="505080" cy="2160720"/>
          </a:xfrm>
          <a:custGeom>
            <a:avLst/>
            <a:gdLst>
              <a:gd name="textAreaLeft" fmla="*/ 67680 w 505080"/>
              <a:gd name="textAreaRight" fmla="*/ 437400 w 505080"/>
              <a:gd name="textAreaTop" fmla="*/ 378000 h 2160720"/>
              <a:gd name="textAreaBottom" fmla="*/ 156672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533520" y="19047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501480" indent="-501480">
              <a:lnSpc>
                <a:spcPct val="90000"/>
              </a:lnSpc>
              <a:spcAft>
                <a:spcPts val="524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Es fundamental contar con un buen diagnóstic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90000"/>
              </a:lnSpc>
              <a:spcAft>
                <a:spcPts val="524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La idea debe surgir de necesidades insatisfechas, de objetivos y/o políticas generales de la organización, de un plan de desarrollo, etc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90000"/>
              </a:lnSpc>
              <a:spcAft>
                <a:spcPts val="524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Se debe establecer su magnitud, a quienes afecta y la confiabilidad de la información utilizada. Así como también las alternativas disponibl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90000"/>
              </a:lnSpc>
              <a:spcAft>
                <a:spcPts val="524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Del análisis surgirá la especificación precisa del bien que se desea construir o el servicio que se pretende dar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90000"/>
              </a:lnSpc>
              <a:spcAft>
                <a:spcPts val="524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doptar la decisión de abandonar, postergar o profundizar la idea de proyect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19320" y="0"/>
            <a:ext cx="76006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Generación y Análisis de la Idea de Proyecto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94920" y="1844280"/>
            <a:ext cx="8497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Al finalizar el curso los alumnos serán capaces de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000000"/>
                </a:solidFill>
                <a:latin typeface="Arial"/>
              </a:rPr>
              <a:t>Estimar beneficios y costos relevantes en un proyecto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000000"/>
                </a:solidFill>
                <a:latin typeface="Arial"/>
              </a:rPr>
              <a:t>Formular, preparar y evaluar proyectos de inversión y nuevos negocios en el marco de una economía de mercado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000000"/>
                </a:solidFill>
                <a:latin typeface="Arial"/>
              </a:rPr>
              <a:t>Elaborar recomendaciones fundadas sobre los proyectos que evalúen, apoyando la toma de decisiones de inversió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Objetivo General del Curso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914400" y="533520"/>
            <a:ext cx="760104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studio en el Nivel de Perfil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533520" y="1752480"/>
            <a:ext cx="8262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 buscan los antecedentes que permiten establecer un juicio respecto de la conveniencia y factibilidad técnico-económica de la 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idea de proyect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 debe identificar los beneficios y costos pertinentes respecto de la situación base (situación actual optimizada), sin incurrir en mayores costos para medirlos y valorarl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be incluir un 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análisis prelimina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de los aspectos técnicos, estudios de mercado y los de evalu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 utilizan estimaciones gruesas de los beneficios y costos, generalmente basadas en información existente, juicio común y experie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66699"/>
                </a:solidFill>
                <a:latin typeface="Arial"/>
              </a:rPr>
              <a:t>Se decide abandonar, postergar o profundizar el proy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289080">
              <a:spcAft>
                <a:spcPts val="524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Se examinan con mayor detalle las alternativas viables desde el punto de vista técnico y económico que fueron determinadas en la etapa anterior, y se descartan las menos atractiva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spcAft>
                <a:spcPts val="524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El énfasis de esta etapa es medir los beneficios y costos identificados en la etapa de perfi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spcAft>
                <a:spcPts val="524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Se basa en información de fuentes secundaria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spcAft>
                <a:spcPts val="524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Por lo anterior, conviene sensibilizar los resultados de la evaluación a cambios en las variables más important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spcAft>
                <a:spcPts val="524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666699"/>
                </a:solidFill>
                <a:latin typeface="Arial"/>
              </a:rPr>
              <a:t>Se decide realizar el proyecto, postergar o profundizar la evaluació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14400" y="304920"/>
            <a:ext cx="7601040" cy="10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studio de Prefactibilidad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28600" y="17521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289080" algn="just">
              <a:lnSpc>
                <a:spcPct val="8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Se analizan en detalle los siguientes aspecto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estudio de mercad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s la base para estimar los ingresos, e incluirá un estudio de la oferta y demanda, así como de los precios de comercial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análisis tecnológic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incluye equipos, materias primas y procesos, que permiten determinar los costos del proyec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tamaño y localizació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l proyecto debe considerar el tamaño de planta, la identificación y localización de los centros de abastecimiento de insumos, canales de distribución y consumo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análisis de los aspectos administrativo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permite determinar algunas componentes de costo fijo y la organización de los recursos humanos, físicos y financie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análisis de los aspectos legale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permite conocer las restricciones de ese tipo que limitan al proyecto (tributación, permisos, contaminación ambiental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0" algn="just">
              <a:lnSpc>
                <a:spcPct val="75000"/>
              </a:lnSpc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92400" y="330120"/>
            <a:ext cx="760068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studio de Prefactibilidad 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304560" y="1676160"/>
            <a:ext cx="845820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enfoca a un análisis detallado y preciso de la alternativa que se ha considerado más viable en la etapa anteri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énfasis está en medir y valorar en la forma más precisa posible sus beneficios y cos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ada la cantidad de recursos destinados a esta etapa, sólo llegarán a ella los proyectos para los que no hay duda de su rentabilidad positiva, es decir, que se van a llevar a cab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r ello, toma más importancia los flujos financieros y la programación de ob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a vez definido y caracterizado el proyecto, debe ser optimizado en tamaño, localización, momento óptimo de la inversión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003320" y="304920"/>
            <a:ext cx="760104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studio de Factibilidad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304920" y="1712520"/>
            <a:ext cx="8534160" cy="49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 algn="just">
              <a:lnSpc>
                <a:spcPct val="80000"/>
              </a:lnSpc>
              <a:spcAft>
                <a:spcPts val="1312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Se debe coordinar la organización, puesta en marcha y operación del proyecto. Determinar el calendario de desembolsos para la inversión, disponibilidad de equipos y sus plazos, anteproyecto de ingeniería, selección y entrenamiento del personal de administración, operación y mantenimient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 algn="just">
              <a:lnSpc>
                <a:spcPct val="80000"/>
              </a:lnSpc>
              <a:spcAft>
                <a:spcPts val="1312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Fuentes, condiciones y plazos de financiamient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 algn="just">
              <a:lnSpc>
                <a:spcPct val="80000"/>
              </a:lnSpc>
              <a:spcAft>
                <a:spcPts val="1312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Esta etapa es la conclusión del proceso de aproximaciones sucesivas en la formulación y preparación de un proyecto y constituye la base de la decisión respecto a su ejecució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 algn="just">
              <a:lnSpc>
                <a:spcPct val="80000"/>
              </a:lnSpc>
              <a:spcAft>
                <a:spcPts val="1312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La evaluación no sólo es útil para la persona(s)/organización que es dueña del proyecto, sino que también a quienes la financian o a las autoridades pertinent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 algn="just">
              <a:lnSpc>
                <a:spcPct val="80000"/>
              </a:lnSpc>
              <a:spcAft>
                <a:spcPts val="13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074600" y="304920"/>
            <a:ext cx="760104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studio de Factibilidad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116000" y="404640"/>
            <a:ext cx="76010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Tipos de Evaluación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762120" y="1828800"/>
            <a:ext cx="7958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 u="sng">
                <a:solidFill>
                  <a:srgbClr val="000000"/>
                </a:solidFill>
                <a:uFillTx/>
                <a:latin typeface="Arial"/>
              </a:rPr>
              <a:t>1. Según para quien se evalú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Los proyectos afectan de diferente manera a los agentes involucrados, quienes tienen, por lo general, diferentes objetivos e intereses. Por ejemplo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Proyecto de vertedero para las comunas del centro-sur de Santiago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version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unicipal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ecinos de municipal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ecinos del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í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838080" y="1828800"/>
            <a:ext cx="7958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100" spc="-1" strike="noStrike">
                <a:solidFill>
                  <a:srgbClr val="000000"/>
                </a:solidFill>
                <a:latin typeface="Arial"/>
              </a:rPr>
              <a:t>Evaluación Privada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: se realiza desde la perspectiva de un agente económico privado o individual (persona, empresa, grupo, etc.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edir la rentabilidad del proyecto, con independencia de quien provee los fon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edir la rentabilidad de los recursos propios invertidos (dueño del proyec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edir la capacidad del proyecto para enfrentar compromisos de pago de las deudas (bancos, acreedo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100" spc="-1" strike="noStrike">
                <a:solidFill>
                  <a:srgbClr val="000000"/>
                </a:solidFill>
                <a:latin typeface="Arial"/>
              </a:rPr>
              <a:t>Evaluación Social: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se realiza desde la perspectiva del conjunto del país (sociedad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16000" y="404640"/>
            <a:ext cx="76010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Tipos de Evaluación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 u="sng">
                <a:solidFill>
                  <a:srgbClr val="000000"/>
                </a:solidFill>
                <a:uFillTx/>
                <a:latin typeface="Arial"/>
              </a:rPr>
              <a:t>2. Según el momento en que se realic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100" spc="-1" strike="noStrike">
                <a:solidFill>
                  <a:srgbClr val="000000"/>
                </a:solidFill>
                <a:latin typeface="Arial"/>
              </a:rPr>
              <a:t>Ex Ante: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 se realiza en el período de preinversión, entrega una recomendación sobre la conveniencia de realizar el proyect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100" spc="-1" strike="noStrike">
                <a:solidFill>
                  <a:srgbClr val="000000"/>
                </a:solidFill>
                <a:latin typeface="Arial"/>
              </a:rPr>
              <a:t>Ex Post: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 se realiza una vez ejecutado el proyecto, sirve para estimar los verdaderos beneficios del proyecto, encontrar las fuentes de error y generar aprendizaj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116000" y="404640"/>
            <a:ext cx="76010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Tipos de Evaluación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 u="sng">
                <a:solidFill>
                  <a:srgbClr val="000000"/>
                </a:solidFill>
                <a:uFillTx/>
                <a:latin typeface="Arial"/>
              </a:rPr>
              <a:t>3. Según la finalidad de la inversión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Proyectos que buscan crear nuevos negocios o empresa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Proyectos que buscan evaluar un cambio, mejora o modernización en una empresa existent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6000" y="404640"/>
            <a:ext cx="76010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Tipos de Evaluación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6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 u="sng">
                <a:solidFill>
                  <a:srgbClr val="000000"/>
                </a:solidFill>
                <a:uFillTx/>
                <a:latin typeface="Arial"/>
              </a:rPr>
              <a:t>4. Según la forma de evaluar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6480" indent="-280080"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Tradicional o monocriterio: un solo objetivo, generalmente riqueza. Requiere que cada beneficio y costo sea identificado, medido y valorad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6480" indent="-280080"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Multicriterio: tiene más de un objetivo, riqueza, distribución del ingreso, salud de los habitantes….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EJM: ¿cuánto vale el beneficio por menor pérdida de vidas humanas asociado a poner un semáforo en un cruce peligroso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- Valor de la Vida Humana?, infinito?, algunos valen más que otros?..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- semáforo: 5 millon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Multicriterio: accidentes disminuyen de 15 por año a 2 por año: 5 millones/13 vidas humana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No sirve para ver conveniencia, sino para comparar alternativa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16000" y="404640"/>
            <a:ext cx="76010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Tipos de Evaluación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09480" y="1847880"/>
            <a:ext cx="830592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Formulación de Proyecto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Matemáticas Financier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laboración del Flujo de Caja Priva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Indicadores de Evaluación de Proyec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Optimización de Proyec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valuación de Proyectos bajo Incertidumb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valuación Social de Proyec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Contenidos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834920" y="475920"/>
            <a:ext cx="701028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400" spc="-1" strike="noStrike">
                <a:solidFill>
                  <a:srgbClr val="666699"/>
                </a:solidFill>
                <a:latin typeface="Arial"/>
              </a:rPr>
              <a:t>Dos etapas en la Evaluación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7947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ualquiera sea la profundidad con que se evalúe un proyecto, se distinguen dos etapa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 u="sng">
                <a:solidFill>
                  <a:srgbClr val="000000"/>
                </a:solidFill>
                <a:uFillTx/>
                <a:latin typeface="Arial"/>
              </a:rPr>
              <a:t>Formulación y preparación: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Identificar los beneficios y costos del proyecto y calcular su magnitu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copilar (crear) información (estudios de mercado, técnico,  legal, organizacion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strucción del flujo de ca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 u="sng">
                <a:solidFill>
                  <a:srgbClr val="000000"/>
                </a:solidFill>
                <a:uFillTx/>
                <a:latin typeface="Arial"/>
              </a:rPr>
              <a:t>Evaluación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: a partir del flujo de caja, medir la rentabilidad de la inversión en el proyec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85800" y="228600"/>
            <a:ext cx="760104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jemplo: Presentación de un proyecto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Resumen Ejecutiv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Diagnóst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Metodología de Evalu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Análisis de prefactibil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Evaluación económ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Resumen y conclus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Anex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304560" y="18284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a) Antecedentes general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Ámbito o sector productivo del proy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bicación de la zona geográfica del estudio y sus características (culturales, económicas, políticas, etc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dentificación de segmentos producto -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racterísticas generales de los gestores del proyecto (aspectos organizacionales, marco legal, cultura organizativa, etc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tras informaciones  relevantes 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68440" indent="-228600">
              <a:buClr>
                <a:srgbClr val="cc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trevistas con expertos en el t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68440" indent="-228600">
              <a:buClr>
                <a:srgbClr val="cc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copilación bibliográf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04920" y="380880"/>
            <a:ext cx="8839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Formulación y Preparación de Proyectos(1/6)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304560" y="19047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Estudio de Mercado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Oferta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specificación de los productos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ofertados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Oferta histórica y sus factores de incide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olíticas y métodos de tarificación y prec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Oferta actual y proyec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ocalización y concentración de la ofer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obertura geográf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Restricciones de disponibilidad de recurs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4920" y="380880"/>
            <a:ext cx="8839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Formulación y Preparación de Proyectos(2/6)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304560" y="19047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>
              <a:lnSpc>
                <a:spcPct val="9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Deman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lnSpc>
                <a:spcPct val="90000"/>
              </a:lnSpc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manda histórica y factores de incide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lnSpc>
                <a:spcPct val="90000"/>
              </a:lnSpc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manda actual y proyec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lnSpc>
                <a:spcPct val="90000"/>
              </a:lnSpc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gmentación de la deman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lnSpc>
                <a:spcPct val="90000"/>
              </a:lnSpc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ocalización de la deman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lnSpc>
                <a:spcPct val="90000"/>
              </a:lnSpc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oncentración de la demanda (por áreas geográficas, por segmentos, por ingreso, etc.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lnSpc>
                <a:spcPct val="90000"/>
              </a:lnSpc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Tipo de consumo (residencial, comercial, industria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lnSpc>
                <a:spcPct val="9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Este punto debe ser desarrollado con una visión más global y sistemática utilizando un enfoque de planificación estratégica. Este permite abordar el proyecto desde una perspectiva estratégica en lugar de una perspectiva táctica - operativa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4920" y="380880"/>
            <a:ext cx="8839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Formulación y Preparación de Proyectos(3/6)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8052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c) Diagnóstic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Antecedentes generales + estudio de mercado  </a:t>
            </a:r>
            <a:r>
              <a:rPr b="0" lang="es-CL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definición de situación sin proyecto.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Ejemplos diagnóstico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: (1) 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Demanda insatisfecha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; (2) 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Mala calidad de los servici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d) Optimización de la situación actu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os beneficios netos de se obtienen comparando la situación con proyecto con la sin proyecto optimizada (situación base), evitando que se asignen al proyecto beneficios que no  corresponde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Ejemplo de optimizaciones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Rediseño de procesos y reingeniería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; (2) 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Mejoras en la gestión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; (3) 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Modificaciones que impliquen inversiones margina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04920" y="380880"/>
            <a:ext cx="8839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Formulación y Preparación de Proyectos(4/6)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304920" y="19051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Se debe considerar como parte de la situación base aquellos proyectos sustitutos y/o complementarios sobre los que se haya decidido su ejecución, y que se estime razonablemente que serán implementados (también se les debe considerar en la situación con proyecto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e)  Generación de alternativas 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as alternativas generadas deben 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ermitir solucionar y/o aprovechar las oportunidades identificadas en el diagnóstic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r técnicamente facti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r económicamente facti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r fundamentalmente distintas entre s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r comparables en términos de resultad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04920" y="380880"/>
            <a:ext cx="8839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Formulación y Preparación de Proyectos(5/6)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6840" y="2133720"/>
            <a:ext cx="83818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f) Selección (preselección) de alternativa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Se deberá analizar la conveniencia de las distintas alternativas comparándolas entre sí de acuerdo a criterios técnicos y económic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Para la alternativa seleccionada se debe analizar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Tamaño óptimo del proyec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ocalización ópti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Momento óptimo para realizar el proyec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rediseño (obras civiles, equipamiento, insum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880"/>
            <a:ext cx="8839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Formulación y Preparación de Proyectos(6/6)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152280" y="1752480"/>
            <a:ext cx="88394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a) Estimación de beneficios y cost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a estimación de beneficios y costos es un proceso de tres pasos sucesivos: Identificación / Medición / Valora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Depende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del agente que hace la estimación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riv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68440" indent="-228600">
              <a:buClr>
                <a:srgbClr val="cc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irectos, indirec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68440" indent="-228600">
              <a:buClr>
                <a:srgbClr val="cc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uantificables (valorables), no cuantific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oci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68440" indent="-228600">
              <a:buClr>
                <a:srgbClr val="cc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irectos, indirec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68440" indent="-228600">
              <a:buClr>
                <a:srgbClr val="cc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uantificables, no cuantificab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68440" indent="-228600">
              <a:buClr>
                <a:srgbClr val="cc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xternalida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380880"/>
            <a:ext cx="883908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valuación del Proyecto(1/3)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beneficios y costos 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cuantificables deben ser estimados según algún numerario común (normalmente $ de hoy), los no cuantificables deben ser identificados y medidos en las unidades que resulte pertinent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jemplo : beneficio no (o menos) cuantificable de un proyecto de semaforización : disminución de accident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b) Cálculo de indicador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Valor presente neto (VPN o VAN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Tasa interna de retorno (TIR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Período de recuperación del capital (PRC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Otr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4920" y="380880"/>
            <a:ext cx="883908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valuación del Proyecto(2/3)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830592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Arial"/>
              </a:rPr>
              <a:t>Docentes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 clases de cátedra semanales (asistencia y participa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se realizarán clases auxiliares; las aplicaciones se verán durante las clases de cáted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horario de clase auxiliar se realizarán los contro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Arial"/>
              </a:rPr>
              <a:t>Trabajo Persona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cturas y estudio clase a cl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ar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Actividades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c) Financiamient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Análisis de las distintas alternativas, se deberá analizar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orcentajes de capital propio vs. Deud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olicitud de préstam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misión de bon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misión de ac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380880"/>
            <a:ext cx="883908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valuación del Proyecto(3/3)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830592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Aft>
                <a:spcPts val="1301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ota Control (40%): 2 controles y un exame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Aft>
                <a:spcPts val="1301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ota Tareas (30%): 3 tareas durante el semestr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Aft>
                <a:spcPts val="1301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ota Controles de Lectura (30%): se realizarán 8 controles de lectura cortos y se elimina una no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IMPORTANTE: CADA NOTA DEBE SER MAYOR O AL MENOS IGUAL A 4.0 PARA APROBA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valuación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830592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Aft>
                <a:spcPts val="2251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Nota Control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Tahoma"/>
              </a:rPr>
              <a:t>≥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5,5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Aft>
                <a:spcPts val="2251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Nota Tareas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Tahoma"/>
              </a:rPr>
              <a:t>≥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5,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Aft>
                <a:spcPts val="2251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Nota Controles de Lectura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Tahoma"/>
              </a:rPr>
              <a:t>≥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5,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ximición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55560" y="1626840"/>
            <a:ext cx="577044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666699"/>
                </a:solidFill>
                <a:latin typeface="AardvarkBold"/>
              </a:rPr>
              <a:t>I. Formulación de Proyectos</a:t>
            </a:r>
            <a:endParaRPr b="1" i="1" lang="en-US" sz="4400" spc="-1" strike="noStrike">
              <a:solidFill>
                <a:srgbClr val="666699"/>
              </a:solidFill>
              <a:latin typeface="AardvarkBol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33160" y="1980720"/>
            <a:ext cx="830556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prender a identificar y definir proyectos,  organizando secuencialmente el proceso de evaluación de un proyecto de invers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Objetivo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33160" y="1980720"/>
            <a:ext cx="830556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Concepto de Proyecto, contexto de mercad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La formulación y evaluación de proyectos: ciclo de vida de un proyecto, niveles de evaluación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Tipos de evaluació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Tipos de proyecto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Presentación de proyecto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Contenidos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Anita Ramírez</dc:creator>
  <dc:description/>
  <dc:language>en-US</dc:language>
  <cp:lastModifiedBy>dii</cp:lastModifiedBy>
  <cp:lastPrinted>2002-11-13T13:47:55Z</cp:lastPrinted>
  <dcterms:modified xsi:type="dcterms:W3CDTF">2006-03-02T15:54:35Z</dcterms:modified>
  <cp:revision>340</cp:revision>
  <dc:subject/>
  <dc:title>Formulación de Proyectos</dc:title>
</cp:coreProperties>
</file>