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7D78-3374-4155-9E85-2D799874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621A-E145-43FD-9B21-8C32C480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CC28-C37D-4DEE-9617-64F81B7A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12D4-B045-4177-9ABA-8C014ED4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8FEC-2917-4AD9-BE91-98F425DD6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FCAD-27FD-466B-BF2B-FD72155D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EA7D-8EF6-4360-BFEA-9F2A0469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040B-3822-466F-9B2A-85CE6D15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1274-D6B2-438D-81DB-D5FBFD3C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2837-72A7-4F20-BB89-E6E86B16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F813-8681-4FF6-A6F5-C1D9C734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5A4-C01A-48D9-96A6-F5443787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729D-26BD-4AA6-95DD-E9017DA2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C28E-F610-4952-BC0E-A59E9733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CCEF-D716-48E4-B1D9-99BB0D5F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A8EB-253C-4393-93F1-E6A01A32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AB76-0142-43B8-9245-47453B1E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664-CEA4-4074-B160-8D9EFA72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77F-20C1-49F6-9359-E510613F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E713-12AC-4F05-9DF7-B0FAE4C2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5E97-511A-4FA5-921D-F6DF09F9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7BB4-3D22-48C7-99E9-36B47339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F0F9-5F13-4466-923D-D520BEBF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B715-7BB6-4626-82ED-7B77B7A6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D919-8590-4473-8D3C-6DEEE8953C4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D954-F46D-43D5-BF7B-D8B80EA58B8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Arial"/>
              </a:rPr>
              <a:t>Simulación</a:t>
            </a:r>
            <a:r>
              <a:rPr b="0" lang="es-CL" sz="4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42A - Evaluación de Proy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6381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mestre Primavera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638172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54936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627280" y="1341360"/>
          <a:ext cx="374004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341360"/>
                    <a:ext cx="37400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050920" y="5877000"/>
            <a:ext cx="1873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355640" y="2276280"/>
            <a:ext cx="309564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4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5445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Objetivo (Color Celes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.despues de algunos segundos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Resultado de simulación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449440" y="1052640"/>
          <a:ext cx="423864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052640"/>
                    <a:ext cx="42386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V="1">
            <a:off x="1763640" y="3933360"/>
            <a:ext cx="1224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763640" y="2349360"/>
            <a:ext cx="1295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2276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nel de Control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4149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la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348000" y="1989000"/>
            <a:ext cx="417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1700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nsuciándose las manos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amos un ejemplo en Excel…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jemplo: Planta de Empresa Mine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minera tiene un proyecto donde requiere invertir en la construcción de una plan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lanta y sus instalaciones asociadas requieren una inversión total de US$10 mill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fijo anual de US$ 1 mill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e 10.000 toneladas por año de cátodos de cobre f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variable de producción estimado en US$0,70 por libra de cobre fino produc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ecio medio esperado de largo plazo del cobre es de US$0,90 por lib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descuento es de 1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impuesto a las utilidades es de 17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eríodo de depreci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orizonte de evalu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valor residual de los activos al final del proyecto es c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AP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rtafolio Mínima vari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WAC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apalancar b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álculo de W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Simulación Estática (o de Montecar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modelan las distribuciones estadísticas de cada variable incierta y sus correla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cada valor de la variable se calcula un valor para el flujo de c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genera una distribución de valores presentes, en donde el valor del proyecto es la media, y el riesgo está dado por la dispersión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generamos las distribu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ystalball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Arial"/>
              </a:rPr>
              <a:t>www.crystalball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Software de 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35280" y="1268280"/>
          <a:ext cx="583236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268280"/>
                    <a:ext cx="583236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variables aleatori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68360" y="1125360"/>
          <a:ext cx="423864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125360"/>
                    <a:ext cx="423864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>
            <a:off x="1403280" y="213336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299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979640" y="5445000"/>
            <a:ext cx="1728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9500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 defi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08000" y="1557360"/>
          <a:ext cx="597564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557360"/>
                    <a:ext cx="597564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V="1">
            <a:off x="1692360" y="3141720"/>
            <a:ext cx="2374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36572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Parámetros de la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967040" y="1989000"/>
          <a:ext cx="520992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989000"/>
                    <a:ext cx="520992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V="1">
            <a:off x="1258920" y="2708280"/>
            <a:ext cx="1873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4941720"/>
            <a:ext cx="15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16360" y="3933720"/>
            <a:ext cx="2664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940360" y="5516280"/>
            <a:ext cx="1152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141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350028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v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602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56000" y="1197000"/>
          <a:ext cx="436392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197000"/>
                    <a:ext cx="436392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87280" y="5661000"/>
            <a:ext cx="2808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140360" y="4221000"/>
            <a:ext cx="324000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58920" y="2205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39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22936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leatoria (color ver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de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Nombre de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457360" y="3165480"/>
          <a:ext cx="422928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3165480"/>
                    <a:ext cx="422928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 flipV="1">
            <a:off x="1835280" y="3644640"/>
            <a:ext cx="10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86900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 la celda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03:33:16Z</dcterms:created>
  <dc:creator>Sob</dc:creator>
  <dc:description/>
  <dc:language>en-US</dc:language>
  <cp:lastModifiedBy>Paola Nahum</cp:lastModifiedBy>
  <dcterms:modified xsi:type="dcterms:W3CDTF">2006-10-27T03:42:48Z</dcterms:modified>
  <cp:revision>9</cp:revision>
  <dc:subject/>
  <dc:title>Simulación </dc:title>
</cp:coreProperties>
</file>