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DCB-80B6-410F-80A1-10B94E2A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47EB-07CC-4AA2-A353-4D40DACE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E01-1ED5-45CD-87C6-893ABD96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43A3-3C72-4784-B1D4-8D0C8F05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511E-3B8F-43FD-A5C2-4E49993F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8D51-6077-471E-BD63-27E065AC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30D1-F7A6-424E-B6E0-E0AB9BF8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997C-681A-47DB-8326-C42ACCCA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516D-3945-4037-AEAC-867D43E3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2EA4-9A51-4818-99D6-7C492545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75FA-6035-43A8-A1A1-071580F5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740-AE95-4219-B79E-940D2918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8AD4-FEA0-44B8-9131-D3D06E06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24DD-80F5-44C4-98C9-9133F6B3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7055-6A8C-434B-859C-7843F8FC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A01E-7E09-4A73-9BED-58DBFA05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517D-1033-4993-8296-1AE424E0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AB9E-D648-4009-9352-9C17A405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CE0-3C78-4780-8915-8269C6E8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3BB-95A9-4209-98C4-C769636B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CD7-2748-44E4-B769-60C05F0E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6713-74B3-42DD-8EEC-A4F86DB0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AA0-13E5-4D59-8CB4-CDD217B1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AD3-78CC-413E-BFC7-2DC7FE04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9E06-4425-4D32-B9A7-A9CB4232D3B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9F2A-8381-439B-99D6-A6F6B4E80D6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Arial"/>
              </a:rPr>
              <a:t>Simulación</a:t>
            </a:r>
            <a:r>
              <a:rPr b="0" lang="es-CL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42A - Evaluación de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6381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mestre Primavera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638172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54936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627280" y="1341360"/>
          <a:ext cx="37400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341360"/>
                    <a:ext cx="37400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050920" y="5877000"/>
            <a:ext cx="1873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355640" y="2276280"/>
            <a:ext cx="309564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4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4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Objetivo (Color Celes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.despues de algunos segundos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Resultado de simulación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449440" y="1052640"/>
          <a:ext cx="423864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052640"/>
                    <a:ext cx="4238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V="1">
            <a:off x="1763640" y="3933360"/>
            <a:ext cx="1224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63640" y="2349360"/>
            <a:ext cx="129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276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el de Control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149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la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348000" y="1989000"/>
            <a:ext cx="417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1700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nsuciándose las manos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amos un ejemplo en Excel…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jemplo: Planta de Empresa Mine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minera tiene un proyecto donde requiere invertir en la construcción de una pla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lanta y sus instalaciones asociadas requieren una inversión total de US$10 mill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fijo anual de US$ 1 mill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e 10.000 toneladas por año de cátodos de cobre f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variable de producción estimado en US$0,70 por libra de cobre fino produ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ecio medio esperado de largo plazo del cobre es de US$0,90 por lib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descuento es de 1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impuesto a las utilidades es de 17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eríodo de depreci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orizonte de evalu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valor residual de los activos al final del proyecto es c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AP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rtafolio Mínima var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apalancar b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álculo de W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Simulación Estática (o de Montecar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odelan las distribuciones estadísticas de cada variable incierta y sus correla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cada valor de la variable se calcula un valor para el flujo de c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genera una distribución de valores presentes, en donde el valor del proyecto es la media, y el riesgo está dado por la dispersión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generamos las distribu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ystalball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Arial"/>
              </a:rPr>
              <a:t>www.crystalball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Software de 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1268280"/>
          <a:ext cx="583236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8280"/>
                    <a:ext cx="583236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variables aleatori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68360" y="1125360"/>
          <a:ext cx="42386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125360"/>
                    <a:ext cx="423864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>
            <a:off x="1403280" y="213336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29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79640" y="5445000"/>
            <a:ext cx="1728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9500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 defi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08000" y="1557360"/>
          <a:ext cx="597564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557360"/>
                    <a:ext cx="597564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V="1">
            <a:off x="1692360" y="3141720"/>
            <a:ext cx="2374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36572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Parámetros de la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967040" y="1989000"/>
          <a:ext cx="520992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989000"/>
                    <a:ext cx="520992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V="1">
            <a:off x="1258920" y="2708280"/>
            <a:ext cx="1873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4941720"/>
            <a:ext cx="15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16360" y="3933720"/>
            <a:ext cx="2664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940360" y="5516280"/>
            <a:ext cx="1152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141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5002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602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56000" y="1197000"/>
          <a:ext cx="436392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97000"/>
                    <a:ext cx="436392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87280" y="5661000"/>
            <a:ext cx="2808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140360" y="4221000"/>
            <a:ext cx="324000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58920" y="2205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22936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leatoria (color ver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de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Nombre de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57360" y="3165480"/>
          <a:ext cx="422928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3165480"/>
                    <a:ext cx="42292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 flipV="1">
            <a:off x="1835280" y="364464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8690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 la celda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03:33:16Z</dcterms:created>
  <dc:creator>Sob</dc:creator>
  <dc:description/>
  <dc:language>en-US</dc:language>
  <cp:lastModifiedBy>Paola Nahum</cp:lastModifiedBy>
  <dcterms:modified xsi:type="dcterms:W3CDTF">2006-10-27T03:42:48Z</dcterms:modified>
  <cp:revision>9</cp:revision>
  <dc:subject/>
  <dc:title>Simulación </dc:title>
</cp:coreProperties>
</file>