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B2EC-E8F7-41E0-9DCA-9497E42CA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10B4-495A-470D-93D8-81C5690D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F590-A76E-400D-8551-0578E042E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223D-153D-4F80-9DA1-8A101910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32D3-1ECF-41A4-AC9A-599417899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FE8E-81CB-4269-B840-9349E94A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3A93-07F1-489C-936C-D7E66688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5BA1-F0EF-4D0B-953A-28D15C47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CFE8-FE1E-47D4-86DC-52227E56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1F8B-C9AA-4C00-A9C2-C083DBFD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EBAA-E31C-4678-92D5-0E66143C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2020-9791-41F0-916A-6D05FB72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D82B-2087-4B89-BA54-73FE4994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0360-EB85-4CE8-94DA-F6625CD4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3BBF-7B61-48B5-9331-E199D49F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E16A-AA54-4669-9DEA-829C80363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11BC-AB5C-4FD4-B057-35333E6C5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ECCF-953B-4806-A4F6-AA6B3FCF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5231-6247-4C2B-9BBA-F046EF78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6631-EB95-441A-8F5E-E874E83E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BEAB-15E6-4F6E-9093-503B6F84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3D2D-4469-4622-A67D-FAED2B99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1F0D-1024-4FA0-A3B6-F13F5815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11B9-72FE-4E2A-BE14-32F3EBBD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80F2-37C6-440F-A27C-9CC1795E0C09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BE35-A994-48D5-9775-7E1D9997399A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3333cc"/>
                </a:solidFill>
                <a:latin typeface="Arial"/>
              </a:rPr>
              <a:t>Simulación</a:t>
            </a:r>
            <a:r>
              <a:rPr b="0" lang="es-CL" sz="4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42A - Evaluación de Proye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6381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mestre Primavera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6381720"/>
            <a:ext cx="90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549360"/>
            <a:ext cx="90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Correr el Model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627280" y="1341360"/>
          <a:ext cx="374004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341360"/>
                    <a:ext cx="374004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2050920" y="5877000"/>
            <a:ext cx="18734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355640" y="2276280"/>
            <a:ext cx="309564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437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rrer el 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5445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lda Objetivo (Color Celes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.despues de algunos segundos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Resultado de simulación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449440" y="1052640"/>
          <a:ext cx="423864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9440" y="1052640"/>
                    <a:ext cx="423864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 flipV="1">
            <a:off x="1763640" y="3933360"/>
            <a:ext cx="122400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763640" y="2349360"/>
            <a:ext cx="1295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227664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nel de Control de la Sim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414972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ón de la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348000" y="1989000"/>
            <a:ext cx="417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51640" y="170028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ones de la sim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Ensuciándose las manos…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amos un ejemplo en Excel…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Ejemplo: Planta de Empresa Miner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empresa minera tiene un proyecto donde requiere invertir en la construcción de una plan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planta y sus instalaciones asociadas requieren una inversión total de US$10 mill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fijo anual de US$ 1 mill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duce 10.000 toneladas por año de cátodos de cobre f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variable de producción estimado en US$0,70 por libra de cobre fino produc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recio medio esperado de largo plazo del cobre es de US$0,90 por lib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asa de descuento es de 10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asa de impuesto a las utilidades es de 17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eríodo de depreciación es de 10 añ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horizonte de evaluación es de 10 añ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valor residual de los activos al final del proyecto es c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CAP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ortafolio Mínima vari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WAC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sapalancar be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álculo de W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Simulación Estática (o de Montecarl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modelan las distribuciones estadísticas de cada variable incierta y sus correlaci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 cada valor de la variable se calcula un valor para el flujo de c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genera una distribución de valores presentes, en donde el valor del proyecto es la media, y el riesgo está dado por la dispersión de la distrib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ómo generamos las distribu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ystalball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3300"/>
                </a:solidFill>
                <a:latin typeface="Arial"/>
              </a:rPr>
              <a:t>www.crystalball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Software de 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835280" y="1268280"/>
          <a:ext cx="5832360" cy="53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268280"/>
                    <a:ext cx="583236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variables aleatori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68360" y="1125360"/>
          <a:ext cx="4238640" cy="532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125360"/>
                    <a:ext cx="4238640" cy="532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>
            <a:off x="1403280" y="2133360"/>
            <a:ext cx="936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2997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r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979640" y="5445000"/>
            <a:ext cx="1728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95008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riable a defin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distribu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908000" y="1557360"/>
          <a:ext cx="5975640" cy="43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557360"/>
                    <a:ext cx="597564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flipV="1">
            <a:off x="1692360" y="3141720"/>
            <a:ext cx="23749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436572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Parámetros de la distribu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967040" y="1989000"/>
          <a:ext cx="520992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7040" y="1989000"/>
                    <a:ext cx="520992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 flipV="1">
            <a:off x="1258920" y="2708280"/>
            <a:ext cx="1873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4941720"/>
            <a:ext cx="158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716360" y="3933720"/>
            <a:ext cx="26640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940360" y="5516280"/>
            <a:ext cx="115272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141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472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80360" y="3500280"/>
            <a:ext cx="143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v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á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4360" y="602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r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Función Obje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56000" y="1197000"/>
          <a:ext cx="4363920" cy="55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197000"/>
                    <a:ext cx="436392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187280" y="5661000"/>
            <a:ext cx="2808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140360" y="4221000"/>
            <a:ext cx="324000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258920" y="220500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3933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r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22936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riable aleatoria (color ver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lda de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Nombre de Función Obje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457360" y="3165480"/>
          <a:ext cx="422928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7360" y="3165480"/>
                    <a:ext cx="422928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 flipV="1">
            <a:off x="1835280" y="3644640"/>
            <a:ext cx="1008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86900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de la celda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03:33:16Z</dcterms:created>
  <dc:creator>Sob</dc:creator>
  <dc:description/>
  <dc:language>en-US</dc:language>
  <cp:lastModifiedBy>Paola Nahum</cp:lastModifiedBy>
  <dcterms:modified xsi:type="dcterms:W3CDTF">2006-10-27T03:42:48Z</dcterms:modified>
  <cp:revision>9</cp:revision>
  <dc:subject/>
  <dc:title>Simulación </dc:title>
</cp:coreProperties>
</file>