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36FD-FC80-4652-9766-A0819A047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ED0B-B747-42D2-9ED1-B3E34DF42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C385-9ED7-418E-B141-E44EC82F0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D089-244A-4122-9AE9-DC294814B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A8012-917D-4984-8BB9-1A881B41B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00A5C-92BF-43F2-B26B-D1CC55C12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C4A0D-25B8-46A2-9C5D-12D159B45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63A77-4B2D-4F69-A0D9-30ACCCB3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657F2-D1FF-4F89-8C7D-21B34AB4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4FCD0-2421-4E53-B611-6D5668348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B58A4-52B0-4543-BBB2-899E4C55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3B52-B319-4C72-8F1F-EA2685E02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C681F-894D-40CC-B448-0886829D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47444-BDA1-4207-97C8-98175FF9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802EE-EED3-447F-952C-2CDE08D8B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B60F5-B46A-48FC-AB53-E3390AE4E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7CFE8-7F37-4C81-A3AF-A4E80576F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82A7-6E2B-45E2-AB2C-7658400AA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A779-5208-4077-9A2E-51D7B8BE8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EBF7-449A-48B5-A826-C41BB3CF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3BCF-4F49-4923-B4BD-11334C783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9549-1A64-436C-B463-66956601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8608-2801-45BB-A902-68C0B472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681B-A1F3-4BC9-8354-721E797C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0001F-1DAC-4396-92AB-1B1591A76D0C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E3754-ED19-4294-B0FE-302236A1D011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3333cc"/>
                </a:solidFill>
                <a:latin typeface="Arial"/>
              </a:rPr>
              <a:t>Simulación</a:t>
            </a:r>
            <a:r>
              <a:rPr b="0" lang="es-CL" sz="4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N42A - Evaluación de Proyec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12000" y="638172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mestre Primavera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8000" y="6381720"/>
            <a:ext cx="90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549360"/>
            <a:ext cx="90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Correr el Model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2627280" y="1341360"/>
          <a:ext cx="3740040" cy="525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1341360"/>
                    <a:ext cx="374004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2050920" y="5877000"/>
            <a:ext cx="18734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4355640" y="2276280"/>
            <a:ext cx="309564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437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rrer el mod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544500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lda Objetivo (Color Celes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.despues de algunos segundos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Resultado de simulación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449440" y="1052640"/>
          <a:ext cx="4238640" cy="56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49440" y="1052640"/>
                    <a:ext cx="4238640" cy="56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 flipV="1">
            <a:off x="1763640" y="3933360"/>
            <a:ext cx="122400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1763640" y="2349360"/>
            <a:ext cx="12956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4000" y="227664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nel de Control de la Simu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0920" y="414972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tribución de la función obje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3348000" y="1989000"/>
            <a:ext cx="41767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451640" y="170028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pciones de la simu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3333cc"/>
                </a:solidFill>
                <a:latin typeface="Arial"/>
              </a:rPr>
              <a:t>Ensuciándose las manos…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eamos un ejemplo en Excel…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3333cc"/>
                </a:solidFill>
                <a:latin typeface="Arial"/>
              </a:rPr>
              <a:t>Ejemplo: Planta de Empresa Miner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a empresa minera tiene un proyecto donde requiere invertir en la construcción de una plan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planta y sus instalaciones asociadas requieren una inversión total de US$10 mill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sto fijo anual de US$ 1 mill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duce 10.000 toneladas por año de cátodos de cobre f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sto variable de producción estimado en US$0,70 por libra de cobre fino produc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precio medio esperado de largo plazo del cobre es de US$0,90 por libr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tasa de descuento es de 10%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tasa de impuesto a las utilidades es de 17%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período de depreciación es de 10 añ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horizonte de evaluación es de 10 añ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valor residual de los activos al final del proyecto es c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CAP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ortafolio Mínima varian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WAC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sapalancar be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álculo de WA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Arial"/>
              </a:rPr>
              <a:t>Simulación Estática (o de Montecarl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modelan las distribuciones estadísticas de cada variable incierta y sus correlacion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 cada valor de la variable se calcula un valor para el flujo de ca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genera una distribución de valores presentes, en donde el valor del proyecto es la media, y el riesgo está dado por la dispersión de la distribu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Cómo generamos las distribucio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rystalball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3300"/>
                </a:solidFill>
                <a:latin typeface="Arial"/>
              </a:rPr>
              <a:t>www.crystalball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3333cc"/>
                </a:solidFill>
                <a:latin typeface="Arial"/>
              </a:rPr>
              <a:t>Software de Simula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835280" y="1268280"/>
          <a:ext cx="5832360" cy="538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268280"/>
                    <a:ext cx="5832360" cy="53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Definir variables aleatoria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268360" y="1125360"/>
          <a:ext cx="4238640" cy="532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1125360"/>
                    <a:ext cx="4238640" cy="532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 flipV="1">
            <a:off x="1403280" y="2133360"/>
            <a:ext cx="9367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9280" y="2997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finir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979640" y="5445000"/>
            <a:ext cx="172872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5950080"/>
            <a:ext cx="19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ariable a defin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Definir distribu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908000" y="1557360"/>
          <a:ext cx="5975640" cy="430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557360"/>
                    <a:ext cx="5975640" cy="43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 flipV="1">
            <a:off x="1692360" y="3141720"/>
            <a:ext cx="23749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9280" y="4365720"/>
            <a:ext cx="20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tribu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Parámetros de la distribu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967040" y="1989000"/>
          <a:ext cx="5209920" cy="375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7040" y="1989000"/>
                    <a:ext cx="5209920" cy="37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 flipV="1">
            <a:off x="1258920" y="2708280"/>
            <a:ext cx="187308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58920" y="4941720"/>
            <a:ext cx="15843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716360" y="3933720"/>
            <a:ext cx="266400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5940360" y="5516280"/>
            <a:ext cx="115272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314172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4724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380360" y="3500280"/>
            <a:ext cx="1439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vi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án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164360" y="6021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rre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Definir Función Objetiv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556000" y="1197000"/>
          <a:ext cx="4363920" cy="55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1197000"/>
                    <a:ext cx="436392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1187280" y="5661000"/>
            <a:ext cx="280836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140360" y="4221000"/>
            <a:ext cx="324000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258920" y="2205000"/>
            <a:ext cx="172872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9640" y="393372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finir función obje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5229360"/>
            <a:ext cx="16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ariable aleatoria (color ver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093080" y="3573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lda de función obje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Nombre de Función Objetiv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457360" y="3165480"/>
          <a:ext cx="4229280" cy="14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57360" y="3165480"/>
                    <a:ext cx="4229280" cy="14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 flipV="1">
            <a:off x="1835280" y="3644640"/>
            <a:ext cx="1008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4869000"/>
            <a:ext cx="31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bre de la celda obje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5T03:33:16Z</dcterms:created>
  <dc:creator>Sob</dc:creator>
  <dc:description/>
  <dc:language>en-US</dc:language>
  <cp:lastModifiedBy>Paola Nahum</cp:lastModifiedBy>
  <dcterms:modified xsi:type="dcterms:W3CDTF">2006-10-27T03:42:48Z</dcterms:modified>
  <cp:revision>9</cp:revision>
  <dc:subject/>
  <dc:title>Simulación </dc:title>
</cp:coreProperties>
</file>