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454E-497D-4FEC-AA04-8CF013E3E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0C9F-E778-4B2D-BF19-F835D8F3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8294-3B42-41C7-A065-69F26060F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8522-B1A0-41FD-A3A0-7BA8CD254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A726-3FAC-4485-B7B4-52F1B919F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AEB7-5256-47A3-926B-C6056757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8CAF-D29D-4166-9BEC-073113AC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115D-527F-47C7-B010-B6728A37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4FE1-8D1A-4434-87A6-F5FB3B38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F2AD-5BA8-490B-BD5C-4C9C2538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0E58-9D47-4BEF-A5C8-24982B0D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ED14-1BB6-4F10-BE26-AD7F1396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DF0D-5D60-4591-87ED-4C0A09F6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3BF9-C748-4095-A5D0-A3BC222F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7F76-EF11-4760-BDFB-BE10E85C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7C4F-1AA8-473E-9DA0-9931F0E91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644F-5AE7-4A0B-BF3F-B285440E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00CB-4341-449E-A55B-BAD1BE13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1899-105A-4B42-BF2F-99CB6014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B94F-29BD-4BFC-B062-34F61219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34BB-78A6-44B5-AD01-954EC320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670C-812E-443F-A884-58765A00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8D76-5FF6-4917-BFB2-5D4AEF66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D06F-F8F2-4084-A027-9F019066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624D-FDCE-43B1-BDD6-122DFA8C823F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40B7-BBE5-4A1D-8AB1-BDBF4C2D1A60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3333cc"/>
                </a:solidFill>
                <a:latin typeface="Arial"/>
              </a:rPr>
              <a:t>Simulación</a:t>
            </a:r>
            <a:r>
              <a:rPr b="0" lang="es-CL" sz="4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42A - Evaluación de Proye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6381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mestre Primavera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6381720"/>
            <a:ext cx="90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549360"/>
            <a:ext cx="90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Correr el Model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627280" y="1341360"/>
          <a:ext cx="374004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341360"/>
                    <a:ext cx="374004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2050920" y="5877000"/>
            <a:ext cx="18734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355640" y="2276280"/>
            <a:ext cx="309564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437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rrer el 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5445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lda Objetivo (Color Celes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.despues de algunos segundos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Resultado de simulación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449440" y="1052640"/>
          <a:ext cx="423864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9440" y="1052640"/>
                    <a:ext cx="423864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 flipV="1">
            <a:off x="1763640" y="3933360"/>
            <a:ext cx="122400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763640" y="2349360"/>
            <a:ext cx="1295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227664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nel de Control de la Sim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414972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de la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348000" y="1989000"/>
            <a:ext cx="417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51640" y="17002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ones de la sim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Ensuciándose las manos…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amos un ejemplo en Excel…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Ejemplo: Planta de Empresa Miner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empresa minera tiene un proyecto donde requiere invertir en la construcción de una plan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planta y sus instalaciones asociadas requieren una inversión total de US$10 mill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fijo anual de US$ 1 mill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duce 10.000 toneladas por año de cátodos de cobre f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variable de producción estimado en US$0,70 por libra de cobre fino produc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recio medio esperado de largo plazo del cobre es de US$0,90 por lib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asa de descuento es de 10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asa de impuesto a las utilidades es de 17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eríodo de depreciación es de 10 añ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horizonte de evaluación es de 10 añ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valor residual de los activos al final del proyecto es c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CAP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ortafolio Mínima vari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WAC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sapalancar be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álculo de W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Simulación Estática (o de Montecarl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modelan las distribuciones estadísticas de cada variable incierta y sus correlaci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 cada valor de la variable se calcula un valor para el flujo de c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genera una distribución de valores presentes, en donde el valor del proyecto es la media, y el riesgo está dado por la dispersión de la distrib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ómo generamos las distribu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ystalball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3300"/>
                </a:solidFill>
                <a:latin typeface="Arial"/>
              </a:rPr>
              <a:t>www.crystalball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Software de 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835280" y="1268280"/>
          <a:ext cx="5832360" cy="53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268280"/>
                    <a:ext cx="583236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variables aleatori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68360" y="1125360"/>
          <a:ext cx="4238640" cy="532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125360"/>
                    <a:ext cx="4238640" cy="532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>
            <a:off x="1403280" y="2133360"/>
            <a:ext cx="936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2997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r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979640" y="5445000"/>
            <a:ext cx="1728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95008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riable a defin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distribu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908000" y="1557360"/>
          <a:ext cx="5975640" cy="43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557360"/>
                    <a:ext cx="597564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flipV="1">
            <a:off x="1692360" y="3141720"/>
            <a:ext cx="23749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436572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Parámetros de la distribu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967040" y="1989000"/>
          <a:ext cx="520992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7040" y="1989000"/>
                    <a:ext cx="520992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 flipV="1">
            <a:off x="1258920" y="2708280"/>
            <a:ext cx="1873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4941720"/>
            <a:ext cx="158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716360" y="3933720"/>
            <a:ext cx="26640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940360" y="5516280"/>
            <a:ext cx="115272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141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472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80360" y="3500280"/>
            <a:ext cx="143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v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á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4360" y="602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r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Función Obje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56000" y="1197000"/>
          <a:ext cx="4363920" cy="55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197000"/>
                    <a:ext cx="436392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187280" y="5661000"/>
            <a:ext cx="2808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140360" y="4221000"/>
            <a:ext cx="324000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258920" y="220500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3933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r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22936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riable aleatoria (color ver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lda de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Nombre de Función Obje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457360" y="3165480"/>
          <a:ext cx="422928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7360" y="3165480"/>
                    <a:ext cx="422928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 flipV="1">
            <a:off x="1835280" y="3644640"/>
            <a:ext cx="1008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86900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de la celda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03:33:16Z</dcterms:created>
  <dc:creator>Sob</dc:creator>
  <dc:description/>
  <dc:language>en-US</dc:language>
  <cp:lastModifiedBy>Paola Nahum</cp:lastModifiedBy>
  <dcterms:modified xsi:type="dcterms:W3CDTF">2006-10-27T03:42:48Z</dcterms:modified>
  <cp:revision>9</cp:revision>
  <dc:subject/>
  <dc:title>Simulación </dc:title>
</cp:coreProperties>
</file>