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42CEF-0410-4107-B2C4-D9C6645B3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0F1B-E48F-4683-9290-5DB12F0BD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06A04-FD0F-4929-A515-9C9990008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817CD-6A45-4ABD-9DB6-6FCD188DB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147CD-5A03-462B-9AFC-BC127BC95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930AB-E0B3-4AC0-9F87-2A960F18D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2A946-20DB-42A2-8027-AC73969F8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A764F-5F2A-4F47-B451-5F9924D63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A9142-7112-4F33-8BF3-B6530DFF4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52952-B4E1-4A61-B50A-663A80C46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3A7FB-1D3B-4179-9342-110414891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01B75-E8E5-44C3-91FE-08A20719D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7565B-7FF4-4167-BFC0-DF8935180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89681-0CE2-48CC-816F-504AD39E1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691B4-C789-451E-94B8-F34DE5EB1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F0F33-00E8-4728-B0FA-2188D4400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1F9C8-B58C-48FF-BB57-AA8BE0124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7A6CD-F2C1-473B-9A6F-68708E262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E339A-67F1-45A8-BAEA-65B67F68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34F08-1F36-484F-80EB-B7FBB9E3E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24BF3-7188-4089-83B8-D7AE452C3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20277-61B5-4709-9E59-4DE166BF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EA99B-DF0D-41FF-BBF8-F9EA99B3C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B8CBA-6CE6-467C-80D5-010234136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16A4-E234-4990-B2D0-45E28CE28BFA}"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64E5-AEAE-4EF1-B665-C17CC9EB56F6}"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ardvarkBold"/>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lIns="90000" rIns="90000" tIns="46800" bIns="46800"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 descr=""/>
          <p:cNvPicPr/>
          <p:nvPr/>
        </p:nvPicPr>
        <p:blipFill>
          <a:blip r:embed="rId1"/>
          <a:stretch/>
        </p:blipFill>
        <p:spPr>
          <a:xfrm>
            <a:off x="2700360" y="3895560"/>
            <a:ext cx="3743280" cy="2536920"/>
          </a:xfrm>
          <a:prstGeom prst="rect">
            <a:avLst/>
          </a:prstGeom>
          <a:ln w="0">
            <a:noFill/>
          </a:ln>
        </p:spPr>
      </p:pic>
      <p:sp>
        <p:nvSpPr>
          <p:cNvPr id="142"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
          <p:cNvGrpSpPr/>
          <p:nvPr/>
        </p:nvGrpSpPr>
        <p:grpSpPr>
          <a:xfrm>
            <a:off x="214920" y="1773360"/>
            <a:ext cx="8586720" cy="4752720"/>
            <a:chOff x="214920" y="1773360"/>
            <a:chExt cx="8586720" cy="4752720"/>
          </a:xfrm>
        </p:grpSpPr>
        <p:sp>
          <p:nvSpPr>
            <p:cNvPr id="172" name=""/>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3" name=""/>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4"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5"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6"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7"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8"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336666"/>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9"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Times New Roman"/>
              </a:endParaRPr>
            </a:p>
          </p:txBody>
        </p:sp>
        <p:sp>
          <p:nvSpPr>
            <p:cNvPr id="180"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Times New Roman"/>
              </a:endParaRPr>
            </a:p>
          </p:txBody>
        </p:sp>
        <p:sp>
          <p:nvSpPr>
            <p:cNvPr id="181"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2"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3"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4"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5"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Times New Roman"/>
              </a:endParaRPr>
            </a:p>
          </p:txBody>
        </p:sp>
        <p:sp>
          <p:nvSpPr>
            <p:cNvPr id="186"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Times New Roman"/>
              </a:endParaRPr>
            </a:p>
          </p:txBody>
        </p:sp>
        <p:sp>
          <p:nvSpPr>
            <p:cNvPr id="187"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Times New Roman"/>
              </a:endParaRPr>
            </a:p>
          </p:txBody>
        </p:sp>
        <p:sp>
          <p:nvSpPr>
            <p:cNvPr id="188"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Times New Roman"/>
              </a:endParaRPr>
            </a:p>
          </p:txBody>
        </p:sp>
        <p:sp>
          <p:nvSpPr>
            <p:cNvPr id="189"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ardvarkBol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Times New Roman"/>
            </a:endParaRPr>
          </a:p>
        </p:txBody>
      </p:sp>
      <p:sp>
        <p:nvSpPr>
          <p:cNvPr id="255" name=""/>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6" name=""/>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Times New Roman"/>
            </a:endParaRPr>
          </a:p>
        </p:txBody>
      </p:sp>
      <p:sp>
        <p:nvSpPr>
          <p:cNvPr id="258" name=""/>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Ministerio de obras Publicas</cp:lastModifiedBy>
  <cp:lastPrinted>2002-11-13T13:47:55Z</cp:lastPrinted>
  <dcterms:modified xsi:type="dcterms:W3CDTF">2006-08-07T19:30:12Z</dcterms:modified>
  <cp:revision>379</cp:revision>
  <dc:subject/>
  <dc:title>FC I Est c y b</dc:title>
</cp:coreProperties>
</file>