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C5D-80D7-45B5-B3CD-92322821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445-68C6-4322-ABC2-C17DCDC4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8E5-D7CF-477F-A4BC-F93EC33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9C3-DD8C-4298-B9E8-F4ED86C5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9750-B819-4B0F-958B-5D15705C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71E-A15D-4F03-9CB3-96B7181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C4E-0741-4884-9C6C-2F382CFB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5803-BCA3-488F-BD3D-2443AAF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7E99-4A80-4D27-BB11-9BBD4D53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8F2-EBD9-4C82-BF1A-A98C07A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2336-65C5-4F7B-89DD-EE2D172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20F-4B8A-410C-8BB3-B4664E0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7C46-88BA-4EAF-A470-32A0C9B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8708-995B-45EC-BDA0-D4BA9A19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7A96-C94D-4DC7-AC16-934F18B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133B-65A6-4696-831D-EE534C2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71F8-F801-4D0E-B688-261EDF15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8FD-4849-47BB-B54B-C4F9C88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B37-2CB9-4C62-B642-5C07DB3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6C6-EC64-46B4-B335-4006E4D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159-4EA4-4288-9CA1-CA4CF70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0C5-8C84-469B-9414-ADA56AB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6BF-266C-425E-B4DC-4D4E66A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5B5-7C1D-4D62-88D9-0D15640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D907-AE05-4150-A695-668AADD23BD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FCC-22A9-4FF0-865F-06905ACF491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8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dii</cp:lastModifiedBy>
  <cp:lastPrinted>2002-11-13T13:47:55Z</cp:lastPrinted>
  <dcterms:modified xsi:type="dcterms:W3CDTF">2006-03-02T15:54:35Z</dcterms:modified>
  <cp:revision>340</cp:revision>
  <dc:subject/>
  <dc:title>Formulación de Proyectos</dc:title>
</cp:coreProperties>
</file>