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455-096B-4662-AB7C-ABCC2481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987-237B-48C6-BC56-31B2F20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A7D-BD25-4E0E-BD27-BB8FC737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28A-DE19-4F67-84F3-29E1831C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591F-3A7A-4B13-9D47-C185F314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91CF-A083-4CDA-A976-176B8976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C73C-FF01-48B8-BEF6-206A169C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FAC1-0D48-4C4B-A5BF-C6C68379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4755-6F9E-46BA-8CDD-D6950406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F602-11E2-46FF-9A0A-44D51A98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1EB6-3BDF-4ABC-8F5C-BCC7809C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A62-1C1D-4C21-8173-8ED6E3BE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185A-9948-4AB5-ABAE-F17E17F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072-8C19-4701-BF98-3FF5BB7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41F4-408B-4A2E-874B-D9268FB1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EA5C-F9D1-428F-A156-3EACAD83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A063-72C7-4F9B-897C-607857DB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9D2-2097-431E-B480-774207A5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BF3-F2BA-426C-ABA6-339C16CD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838-566A-4B9C-90B8-29EE9457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888-DBAE-4377-8DAE-7A904776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DB2-86D1-4E95-8011-C0970E15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099-631B-4C35-8FE7-C4D778DC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AAD-E24C-4DFA-B8AB-EE75F9F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FFBB-AD6C-439C-9E28-E7E28E10714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2488-881B-48A2-B76A-32FF5EEEC133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8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dii</cp:lastModifiedBy>
  <cp:lastPrinted>2002-11-13T13:47:55Z</cp:lastPrinted>
  <dcterms:modified xsi:type="dcterms:W3CDTF">2006-03-02T15:54:35Z</dcterms:modified>
  <cp:revision>340</cp:revision>
  <dc:subject/>
  <dc:title>Formulación de Proyectos</dc:title>
</cp:coreProperties>
</file>