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1C3-6230-47B5-BA6A-95DEA394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A32-8E14-4827-AB46-5BA272CF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4B1-BD49-4794-B141-32EB7CE8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649-3784-4CA9-A82E-CDE9B09A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707-98AC-44CF-AA33-3892658A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387-A0D5-4A0A-A4BC-B9A841F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BE0F-D31A-4D15-9FFA-F7F31F69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C5BD-58B5-4E98-B734-0C6C511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076B-6EAB-4886-B690-33C33AF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562-39F8-4A89-9566-2725796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075-E868-4736-B72F-D275E21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974-2FDC-44B5-8323-6E31330F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6C0-90C8-4930-A85B-F0425CA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F30-9851-4CF5-A64A-7BA3F09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9EC3-1584-4DB9-A25C-B2AE0C9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7DD2-764F-462F-93D2-14144F3A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FAF-0AE2-4C59-B111-17166514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836-F321-418C-9C96-3B8F001F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5EE-F8EF-42C3-80FC-B668D03D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EB7-EB11-4B23-BDDC-7453CE6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B20-9B66-46D2-861F-EA89A76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FA2-A2A5-44CC-B1AB-348B226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787-4C32-432F-83F7-1F36D476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2DD-8AD6-4147-ADE0-7EA78333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24B9-019F-4A2F-A879-37CC576B030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467B-625B-473D-AE12-6D2EC4A6500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8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dii</cp:lastModifiedBy>
  <cp:lastPrinted>2002-11-13T13:47:55Z</cp:lastPrinted>
  <dcterms:modified xsi:type="dcterms:W3CDTF">2006-03-02T15:54:35Z</dcterms:modified>
  <cp:revision>340</cp:revision>
  <dc:subject/>
  <dc:title>Formulación de Proyectos</dc:title>
</cp:coreProperties>
</file>