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E1F3-DA89-4D27-A31C-7ED37FF3A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7E3D-8A9C-4E8D-B478-C8986BAD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7D55-49C7-45A7-820B-060F0CC81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B169-EE19-42BC-9A0E-E61E96E66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3A47-3C04-4758-A867-DEB83005D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5AE8-67CF-4588-8166-48E94BFE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F0E2-695F-4A29-BCA1-17D277A6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3D91-B117-4F44-BE32-C611CA6E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A3A6-4615-4A18-97B9-4CEF98D2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219D-693F-48E5-8360-3B495B6F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A6F2-7340-447A-8901-A85B223F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A31B-B2D8-4C60-9B8A-A1D3A340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3F36-244A-43C5-B2F1-84336E4F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8BBE-AC45-4EBF-A21B-7F643F25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2EB3-51B1-4561-B48A-C08C2C98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C5A4-738F-4EE2-B6D8-7FC7C1EB1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D180-111E-428B-AC49-69A00D525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91C3-8C66-4D0D-9C4D-0A179697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1DEB-5D97-4E97-B9D1-10E83DC5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4E3B-665A-471F-986E-256F3C00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E46F-5948-461A-92B5-F2DE9405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ECA7-16B5-48A0-B4F4-1B67AD9E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432D-F8B0-483E-966A-F0D99EE6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EFBC-1F05-43D4-91A3-BAD4456B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DC3E-F88F-4FE4-AB83-1840E8FB874A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6889-211B-4003-AB75-57450546EF33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3333cc"/>
                </a:solidFill>
                <a:latin typeface="Arial"/>
              </a:rPr>
              <a:t>Simulación</a:t>
            </a:r>
            <a:r>
              <a:rPr b="0" lang="es-CL" sz="4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42A - Evaluación de Proye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6381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mestre Primavera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8000" y="6381720"/>
            <a:ext cx="90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549360"/>
            <a:ext cx="90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Correr el Model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627280" y="1341360"/>
          <a:ext cx="374004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341360"/>
                    <a:ext cx="374004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2050920" y="5877000"/>
            <a:ext cx="18734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355640" y="2276280"/>
            <a:ext cx="309564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437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rrer el mod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5445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lda Objetivo (Color Celes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.despues de algunos segundos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Resultado de simulación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449440" y="1052640"/>
          <a:ext cx="423864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9440" y="1052640"/>
                    <a:ext cx="423864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 flipV="1">
            <a:off x="1763640" y="3933360"/>
            <a:ext cx="122400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763640" y="2349360"/>
            <a:ext cx="1295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227664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nel de Control de la Sim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414972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ón de la fun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348000" y="1989000"/>
            <a:ext cx="417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51640" y="170028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ones de la sim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cc"/>
                </a:solidFill>
                <a:latin typeface="Arial"/>
              </a:rPr>
              <a:t>Ensuciándose las manos…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amos un ejemplo en Excel…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cc"/>
                </a:solidFill>
                <a:latin typeface="Arial"/>
              </a:rPr>
              <a:t>Ejemplo: Planta de Empresa Miner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empresa minera tiene un proyecto donde requiere invertir en la construcción de una plan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planta y sus instalaciones asociadas requieren una inversión total de US$10 mill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fijo anual de US$ 1 mill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duce 10.000 toneladas por año de cátodos de cobre f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variable de producción estimado en US$0,70 por libra de cobre fino produc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recio medio esperado de largo plazo del cobre es de US$0,90 por lib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asa de descuento es de 10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asa de impuesto a las utilidades es de 17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eríodo de depreciación es de 10 añ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horizonte de evaluación es de 10 añ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valor residual de los activos al final del proyecto es c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CAP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ortafolio Mínima vari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WAC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sapalancar be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álculo de W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Simulación Estática (o de Montecarl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modelan las distribuciones estadísticas de cada variable incierta y sus correlacio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 cada valor de la variable se calcula un valor para el flujo de ca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genera una distribución de valores presentes, en donde el valor del proyecto es la media, y el riesgo está dado por la dispersión de la distribu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ómo generamos las distribuc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ystalball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3300"/>
                </a:solidFill>
                <a:latin typeface="Arial"/>
              </a:rPr>
              <a:t>www.crystalball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cc"/>
                </a:solidFill>
                <a:latin typeface="Arial"/>
              </a:rPr>
              <a:t>Software de 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835280" y="1268280"/>
          <a:ext cx="5832360" cy="53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268280"/>
                    <a:ext cx="5832360" cy="53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efinir variables aleatori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68360" y="1125360"/>
          <a:ext cx="4238640" cy="532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125360"/>
                    <a:ext cx="4238640" cy="532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>
            <a:off x="1403280" y="2133360"/>
            <a:ext cx="936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2997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r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979640" y="5445000"/>
            <a:ext cx="17287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95008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riable a defin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efinir distribu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908000" y="1557360"/>
          <a:ext cx="5975640" cy="43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557360"/>
                    <a:ext cx="597564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flipV="1">
            <a:off x="1692360" y="3141720"/>
            <a:ext cx="23749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436572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Parámetros de la distribu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967040" y="1989000"/>
          <a:ext cx="520992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7040" y="1989000"/>
                    <a:ext cx="520992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 flipV="1">
            <a:off x="1258920" y="2708280"/>
            <a:ext cx="1873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58920" y="4941720"/>
            <a:ext cx="158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716360" y="3933720"/>
            <a:ext cx="26640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940360" y="5516280"/>
            <a:ext cx="115272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141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4724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80360" y="3500280"/>
            <a:ext cx="143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v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án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4360" y="602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r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efinir Función Objeti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56000" y="1197000"/>
          <a:ext cx="4363920" cy="55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197000"/>
                    <a:ext cx="436392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187280" y="5661000"/>
            <a:ext cx="2808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140360" y="4221000"/>
            <a:ext cx="324000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258920" y="2205000"/>
            <a:ext cx="172872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3933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r fun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229360"/>
            <a:ext cx="16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riable aleatoria (color ver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lda de fun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Nombre de Función Objeti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457360" y="3165480"/>
          <a:ext cx="4229280" cy="14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7360" y="3165480"/>
                    <a:ext cx="422928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 flipV="1">
            <a:off x="1835280" y="3644640"/>
            <a:ext cx="1008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486900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 de la celda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03:33:16Z</dcterms:created>
  <dc:creator>Sob</dc:creator>
  <dc:description/>
  <dc:language>en-US</dc:language>
  <cp:lastModifiedBy>Paola Nahum</cp:lastModifiedBy>
  <dcterms:modified xsi:type="dcterms:W3CDTF">2006-10-27T03:42:48Z</dcterms:modified>
  <cp:revision>9</cp:revision>
  <dc:subject/>
  <dc:title>Simulación </dc:title>
</cp:coreProperties>
</file>