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6313-B4FB-478A-8374-73900799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454-FAEF-4B07-86DA-183342A8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06F-3E57-475C-8347-C66738B7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186-B5C5-4FE6-8BCD-9FE68328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FD30-8A77-4429-B679-475D98F8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51D8-9A39-4772-8597-2FF0126D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0D7F-045B-4B33-B9C6-95B78CC3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B05F-C783-4E23-96E9-FF0B2B2A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A41D-4B8F-4B17-B4DB-DE457E80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7692-78AA-4D46-BF76-AB805031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2483-283A-44B9-A340-F701E5A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F03-265F-40D7-8AD9-30960C02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C238-F38B-40EF-B26B-5BA90656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8DB8-374C-4DD1-9AFF-58CB5599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C142-26FE-462C-B93A-FB6480DA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566A-1718-44AD-9C54-FE67FDE3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50F8-AC8A-4C9A-87F3-72455DB0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053-AF17-4F1B-8029-50B370D7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E3E-3D26-4D29-A496-BCA69195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362-25A8-467A-B8D0-2DBC3C86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2D9-9719-4394-8673-1195E9FA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BA9-AD54-4386-8942-3B066F63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0C4-3D00-4880-8DF0-AF84C88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7FC-D123-4466-994D-3AE62712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02A7-1604-4C6D-8E17-299814612F3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9EE-2FCD-4A1F-86F8-CC155FF5E39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Arial"/>
              </a:rPr>
              <a:t>Simulación</a:t>
            </a: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42A - Evaluación de Proye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6381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mestre Primavera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638172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54936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627280" y="1341360"/>
          <a:ext cx="37400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41360"/>
                    <a:ext cx="37400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050920" y="5877000"/>
            <a:ext cx="1873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355640" y="2276280"/>
            <a:ext cx="309564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437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r el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5445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Objetivo (Color Cele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.despues de algunos segundos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Resultado de simulación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449440" y="1052640"/>
          <a:ext cx="423864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052640"/>
                    <a:ext cx="4238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 flipV="1">
            <a:off x="1763640" y="393336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763640" y="2349360"/>
            <a:ext cx="1295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27664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de Control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4149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la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348000" y="1989000"/>
            <a:ext cx="417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700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de la sim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nsuciándose las manos…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amos un ejemplo en Excel…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Ejemplo: Planta de Empresa Mine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minera tiene un proyecto donde requiere invertir en la construcción de una plan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planta y sus instalaciones asociadas requieren una inversión total de US$10 mill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fijo anual de US$ 1 mill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e 10.000 toneladas por año de cátodos de cobre f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 variable de producción estimado en US$0,70 por libra de cobre fino produc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ecio medio esperado de largo plazo del cobre es de US$0,90 por lib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descuento es de 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asa de impuesto a las utilidades es de 17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eríodo de depreci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orizonte de evaluación es de 10 añ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residual de los activos al final del proyecto es 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CAP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ortafolio Mínima vari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WACC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apalancar b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álculo de W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Simulación Estática (o de Montecar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modelan las distribuciones estadísticas de cada variable incierta y sus correlaci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 cada valor de la variable se calcula un valor para el flujo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genera una distribución de valores presentes, en donde el valor del proyecto es la media, y el riesgo está dado por la dispersión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 generamos las distribuci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ystalball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www.crystalball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cc"/>
                </a:solidFill>
                <a:latin typeface="Arial"/>
              </a:rPr>
              <a:t>Software de Simul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35280" y="1268280"/>
          <a:ext cx="5832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268280"/>
                    <a:ext cx="5832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variables aleatori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1125360"/>
          <a:ext cx="4238640" cy="532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423864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>
            <a:off x="1403280" y="2133360"/>
            <a:ext cx="936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2997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979640" y="5445000"/>
            <a:ext cx="1728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95008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 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08000" y="1557360"/>
          <a:ext cx="597564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557360"/>
                    <a:ext cx="597564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V="1">
            <a:off x="1692360" y="3141720"/>
            <a:ext cx="23749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43657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Parámetros de la distribu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67040" y="1989000"/>
          <a:ext cx="520992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89000"/>
                    <a:ext cx="520992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V="1">
            <a:off x="1258920" y="2708280"/>
            <a:ext cx="1873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4941720"/>
            <a:ext cx="158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16360" y="3933720"/>
            <a:ext cx="26640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0360" y="5516280"/>
            <a:ext cx="115272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141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3500280"/>
            <a:ext cx="143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4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56000" y="1197000"/>
          <a:ext cx="4363920" cy="55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197000"/>
                    <a:ext cx="436392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187280" y="5661000"/>
            <a:ext cx="2808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140360" y="4221000"/>
            <a:ext cx="3240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58920" y="2205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933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22936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riable aleatoria (color ve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lda de función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Nombre de Función Objeti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57360" y="3165480"/>
          <a:ext cx="42292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3165480"/>
                    <a:ext cx="42292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 flipV="1">
            <a:off x="1835280" y="3644640"/>
            <a:ext cx="1008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8690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de la celda obj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03:33:16Z</dcterms:created>
  <dc:creator>Sob</dc:creator>
  <dc:description/>
  <dc:language>en-US</dc:language>
  <cp:lastModifiedBy>Paola Nahum</cp:lastModifiedBy>
  <dcterms:modified xsi:type="dcterms:W3CDTF">2006-10-27T03:42:48Z</dcterms:modified>
  <cp:revision>9</cp:revision>
  <dc:subject/>
  <dc:title>Simulación </dc:title>
</cp:coreProperties>
</file>