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522-D5FE-4DD2-85C8-744C7C3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83B-CBFB-41F1-864B-CA2B8A8B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882-9728-4D2C-8D43-09818EBE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965-1484-48B7-8F16-0820FD2A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C88-EBF6-4B0F-9E50-2230A7D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4CE-72CA-470B-A12B-C3C48BB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9B1-2104-4FE6-B6A4-32F59E7D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306-7E43-449C-A45F-4C3B150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452-6F7F-4558-8969-1143C8A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ADB-274D-4FA5-9BE2-4370EA9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2AD-E0A2-40C5-94EF-CF05D63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1AE-189F-4165-8126-795111B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D73-182C-43A2-8E94-06115132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003400"/>
            <a:ext cx="5905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200" y="11592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LABRA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28916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condiciones para un crecimiento sostenido son prop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crecimiento es tarea d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gobierno hace su aporte, perfeccionando las políticas pu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una economía de mercado, la inversión y las ganancias de productividad provienen del sector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í, Chile comp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3840" y="485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2519280"/>
            <a:ext cx="5905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0720" y="1144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55640" y="1557360"/>
          <a:ext cx="7561440" cy="488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557360"/>
                    <a:ext cx="75614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640" y="9810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preads Soberanos - EMBI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634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957320"/>
            <a:ext cx="77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ego Estricto a Regla de Superávit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uda Públic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ejo Prudente de los Activos Públ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yecto de 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15280" y="1989000"/>
            <a:ext cx="36036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179280" y="18900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86364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lance del Gobierno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547640"/>
          <a:ext cx="8569080" cy="454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47640"/>
                    <a:ext cx="8569080" cy="45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558800"/>
          <a:ext cx="8642520" cy="467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58800"/>
                    <a:ext cx="86425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1030320"/>
            <a:ext cx="8610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uda Bruta Consolid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Gobierno Central y Banco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ormación Bruta de Capital Fijo (% P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29596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p): Proyección Banco Central de Chile IPoM Mayo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4600" y="987480"/>
          <a:ext cx="860580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00" y="987480"/>
                    <a:ext cx="860580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6840" y="16344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uesto de Timbres y Estamp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981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roducción Exención Pago Impuesto Ty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rogramación Créditos Hipotecarios - Dici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2040" y="1677960"/>
          <a:ext cx="793908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1677960"/>
                    <a:ext cx="793908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71640" y="6364440"/>
            <a:ext cx="74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: Estimación Preliminar Asociación de Bancos e Instituciones Financieras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5760" y="1634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plificación 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765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aración Costos Pequeño Contribuyente Tí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4073400"/>
            <a:ext cx="86040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 el sistema actual los contribuyentes deben pagar por contadores y además deben absorber el costo de oportunidad de prestarle al Estado (Pago de PPM que posteriormente se les devuelve íntegramente en la operación renta del año siguient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l sistema propuesto los costos para los contribuyentes disminuyen radicalmente al reducirse los PPM y al eliminarse la obligación de llevar contabilidad comple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920" y="1998720"/>
          <a:ext cx="8893080" cy="344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998720"/>
                    <a:ext cx="889308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68520" y="112536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ción del gasto en I+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mpresas - Resto) como % del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5464080"/>
            <a:ext cx="48006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ECD MSTI (2004), RICYT (2003) y CONICYT (20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: Estado, Enseñanza Superior, IPSFL y Extranje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mpresas: Privadas y estat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592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sición de Chile en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8000" y="1159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MPORTANCIA CENTRAL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07920"/>
            <a:ext cx="842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ser un país desarrollado, Chile debe cre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recimiento económico sostenido no se produce de modo automático: requiere esfuerzo continuo tanto del sector público como del priv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nueva economía global, el mayor crecimiento sólo se logra con más productividad, inversión y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crecer hay que ser competitivos, con más emprendimientos, mayor innovación, un mercado de capitales profundo y una institucionalidad mod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lan Chile Compite tiene por objetivo estimular la competitividad de nuestra economía. Anunciamos nuevas políticas, materializamos compromisos y priorizamos iniciativas en 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3289320"/>
            <a:ext cx="174312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perávit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0480" y="2036880"/>
            <a:ext cx="2173320" cy="10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reserva de p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2 % PIB oblig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máxi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27480" y="3524400"/>
            <a:ext cx="219708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pitalización Banco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por 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4581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4360" y="4981680"/>
            <a:ext cx="2319120" cy="10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Estabilización Económica y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erávit por sobre 1% 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14172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060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QUISITOS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957320"/>
            <a:ext cx="77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ilidad Política: Institucionalidad 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1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9128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ONENTES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195732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1700280"/>
            <a:ext cx="685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cnología y 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115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ILARES PLAN CHILE COMP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11592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7984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Facilidades para el Cumplimiento Tribu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Dictaremos la resolución que facilita el pago de deudas tributarias, facultando a Tesorería a reducir hasta en un 80% las multas e intereses a quienes salden sus compromi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9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Perfeccionamiento y Reducción del Impuesto de Timbres y Estamp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Ingresaremos proyecto que exime de este impuesto a  reprogramaciones y reduce gradualmente la tasa hasta un 1,2% para las nuevas ope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2200" y="32338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Fortalecimiento Fondo de Garantía para Pequeños Empresarios (FOGA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Ingresaremos proyecto que perfecciona su operación y aumenta su patrimonio, permitiendo un incremento de 46% en las oper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22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Simplificación Tributaria para Micro y Pequeños Contrib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sta iniciativa, que reduce los costos asociados al cumplimiento tributario para este s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22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Reconocimiento Expedito del Financiamiento Obras Viales de U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SII dictará norma que permitirá de manera expedita el reconocimiento como gasto para el impuesto a la renta los aportes efectuados por empresas para financiar infraestructura vial de benefic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20416 L 2.5E-006 0.05734 E">
                                      <p:cBhvr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4763 L 2.5E-006 3.69942E-006 E">
                                      <p:cBhvr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0578E-006 L 0 -0.08671 E">
                                      <p:cBhvr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622 L 2.5E-006 1.84971E-006 E">
                                      <p:cBhvr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33549 L 0 -0.00255 E">
                                      <p:cBhvr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33156 L 0.00018 0.00138 E">
                                      <p:cBhvr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000" y="115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CNOLOGIA Y 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Incentivo a la adopción de nuevas 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Enviaremos al Congreso el proyecto de ley que uniforma en 15% el impuesto a importación de software, patentes y asesorías tecno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525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Subsidio a inversión privada en I+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Enviaremos al Congreso el proyecto de ley que subsidia en 35% la inversión en I+D realizada por empresas en conjunto con universidades y centros de investigación acredi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881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stitucionalidad para la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crea el Fondo y el Consejo Nacional de Inno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7308720" y="189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3.58382E-006 E">
                                      <p:cBhvr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48555E-006 L 2.5E-006 -0.17434 E">
                                      <p:cBhvr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23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1159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formas al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Reactivaremos el trámite legislativo del proyecto MKII, centrado en tres áreas: financiamiento de nuevos proyectos, seguridad en el mercado de valores y desarrollo del mercado de capi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Internacionalización del 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lementaremos normas que permiten a extranjeros emitir bonos en pesos en Chile, con el objetivo de desarrollar un mercado internacional para instrumentos financieros en p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462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teg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ulsaremos iniciativas que profundizan mercado de derivados y que permiten a extranjeros transar sus valores en Ch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721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Comité de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Renovaremos el trabajo de la instancia integrada por SVS-SBIF-SAFP-Banco Central y Hacienda, para diseñar políticas de desarrollo de mercados financieros y llevar a cabo consultas con el sector privado sobre estas mate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27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5434E-006 L 2.5E-006 0.00347 E">
                                      <p:cBhvr>
                                        <p:cTn id="28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948E-006 L 2.5E-006 -0.22127 E">
                                      <p:cBhvr>
                                        <p:cTn id="30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12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393 L 2.5E-006 -0.26289 E">
                                      <p:cBhvr>
                                        <p:cTn id="332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4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" y="11592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sponsabilidad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Luego de la aprobación del proyecto de ley de Responsabilidad Fiscal, pondremos en marcha los nuevos Fondos de Estabilización Económica y Social  y de Reserva de Pen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701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Libr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fortalece  el Tribunal de Defensa de la Libre Competencia y la Fiscalía Nacional 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29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Tribunales Tribu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Reactivaremos el trámite legislativo del proyecto de ley que crea Tribunales Tributarios, con indicaciones que garanticen tanto la defensa de los derechos de los consumidores como la recaudación fis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37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4971E-006 L 2.5E-006 -0.24786 E">
                                      <p:cBhvr>
                                        <p:cTn id="399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4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6:16:29Z</dcterms:created>
  <dc:creator>Diseno21</dc:creator>
  <dc:description/>
  <dc:language>en-US</dc:language>
  <cp:lastModifiedBy>user</cp:lastModifiedBy>
  <dcterms:modified xsi:type="dcterms:W3CDTF">2006-07-19T23:52:23Z</dcterms:modified>
  <cp:revision>40</cp:revision>
  <dc:subject/>
  <dc:title>PowerPoint Presentation</dc:title>
</cp:coreProperties>
</file>