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3141-3642-492D-9AB7-BCA94AE6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8C9C-A589-4335-9ED5-5922D1E5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5E1C-6B20-448E-9991-15883296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F959-B313-4A39-AE51-CA402DDB0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3710-7082-4E68-AC89-F9E7FA0A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06D4-1674-4AC5-BDC6-5AFE9601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43F0-A74B-4676-A1FC-D88B3A48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419A-9930-446C-A63E-09A0EB56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7E9E-4355-4A2F-A684-18BB8CBD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7723-CF07-416F-9BC0-AC1C3F79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77F9-D0CE-4FCB-9FAA-7E7EC5FE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EB1B-7F6E-46DF-9605-011A3675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60CD-B114-4607-88B5-7F7A85151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3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3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5280" y="2003400"/>
            <a:ext cx="590544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CHILE COMPI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inisterio de Haci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Julio de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6200" y="11592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ALABRA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1289160"/>
            <a:ext cx="784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s condiciones para un crecimiento sostenido son propi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 crecimiento es tarea de 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 gobierno hace su aporte, perfeccionando las políticas publ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una economía de mercado, la inversión y las ganancias de productividad provienen del sector priv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sí, Chile comp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63840" y="4859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35280" y="2519280"/>
            <a:ext cx="590544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CHILE COMPI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inisterio de Haci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Julio de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40720" y="11448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rotección ante las Turbulencia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108000" y="115920"/>
            <a:ext cx="36036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55640" y="1557360"/>
          <a:ext cx="7561440" cy="4884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557360"/>
                    <a:ext cx="7561440" cy="48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39640" y="981000"/>
            <a:ext cx="7772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preads Soberanos - EMBI Glob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9640" y="16344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olidez Fiscal y Macro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1957320"/>
            <a:ext cx="777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pego Estricto a Regla de Superávit Estruc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uda Pública B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anejo Prudente de los Activos Públic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yecto de Responsabilidad Fis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15280" y="1989000"/>
            <a:ext cx="36036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59280" y="3068640"/>
            <a:ext cx="36036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2" action="ppaction://hlinksldjump"/>
          </p:cNvPr>
          <p:cNvSpPr/>
          <p:nvPr/>
        </p:nvSpPr>
        <p:spPr>
          <a:xfrm>
            <a:off x="179280" y="189000"/>
            <a:ext cx="36036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68360" y="11592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olidez Fiscal y Macro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108000" y="115920"/>
            <a:ext cx="36036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863640"/>
            <a:ext cx="7772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alance del Gobierno Cent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% del PI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50920" y="1547640"/>
          <a:ext cx="8569080" cy="4545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547640"/>
                    <a:ext cx="8569080" cy="454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8360" y="11592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olidez Fiscal y Macro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108000" y="115920"/>
            <a:ext cx="36036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79280" y="1558800"/>
          <a:ext cx="8642520" cy="4678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558800"/>
                    <a:ext cx="864252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04920" y="1030320"/>
            <a:ext cx="86104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euda Bruta Consolid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Gobierno Central y Banco Cent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% del PI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11592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ormación Bruta de Capital Fijo (% PI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115920"/>
            <a:ext cx="36036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529596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p): Proyección Banco Central de Chile IPoM Mayo 200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4600" y="987480"/>
          <a:ext cx="8605800" cy="4194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00" y="987480"/>
                    <a:ext cx="860580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46840" y="163440"/>
            <a:ext cx="52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mpuesto de Timbres y Estampi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07280" y="189000"/>
            <a:ext cx="3603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981000"/>
            <a:ext cx="70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roducción Exención Pago Impuesto Ty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programación Créditos Hipotecarios - Diciembr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2040" y="1677960"/>
          <a:ext cx="7939080" cy="470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040" y="1677960"/>
                    <a:ext cx="793908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971640" y="6364440"/>
            <a:ext cx="74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uente: Estimación Preliminar Asociación de Bancos e Instituciones Financieras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45760" y="1634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mplificación Tribu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 flipH="1">
            <a:off x="107280" y="189000"/>
            <a:ext cx="3603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76500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mparación Costos Pequeño Contribuyente Típ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6000" y="4073400"/>
            <a:ext cx="8604000" cy="16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 el sistema actual los contribuyentes deben pagar por contadores y además deben absorber el costo de oportunidad de prestarle al Estado (Pago de PPM que posteriormente se les devuelve íntegramente en la operación renta del año siguient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el sistema propuesto los costos para los contribuyentes disminuyen radicalmente al reducirse los PPM y al eliminarse la obligación de llevar contabilidad comple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878544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4920" y="1998720"/>
          <a:ext cx="8893080" cy="3446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0" y="1998720"/>
                    <a:ext cx="8893080" cy="34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568520" y="1125360"/>
            <a:ext cx="5943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ción del gasto en I+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Empresas - Resto) como % del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08160" y="5464080"/>
            <a:ext cx="480060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uente: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ECD MSTI (2004), RICYT (2003) y CONICYT (200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sto: Estado, Enseñanza Superior, IPSFL y Extranje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mpresas: Privadas y estata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15920"/>
            <a:ext cx="669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osición de Chile en Inno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4" action="ppaction://hlinksldjump"/>
          </p:cNvPr>
          <p:cNvSpPr/>
          <p:nvPr/>
        </p:nvSpPr>
        <p:spPr>
          <a:xfrm flipH="1">
            <a:off x="107280" y="189000"/>
            <a:ext cx="3603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8000" y="11592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MPORTANCIA CENTRAL DEL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907920"/>
            <a:ext cx="8424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llegar a ser un país desarrollado, Chile debe crec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crecimiento económico sostenido no se produce de modo automático: requiere esfuerzo continuo tanto del sector público como del priva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la nueva economía global, el mayor crecimiento sólo se logra con más productividad, inversión y compet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crecer hay que ser competitivos, con más emprendimientos, mayor innovación, un mercado de capitales profundo y una institucionalidad moder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Plan Chile Compite tiene por objetivo estimular la competitividad de nuestra economía. Anunciamos nuevas políticas, materializamos compromisos y priorizamos iniciativas en cur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esponsabilidad Fis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47640" y="3289320"/>
            <a:ext cx="1743120" cy="12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uperávit fis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00480" y="2036880"/>
            <a:ext cx="2173320" cy="101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Fondo de reserva de p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0,2 % PIB obliga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0,5% PIB máxim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27480" y="3524400"/>
            <a:ext cx="2197080" cy="95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Capitalización Banco 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0,5% PIB por 5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27640" y="4581360"/>
            <a:ext cx="18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94360" y="4981680"/>
            <a:ext cx="2319120" cy="10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Fondo de Estabilización Económica y So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uperávit por sobre 1% P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56360" y="314172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95640" y="2060640"/>
            <a:ext cx="503280" cy="3816360"/>
          </a:xfrm>
          <a:custGeom>
            <a:avLst/>
            <a:gdLst>
              <a:gd name="textAreaLeft" fmla="*/ 321480 w 503280"/>
              <a:gd name="textAreaRight" fmla="*/ 503640 w 50328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07280" y="189000"/>
            <a:ext cx="3603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8000" y="11592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EQUISITOS PARA EL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957320"/>
            <a:ext cx="777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abilidad Política: Institucionalidad Democr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tección ante las Turbulencia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olidez Fiscal y Macro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91280" y="3068640"/>
            <a:ext cx="36036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91280" y="4149720"/>
            <a:ext cx="36036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8000" y="11592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PONENTES DEL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00360" y="1957320"/>
            <a:ext cx="460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du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mpeti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4149720"/>
            <a:ext cx="36036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58920" y="1700280"/>
            <a:ext cx="68580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mp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cnología y Competi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rcado de Capi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stitucionalidad para el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8000" y="1159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PILARES PLAN CHILE COMP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8000" y="11592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MPREND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79848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. Facilidades para el Cumplimiento Tribu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ulio 2006: Dictaremos la resolución que facilita el pago de deudas tributarias, facultando a Tesorería a reducir hasta en un 80% las multas e intereses a quienes salden sus compromi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9890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. Perfeccionamiento y Reducción del Impuesto de Timbres y Estampi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osto 2006: Ingresaremos proyecto que exime de este impuesto a  reprogramaciones y reduce gradualmente la tasa hasta un 1,2% para las nuevas opera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2200" y="3233880"/>
            <a:ext cx="864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. Fortalecimiento Fondo de Garantía para Pequeños Empresarios (FOGA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ulio 2006: Ingresaremos proyecto que perfecciona su operación y aumenta su patrimonio, permitiendo un incremento de 46% en las operacion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4221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. Simplificación Tributaria para Micro y Pequeños Contribuy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ulio 2006: Calificaremos con Urgencia Simple esta iniciativa, que reduce los costos asociados al cumplimiento tributario para este sec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2293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. Reconocimiento Expedito del Financiamiento Obras Viales de Uso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osto 2006: SII dictará norma que permitirá de manera expedita el reconocimiento como gasto para el impuesto a la renta los aportes efectuados por empresas para financiar infraestructura vial de beneficio públ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20416 L 2.5E-006 0.05734 E">
                                      <p:cBhvr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4763 L 2.5E-006 3.69942E-006 E">
                                      <p:cBhvr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00578E-006 L 0 -0.08671 E">
                                      <p:cBhvr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8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2622 L 2.5E-006 1.84971E-006 E">
                                      <p:cBhvr>
                                        <p:cTn id="91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32948E-006 L -1.11111E-006 -0.33549 E">
                                      <p:cBhvr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1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33549 L 0 -0.00255 E">
                                      <p:cBhvr>
                                        <p:cTn id="127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32948E-006 L -1.11111E-006 -0.33549 E">
                                      <p:cBhvr>
                                        <p:cTn id="152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1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33156 L 0.00018 0.00138 E">
                                      <p:cBhvr>
                                        <p:cTn id="160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8000" y="11592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ECNOLOGIA Y COMPETI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125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. Incentivo a la adopción de nuevas tecnolog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osto 2006: Enviaremos al Congreso el proyecto de ley que uniforma en 15% el impuesto a importación de software, patentes y asesorías tecnológ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25257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. Subsidio a inversión privada en I+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ptiembre 2006: Enviaremos al Congreso el proyecto de ley que subsidia en 35% la inversión en I+D realizada por empresas en conjunto con universidades y centros de investigación acredita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38815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. Institucionalidad para la Innov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ulio 2006: Calificaremos con Urgencia Simple el proyecto de ley que crea el Fondo y el Consejo Nacional de Innov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7308720" y="189000"/>
            <a:ext cx="4320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1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07052 L 2.5E-006 3.58382E-006 E">
                                      <p:cBhvr>
                                        <p:cTn id="203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0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2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48555E-006 L 2.5E-006 -0.17434 E">
                                      <p:cBhvr>
                                        <p:cTn id="224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2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17734 L 2.5E-006 0.00393 E">
                                      <p:cBhvr>
                                        <p:cTn id="232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8000" y="11592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MERCADO DE CAPI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. Reformas al Mercado de Capi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osto 2006: Reactivaremos el trámite legislativo del proyecto MKII, centrado en tres áreas: financiamiento de nuevos proyectos, seguridad en el mercado de valores y desarrollo del mercado de capit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213372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. Internacionalización del 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gundo Semestre 2006: Implementaremos normas que permiten a extranjeros emitir bonos en pesos en Chile, con el objetivo de desarrollar un mercado internacional para instrumentos financieros en pe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34624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. Integración Financi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gundo Semestre 2006: Impulsaremos iniciativas que profundizan mercado de derivados y que permiten a extranjeros transar sus valores en Chi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4772160"/>
            <a:ext cx="83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. Comité de Mercado de Capi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gundo Semestre 2006: Renovaremos el trabajo de la instancia integrada por SVS-SBIF-SAFP-Banco Central y Hacienda, para diseñar políticas de desarrollo de mercados financieros y llevar a cabo consultas con el sector privado sobre estas mater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2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07052 L 2.5E-006 0.02497 E">
                                      <p:cBhvr>
                                        <p:cTn id="276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7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2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25434E-006 L 2.5E-006 0.00347 E">
                                      <p:cBhvr>
                                        <p:cTn id="284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2948E-006 L 2.5E-006 -0.22127 E">
                                      <p:cBhvr>
                                        <p:cTn id="304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3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3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17734 L 2.5E-006 0.00393 E">
                                      <p:cBhvr>
                                        <p:cTn id="312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00393 L 2.5E-006 -0.26289 E">
                                      <p:cBhvr>
                                        <p:cTn id="332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3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3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17734 L 2.5E-006 0.00393 E">
                                      <p:cBhvr>
                                        <p:cTn id="340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4920" y="115920"/>
            <a:ext cx="90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V.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NSTITUCIONALIDAD PARA EL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125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. Responsabilidad Fis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gundo Semestre 2006: Luego de la aprobación del proyecto de ley de Responsabilidad Fiscal, pondremos en marcha los nuevos Fondos de Estabilización Económica y Social  y de Reserva de Pens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67012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. Libre Compe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ulio 2006: Calificaremos con Urgencia Simple el proyecto de ley que fortalece  el Tribunal de Defensa de la Libre Competencia y la Fiscalía Nacional Económ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4292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. Tribunales Tribut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ptiembre 2006: Reactivaremos el trámite legislativo del proyecto de ley que crea Tribunales Tributarios, con indicaciones que garanticen tanto la defensa de los derechos de los consumidores como la recaudación fisc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35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3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07052 L 2.5E-006 0.02497 E">
                                      <p:cBhvr>
                                        <p:cTn id="378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3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3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84971E-006 L 2.5E-006 -0.24786 E">
                                      <p:cBhvr>
                                        <p:cTn id="399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4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4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17734 L 2.5E-006 0.00393 E">
                                      <p:cBhvr>
                                        <p:cTn id="407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16:16:29Z</dcterms:created>
  <dc:creator>Diseno21</dc:creator>
  <dc:description/>
  <dc:language>en-US</dc:language>
  <cp:lastModifiedBy>user</cp:lastModifiedBy>
  <dcterms:modified xsi:type="dcterms:W3CDTF">2006-07-19T23:52:23Z</dcterms:modified>
  <cp:revision>40</cp:revision>
  <dc:subject/>
  <dc:title>PowerPoint Presentation</dc:title>
</cp:coreProperties>
</file>