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33714-3D30-4474-8120-F58926CA6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647720" y="46544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1E7EF-712F-4448-8249-D653ABB73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2768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647720" y="46544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27680" y="46544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D7BBC-5076-422E-8D09-2F5C6A767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11680" y="37386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76000" y="37386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647720" y="46544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11680" y="46544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76000" y="46544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EBE9F-C7B7-4D05-BCE6-E7217C31D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30361-61F3-4D9A-89C6-05DB51AC9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647720" y="373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A2B07-D4F9-465A-B99D-1E6D2A04B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B7009-77AA-40A3-B8B3-043C10560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27680" y="37386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6E427-45FD-4562-B23E-C71E329F7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BCE68-4FF4-4361-BB13-E87DBBC17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61920" y="19252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72AED-E378-45AA-9D9F-91EDBBCD9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27680" y="37386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647720" y="46544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BCB16-54E0-4AD9-AAFC-588F73540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647720" y="373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4AEF4-D9D2-4C6E-8365-F7824C640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2768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27680" y="46544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EEB73-BC42-4C77-AEA1-C1D02768E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2768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647720" y="46544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9DBA0-FB02-4A86-89FB-92B095711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647720" y="46544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0020D-0B66-411E-A9E5-0FB152690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2768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647720" y="46544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27680" y="46544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667F6-CD83-44EB-B8CE-7364C3F1A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11680" y="37386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76000" y="37386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647720" y="46544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811680" y="46544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76000" y="46544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A92AE-14C2-4586-BC2B-FFA41E20F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D795C-4037-42F0-AE0E-3085B9CD1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27680" y="37386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B693E-02FD-435C-8C80-E2E86B74F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57AAC-251E-44BC-9643-5D1656410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61920" y="19252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86FE8-6293-41CB-B615-1A83FE238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27680" y="37386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47720" y="46544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0CA0A-A19D-47DB-87D3-B2B0AD616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2768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27680" y="46544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CBF47-CCA6-4FE7-890A-415797B57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2768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647720" y="46544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52E30-5889-41A3-A4B7-DBC1CCFC1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4B4F0-71FD-4AC5-9A11-49AC61F965F9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6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47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1726E-7052-490C-8437-BC2F087E0015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08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 u="sng">
                <a:solidFill>
                  <a:srgbClr val="996633"/>
                </a:solidFill>
                <a:uFillTx/>
                <a:latin typeface="Times New Roman"/>
              </a:rPr>
              <a:t>Interacción Estratégica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00000" y="1373040"/>
            <a:ext cx="7937640" cy="44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buClr>
                <a:srgbClr val="402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Cuando tomamos decisiones interactuamos estratégicamente con alguien.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La teoría de juegos se dedica al estudio de la toma de decisiones estratégicas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buClr>
                <a:srgbClr val="402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Empresa : El gerente fija el precio tomando en cuenta el precio que fijará su competencia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“Guerra del multicarrier”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buClr>
                <a:srgbClr val="402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Partido político : Los candidatos se definen tomando en cuenta los candidatos del partido opositor y del propio sector político.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Sistema binominal de elección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 u="sng">
                <a:solidFill>
                  <a:srgbClr val="996633"/>
                </a:solidFill>
                <a:uFillTx/>
                <a:latin typeface="Times New Roman"/>
              </a:rPr>
              <a:t>Interacción Estratégica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219480" y="2567160"/>
            <a:ext cx="4241880" cy="2717640"/>
          </a:xfrm>
          <a:prstGeom prst="rect">
            <a:avLst/>
          </a:prstGeom>
          <a:noFill/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219480" y="2567160"/>
            <a:ext cx="4241880" cy="271764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219480" y="3925800"/>
            <a:ext cx="4241880" cy="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340240" y="2567160"/>
            <a:ext cx="0" cy="271764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353200" y="2567160"/>
            <a:ext cx="2108160" cy="134604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219480" y="3938760"/>
            <a:ext cx="2108160" cy="134604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760400" y="2860560"/>
            <a:ext cx="1368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Alt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684440" y="4384800"/>
            <a:ext cx="1368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Baj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436920" y="2022480"/>
            <a:ext cx="1368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Britannic Bold"/>
              </a:rPr>
              <a:t> </a:t>
            </a:r>
            <a:r>
              <a:rPr b="0" lang="es-ES_tradnl" sz="2400" spc="-1" strike="noStrike">
                <a:solidFill>
                  <a:srgbClr val="402000"/>
                </a:solidFill>
                <a:latin typeface="Britannic Bold"/>
              </a:rPr>
              <a:t>Alt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799240" y="2022480"/>
            <a:ext cx="1673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Britannic Bold"/>
              </a:rPr>
              <a:t>Baj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513240" y="3241800"/>
            <a:ext cx="6825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10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513240" y="4537080"/>
            <a:ext cx="758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15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646600" y="4537080"/>
            <a:ext cx="530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5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570640" y="3317760"/>
            <a:ext cx="530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4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427640" y="2708280"/>
            <a:ext cx="834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Britannic Bold"/>
              </a:rPr>
              <a:t>10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485040" y="2708280"/>
            <a:ext cx="758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Britannic Bold"/>
              </a:rPr>
              <a:t>15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03600" y="4156200"/>
            <a:ext cx="6829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Britannic Bold"/>
              </a:rPr>
              <a:t>4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561000" y="4079880"/>
            <a:ext cx="6829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Britannic Bold"/>
              </a:rPr>
              <a:t>5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74600" y="3546360"/>
            <a:ext cx="1749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CTC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656240" y="1488960"/>
            <a:ext cx="1520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Britannic Bold"/>
              </a:rPr>
              <a:t>Entel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 u="sng">
                <a:solidFill>
                  <a:srgbClr val="996633"/>
                </a:solidFill>
                <a:uFillTx/>
                <a:latin typeface="Times New Roman"/>
              </a:rPr>
              <a:t>Interacción Estratégica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87240" y="1373040"/>
            <a:ext cx="8150400" cy="46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1" marL="571680">
              <a:lnSpc>
                <a:spcPct val="100000"/>
              </a:lnSpc>
              <a:spcBef>
                <a:spcPts val="1500"/>
              </a:spcBef>
              <a:buClr>
                <a:srgbClr val="402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Tipos de juego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buClr>
                <a:srgbClr val="402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Consecutivos: cada jugador juega luego de que el otro jugó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Principio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buClr>
                <a:srgbClr val="402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Cada  jugador debe calcular cuáles van a ser las jugadas de los demás participantes y utilizar esto para determinar cuál es en cada momento su mejor jugada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Regla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buClr>
                <a:srgbClr val="402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Mire hacia adelante y razone hacia atrás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 u="sng">
                <a:solidFill>
                  <a:srgbClr val="996633"/>
                </a:solidFill>
                <a:uFillTx/>
                <a:latin typeface="Times New Roman"/>
              </a:rPr>
              <a:t>Interacción Estratégica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81200" y="3817800"/>
            <a:ext cx="291960" cy="444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1903320" y="2820600"/>
            <a:ext cx="1524240" cy="121932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433680" y="2674800"/>
            <a:ext cx="292320" cy="444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827360" y="2820960"/>
            <a:ext cx="1139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Ingresa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903320" y="4116240"/>
            <a:ext cx="4802400" cy="992160"/>
          </a:xfrm>
          <a:custGeom>
            <a:avLst/>
            <a:gdLst/>
            <a:ahLst/>
            <a:rect l="l" t="t" r="r" b="b"/>
            <a:pathLst>
              <a:path w="2929" h="625">
                <a:moveTo>
                  <a:pt x="0" y="0"/>
                </a:moveTo>
                <a:lnTo>
                  <a:pt x="830" y="624"/>
                </a:lnTo>
                <a:lnTo>
                  <a:pt x="2928" y="624"/>
                </a:lnTo>
              </a:path>
            </a:pathLst>
          </a:custGeom>
          <a:noFill/>
          <a:ln cap="rnd" w="255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76720" y="2060640"/>
            <a:ext cx="758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CC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267080" y="1832040"/>
            <a:ext cx="26640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Guerra de precio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161120" y="2212920"/>
            <a:ext cx="5320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Arial Narrow"/>
              </a:rPr>
              <a:t>3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924680" y="2212920"/>
            <a:ext cx="606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-1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162920" y="3127320"/>
            <a:ext cx="530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Arial Narrow"/>
              </a:rPr>
              <a:t>25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8001000" y="3127320"/>
            <a:ext cx="606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25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162920" y="4727520"/>
            <a:ext cx="9111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Arial Narrow"/>
              </a:rPr>
              <a:t>5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8077320" y="4727520"/>
            <a:ext cx="6062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732120" y="2440080"/>
            <a:ext cx="2897280" cy="380880"/>
          </a:xfrm>
          <a:custGeom>
            <a:avLst/>
            <a:gdLst/>
            <a:ahLst/>
            <a:rect l="l" t="t" r="r" b="b"/>
            <a:pathLst>
              <a:path w="1729" h="241">
                <a:moveTo>
                  <a:pt x="0" y="240"/>
                </a:moveTo>
                <a:lnTo>
                  <a:pt x="288" y="0"/>
                </a:lnTo>
                <a:lnTo>
                  <a:pt x="1728" y="0"/>
                </a:lnTo>
              </a:path>
            </a:pathLst>
          </a:custGeom>
          <a:noFill/>
          <a:ln cap="rnd" w="255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732120" y="2973240"/>
            <a:ext cx="2897280" cy="459000"/>
          </a:xfrm>
          <a:custGeom>
            <a:avLst/>
            <a:gdLst/>
            <a:ahLst/>
            <a:rect l="l" t="t" r="r" b="b"/>
            <a:pathLst>
              <a:path w="1729" h="241">
                <a:moveTo>
                  <a:pt x="0" y="0"/>
                </a:moveTo>
                <a:lnTo>
                  <a:pt x="288" y="240"/>
                </a:lnTo>
                <a:lnTo>
                  <a:pt x="1728" y="240"/>
                </a:lnTo>
              </a:path>
            </a:pathLst>
          </a:custGeom>
          <a:noFill/>
          <a:ln cap="rnd" w="255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7010280" y="1527120"/>
            <a:ext cx="758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CC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8077320" y="1527120"/>
            <a:ext cx="9111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Arial Narrow"/>
              </a:rPr>
              <a:t>Beck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648320" y="3508200"/>
            <a:ext cx="2663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Acomoda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038480" y="5184720"/>
            <a:ext cx="1597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No ingresa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923240" y="1684440"/>
            <a:ext cx="0" cy="364464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167600" y="2058840"/>
            <a:ext cx="1587600" cy="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62120" y="3813120"/>
            <a:ext cx="9111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Arial Narrow"/>
              </a:rPr>
              <a:t>Beck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265640" y="2592360"/>
            <a:ext cx="2362320" cy="0"/>
          </a:xfrm>
          <a:prstGeom prst="line">
            <a:avLst/>
          </a:prstGeom>
          <a:ln w="38160">
            <a:solidFill>
              <a:srgbClr val="9a7f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74920" y="4878360"/>
            <a:ext cx="3353040" cy="0"/>
          </a:xfrm>
          <a:prstGeom prst="line">
            <a:avLst/>
          </a:prstGeom>
          <a:ln w="38160">
            <a:solidFill>
              <a:srgbClr val="9a7f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 u="sng">
                <a:solidFill>
                  <a:srgbClr val="996633"/>
                </a:solidFill>
                <a:uFillTx/>
                <a:latin typeface="Times New Roman"/>
              </a:rPr>
              <a:t>Interacción Estratégica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81200" y="3817800"/>
            <a:ext cx="291960" cy="444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1903320" y="2820600"/>
            <a:ext cx="1524240" cy="121932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33680" y="2674800"/>
            <a:ext cx="292320" cy="444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827360" y="2820960"/>
            <a:ext cx="1139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Ingresa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903320" y="4116240"/>
            <a:ext cx="4802400" cy="992160"/>
          </a:xfrm>
          <a:custGeom>
            <a:avLst/>
            <a:gdLst/>
            <a:ahLst/>
            <a:rect l="l" t="t" r="r" b="b"/>
            <a:pathLst>
              <a:path w="2929" h="625">
                <a:moveTo>
                  <a:pt x="0" y="0"/>
                </a:moveTo>
                <a:lnTo>
                  <a:pt x="830" y="624"/>
                </a:lnTo>
                <a:lnTo>
                  <a:pt x="2928" y="624"/>
                </a:lnTo>
              </a:path>
            </a:pathLst>
          </a:custGeom>
          <a:noFill/>
          <a:ln cap="rnd" w="255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276720" y="2060640"/>
            <a:ext cx="758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CC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267080" y="1832040"/>
            <a:ext cx="26640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Guerra de precio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161120" y="2212920"/>
            <a:ext cx="5320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Arial Narrow"/>
              </a:rPr>
              <a:t>3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924680" y="2212920"/>
            <a:ext cx="606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-1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7162920" y="3127320"/>
            <a:ext cx="530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Arial Narrow"/>
              </a:rPr>
              <a:t>25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8001000" y="3127320"/>
            <a:ext cx="606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25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162920" y="4727520"/>
            <a:ext cx="9111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Arial Narrow"/>
              </a:rPr>
              <a:t>5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8077320" y="4727520"/>
            <a:ext cx="6062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732120" y="2440080"/>
            <a:ext cx="2897280" cy="380880"/>
          </a:xfrm>
          <a:custGeom>
            <a:avLst/>
            <a:gdLst/>
            <a:ahLst/>
            <a:rect l="l" t="t" r="r" b="b"/>
            <a:pathLst>
              <a:path w="1729" h="241">
                <a:moveTo>
                  <a:pt x="0" y="240"/>
                </a:moveTo>
                <a:lnTo>
                  <a:pt x="288" y="0"/>
                </a:lnTo>
                <a:lnTo>
                  <a:pt x="1728" y="0"/>
                </a:lnTo>
              </a:path>
            </a:pathLst>
          </a:custGeom>
          <a:noFill/>
          <a:ln cap="rnd" w="255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732120" y="2973240"/>
            <a:ext cx="2897280" cy="459000"/>
          </a:xfrm>
          <a:custGeom>
            <a:avLst/>
            <a:gdLst/>
            <a:ahLst/>
            <a:rect l="l" t="t" r="r" b="b"/>
            <a:pathLst>
              <a:path w="1729" h="241">
                <a:moveTo>
                  <a:pt x="0" y="0"/>
                </a:moveTo>
                <a:lnTo>
                  <a:pt x="288" y="240"/>
                </a:lnTo>
                <a:lnTo>
                  <a:pt x="1728" y="240"/>
                </a:lnTo>
              </a:path>
            </a:pathLst>
          </a:custGeom>
          <a:noFill/>
          <a:ln cap="rnd" w="255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010280" y="1527120"/>
            <a:ext cx="758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CC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8077320" y="1527120"/>
            <a:ext cx="9111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Arial Narrow"/>
              </a:rPr>
              <a:t>Beck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648320" y="3508200"/>
            <a:ext cx="2663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Acomoda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038480" y="5184720"/>
            <a:ext cx="1597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No ingresa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923240" y="1684440"/>
            <a:ext cx="0" cy="364464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7167600" y="2058840"/>
            <a:ext cx="1587600" cy="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762120" y="3813120"/>
            <a:ext cx="9111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Arial Narrow"/>
              </a:rPr>
              <a:t>Beck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265640" y="2592360"/>
            <a:ext cx="2362320" cy="0"/>
          </a:xfrm>
          <a:prstGeom prst="line">
            <a:avLst/>
          </a:prstGeom>
          <a:ln w="38160">
            <a:solidFill>
              <a:srgbClr val="9a7f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274920" y="4878360"/>
            <a:ext cx="3353040" cy="0"/>
          </a:xfrm>
          <a:prstGeom prst="line">
            <a:avLst/>
          </a:prstGeom>
          <a:ln w="38160">
            <a:solidFill>
              <a:srgbClr val="9a7f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71640" y="189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 u="sng">
                <a:solidFill>
                  <a:srgbClr val="996633"/>
                </a:solidFill>
                <a:uFillTx/>
                <a:latin typeface="Times New Roman"/>
              </a:rPr>
              <a:t>Interacción Estratégica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059280" y="2749680"/>
            <a:ext cx="4241520" cy="2717640"/>
          </a:xfrm>
          <a:prstGeom prst="rect">
            <a:avLst/>
          </a:prstGeom>
          <a:noFill/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059280" y="2749680"/>
            <a:ext cx="4241520" cy="271764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059280" y="4108320"/>
            <a:ext cx="4241520" cy="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180040" y="2749680"/>
            <a:ext cx="0" cy="271764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192640" y="2749680"/>
            <a:ext cx="2108160" cy="134604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059280" y="4121280"/>
            <a:ext cx="2108160" cy="134604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00200" y="3043080"/>
            <a:ext cx="1368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20-21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523880" y="4567320"/>
            <a:ext cx="1368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22-23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276720" y="2205000"/>
            <a:ext cx="15969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Britannic Bold"/>
              </a:rPr>
              <a:t> </a:t>
            </a:r>
            <a:r>
              <a:rPr b="0" lang="es-ES_tradnl" sz="2400" spc="-1" strike="noStrike">
                <a:solidFill>
                  <a:srgbClr val="402000"/>
                </a:solidFill>
                <a:latin typeface="Britannic Bold"/>
              </a:rPr>
              <a:t>20-21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638680" y="2205000"/>
            <a:ext cx="1673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Britannic Bold"/>
              </a:rPr>
              <a:t>22-23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352680" y="3424320"/>
            <a:ext cx="530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17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4719600"/>
            <a:ext cx="530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486400" y="4719600"/>
            <a:ext cx="530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18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410080" y="3500280"/>
            <a:ext cx="530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16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267080" y="2890800"/>
            <a:ext cx="6829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Britannic Bold"/>
              </a:rPr>
              <a:t>23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324480" y="2890800"/>
            <a:ext cx="758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Britannic Bold"/>
              </a:rPr>
              <a:t>26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343400" y="4338720"/>
            <a:ext cx="6825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Britannic Bold"/>
              </a:rPr>
              <a:t>14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400800" y="4262400"/>
            <a:ext cx="6825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Britannic Bold"/>
              </a:rPr>
              <a:t>21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00000" y="3716280"/>
            <a:ext cx="1749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HB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191120" y="1747800"/>
            <a:ext cx="17492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Britannic Bold"/>
              </a:rPr>
              <a:t>CINEMAX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799160" y="3117960"/>
            <a:ext cx="1447560" cy="0"/>
          </a:xfrm>
          <a:prstGeom prst="line">
            <a:avLst/>
          </a:prstGeom>
          <a:ln w="57240">
            <a:solidFill>
              <a:srgbClr val="402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799160" y="4413240"/>
            <a:ext cx="1447560" cy="0"/>
          </a:xfrm>
          <a:prstGeom prst="line">
            <a:avLst/>
          </a:prstGeom>
          <a:ln w="57240">
            <a:solidFill>
              <a:srgbClr val="402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3960720" y="3650760"/>
            <a:ext cx="0" cy="1219320"/>
          </a:xfrm>
          <a:prstGeom prst="line">
            <a:avLst/>
          </a:prstGeom>
          <a:ln w="57240">
            <a:solidFill>
              <a:srgbClr val="9a7f32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408640" y="3651120"/>
            <a:ext cx="0" cy="1371600"/>
          </a:xfrm>
          <a:prstGeom prst="line">
            <a:avLst/>
          </a:prstGeom>
          <a:ln w="57240">
            <a:solidFill>
              <a:srgbClr val="cd3333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6780240" y="1517760"/>
            <a:ext cx="1676520" cy="1066320"/>
            <a:chOff x="6780240" y="1517760"/>
            <a:chExt cx="1676520" cy="1066320"/>
          </a:xfrm>
        </p:grpSpPr>
        <p:sp>
          <p:nvSpPr>
            <p:cNvPr id="279" name=""/>
            <p:cNvSpPr/>
            <p:nvPr/>
          </p:nvSpPr>
          <p:spPr>
            <a:xfrm>
              <a:off x="6856560" y="1517760"/>
              <a:ext cx="1600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MX" sz="2400" spc="-1" strike="noStrike">
                  <a:solidFill>
                    <a:srgbClr val="402000"/>
                  </a:solidFill>
                  <a:latin typeface="Times New Roman"/>
                </a:rPr>
                <a:t>Estrategia Dominante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780240" y="2127240"/>
              <a:ext cx="0" cy="456840"/>
            </a:xfrm>
            <a:prstGeom prst="line">
              <a:avLst/>
            </a:prstGeom>
            <a:ln w="76320">
              <a:solidFill>
                <a:srgbClr val="402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281" name=""/>
          <p:cNvGrpSpPr/>
          <p:nvPr/>
        </p:nvGrpSpPr>
        <p:grpSpPr>
          <a:xfrm>
            <a:off x="1751040" y="1441440"/>
            <a:ext cx="1600200" cy="1143000"/>
            <a:chOff x="1751040" y="1441440"/>
            <a:chExt cx="1600200" cy="1143000"/>
          </a:xfrm>
        </p:grpSpPr>
        <p:sp>
          <p:nvSpPr>
            <p:cNvPr id="282" name=""/>
            <p:cNvSpPr/>
            <p:nvPr/>
          </p:nvSpPr>
          <p:spPr>
            <a:xfrm>
              <a:off x="1751040" y="1441440"/>
              <a:ext cx="1600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MX" sz="2400" spc="-1" strike="noStrike">
                  <a:solidFill>
                    <a:srgbClr val="402000"/>
                  </a:solidFill>
                  <a:latin typeface="Times New Roman"/>
                </a:rPr>
                <a:t>Estrategia Dominada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274920" y="2127240"/>
              <a:ext cx="0" cy="457200"/>
            </a:xfrm>
            <a:prstGeom prst="line">
              <a:avLst/>
            </a:prstGeom>
            <a:ln w="76320">
              <a:solidFill>
                <a:srgbClr val="402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971640" y="189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 u="sng">
                <a:solidFill>
                  <a:srgbClr val="996633"/>
                </a:solidFill>
                <a:uFillTx/>
                <a:latin typeface="Times New Roman"/>
              </a:rPr>
              <a:t>Interacción Estratégica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023840" y="4317840"/>
            <a:ext cx="758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Arial Narrow"/>
              </a:rPr>
              <a:t>HB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790640" y="4322880"/>
            <a:ext cx="292320" cy="444240"/>
          </a:xfrm>
          <a:prstGeom prst="rect">
            <a:avLst/>
          </a:prstGeom>
          <a:solidFill>
            <a:srgbClr val="9a7f32"/>
          </a:solidFill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2089080" y="3401640"/>
            <a:ext cx="1447920" cy="114300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938240" y="3403440"/>
            <a:ext cx="1139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Arial Narrow"/>
              </a:rPr>
              <a:t>20-21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372360" y="1773360"/>
            <a:ext cx="7585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Arial Narrow"/>
              </a:rPr>
              <a:t>HB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7209000" y="1854360"/>
            <a:ext cx="0" cy="387324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453360" y="2228760"/>
            <a:ext cx="2349360" cy="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938240" y="5232240"/>
            <a:ext cx="1139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Arial Narrow"/>
              </a:rPr>
              <a:t>22-23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543480" y="3179880"/>
            <a:ext cx="291960" cy="444240"/>
          </a:xfrm>
          <a:prstGeom prst="rect">
            <a:avLst/>
          </a:prstGeom>
          <a:solidFill>
            <a:srgbClr val="ce9964"/>
          </a:solidFill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700360" y="2565360"/>
            <a:ext cx="17492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Britannic Bold"/>
              </a:rPr>
              <a:t>CINEMAX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529160" y="2336760"/>
            <a:ext cx="1368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20-21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841920" y="2868480"/>
            <a:ext cx="1830240" cy="382680"/>
          </a:xfrm>
          <a:custGeom>
            <a:avLst/>
            <a:gdLst/>
            <a:ahLst/>
            <a:rect l="l" t="t" r="r" b="b"/>
            <a:pathLst>
              <a:path w="1153" h="241">
                <a:moveTo>
                  <a:pt x="0" y="240"/>
                </a:moveTo>
                <a:lnTo>
                  <a:pt x="192" y="0"/>
                </a:lnTo>
                <a:lnTo>
                  <a:pt x="1152" y="0"/>
                </a:lnTo>
              </a:path>
            </a:pathLst>
          </a:custGeom>
          <a:noFill/>
          <a:ln cap="rnd" w="255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841920" y="3478320"/>
            <a:ext cx="1906560" cy="382320"/>
          </a:xfrm>
          <a:custGeom>
            <a:avLst/>
            <a:gdLst/>
            <a:ahLst/>
            <a:rect l="l" t="t" r="r" b="b"/>
            <a:pathLst>
              <a:path w="1201" h="241">
                <a:moveTo>
                  <a:pt x="0" y="0"/>
                </a:moveTo>
                <a:lnTo>
                  <a:pt x="200" y="240"/>
                </a:lnTo>
                <a:lnTo>
                  <a:pt x="1200" y="240"/>
                </a:lnTo>
              </a:path>
            </a:pathLst>
          </a:custGeom>
          <a:noFill/>
          <a:ln cap="rnd" w="255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529160" y="3403440"/>
            <a:ext cx="1368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22-23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695760" y="5313240"/>
            <a:ext cx="291960" cy="444600"/>
          </a:xfrm>
          <a:prstGeom prst="rect">
            <a:avLst/>
          </a:prstGeom>
          <a:solidFill>
            <a:srgbClr val="ce9964"/>
          </a:solidFill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681440" y="4470480"/>
            <a:ext cx="1368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20-21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070520" y="5078520"/>
            <a:ext cx="1904760" cy="380880"/>
          </a:xfrm>
          <a:custGeom>
            <a:avLst/>
            <a:gdLst/>
            <a:ahLst/>
            <a:rect l="l" t="t" r="r" b="b"/>
            <a:pathLst>
              <a:path w="1153" h="241">
                <a:moveTo>
                  <a:pt x="0" y="240"/>
                </a:moveTo>
                <a:lnTo>
                  <a:pt x="192" y="0"/>
                </a:lnTo>
                <a:lnTo>
                  <a:pt x="1152" y="0"/>
                </a:lnTo>
              </a:path>
            </a:pathLst>
          </a:custGeom>
          <a:noFill/>
          <a:ln cap="rnd" w="255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994200" y="5611680"/>
            <a:ext cx="2058840" cy="459000"/>
          </a:xfrm>
          <a:custGeom>
            <a:avLst/>
            <a:gdLst/>
            <a:ahLst/>
            <a:rect l="l" t="t" r="r" b="b"/>
            <a:pathLst>
              <a:path w="1201" h="241">
                <a:moveTo>
                  <a:pt x="0" y="0"/>
                </a:moveTo>
                <a:lnTo>
                  <a:pt x="200" y="240"/>
                </a:lnTo>
                <a:lnTo>
                  <a:pt x="1200" y="240"/>
                </a:lnTo>
              </a:path>
            </a:pathLst>
          </a:custGeom>
          <a:noFill/>
          <a:ln cap="rnd" w="255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681440" y="5537160"/>
            <a:ext cx="1368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22-23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089080" y="4621320"/>
            <a:ext cx="1600200" cy="99036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164360" y="1700280"/>
            <a:ext cx="1749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Britannic Bold"/>
              </a:rPr>
              <a:t>CINEMAX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776680" y="4622760"/>
            <a:ext cx="17492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Britannic Bold"/>
              </a:rPr>
              <a:t>CINEMAX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71640" y="189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 u="sng">
                <a:solidFill>
                  <a:srgbClr val="996633"/>
                </a:solidFill>
                <a:uFillTx/>
                <a:latin typeface="Times New Roman"/>
              </a:rPr>
              <a:t>Interacción Estratégica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921120" y="2457360"/>
            <a:ext cx="758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Arial Narrow"/>
              </a:rPr>
              <a:t>HB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401920" y="4214880"/>
            <a:ext cx="291960" cy="444600"/>
          </a:xfrm>
          <a:prstGeom prst="rect">
            <a:avLst/>
          </a:prstGeom>
          <a:solidFill>
            <a:srgbClr val="ce9964"/>
          </a:solidFill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2776680" y="3293640"/>
            <a:ext cx="1371600" cy="114300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549520" y="3295800"/>
            <a:ext cx="1139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Arial Narrow"/>
              </a:rPr>
              <a:t>20-21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300720" y="1700280"/>
            <a:ext cx="758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Arial Narrow"/>
              </a:rPr>
              <a:t>HB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380360" y="2133720"/>
            <a:ext cx="0" cy="387324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381720" y="2155680"/>
            <a:ext cx="2349360" cy="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549520" y="5124600"/>
            <a:ext cx="1139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Arial Narrow"/>
              </a:rPr>
              <a:t>22-23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154400" y="3071880"/>
            <a:ext cx="292320" cy="444600"/>
          </a:xfrm>
          <a:prstGeom prst="rect">
            <a:avLst/>
          </a:prstGeom>
          <a:solidFill>
            <a:srgbClr val="9a7f32"/>
          </a:solidFill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140440" y="2228760"/>
            <a:ext cx="1368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20-21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452840" y="2836800"/>
            <a:ext cx="1982880" cy="381240"/>
          </a:xfrm>
          <a:custGeom>
            <a:avLst/>
            <a:gdLst/>
            <a:ahLst/>
            <a:rect l="l" t="t" r="r" b="b"/>
            <a:pathLst>
              <a:path w="1153" h="241">
                <a:moveTo>
                  <a:pt x="0" y="240"/>
                </a:moveTo>
                <a:lnTo>
                  <a:pt x="192" y="0"/>
                </a:lnTo>
                <a:lnTo>
                  <a:pt x="1152" y="0"/>
                </a:lnTo>
              </a:path>
            </a:pathLst>
          </a:custGeom>
          <a:noFill/>
          <a:ln cap="rnd" w="255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452840" y="3446640"/>
            <a:ext cx="2059200" cy="382320"/>
          </a:xfrm>
          <a:custGeom>
            <a:avLst/>
            <a:gdLst/>
            <a:ahLst/>
            <a:rect l="l" t="t" r="r" b="b"/>
            <a:pathLst>
              <a:path w="1201" h="241">
                <a:moveTo>
                  <a:pt x="0" y="0"/>
                </a:moveTo>
                <a:lnTo>
                  <a:pt x="200" y="240"/>
                </a:lnTo>
                <a:lnTo>
                  <a:pt x="1200" y="240"/>
                </a:lnTo>
              </a:path>
            </a:pathLst>
          </a:custGeom>
          <a:noFill/>
          <a:ln cap="rnd" w="255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5140440" y="3295800"/>
            <a:ext cx="1368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22-23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307040" y="5205240"/>
            <a:ext cx="291960" cy="444600"/>
          </a:xfrm>
          <a:prstGeom prst="rect">
            <a:avLst/>
          </a:prstGeom>
          <a:solidFill>
            <a:srgbClr val="9a7f32"/>
          </a:solidFill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292720" y="4362480"/>
            <a:ext cx="1368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20-21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605480" y="4970520"/>
            <a:ext cx="1982520" cy="380880"/>
          </a:xfrm>
          <a:custGeom>
            <a:avLst/>
            <a:gdLst/>
            <a:ahLst/>
            <a:rect l="l" t="t" r="r" b="b"/>
            <a:pathLst>
              <a:path w="1153" h="241">
                <a:moveTo>
                  <a:pt x="0" y="240"/>
                </a:moveTo>
                <a:lnTo>
                  <a:pt x="192" y="0"/>
                </a:lnTo>
                <a:lnTo>
                  <a:pt x="1152" y="0"/>
                </a:lnTo>
              </a:path>
            </a:pathLst>
          </a:custGeom>
          <a:noFill/>
          <a:ln cap="rnd" w="255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605480" y="5504040"/>
            <a:ext cx="2058840" cy="458640"/>
          </a:xfrm>
          <a:custGeom>
            <a:avLst/>
            <a:gdLst/>
            <a:ahLst/>
            <a:rect l="l" t="t" r="r" b="b"/>
            <a:pathLst>
              <a:path w="1201" h="241">
                <a:moveTo>
                  <a:pt x="0" y="0"/>
                </a:moveTo>
                <a:lnTo>
                  <a:pt x="200" y="240"/>
                </a:lnTo>
                <a:lnTo>
                  <a:pt x="1200" y="240"/>
                </a:lnTo>
              </a:path>
            </a:pathLst>
          </a:custGeom>
          <a:noFill/>
          <a:ln cap="rnd" w="255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92720" y="5429160"/>
            <a:ext cx="1368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22-23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00360" y="4437000"/>
            <a:ext cx="1600200" cy="106704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921120" y="4667400"/>
            <a:ext cx="758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Arial Narrow"/>
              </a:rPr>
              <a:t>HB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824040" y="4235400"/>
            <a:ext cx="17492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Britannic Bold"/>
              </a:rPr>
              <a:t>CINEMAX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7164360" y="1700280"/>
            <a:ext cx="1749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Britannic Bold"/>
              </a:rPr>
              <a:t>CINEMAX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 u="sng">
                <a:solidFill>
                  <a:srgbClr val="996633"/>
                </a:solidFill>
                <a:uFillTx/>
                <a:latin typeface="Times New Roman"/>
              </a:rPr>
              <a:t>Interacción Estratégica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71640" y="1373040"/>
            <a:ext cx="7866000" cy="30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buClr>
                <a:srgbClr val="402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El resultado de la interacción estratégica depende del poder de negociación.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buClr>
                <a:srgbClr val="402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Contratación de servicios : ¿Cuando pagar?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Mejoras en la vivienda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buClr>
                <a:srgbClr val="402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Negociaciones laborales :  ¿Paralizar actividades?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 u="sng">
                <a:solidFill>
                  <a:srgbClr val="996633"/>
                </a:solidFill>
                <a:uFillTx/>
                <a:latin typeface="Times New Roman"/>
              </a:rPr>
              <a:t>Interacción Estratégica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971640" y="1373040"/>
            <a:ext cx="7866000" cy="28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1" marL="571680">
              <a:lnSpc>
                <a:spcPct val="100000"/>
              </a:lnSpc>
              <a:spcBef>
                <a:spcPts val="1500"/>
              </a:spcBef>
              <a:buClr>
                <a:srgbClr val="402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Decisiones interdependiente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buClr>
                <a:srgbClr val="402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Lo que me conviene hacer depende de lo que espero que haga el otro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buClr>
                <a:srgbClr val="402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Lo que le conviene al otro depende de lo que él espera que yo haga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buClr>
                <a:srgbClr val="402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Ambos sabemos que somos interdependiente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 u="sng">
                <a:solidFill>
                  <a:srgbClr val="996633"/>
                </a:solidFill>
                <a:uFillTx/>
                <a:latin typeface="Times New Roman"/>
              </a:rPr>
              <a:t>Interacción Estratégica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71640" y="1373040"/>
            <a:ext cx="7632720" cy="28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1" marL="571680">
              <a:lnSpc>
                <a:spcPct val="100000"/>
              </a:lnSpc>
              <a:spcBef>
                <a:spcPts val="1500"/>
              </a:spcBef>
              <a:buClr>
                <a:srgbClr val="402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Situaciones estratégica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buClr>
                <a:srgbClr val="402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Conflictos de interés: lo que uno gana lo pierde el otro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buClr>
                <a:srgbClr val="402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Cooperación: permite aumentar las ganancias para ambas parte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buClr>
                <a:srgbClr val="402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Problemas de Coordinación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 u="sng">
                <a:solidFill>
                  <a:srgbClr val="996633"/>
                </a:solidFill>
                <a:uFillTx/>
                <a:latin typeface="Times New Roman"/>
              </a:rPr>
              <a:t>Interacción Estratégica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900000" y="1373040"/>
            <a:ext cx="7937640" cy="39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1" marL="571680">
              <a:lnSpc>
                <a:spcPct val="100000"/>
              </a:lnSpc>
              <a:spcBef>
                <a:spcPts val="1500"/>
              </a:spcBef>
              <a:buClr>
                <a:srgbClr val="402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Tipos de juego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buClr>
                <a:srgbClr val="402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Simultáneos: cada jugador juega sin conocer la jugada del otro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Principio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buClr>
                <a:srgbClr val="402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Cada  jugador debe descubrir la estrategia del otro, cada uno tiene que ponerse simultáneamente en el lugar del otro y en el propio, luego determinar la mejor jugada para ambo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4" marL="22860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 u="sng">
                <a:solidFill>
                  <a:srgbClr val="996633"/>
                </a:solidFill>
                <a:uFillTx/>
                <a:latin typeface="Times New Roman"/>
              </a:rPr>
              <a:t>Interacción Estratégica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42920" y="1068480"/>
            <a:ext cx="7794720" cy="50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Reglas para juegos simultáneos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I: Si tiene una estrategia dominante, úsela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II: Ignore cualquier estrategia dominada y continúe ignorándolas a medida que vayan apareciendo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III: Una vez agotadas I y II el siguiente paso es buscar un equilibrio en el juego, es decir, un par de estrategias en las que la acción de cada jugador es la mejor respuesta a la jugada del otro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 u="sng">
                <a:solidFill>
                  <a:srgbClr val="996633"/>
                </a:solidFill>
                <a:uFillTx/>
                <a:latin typeface="Times New Roman"/>
              </a:rPr>
              <a:t>Interacción Estratégica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30560" y="2678040"/>
            <a:ext cx="4241880" cy="2718000"/>
          </a:xfrm>
          <a:prstGeom prst="rect">
            <a:avLst/>
          </a:prstGeom>
          <a:noFill/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130560" y="2678040"/>
            <a:ext cx="4241880" cy="271800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130560" y="4037040"/>
            <a:ext cx="4241880" cy="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251320" y="2678040"/>
            <a:ext cx="0" cy="271800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264280" y="2678040"/>
            <a:ext cx="2108160" cy="134640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130560" y="4049640"/>
            <a:ext cx="2108160" cy="134640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348000" y="2133720"/>
            <a:ext cx="20541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Britannic Bold"/>
              </a:rPr>
              <a:t> </a:t>
            </a:r>
            <a:r>
              <a:rPr b="0" lang="es-ES_tradnl" sz="2400" spc="-1" strike="noStrike">
                <a:solidFill>
                  <a:srgbClr val="402000"/>
                </a:solidFill>
                <a:latin typeface="Britannic Bold"/>
              </a:rPr>
              <a:t>No confiesa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710320" y="2133720"/>
            <a:ext cx="1673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Britannic Bold"/>
              </a:rPr>
              <a:t>Confiesa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424320" y="3352680"/>
            <a:ext cx="530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271680" y="4724280"/>
            <a:ext cx="12160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Libre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632560" y="4646520"/>
            <a:ext cx="530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632560" y="3352680"/>
            <a:ext cx="530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15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38720" y="2819520"/>
            <a:ext cx="6825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Britannic Bold"/>
              </a:rPr>
              <a:t>1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243480" y="2819520"/>
            <a:ext cx="9115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Britannic Bold"/>
              </a:rPr>
              <a:t>Libre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414680" y="4267080"/>
            <a:ext cx="6829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Britannic Bold"/>
              </a:rPr>
              <a:t>15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2080" y="4191120"/>
            <a:ext cx="6829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Britannic Bold"/>
              </a:rPr>
              <a:t>1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985680" y="3657600"/>
            <a:ext cx="1749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Prisionero B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262400" y="1600200"/>
            <a:ext cx="1978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Britannic Bold"/>
              </a:rPr>
              <a:t>Prisionero A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442880" y="3048120"/>
            <a:ext cx="20545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No confiesa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595520" y="4495680"/>
            <a:ext cx="20541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Confiesa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1822320" y="1370160"/>
            <a:ext cx="1600200" cy="1143000"/>
            <a:chOff x="1822320" y="1370160"/>
            <a:chExt cx="1600200" cy="1143000"/>
          </a:xfrm>
        </p:grpSpPr>
        <p:sp>
          <p:nvSpPr>
            <p:cNvPr id="123" name=""/>
            <p:cNvSpPr/>
            <p:nvPr/>
          </p:nvSpPr>
          <p:spPr>
            <a:xfrm>
              <a:off x="1822320" y="1370160"/>
              <a:ext cx="1600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MX" sz="2400" spc="-1" strike="noStrike">
                  <a:solidFill>
                    <a:srgbClr val="402000"/>
                  </a:solidFill>
                  <a:latin typeface="Times New Roman"/>
                </a:rPr>
                <a:t>Estrategia Dominada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346200" y="2055960"/>
              <a:ext cx="0" cy="457200"/>
            </a:xfrm>
            <a:prstGeom prst="line">
              <a:avLst/>
            </a:prstGeom>
            <a:ln w="76320">
              <a:solidFill>
                <a:srgbClr val="402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7004160" y="1370160"/>
            <a:ext cx="1675800" cy="1066320"/>
            <a:chOff x="7004160" y="1370160"/>
            <a:chExt cx="1675800" cy="1066320"/>
          </a:xfrm>
        </p:grpSpPr>
        <p:sp>
          <p:nvSpPr>
            <p:cNvPr id="126" name=""/>
            <p:cNvSpPr/>
            <p:nvPr/>
          </p:nvSpPr>
          <p:spPr>
            <a:xfrm>
              <a:off x="7080120" y="1370160"/>
              <a:ext cx="1599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MX" sz="2400" spc="-1" strike="noStrike">
                  <a:solidFill>
                    <a:srgbClr val="402000"/>
                  </a:solidFill>
                  <a:latin typeface="Times New Roman"/>
                </a:rPr>
                <a:t>Estrategia Dominante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004160" y="1979640"/>
              <a:ext cx="0" cy="456840"/>
            </a:xfrm>
            <a:prstGeom prst="line">
              <a:avLst/>
            </a:prstGeom>
            <a:ln w="76320">
              <a:solidFill>
                <a:srgbClr val="402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4794120" y="2970360"/>
            <a:ext cx="1524240" cy="0"/>
          </a:xfrm>
          <a:prstGeom prst="line">
            <a:avLst/>
          </a:prstGeom>
          <a:ln w="57240">
            <a:solidFill>
              <a:srgbClr val="9a7f32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870440" y="4341960"/>
            <a:ext cx="1523880" cy="0"/>
          </a:xfrm>
          <a:prstGeom prst="line">
            <a:avLst/>
          </a:prstGeom>
          <a:ln w="57240">
            <a:solidFill>
              <a:srgbClr val="9a7f32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79720" y="3579840"/>
            <a:ext cx="0" cy="1295280"/>
          </a:xfrm>
          <a:prstGeom prst="line">
            <a:avLst/>
          </a:prstGeom>
          <a:ln w="57240">
            <a:solidFill>
              <a:srgbClr val="ce9964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56240" y="3579840"/>
            <a:ext cx="0" cy="1295280"/>
          </a:xfrm>
          <a:prstGeom prst="line">
            <a:avLst/>
          </a:prstGeom>
          <a:ln w="57240">
            <a:solidFill>
              <a:srgbClr val="ce9964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1212840" y="5103720"/>
            <a:ext cx="1904760" cy="825480"/>
            <a:chOff x="1212840" y="5103720"/>
            <a:chExt cx="1904760" cy="825480"/>
          </a:xfrm>
        </p:grpSpPr>
        <p:sp>
          <p:nvSpPr>
            <p:cNvPr id="133" name=""/>
            <p:cNvSpPr/>
            <p:nvPr/>
          </p:nvSpPr>
          <p:spPr>
            <a:xfrm>
              <a:off x="1212840" y="5103720"/>
              <a:ext cx="1600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MX" sz="2400" spc="-1" strike="noStrike">
                  <a:solidFill>
                    <a:srgbClr val="402000"/>
                  </a:solidFill>
                  <a:latin typeface="Times New Roman"/>
                </a:rPr>
                <a:t>Estrategia Dominante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508120" y="5103720"/>
              <a:ext cx="609480" cy="0"/>
            </a:xfrm>
            <a:prstGeom prst="line">
              <a:avLst/>
            </a:prstGeom>
            <a:ln w="76320">
              <a:solidFill>
                <a:srgbClr val="402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984240" y="2238480"/>
            <a:ext cx="2133360" cy="825480"/>
            <a:chOff x="984240" y="2238480"/>
            <a:chExt cx="2133360" cy="825480"/>
          </a:xfrm>
        </p:grpSpPr>
        <p:sp>
          <p:nvSpPr>
            <p:cNvPr id="136" name=""/>
            <p:cNvSpPr/>
            <p:nvPr/>
          </p:nvSpPr>
          <p:spPr>
            <a:xfrm>
              <a:off x="984240" y="2238480"/>
              <a:ext cx="1600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MX" sz="2400" spc="-1" strike="noStrike">
                  <a:solidFill>
                    <a:srgbClr val="402000"/>
                  </a:solidFill>
                  <a:latin typeface="Times New Roman"/>
                </a:rPr>
                <a:t>Estrategia Dominada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508120" y="2894040"/>
              <a:ext cx="609480" cy="0"/>
            </a:xfrm>
            <a:prstGeom prst="line">
              <a:avLst/>
            </a:prstGeom>
            <a:ln w="76320">
              <a:solidFill>
                <a:srgbClr val="402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 u="sng">
                <a:solidFill>
                  <a:srgbClr val="996633"/>
                </a:solidFill>
                <a:uFillTx/>
                <a:latin typeface="Times New Roman"/>
              </a:rPr>
              <a:t>Interacción Estratégica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633840" y="2749680"/>
            <a:ext cx="4241880" cy="2717640"/>
          </a:xfrm>
          <a:prstGeom prst="rect">
            <a:avLst/>
          </a:prstGeom>
          <a:noFill/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633840" y="2749680"/>
            <a:ext cx="4241880" cy="271764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633840" y="4108320"/>
            <a:ext cx="4241880" cy="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754600" y="2749680"/>
            <a:ext cx="0" cy="271764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767560" y="2749680"/>
            <a:ext cx="2108160" cy="134604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633840" y="4121280"/>
            <a:ext cx="2108160" cy="134604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74760" y="3043080"/>
            <a:ext cx="1368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Copeva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098800" y="4567320"/>
            <a:ext cx="1368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Selección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851280" y="2205000"/>
            <a:ext cx="1368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Britannic Bold"/>
              </a:rPr>
              <a:t> </a:t>
            </a:r>
            <a:r>
              <a:rPr b="0" lang="es-ES_tradnl" sz="2400" spc="-1" strike="noStrike">
                <a:solidFill>
                  <a:srgbClr val="402000"/>
                </a:solidFill>
                <a:latin typeface="Britannic Bold"/>
              </a:rPr>
              <a:t>Copeva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213600" y="2205000"/>
            <a:ext cx="1673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Britannic Bold"/>
              </a:rPr>
              <a:t>Selección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927600" y="3424320"/>
            <a:ext cx="530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35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927600" y="4719600"/>
            <a:ext cx="530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060960" y="4719600"/>
            <a:ext cx="530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15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985000" y="3500280"/>
            <a:ext cx="530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7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0" y="2890800"/>
            <a:ext cx="6825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Britannic Bold"/>
              </a:rPr>
              <a:t>35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899400" y="2890800"/>
            <a:ext cx="758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Britannic Bold"/>
              </a:rPr>
              <a:t>3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917960" y="4338720"/>
            <a:ext cx="6829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Britannic Bold"/>
              </a:rPr>
              <a:t>7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975360" y="4262400"/>
            <a:ext cx="6829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Britannic Bold"/>
              </a:rPr>
              <a:t>15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488960" y="3728880"/>
            <a:ext cx="1749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El Mercuri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070600" y="1671480"/>
            <a:ext cx="1520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Britannic Bold"/>
              </a:rPr>
              <a:t>La Epoca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 u="sng">
                <a:solidFill>
                  <a:srgbClr val="996633"/>
                </a:solidFill>
                <a:uFillTx/>
                <a:latin typeface="Times New Roman"/>
              </a:rPr>
              <a:t>Interacción Estratégica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274920" y="2749680"/>
            <a:ext cx="4241880" cy="2717640"/>
          </a:xfrm>
          <a:prstGeom prst="rect">
            <a:avLst/>
          </a:prstGeom>
          <a:noFill/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4920" y="2749680"/>
            <a:ext cx="4241880" cy="271764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274920" y="4108320"/>
            <a:ext cx="4241880" cy="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396040" y="2749680"/>
            <a:ext cx="0" cy="271764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408640" y="2749680"/>
            <a:ext cx="2108160" cy="134604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274920" y="4121280"/>
            <a:ext cx="2108160" cy="134604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816200" y="3043080"/>
            <a:ext cx="1368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$3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739880" y="4567320"/>
            <a:ext cx="1368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$5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492360" y="2205000"/>
            <a:ext cx="1597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Britannic Bold"/>
              </a:rPr>
              <a:t> </a:t>
            </a:r>
            <a:r>
              <a:rPr b="0" lang="es-ES_tradnl" sz="2400" spc="-1" strike="noStrike">
                <a:solidFill>
                  <a:srgbClr val="402000"/>
                </a:solidFill>
                <a:latin typeface="Britannic Bold"/>
              </a:rPr>
              <a:t>US$3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854680" y="2205000"/>
            <a:ext cx="1673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Britannic Bold"/>
              </a:rPr>
              <a:t>US$5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568680" y="3424320"/>
            <a:ext cx="530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568680" y="4719600"/>
            <a:ext cx="530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702400" y="4719600"/>
            <a:ext cx="530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626080" y="3500280"/>
            <a:ext cx="530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483080" y="2890800"/>
            <a:ext cx="6825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Britannic Bold"/>
              </a:rPr>
              <a:t>4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540480" y="2890800"/>
            <a:ext cx="758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Britannic Bold"/>
              </a:rPr>
              <a:t>8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559400" y="4338720"/>
            <a:ext cx="6825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Britannic Bold"/>
              </a:rPr>
              <a:t>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616800" y="4262400"/>
            <a:ext cx="6825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Britannic Bold"/>
              </a:rPr>
              <a:t>5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900000" y="3789360"/>
            <a:ext cx="1749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Newsweek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11680" y="1671480"/>
            <a:ext cx="15210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Britannic Bold"/>
              </a:rPr>
              <a:t>Time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4T22:10:51Z</dcterms:created>
  <dc:creator>Marco Hauva</dc:creator>
  <dc:description/>
  <dc:language>en-US</dc:language>
  <cp:lastModifiedBy> Marco Hauva</cp:lastModifiedBy>
  <dcterms:modified xsi:type="dcterms:W3CDTF">2006-01-19T11:14:13Z</dcterms:modified>
  <cp:revision>29</cp:revision>
  <dc:subject/>
  <dc:title>Teoría de la Elección</dc:title>
</cp:coreProperties>
</file>