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066680"/>
            <a:ext cx="914400" cy="56390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95400" y="165240"/>
            <a:ext cx="8047080" cy="922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57400" y="6308640"/>
            <a:ext cx="7696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 Black"/>
              </a:rPr>
              <a:t>Departamento de Ingeniería Industrial. Universidad de Ch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 Black"/>
              </a:rPr>
              <a:t>Octubre del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588960" cy="81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981080" y="0"/>
            <a:ext cx="7162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2286000"/>
            <a:ext cx="65530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Algunas Aplicaciones de Economía Ambiental e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Raúl O’Ry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Departamento  Ingeniería Industrial</a:t>
            </a:r>
            <a:r>
              <a:rPr b="0" lang="es-ES" sz="20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 Black"/>
              </a:rPr>
              <a:t>IN4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 Black"/>
              </a:rPr>
              <a:t>Octubre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98480" cy="914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81080" y="228600"/>
            <a:ext cx="5943600" cy="23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UNIVERSIDAD DE CHILE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FACULTAD DE CIENCIAS FÍSICAS 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ENTRO DE ECONOMÍA APLI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082000" y="208080"/>
            <a:ext cx="585720" cy="819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1080" y="5638680"/>
            <a:ext cx="65534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2133720"/>
            <a:ext cx="65534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152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sto Efectividad de Instrumentos Regulatorios en Santi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fig caso1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924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95280" y="304920"/>
            <a:ext cx="7543800" cy="642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3623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 Black"/>
              </a:rPr>
              <a:t>Análisis Riesgo Costo de una Regulación Ambiental para el Arsé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7" dur="1" fill="hold"/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280" y="228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L PROBLEMA DEL ARSENICO E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1295280"/>
            <a:ext cx="800100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</a:rPr>
              <a:t>Hay altas tasas de mortalidad asociadas al arsénico en el norte. Standard Mortality Rate (SMR) para cáncer al pulmón sobrepasa el promedio nacional  en 2.6 ve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</a:rPr>
              <a:t>Dadas las altas tasas de mortalidad por cáncer al pulmón y otros se presume que uno de los principales responsables son los altos niveles de arsénico tanto en agua como ai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</a:rPr>
              <a:t>En agua Chile cumplía la norma OMS. Hasta 1980 los niveles eran muy al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</a:rPr>
              <a:t>En aire en cambio sólo en 1990 empezó la preocupación respecto de las emisiones. Hubo presiones internacionales (acusaciones de dumping), interés por entrar al NAF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5" dur="1" fill="hold"/>
                                  <p:tgtEl>
                                    <p:spTgt spid="7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3000" y="1295280"/>
            <a:ext cx="800100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Interés de las autoridades de salud (importantes impactos en salud, se concentra en aire ya que en agua ya se cumplen las norma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l Ministerio de Salud propuso en 1992 una norma de calidad de 0.05 </a:t>
            </a:r>
            <a:r>
              <a:rPr b="1" lang="es-E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g/Nm3 como promedio anual para las concentraciones de arsén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n aire existía poca información. Experiencia y normas se referían a casos laborales o en los que no existía el problema. Ambos son muy diferentes a la regulación de población no laboralmente expues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Importancia del sector minero en Chile. Cualquier regulación afecta a la minería, sector de gran importancia económica para el país. Por ello la regulación debía ser cuidadosamente estudi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228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L PROBLEMA DEL ARSENICO E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3" dur="1" fill="hold"/>
                                  <p:tgtEl>
                                    <p:spTgt spid="7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1508040"/>
            <a:ext cx="73911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¿Qué instrumento aplicar, norma de calidad – la cual de acuerdo a nuestra legislación debía ser uniforme para todo el país- o norma de emisión, que podía se diferenciada  según el número de afectados y emisiones de cada fundición? 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¿Qué valor de norma aplicar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5760" y="318960"/>
            <a:ext cx="423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PREGUNTAS CENT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9" dur="1" fill="hold"/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95280" y="228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METODOLOGÍA ANÁLISIS RIESGO CO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94000" y="-34920"/>
            <a:ext cx="8778960" cy="6435360"/>
            <a:chOff x="594000" y="-34920"/>
            <a:chExt cx="8778960" cy="6435360"/>
          </a:xfrm>
        </p:grpSpPr>
        <p:sp>
          <p:nvSpPr>
            <p:cNvPr id="81" name=""/>
            <p:cNvSpPr/>
            <p:nvPr/>
          </p:nvSpPr>
          <p:spPr>
            <a:xfrm>
              <a:off x="4809240" y="1902960"/>
              <a:ext cx="1080" cy="414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24600" y="4033080"/>
              <a:ext cx="4890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39560" y="3666240"/>
              <a:ext cx="3340800" cy="146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75840" y="2934720"/>
              <a:ext cx="1669680" cy="1708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663640" y="4155120"/>
              <a:ext cx="2147040" cy="122004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9240" y="4034160"/>
              <a:ext cx="2028240" cy="134136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28800" y="4097520"/>
              <a:ext cx="119340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Emisiones de Arsén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(T/dí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86200" y="1219320"/>
              <a:ext cx="119376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Costo Reducció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(US$/Añ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97320" y="4139280"/>
              <a:ext cx="176544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Riesgo Individual (Muertes/ Pobl. Expuest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16920" y="5689800"/>
              <a:ext cx="119340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Concentración Arsénico (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g/m</a:t>
              </a:r>
              <a:r>
                <a:rPr b="0" lang="es-ES" sz="1200" spc="-1" strike="noStrike" baseline="30000">
                  <a:solidFill>
                    <a:srgbClr val="000000"/>
                  </a:solidFill>
                  <a:latin typeface="Arial Black"/>
                </a:rPr>
                <a:t>3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33200" y="2520000"/>
              <a:ext cx="43200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(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69360" y="2520000"/>
              <a:ext cx="312840" cy="1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(I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20760" y="5324040"/>
              <a:ext cx="11937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(II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60480" y="5324040"/>
              <a:ext cx="1193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(IV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82360" y="4280400"/>
              <a:ext cx="703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B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94000" y="-35280"/>
              <a:ext cx="3661200" cy="389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5317200" y="-33480"/>
              <a:ext cx="4055760" cy="38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3049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COSTOS DE REDUCCIÓN PARA DISTINTOS VALORES DE NORMA DE CALIDAD D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143000" y="1403280"/>
            <a:ext cx="7922520" cy="4844880"/>
            <a:chOff x="1143000" y="1403280"/>
            <a:chExt cx="7922520" cy="4844880"/>
          </a:xfrm>
        </p:grpSpPr>
        <p:sp>
          <p:nvSpPr>
            <p:cNvPr id="100" name=""/>
            <p:cNvSpPr/>
            <p:nvPr/>
          </p:nvSpPr>
          <p:spPr>
            <a:xfrm>
              <a:off x="2221560" y="1533240"/>
              <a:ext cx="5910480" cy="326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21560" y="4443120"/>
              <a:ext cx="591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21560" y="4069080"/>
              <a:ext cx="591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21560" y="3712680"/>
              <a:ext cx="591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21560" y="3354480"/>
              <a:ext cx="591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21560" y="2980080"/>
              <a:ext cx="591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21560" y="2621880"/>
              <a:ext cx="591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21560" y="2265480"/>
              <a:ext cx="591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21560" y="1891080"/>
              <a:ext cx="591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21560" y="1533240"/>
              <a:ext cx="591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21560" y="1533240"/>
              <a:ext cx="5910480" cy="32677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07760" y="1809360"/>
              <a:ext cx="135360" cy="29919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78000" y="1809360"/>
              <a:ext cx="133920" cy="29919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47880" y="2736000"/>
              <a:ext cx="133920" cy="206532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16680" y="2736000"/>
              <a:ext cx="135360" cy="206532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01680" y="2736000"/>
              <a:ext cx="120240" cy="206532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71560" y="2948040"/>
              <a:ext cx="135000" cy="185292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1800" y="2980080"/>
              <a:ext cx="135000" cy="182124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11680" y="2980080"/>
              <a:ext cx="135360" cy="182124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81920" y="3030120"/>
              <a:ext cx="135360" cy="177084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51800" y="3110040"/>
              <a:ext cx="135360" cy="169092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1680" y="3192120"/>
              <a:ext cx="135360" cy="160884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91920" y="3338280"/>
              <a:ext cx="135360" cy="146268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61800" y="3436200"/>
              <a:ext cx="135360" cy="13647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46800" y="3436200"/>
              <a:ext cx="120240" cy="13647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17040" y="3436200"/>
              <a:ext cx="135360" cy="13647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86920" y="3436200"/>
              <a:ext cx="133200" cy="13647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57160" y="3452400"/>
              <a:ext cx="133200" cy="13485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25600" y="3484080"/>
              <a:ext cx="135000" cy="131688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32400" y="1533240"/>
              <a:ext cx="1440" cy="326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32400" y="480132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32400" y="444312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32400" y="406908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32400" y="371268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32400" y="335448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32400" y="298008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32400" y="262188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32400" y="226548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132400" y="189108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132400" y="153324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21560" y="4801320"/>
              <a:ext cx="591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813240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682040" y="4801320"/>
              <a:ext cx="180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721692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768000" y="4801320"/>
              <a:ext cx="180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317640" y="4801320"/>
              <a:ext cx="180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85252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0216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95180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501440" y="4801320"/>
              <a:ext cx="180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03632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58596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137040" y="4801320"/>
              <a:ext cx="180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267192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22156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46200" y="4671000"/>
              <a:ext cx="113976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85960" y="4671000"/>
              <a:ext cx="226656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52520" y="4671000"/>
              <a:ext cx="23904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91560" y="4671000"/>
              <a:ext cx="22572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317640" y="4588560"/>
              <a:ext cx="224280" cy="817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541920" y="4557240"/>
              <a:ext cx="450360" cy="316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92640" y="4557240"/>
              <a:ext cx="224280" cy="14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216920" y="4443120"/>
              <a:ext cx="240480" cy="1137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457400" y="3792240"/>
              <a:ext cx="224280" cy="6505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682040" y="3744000"/>
              <a:ext cx="105480" cy="478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7787520" y="3484080"/>
              <a:ext cx="120240" cy="2599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907760" y="3272400"/>
              <a:ext cx="14760" cy="2116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922880" y="3256200"/>
              <a:ext cx="29520" cy="158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952400" y="2979720"/>
              <a:ext cx="14760" cy="2761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67520" y="2980080"/>
              <a:ext cx="2952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997040" y="2801520"/>
              <a:ext cx="14760" cy="1782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011800" y="1776960"/>
              <a:ext cx="60840" cy="10242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01560" y="4623120"/>
              <a:ext cx="9036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41320" y="4623120"/>
              <a:ext cx="9036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06080" y="4623120"/>
              <a:ext cx="9072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7280" y="4623120"/>
              <a:ext cx="9072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71560" y="4623120"/>
              <a:ext cx="9036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97640" y="4541040"/>
              <a:ext cx="88920" cy="979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48000" y="4509000"/>
              <a:ext cx="88920" cy="979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72280" y="4509000"/>
              <a:ext cx="90360" cy="979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13120" y="4395240"/>
              <a:ext cx="88920" cy="975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37400" y="3744360"/>
              <a:ext cx="90720" cy="979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42880" y="3696480"/>
              <a:ext cx="88920" cy="961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54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61680" y="3436200"/>
              <a:ext cx="9036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78240" y="3224520"/>
              <a:ext cx="88920" cy="975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07760" y="3208320"/>
              <a:ext cx="88920" cy="975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2880" y="2931840"/>
              <a:ext cx="88920" cy="979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52400" y="2931840"/>
              <a:ext cx="90720" cy="979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67520" y="2751840"/>
              <a:ext cx="90720" cy="979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26920" y="1729080"/>
              <a:ext cx="9036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60720" y="480132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720" y="439524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60720" y="398844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60720" y="358236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60720" y="317628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60720" y="275184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60720" y="234576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0720" y="193932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60720" y="153324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10600" y="4671000"/>
              <a:ext cx="381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-2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01960" y="43131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09160" y="393876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2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9160" y="358236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4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09160" y="32245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6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09160" y="28501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8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17080" y="249192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0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17080" y="213516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2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17080" y="176112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4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17080" y="140328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6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95320" y="4979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6756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0,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0352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0,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5280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0,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0316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0,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13640" y="4979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8732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,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3624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,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8624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,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2076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,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48160" y="4979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2184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2,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5636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2,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0600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2,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32240" y="5353560"/>
              <a:ext cx="177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Concentración (ug/m3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7946280" y="2812680"/>
              <a:ext cx="203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Costo Anual (MMUS$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23320" y="467100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0,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23320" y="42649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0,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23320" y="385848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,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23320" y="345240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1,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3320" y="30463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2,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23320" y="262188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2,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23320" y="221580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3,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23320" y="180936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3,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23320" y="140328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4,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6200000">
              <a:off x="97200" y="3242160"/>
              <a:ext cx="2289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Riesgo Asociado (Mortalidad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32160" y="5874120"/>
              <a:ext cx="3675240" cy="37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5960" y="6004080"/>
              <a:ext cx="390600" cy="1137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78360" y="592380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Riesgo Asociad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17280" y="6069960"/>
              <a:ext cx="405360" cy="14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67040" y="6019920"/>
              <a:ext cx="90360" cy="979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7920" y="5923800"/>
              <a:ext cx="928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Costo Anu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51080" y="4446720"/>
              <a:ext cx="5225760" cy="3416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77200" y="3677040"/>
              <a:ext cx="316800" cy="1111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94000" y="1794960"/>
              <a:ext cx="316800" cy="2993400"/>
            </a:xfrm>
            <a:prstGeom prst="rect">
              <a:avLst/>
            </a:prstGeom>
            <a:solidFill>
              <a:srgbClr val="ff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228600"/>
            <a:ext cx="8001000" cy="825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IMPACTO EN FUNDICIONES DE DIFERENTES NIVELES DE NORMA DE CALIDAD PARA E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95280" y="1371600"/>
            <a:ext cx="7924680" cy="4952880"/>
            <a:chOff x="1295280" y="1371600"/>
            <a:chExt cx="7924680" cy="4952880"/>
          </a:xfrm>
        </p:grpSpPr>
        <p:graphicFrame>
          <p:nvGraphicFramePr>
            <p:cNvPr id="246" name=""/>
            <p:cNvGraphicFramePr/>
            <p:nvPr/>
          </p:nvGraphicFramePr>
          <p:xfrm>
            <a:off x="1295280" y="1371600"/>
            <a:ext cx="7924680" cy="4952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1371600"/>
                      <a:ext cx="792468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8" name=""/>
            <p:cNvSpPr/>
            <p:nvPr/>
          </p:nvSpPr>
          <p:spPr>
            <a:xfrm>
              <a:off x="1295280" y="1371600"/>
              <a:ext cx="0" cy="47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295280" y="196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stos y Beneficios de Reducir el Arsénico en Aire y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143000" y="2330280"/>
          <a:ext cx="7924680" cy="25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30280"/>
                    <a:ext cx="79246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371600" y="1432080"/>
            <a:ext cx="7467480" cy="39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Norma de emisión y no de calidad (flexibilida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Importancia de estudios empí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Necesidad de modelos sofisticados y trabajo interdisciplin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Desarrollo de una política sin necesidad de evaluar en términos monetarios los benefi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a importancia de entender los intereses en ju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nclus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1" dur="1" fill="hold"/>
                                  <p:tgtEl>
                                    <p:spTgt spid="25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385920"/>
            <a:ext cx="754380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INTRODU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1219320"/>
            <a:ext cx="80010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Arial Black"/>
              </a:rPr>
              <a:t>Economí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Contaminación del 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Contaminación del agu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Contaminación de sue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Ru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Problemas globales y regionales (calentamiento global, lluvia ácida, destrucción capa ozon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Manejo de sustancias tóx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Arial Black"/>
              </a:rPr>
              <a:t>Economía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Recursos renovables (bosques, agua y pesc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Recursos no renovables (cobre, producción de alimentos, petróleo y energía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49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295280" y="304920"/>
            <a:ext cx="7543800" cy="642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23623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 Black"/>
              </a:rPr>
              <a:t>Beneficios Netos de Reducir la Contaminación en Santi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1" dur="1" fill="hold"/>
                                  <p:tgtEl>
                                    <p:spTgt spid="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1143000"/>
            <a:ext cx="777240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Desde 1994 la Ley de Bases del Medio Ambiente exige realizar análisis de costos y beneficios a los planes y normas ambient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Otras instituciones públicas han estado involucradas en este tipo de esfuerzos como el Ministerio de Minería y la SECTRA (modelo MODEC, Apheba, entre otr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uego de la aplicación del Decreto 4, fuentes fijas reclaman haber realizado un esfuerzo significativo de descontaminación y que no les correspondería hacer más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Como la meta propuesta para estas fuentes no se ha hecho en base a un análisis optimizante de costo-beneficio, cabe la duda de cómo se comparan los </a:t>
            </a:r>
            <a:r>
              <a:rPr b="0" i="1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beneficios netos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de aplicar cada tipo de instru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e comparan los costos de aplicar SPA, SPE y normas de emisión parejas (STD)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Antecedentes Princip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5" dur="1" fill="hold"/>
                                  <p:tgtEl>
                                    <p:spTgt spid="25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371600" y="304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Método de Valo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15238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Para realizar la valoración de beneficios ambientales es necesario conocer las emisiones sin política y luego con política (en este caso SPA, SPE ó STD). Por ejemplo, se muestran las variaciones en emisiones para el caso del estándar (ST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334120" y="3124080"/>
            <a:ext cx="3504600" cy="2438280"/>
            <a:chOff x="5334120" y="3124080"/>
            <a:chExt cx="3504600" cy="2438280"/>
          </a:xfrm>
        </p:grpSpPr>
        <p:grpSp>
          <p:nvGrpSpPr>
            <p:cNvPr id="261" name=""/>
            <p:cNvGrpSpPr/>
            <p:nvPr/>
          </p:nvGrpSpPr>
          <p:grpSpPr>
            <a:xfrm>
              <a:off x="5334120" y="3124080"/>
              <a:ext cx="3504600" cy="2438280"/>
              <a:chOff x="5334120" y="3124080"/>
              <a:chExt cx="3504600" cy="2438280"/>
            </a:xfrm>
          </p:grpSpPr>
          <p:sp>
            <p:nvSpPr>
              <p:cNvPr id="262" name=""/>
              <p:cNvSpPr/>
              <p:nvPr/>
            </p:nvSpPr>
            <p:spPr>
              <a:xfrm>
                <a:off x="5334120" y="3124080"/>
                <a:ext cx="3504600" cy="2438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185880" y="4634640"/>
                <a:ext cx="1716120" cy="489960"/>
              </a:xfrm>
              <a:custGeom>
                <a:avLst/>
                <a:gdLst/>
                <a:ahLst/>
                <a:rect l="l" t="t" r="r" b="b"/>
                <a:pathLst>
                  <a:path w="1340" h="372">
                    <a:moveTo>
                      <a:pt x="736" y="0"/>
                    </a:moveTo>
                    <a:lnTo>
                      <a:pt x="1340" y="171"/>
                    </a:lnTo>
                    <a:lnTo>
                      <a:pt x="574" y="372"/>
                    </a:lnTo>
                    <a:lnTo>
                      <a:pt x="0" y="153"/>
                    </a:lnTo>
                    <a:lnTo>
                      <a:pt x="736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28360" y="3498480"/>
                <a:ext cx="806760" cy="1361160"/>
              </a:xfrm>
              <a:custGeom>
                <a:avLst/>
                <a:gdLst/>
                <a:ahLst/>
                <a:rect l="l" t="t" r="r" b="b"/>
                <a:pathLst>
                  <a:path w="630" h="1033">
                    <a:moveTo>
                      <a:pt x="604" y="1033"/>
                    </a:moveTo>
                    <a:lnTo>
                      <a:pt x="630" y="48"/>
                    </a:lnTo>
                    <a:lnTo>
                      <a:pt x="0" y="0"/>
                    </a:lnTo>
                    <a:lnTo>
                      <a:pt x="0" y="862"/>
                    </a:lnTo>
                    <a:lnTo>
                      <a:pt x="604" y="103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57800" y="3498480"/>
                <a:ext cx="970560" cy="1337760"/>
              </a:xfrm>
              <a:custGeom>
                <a:avLst/>
                <a:gdLst/>
                <a:ahLst/>
                <a:rect l="l" t="t" r="r" b="b"/>
                <a:pathLst>
                  <a:path w="758" h="1015">
                    <a:moveTo>
                      <a:pt x="758" y="862"/>
                    </a:moveTo>
                    <a:lnTo>
                      <a:pt x="758" y="0"/>
                    </a:lnTo>
                    <a:lnTo>
                      <a:pt x="0" y="40"/>
                    </a:lnTo>
                    <a:lnTo>
                      <a:pt x="22" y="1015"/>
                    </a:lnTo>
                    <a:lnTo>
                      <a:pt x="758" y="86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85880" y="4634640"/>
                <a:ext cx="1716120" cy="225360"/>
              </a:xfrm>
              <a:custGeom>
                <a:avLst/>
                <a:gdLst/>
                <a:ahLst/>
                <a:rect l="l" t="t" r="r" b="b"/>
                <a:pathLst>
                  <a:path w="306" h="39">
                    <a:moveTo>
                      <a:pt x="0" y="35"/>
                    </a:moveTo>
                    <a:lnTo>
                      <a:pt x="168" y="0"/>
                    </a:lnTo>
                    <a:lnTo>
                      <a:pt x="306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180840" y="4415760"/>
                <a:ext cx="1726560" cy="195120"/>
              </a:xfrm>
              <a:custGeom>
                <a:avLst/>
                <a:gdLst/>
                <a:ahLst/>
                <a:rect l="l" t="t" r="r" b="b"/>
                <a:pathLst>
                  <a:path w="308" h="34">
                    <a:moveTo>
                      <a:pt x="0" y="29"/>
                    </a:moveTo>
                    <a:lnTo>
                      <a:pt x="169" y="0"/>
                    </a:lnTo>
                    <a:lnTo>
                      <a:pt x="308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75800" y="4190400"/>
                <a:ext cx="1743120" cy="161640"/>
              </a:xfrm>
              <a:custGeom>
                <a:avLst/>
                <a:gdLst/>
                <a:ahLst/>
                <a:rect l="l" t="t" r="r" b="b"/>
                <a:pathLst>
                  <a:path w="311" h="28">
                    <a:moveTo>
                      <a:pt x="0" y="25"/>
                    </a:moveTo>
                    <a:lnTo>
                      <a:pt x="170" y="0"/>
                    </a:lnTo>
                    <a:lnTo>
                      <a:pt x="311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168960" y="3966120"/>
                <a:ext cx="1755000" cy="126360"/>
              </a:xfrm>
              <a:custGeom>
                <a:avLst/>
                <a:gdLst/>
                <a:ahLst/>
                <a:rect l="l" t="t" r="r" b="b"/>
                <a:pathLst>
                  <a:path w="313" h="22">
                    <a:moveTo>
                      <a:pt x="0" y="19"/>
                    </a:moveTo>
                    <a:lnTo>
                      <a:pt x="171" y="0"/>
                    </a:lnTo>
                    <a:lnTo>
                      <a:pt x="313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164280" y="3735360"/>
                <a:ext cx="1766160" cy="92160"/>
              </a:xfrm>
              <a:custGeom>
                <a:avLst/>
                <a:gdLst/>
                <a:ahLst/>
                <a:rect l="l" t="t" r="r" b="b"/>
                <a:pathLst>
                  <a:path w="315" h="16">
                    <a:moveTo>
                      <a:pt x="0" y="14"/>
                    </a:moveTo>
                    <a:lnTo>
                      <a:pt x="172" y="0"/>
                    </a:lnTo>
                    <a:lnTo>
                      <a:pt x="315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57800" y="3498480"/>
                <a:ext cx="1777680" cy="63000"/>
              </a:xfrm>
              <a:custGeom>
                <a:avLst/>
                <a:gdLst/>
                <a:ahLst/>
                <a:rect l="l" t="t" r="r" b="b"/>
                <a:pathLst>
                  <a:path w="317" h="11">
                    <a:moveTo>
                      <a:pt x="0" y="9"/>
                    </a:moveTo>
                    <a:lnTo>
                      <a:pt x="173" y="0"/>
                    </a:lnTo>
                    <a:lnTo>
                      <a:pt x="317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185880" y="4634640"/>
                <a:ext cx="1716120" cy="489960"/>
              </a:xfrm>
              <a:custGeom>
                <a:avLst/>
                <a:gdLst/>
                <a:ahLst/>
                <a:rect l="l" t="t" r="r" b="b"/>
                <a:pathLst>
                  <a:path w="1340" h="372">
                    <a:moveTo>
                      <a:pt x="574" y="372"/>
                    </a:moveTo>
                    <a:lnTo>
                      <a:pt x="0" y="153"/>
                    </a:lnTo>
                    <a:lnTo>
                      <a:pt x="736" y="0"/>
                    </a:lnTo>
                    <a:lnTo>
                      <a:pt x="1340" y="171"/>
                    </a:lnTo>
                    <a:lnTo>
                      <a:pt x="574" y="372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128360" y="3498480"/>
                <a:ext cx="806760" cy="1361160"/>
              </a:xfrm>
              <a:custGeom>
                <a:avLst/>
                <a:gdLst/>
                <a:ahLst/>
                <a:rect l="l" t="t" r="r" b="b"/>
                <a:pathLst>
                  <a:path w="630" h="1033">
                    <a:moveTo>
                      <a:pt x="604" y="1033"/>
                    </a:moveTo>
                    <a:lnTo>
                      <a:pt x="630" y="48"/>
                    </a:lnTo>
                    <a:lnTo>
                      <a:pt x="0" y="0"/>
                    </a:lnTo>
                    <a:lnTo>
                      <a:pt x="0" y="862"/>
                    </a:lnTo>
                    <a:lnTo>
                      <a:pt x="604" y="1033"/>
                    </a:lnTo>
                    <a:close/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57800" y="3498480"/>
                <a:ext cx="970560" cy="1337760"/>
              </a:xfrm>
              <a:custGeom>
                <a:avLst/>
                <a:gdLst/>
                <a:ahLst/>
                <a:rect l="l" t="t" r="r" b="b"/>
                <a:pathLst>
                  <a:path w="758" h="1015">
                    <a:moveTo>
                      <a:pt x="758" y="862"/>
                    </a:moveTo>
                    <a:lnTo>
                      <a:pt x="758" y="0"/>
                    </a:lnTo>
                    <a:lnTo>
                      <a:pt x="0" y="40"/>
                    </a:lnTo>
                    <a:lnTo>
                      <a:pt x="22" y="1015"/>
                    </a:lnTo>
                    <a:lnTo>
                      <a:pt x="758" y="862"/>
                    </a:lnTo>
                    <a:close/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6920640" y="4860000"/>
                <a:ext cx="98100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21000" y="512460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987600" y="510768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49160" y="509076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117200" y="507204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78400" y="505512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239960" y="503784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01520" y="502596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58040" y="500868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19240" y="499176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75760" y="497448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31920" y="496260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88440" y="494568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43520" y="493380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94640" y="491652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751160" y="490572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00840" y="488772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850880" y="487692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02360" y="486000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35760" y="5171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060320" y="51364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82360" y="50997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309080" y="506952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440840" y="5037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537680" y="50036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651440" y="4977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757640" y="494424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859880" y="492336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185880" y="4836240"/>
                <a:ext cx="735120" cy="28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85880" y="483624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225840" y="484776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65080" y="486540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310080" y="488232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348600" y="489924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93240" y="491652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38240" y="493380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477840" y="495216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527880" y="496908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72880" y="498636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17520" y="500364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668640" y="502596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713640" y="504432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63680" y="506160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14800" y="508392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869880" y="510120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921000" y="512460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66800" y="4894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46720" y="492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30600" y="4957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19880" y="4990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514920" y="5025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579000" y="506160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72240" y="509976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75200" y="513936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881400" y="518256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055640" y="4634640"/>
                <a:ext cx="89640" cy="22320"/>
              </a:xfrm>
              <a:custGeom>
                <a:avLst/>
                <a:gdLst/>
                <a:ahLst/>
                <a:rect l="l" t="t" r="r" b="b"/>
                <a:pathLst>
                  <a:path w="70" h="17">
                    <a:moveTo>
                      <a:pt x="35" y="4"/>
                    </a:moveTo>
                    <a:lnTo>
                      <a:pt x="0" y="0"/>
                    </a:lnTo>
                    <a:lnTo>
                      <a:pt x="30" y="13"/>
                    </a:lnTo>
                    <a:lnTo>
                      <a:pt x="70" y="17"/>
                    </a:lnTo>
                    <a:lnTo>
                      <a:pt x="35" y="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004520" y="4593600"/>
                <a:ext cx="89280" cy="57960"/>
              </a:xfrm>
              <a:custGeom>
                <a:avLst/>
                <a:gdLst/>
                <a:ahLst/>
                <a:rect l="l" t="t" r="r" b="b"/>
                <a:pathLst>
                  <a:path w="70" h="44">
                    <a:moveTo>
                      <a:pt x="40" y="31"/>
                    </a:moveTo>
                    <a:lnTo>
                      <a:pt x="0" y="35"/>
                    </a:lnTo>
                    <a:lnTo>
                      <a:pt x="31" y="0"/>
                    </a:lnTo>
                    <a:lnTo>
                      <a:pt x="70" y="44"/>
                    </a:lnTo>
                    <a:lnTo>
                      <a:pt x="40" y="31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949440" y="4593600"/>
                <a:ext cx="94680" cy="69840"/>
              </a:xfrm>
              <a:custGeom>
                <a:avLst/>
                <a:gdLst/>
                <a:ahLst/>
                <a:rect l="l" t="t" r="r" b="b"/>
                <a:pathLst>
                  <a:path w="74" h="53">
                    <a:moveTo>
                      <a:pt x="43" y="35"/>
                    </a:moveTo>
                    <a:lnTo>
                      <a:pt x="0" y="53"/>
                    </a:lnTo>
                    <a:lnTo>
                      <a:pt x="35" y="40"/>
                    </a:lnTo>
                    <a:lnTo>
                      <a:pt x="74" y="0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98320" y="4646520"/>
                <a:ext cx="95760" cy="39240"/>
              </a:xfrm>
              <a:custGeom>
                <a:avLst/>
                <a:gdLst/>
                <a:ahLst/>
                <a:rect l="l" t="t" r="r" b="b"/>
                <a:pathLst>
                  <a:path w="75" h="30">
                    <a:moveTo>
                      <a:pt x="40" y="13"/>
                    </a:moveTo>
                    <a:lnTo>
                      <a:pt x="0" y="30"/>
                    </a:lnTo>
                    <a:lnTo>
                      <a:pt x="35" y="17"/>
                    </a:lnTo>
                    <a:lnTo>
                      <a:pt x="75" y="0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848280" y="4668840"/>
                <a:ext cx="94680" cy="28800"/>
              </a:xfrm>
              <a:custGeom>
                <a:avLst/>
                <a:gdLst/>
                <a:ahLst/>
                <a:rect l="l" t="t" r="r" b="b"/>
                <a:pathLst>
                  <a:path w="74" h="22">
                    <a:moveTo>
                      <a:pt x="39" y="13"/>
                    </a:moveTo>
                    <a:lnTo>
                      <a:pt x="0" y="22"/>
                    </a:lnTo>
                    <a:lnTo>
                      <a:pt x="30" y="22"/>
                    </a:lnTo>
                    <a:lnTo>
                      <a:pt x="74" y="0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91760" y="4698000"/>
                <a:ext cx="94680" cy="23400"/>
              </a:xfrm>
              <a:custGeom>
                <a:avLst/>
                <a:gdLst/>
                <a:ahLst/>
                <a:rect l="l" t="t" r="r" b="b"/>
                <a:pathLst>
                  <a:path w="74" h="18">
                    <a:moveTo>
                      <a:pt x="44" y="0"/>
                    </a:moveTo>
                    <a:lnTo>
                      <a:pt x="0" y="9"/>
                    </a:lnTo>
                    <a:lnTo>
                      <a:pt x="35" y="18"/>
                    </a:lnTo>
                    <a:lnTo>
                      <a:pt x="7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2080" y="4692600"/>
                <a:ext cx="94680" cy="28800"/>
              </a:xfrm>
              <a:custGeom>
                <a:avLst/>
                <a:gdLst/>
                <a:ahLst/>
                <a:rect l="l" t="t" r="r" b="b"/>
                <a:pathLst>
                  <a:path w="74" h="22">
                    <a:moveTo>
                      <a:pt x="39" y="13"/>
                    </a:moveTo>
                    <a:lnTo>
                      <a:pt x="0" y="17"/>
                    </a:lnTo>
                    <a:lnTo>
                      <a:pt x="30" y="0"/>
                    </a:lnTo>
                    <a:lnTo>
                      <a:pt x="74" y="22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85560" y="4692600"/>
                <a:ext cx="94680" cy="39240"/>
              </a:xfrm>
              <a:custGeom>
                <a:avLst/>
                <a:gdLst/>
                <a:ahLst/>
                <a:rect l="l" t="t" r="r" b="b"/>
                <a:pathLst>
                  <a:path w="74" h="30">
                    <a:moveTo>
                      <a:pt x="44" y="17"/>
                    </a:moveTo>
                    <a:lnTo>
                      <a:pt x="0" y="30"/>
                    </a:lnTo>
                    <a:lnTo>
                      <a:pt x="31" y="4"/>
                    </a:lnTo>
                    <a:lnTo>
                      <a:pt x="74" y="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629040" y="4680360"/>
                <a:ext cx="95760" cy="63360"/>
              </a:xfrm>
              <a:custGeom>
                <a:avLst/>
                <a:gdLst/>
                <a:ahLst/>
                <a:rect l="l" t="t" r="r" b="b"/>
                <a:pathLst>
                  <a:path w="75" h="48">
                    <a:moveTo>
                      <a:pt x="44" y="39"/>
                    </a:moveTo>
                    <a:lnTo>
                      <a:pt x="0" y="48"/>
                    </a:lnTo>
                    <a:lnTo>
                      <a:pt x="31" y="0"/>
                    </a:lnTo>
                    <a:lnTo>
                      <a:pt x="75" y="13"/>
                    </a:lnTo>
                    <a:lnTo>
                      <a:pt x="44" y="3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72880" y="4629240"/>
                <a:ext cx="95760" cy="119880"/>
              </a:xfrm>
              <a:custGeom>
                <a:avLst/>
                <a:gdLst/>
                <a:ahLst/>
                <a:rect l="l" t="t" r="r" b="b"/>
                <a:pathLst>
                  <a:path w="75" h="91">
                    <a:moveTo>
                      <a:pt x="44" y="87"/>
                    </a:moveTo>
                    <a:lnTo>
                      <a:pt x="0" y="91"/>
                    </a:lnTo>
                    <a:lnTo>
                      <a:pt x="31" y="0"/>
                    </a:lnTo>
                    <a:lnTo>
                      <a:pt x="75" y="39"/>
                    </a:lnTo>
                    <a:lnTo>
                      <a:pt x="44" y="8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7800" y="4629240"/>
                <a:ext cx="94680" cy="138240"/>
              </a:xfrm>
              <a:custGeom>
                <a:avLst/>
                <a:gdLst/>
                <a:ahLst/>
                <a:rect l="l" t="t" r="r" b="b"/>
                <a:pathLst>
                  <a:path w="74" h="105">
                    <a:moveTo>
                      <a:pt x="43" y="91"/>
                    </a:moveTo>
                    <a:lnTo>
                      <a:pt x="0" y="105"/>
                    </a:lnTo>
                    <a:lnTo>
                      <a:pt x="30" y="48"/>
                    </a:lnTo>
                    <a:lnTo>
                      <a:pt x="74" y="0"/>
                    </a:lnTo>
                    <a:lnTo>
                      <a:pt x="43" y="91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461280" y="4692600"/>
                <a:ext cx="94680" cy="85680"/>
              </a:xfrm>
              <a:custGeom>
                <a:avLst/>
                <a:gdLst/>
                <a:ahLst/>
                <a:rect l="l" t="t" r="r" b="b"/>
                <a:pathLst>
                  <a:path w="74" h="65">
                    <a:moveTo>
                      <a:pt x="44" y="57"/>
                    </a:moveTo>
                    <a:lnTo>
                      <a:pt x="0" y="65"/>
                    </a:lnTo>
                    <a:lnTo>
                      <a:pt x="30" y="30"/>
                    </a:lnTo>
                    <a:lnTo>
                      <a:pt x="74" y="0"/>
                    </a:lnTo>
                    <a:lnTo>
                      <a:pt x="44" y="5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99720" y="4731840"/>
                <a:ext cx="99720" cy="69840"/>
              </a:xfrm>
              <a:custGeom>
                <a:avLst/>
                <a:gdLst/>
                <a:ahLst/>
                <a:rect l="l" t="t" r="r" b="b"/>
                <a:pathLst>
                  <a:path w="78" h="53">
                    <a:moveTo>
                      <a:pt x="48" y="35"/>
                    </a:moveTo>
                    <a:lnTo>
                      <a:pt x="0" y="44"/>
                    </a:lnTo>
                    <a:lnTo>
                      <a:pt x="30" y="53"/>
                    </a:lnTo>
                    <a:lnTo>
                      <a:pt x="78" y="0"/>
                    </a:lnTo>
                    <a:lnTo>
                      <a:pt x="48" y="3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337080" y="4789800"/>
                <a:ext cx="10116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49" y="0"/>
                    </a:moveTo>
                    <a:lnTo>
                      <a:pt x="0" y="9"/>
                    </a:lnTo>
                    <a:lnTo>
                      <a:pt x="36" y="22"/>
                    </a:lnTo>
                    <a:lnTo>
                      <a:pt x="79" y="9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282000" y="4802040"/>
                <a:ext cx="10080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43" y="0"/>
                    </a:moveTo>
                    <a:lnTo>
                      <a:pt x="0" y="9"/>
                    </a:lnTo>
                    <a:lnTo>
                      <a:pt x="30" y="22"/>
                    </a:lnTo>
                    <a:lnTo>
                      <a:pt x="79" y="1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20440" y="4813920"/>
                <a:ext cx="99720" cy="27360"/>
              </a:xfrm>
              <a:custGeom>
                <a:avLst/>
                <a:gdLst/>
                <a:ahLst/>
                <a:rect l="l" t="t" r="r" b="b"/>
                <a:pathLst>
                  <a:path w="78" h="21">
                    <a:moveTo>
                      <a:pt x="48" y="0"/>
                    </a:moveTo>
                    <a:lnTo>
                      <a:pt x="0" y="13"/>
                    </a:lnTo>
                    <a:lnTo>
                      <a:pt x="30" y="21"/>
                    </a:lnTo>
                    <a:lnTo>
                      <a:pt x="78" y="1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093800" y="4651560"/>
                <a:ext cx="96120" cy="28800"/>
              </a:xfrm>
              <a:custGeom>
                <a:avLst/>
                <a:gdLst/>
                <a:ahLst/>
                <a:rect l="l" t="t" r="r" b="b"/>
                <a:pathLst>
                  <a:path w="75" h="22">
                    <a:moveTo>
                      <a:pt x="40" y="4"/>
                    </a:moveTo>
                    <a:lnTo>
                      <a:pt x="0" y="0"/>
                    </a:lnTo>
                    <a:lnTo>
                      <a:pt x="35" y="22"/>
                    </a:lnTo>
                    <a:lnTo>
                      <a:pt x="75" y="13"/>
                    </a:lnTo>
                    <a:lnTo>
                      <a:pt x="40" y="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044120" y="4593600"/>
                <a:ext cx="94680" cy="86760"/>
              </a:xfrm>
              <a:custGeom>
                <a:avLst/>
                <a:gdLst/>
                <a:ahLst/>
                <a:rect l="l" t="t" r="r" b="b"/>
                <a:pathLst>
                  <a:path w="74" h="66">
                    <a:moveTo>
                      <a:pt x="39" y="44"/>
                    </a:moveTo>
                    <a:lnTo>
                      <a:pt x="0" y="0"/>
                    </a:lnTo>
                    <a:lnTo>
                      <a:pt x="35" y="66"/>
                    </a:lnTo>
                    <a:lnTo>
                      <a:pt x="74" y="66"/>
                    </a:lnTo>
                    <a:lnTo>
                      <a:pt x="39" y="4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94080" y="4583160"/>
                <a:ext cx="94680" cy="972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39" y="8"/>
                    </a:moveTo>
                    <a:lnTo>
                      <a:pt x="0" y="48"/>
                    </a:lnTo>
                    <a:lnTo>
                      <a:pt x="35" y="0"/>
                    </a:lnTo>
                    <a:lnTo>
                      <a:pt x="74" y="74"/>
                    </a:lnTo>
                    <a:lnTo>
                      <a:pt x="39" y="8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942960" y="4571280"/>
                <a:ext cx="96120" cy="97560"/>
              </a:xfrm>
              <a:custGeom>
                <a:avLst/>
                <a:gdLst/>
                <a:ahLst/>
                <a:rect l="l" t="t" r="r" b="b"/>
                <a:pathLst>
                  <a:path w="75" h="74">
                    <a:moveTo>
                      <a:pt x="40" y="57"/>
                    </a:moveTo>
                    <a:lnTo>
                      <a:pt x="0" y="74"/>
                    </a:lnTo>
                    <a:lnTo>
                      <a:pt x="31" y="0"/>
                    </a:lnTo>
                    <a:lnTo>
                      <a:pt x="75" y="9"/>
                    </a:lnTo>
                    <a:lnTo>
                      <a:pt x="40" y="5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886440" y="4571280"/>
                <a:ext cx="96120" cy="12672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44" y="74"/>
                    </a:moveTo>
                    <a:lnTo>
                      <a:pt x="0" y="96"/>
                    </a:lnTo>
                    <a:lnTo>
                      <a:pt x="35" y="30"/>
                    </a:lnTo>
                    <a:lnTo>
                      <a:pt x="75" y="0"/>
                    </a:lnTo>
                    <a:lnTo>
                      <a:pt x="44" y="7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36760" y="4610880"/>
                <a:ext cx="94680" cy="110520"/>
              </a:xfrm>
              <a:custGeom>
                <a:avLst/>
                <a:gdLst/>
                <a:ahLst/>
                <a:rect l="l" t="t" r="r" b="b"/>
                <a:pathLst>
                  <a:path w="74" h="84">
                    <a:moveTo>
                      <a:pt x="39" y="66"/>
                    </a:moveTo>
                    <a:lnTo>
                      <a:pt x="0" y="84"/>
                    </a:lnTo>
                    <a:lnTo>
                      <a:pt x="31" y="66"/>
                    </a:lnTo>
                    <a:lnTo>
                      <a:pt x="74" y="0"/>
                    </a:lnTo>
                    <a:lnTo>
                      <a:pt x="39" y="66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80240" y="4668840"/>
                <a:ext cx="96120" cy="52560"/>
              </a:xfrm>
              <a:custGeom>
                <a:avLst/>
                <a:gdLst/>
                <a:ahLst/>
                <a:rect l="l" t="t" r="r" b="b"/>
                <a:pathLst>
                  <a:path w="75" h="40">
                    <a:moveTo>
                      <a:pt x="44" y="40"/>
                    </a:moveTo>
                    <a:lnTo>
                      <a:pt x="0" y="18"/>
                    </a:lnTo>
                    <a:lnTo>
                      <a:pt x="35" y="0"/>
                    </a:lnTo>
                    <a:lnTo>
                      <a:pt x="75" y="22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725160" y="4554000"/>
                <a:ext cx="99720" cy="143640"/>
              </a:xfrm>
              <a:custGeom>
                <a:avLst/>
                <a:gdLst/>
                <a:ahLst/>
                <a:rect l="l" t="t" r="r" b="b"/>
                <a:pathLst>
                  <a:path w="78" h="109">
                    <a:moveTo>
                      <a:pt x="43" y="105"/>
                    </a:moveTo>
                    <a:lnTo>
                      <a:pt x="0" y="109"/>
                    </a:lnTo>
                    <a:lnTo>
                      <a:pt x="35" y="0"/>
                    </a:lnTo>
                    <a:lnTo>
                      <a:pt x="78" y="87"/>
                    </a:lnTo>
                    <a:lnTo>
                      <a:pt x="43" y="10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68640" y="4554000"/>
                <a:ext cx="101160" cy="143640"/>
              </a:xfrm>
              <a:custGeom>
                <a:avLst/>
                <a:gdLst/>
                <a:ahLst/>
                <a:rect l="l" t="t" r="r" b="b"/>
                <a:pathLst>
                  <a:path w="79" h="109">
                    <a:moveTo>
                      <a:pt x="44" y="109"/>
                    </a:moveTo>
                    <a:lnTo>
                      <a:pt x="0" y="96"/>
                    </a:lnTo>
                    <a:lnTo>
                      <a:pt x="35" y="35"/>
                    </a:lnTo>
                    <a:lnTo>
                      <a:pt x="79" y="0"/>
                    </a:lnTo>
                    <a:lnTo>
                      <a:pt x="44" y="10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612480" y="4600080"/>
                <a:ext cx="101160" cy="114480"/>
              </a:xfrm>
              <a:custGeom>
                <a:avLst/>
                <a:gdLst/>
                <a:ahLst/>
                <a:rect l="l" t="t" r="r" b="b"/>
                <a:pathLst>
                  <a:path w="79" h="87">
                    <a:moveTo>
                      <a:pt x="44" y="61"/>
                    </a:moveTo>
                    <a:lnTo>
                      <a:pt x="0" y="22"/>
                    </a:lnTo>
                    <a:lnTo>
                      <a:pt x="35" y="87"/>
                    </a:lnTo>
                    <a:lnTo>
                      <a:pt x="79" y="0"/>
                    </a:lnTo>
                    <a:lnTo>
                      <a:pt x="44" y="61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555960" y="4629240"/>
                <a:ext cx="101160" cy="165960"/>
              </a:xfrm>
              <a:custGeom>
                <a:avLst/>
                <a:gdLst/>
                <a:ahLst/>
                <a:rect l="l" t="t" r="r" b="b"/>
                <a:pathLst>
                  <a:path w="79" h="126">
                    <a:moveTo>
                      <a:pt x="44" y="0"/>
                    </a:moveTo>
                    <a:lnTo>
                      <a:pt x="0" y="48"/>
                    </a:lnTo>
                    <a:lnTo>
                      <a:pt x="35" y="126"/>
                    </a:lnTo>
                    <a:lnTo>
                      <a:pt x="79" y="6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499800" y="4692600"/>
                <a:ext cx="101160" cy="114480"/>
              </a:xfrm>
              <a:custGeom>
                <a:avLst/>
                <a:gdLst/>
                <a:ahLst/>
                <a:rect l="l" t="t" r="r" b="b"/>
                <a:pathLst>
                  <a:path w="79" h="87">
                    <a:moveTo>
                      <a:pt x="44" y="0"/>
                    </a:moveTo>
                    <a:lnTo>
                      <a:pt x="0" y="30"/>
                    </a:lnTo>
                    <a:lnTo>
                      <a:pt x="31" y="87"/>
                    </a:lnTo>
                    <a:lnTo>
                      <a:pt x="79" y="78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38240" y="4731840"/>
                <a:ext cx="100800" cy="75240"/>
              </a:xfrm>
              <a:custGeom>
                <a:avLst/>
                <a:gdLst/>
                <a:ahLst/>
                <a:rect l="l" t="t" r="r" b="b"/>
                <a:pathLst>
                  <a:path w="79" h="57">
                    <a:moveTo>
                      <a:pt x="48" y="0"/>
                    </a:moveTo>
                    <a:lnTo>
                      <a:pt x="0" y="53"/>
                    </a:lnTo>
                    <a:lnTo>
                      <a:pt x="35" y="48"/>
                    </a:lnTo>
                    <a:lnTo>
                      <a:pt x="79" y="57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83160" y="4795200"/>
                <a:ext cx="99720" cy="35280"/>
              </a:xfrm>
              <a:custGeom>
                <a:avLst/>
                <a:gdLst/>
                <a:ahLst/>
                <a:rect l="l" t="t" r="r" b="b"/>
                <a:pathLst>
                  <a:path w="78" h="27">
                    <a:moveTo>
                      <a:pt x="43" y="5"/>
                    </a:moveTo>
                    <a:lnTo>
                      <a:pt x="0" y="18"/>
                    </a:lnTo>
                    <a:lnTo>
                      <a:pt x="30" y="27"/>
                    </a:lnTo>
                    <a:lnTo>
                      <a:pt x="78" y="0"/>
                    </a:lnTo>
                    <a:lnTo>
                      <a:pt x="43" y="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20520" y="4818960"/>
                <a:ext cx="10080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49" y="0"/>
                    </a:moveTo>
                    <a:lnTo>
                      <a:pt x="0" y="9"/>
                    </a:lnTo>
                    <a:lnTo>
                      <a:pt x="31" y="22"/>
                    </a:lnTo>
                    <a:lnTo>
                      <a:pt x="79" y="9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258960" y="4830840"/>
                <a:ext cx="10116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48" y="0"/>
                    </a:moveTo>
                    <a:lnTo>
                      <a:pt x="0" y="8"/>
                    </a:lnTo>
                    <a:lnTo>
                      <a:pt x="31" y="22"/>
                    </a:lnTo>
                    <a:lnTo>
                      <a:pt x="79" y="1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139160" y="4668840"/>
                <a:ext cx="95760" cy="23400"/>
              </a:xfrm>
              <a:custGeom>
                <a:avLst/>
                <a:gdLst/>
                <a:ahLst/>
                <a:rect l="l" t="t" r="r" b="b"/>
                <a:pathLst>
                  <a:path w="75" h="18">
                    <a:moveTo>
                      <a:pt x="40" y="0"/>
                    </a:moveTo>
                    <a:lnTo>
                      <a:pt x="0" y="9"/>
                    </a:lnTo>
                    <a:lnTo>
                      <a:pt x="35" y="18"/>
                    </a:lnTo>
                    <a:lnTo>
                      <a:pt x="75" y="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089120" y="4680360"/>
                <a:ext cx="94680" cy="17280"/>
              </a:xfrm>
              <a:custGeom>
                <a:avLst/>
                <a:gdLst/>
                <a:ahLst/>
                <a:rect l="l" t="t" r="r" b="b"/>
                <a:pathLst>
                  <a:path w="74" h="13">
                    <a:moveTo>
                      <a:pt x="39" y="0"/>
                    </a:moveTo>
                    <a:lnTo>
                      <a:pt x="0" y="0"/>
                    </a:lnTo>
                    <a:lnTo>
                      <a:pt x="35" y="13"/>
                    </a:lnTo>
                    <a:lnTo>
                      <a:pt x="74" y="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039080" y="4571280"/>
                <a:ext cx="94680" cy="126720"/>
              </a:xfrm>
              <a:custGeom>
                <a:avLst/>
                <a:gdLst/>
                <a:ahLst/>
                <a:rect l="l" t="t" r="r" b="b"/>
                <a:pathLst>
                  <a:path w="74" h="96">
                    <a:moveTo>
                      <a:pt x="39" y="83"/>
                    </a:moveTo>
                    <a:lnTo>
                      <a:pt x="0" y="9"/>
                    </a:lnTo>
                    <a:lnTo>
                      <a:pt x="35" y="0"/>
                    </a:lnTo>
                    <a:lnTo>
                      <a:pt x="74" y="96"/>
                    </a:lnTo>
                    <a:lnTo>
                      <a:pt x="39" y="8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982560" y="4484160"/>
                <a:ext cx="56160" cy="98640"/>
              </a:xfrm>
              <a:custGeom>
                <a:avLst/>
                <a:gdLst/>
                <a:ahLst/>
                <a:rect l="l" t="t" r="r" b="b"/>
                <a:pathLst>
                  <a:path w="44" h="75">
                    <a:moveTo>
                      <a:pt x="44" y="75"/>
                    </a:moveTo>
                    <a:lnTo>
                      <a:pt x="44" y="75"/>
                    </a:lnTo>
                    <a:lnTo>
                      <a:pt x="0" y="66"/>
                    </a:lnTo>
                    <a:lnTo>
                      <a:pt x="17" y="0"/>
                    </a:lnTo>
                    <a:lnTo>
                      <a:pt x="39" y="0"/>
                    </a:lnTo>
                    <a:lnTo>
                      <a:pt x="44" y="7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>
                <a:off x="6982560" y="4570920"/>
                <a:ext cx="5616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6982560" y="4483800"/>
                <a:ext cx="2160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004520" y="4484160"/>
                <a:ext cx="28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004520" y="4403880"/>
                <a:ext cx="28080" cy="80280"/>
              </a:xfrm>
              <a:custGeom>
                <a:avLst/>
                <a:gdLst/>
                <a:ahLst/>
                <a:rect l="l" t="t" r="r" b="b"/>
                <a:pathLst>
                  <a:path w="22" h="61">
                    <a:moveTo>
                      <a:pt x="22" y="61"/>
                    </a:moveTo>
                    <a:lnTo>
                      <a:pt x="0" y="6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2" y="6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7004520" y="4484160"/>
                <a:ext cx="28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7004520" y="4403520"/>
                <a:ext cx="226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032600" y="4484160"/>
                <a:ext cx="51120" cy="98640"/>
              </a:xfrm>
              <a:custGeom>
                <a:avLst/>
                <a:gdLst/>
                <a:ahLst/>
                <a:rect l="l" t="t" r="r" b="b"/>
                <a:pathLst>
                  <a:path w="40" h="75">
                    <a:moveTo>
                      <a:pt x="5" y="75"/>
                    </a:moveTo>
                    <a:lnTo>
                      <a:pt x="5" y="75"/>
                    </a:lnTo>
                    <a:lnTo>
                      <a:pt x="40" y="66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5" y="7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7039080" y="4570920"/>
                <a:ext cx="44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7055640" y="4483800"/>
                <a:ext cx="2808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7032240" y="4484160"/>
                <a:ext cx="22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027560" y="4403880"/>
                <a:ext cx="28080" cy="80280"/>
              </a:xfrm>
              <a:custGeom>
                <a:avLst/>
                <a:gdLst/>
                <a:ahLst/>
                <a:rect l="l" t="t" r="r" b="b"/>
                <a:pathLst>
                  <a:path w="22" h="61">
                    <a:moveTo>
                      <a:pt x="4" y="61"/>
                    </a:moveTo>
                    <a:lnTo>
                      <a:pt x="22" y="6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6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032600" y="4484160"/>
                <a:ext cx="22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 flipV="1">
                <a:off x="7027560" y="4403520"/>
                <a:ext cx="280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931440" y="4490640"/>
                <a:ext cx="51120" cy="119880"/>
              </a:xfrm>
              <a:custGeom>
                <a:avLst/>
                <a:gdLst/>
                <a:ahLst/>
                <a:rect l="l" t="t" r="r" b="b"/>
                <a:pathLst>
                  <a:path w="40" h="91">
                    <a:moveTo>
                      <a:pt x="0" y="91"/>
                    </a:moveTo>
                    <a:lnTo>
                      <a:pt x="0" y="91"/>
                    </a:lnTo>
                    <a:lnTo>
                      <a:pt x="40" y="61"/>
                    </a:lnTo>
                    <a:lnTo>
                      <a:pt x="40" y="0"/>
                    </a:lnTo>
                    <a:lnTo>
                      <a:pt x="18" y="4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6931440" y="4571280"/>
                <a:ext cx="51120" cy="39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6954480" y="449064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6931440" y="4496040"/>
                <a:ext cx="2304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54480" y="4409280"/>
                <a:ext cx="28080" cy="86760"/>
              </a:xfrm>
              <a:custGeom>
                <a:avLst/>
                <a:gdLst/>
                <a:ahLst/>
                <a:rect l="l" t="t" r="r" b="b"/>
                <a:pathLst>
                  <a:path w="22" h="66">
                    <a:moveTo>
                      <a:pt x="0" y="66"/>
                    </a:moveTo>
                    <a:lnTo>
                      <a:pt x="22" y="6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6954480" y="449064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6954120" y="4409280"/>
                <a:ext cx="2268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982560" y="4484160"/>
                <a:ext cx="21600" cy="86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6"/>
                    </a:moveTo>
                    <a:lnTo>
                      <a:pt x="0" y="66"/>
                    </a:lnTo>
                    <a:lnTo>
                      <a:pt x="17" y="0"/>
                    </a:lnTo>
                    <a:lnTo>
                      <a:pt x="0" y="5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982560" y="4483800"/>
                <a:ext cx="2160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6982560" y="4484160"/>
                <a:ext cx="21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77520" y="4403880"/>
                <a:ext cx="49680" cy="86760"/>
              </a:xfrm>
              <a:custGeom>
                <a:avLst/>
                <a:gdLst/>
                <a:ahLst/>
                <a:rect l="l" t="t" r="r" b="b"/>
                <a:pathLst>
                  <a:path w="39" h="66">
                    <a:moveTo>
                      <a:pt x="4" y="66"/>
                    </a:moveTo>
                    <a:lnTo>
                      <a:pt x="21" y="61"/>
                    </a:lnTo>
                    <a:lnTo>
                      <a:pt x="39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6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982560" y="4484160"/>
                <a:ext cx="21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7004520" y="4403520"/>
                <a:ext cx="226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6977520" y="440388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76360" y="4496040"/>
                <a:ext cx="78120" cy="201600"/>
              </a:xfrm>
              <a:custGeom>
                <a:avLst/>
                <a:gdLst/>
                <a:ahLst/>
                <a:rect l="l" t="t" r="r" b="b"/>
                <a:pathLst>
                  <a:path w="61" h="153">
                    <a:moveTo>
                      <a:pt x="0" y="153"/>
                    </a:moveTo>
                    <a:lnTo>
                      <a:pt x="0" y="153"/>
                    </a:lnTo>
                    <a:lnTo>
                      <a:pt x="43" y="87"/>
                    </a:lnTo>
                    <a:lnTo>
                      <a:pt x="61" y="0"/>
                    </a:lnTo>
                    <a:lnTo>
                      <a:pt x="52" y="4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6876360" y="4610520"/>
                <a:ext cx="5472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6931440" y="4496040"/>
                <a:ext cx="2304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6942960" y="4496040"/>
                <a:ext cx="11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42960" y="4409280"/>
                <a:ext cx="34560" cy="92160"/>
              </a:xfrm>
              <a:custGeom>
                <a:avLst/>
                <a:gdLst/>
                <a:ahLst/>
                <a:rect l="l" t="t" r="r" b="b"/>
                <a:pathLst>
                  <a:path w="27" h="70">
                    <a:moveTo>
                      <a:pt x="0" y="70"/>
                    </a:moveTo>
                    <a:lnTo>
                      <a:pt x="9" y="6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6942960" y="4496040"/>
                <a:ext cx="11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6954480" y="4408920"/>
                <a:ext cx="2268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876360" y="4501440"/>
                <a:ext cx="66240" cy="196200"/>
              </a:xfrm>
              <a:custGeom>
                <a:avLst/>
                <a:gdLst/>
                <a:ahLst/>
                <a:rect l="l" t="t" r="r" b="b"/>
                <a:pathLst>
                  <a:path w="52" h="149">
                    <a:moveTo>
                      <a:pt x="0" y="149"/>
                    </a:moveTo>
                    <a:lnTo>
                      <a:pt x="0" y="149"/>
                    </a:lnTo>
                    <a:lnTo>
                      <a:pt x="35" y="62"/>
                    </a:lnTo>
                    <a:lnTo>
                      <a:pt x="52" y="5"/>
                    </a:lnTo>
                    <a:lnTo>
                      <a:pt x="52" y="0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6876360" y="4583160"/>
                <a:ext cx="4464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6921000" y="4507920"/>
                <a:ext cx="21600" cy="7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6942960" y="450144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42960" y="4409280"/>
                <a:ext cx="34560" cy="98640"/>
              </a:xfrm>
              <a:custGeom>
                <a:avLst/>
                <a:gdLst/>
                <a:ahLst/>
                <a:rect l="l" t="t" r="r" b="b"/>
                <a:pathLst>
                  <a:path w="27" h="75">
                    <a:moveTo>
                      <a:pt x="0" y="70"/>
                    </a:moveTo>
                    <a:lnTo>
                      <a:pt x="0" y="75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42960" y="450144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942960" y="4409280"/>
                <a:ext cx="34560" cy="9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24880" y="4583160"/>
                <a:ext cx="96120" cy="114480"/>
              </a:xfrm>
              <a:custGeom>
                <a:avLst/>
                <a:gdLst/>
                <a:ahLst/>
                <a:rect l="l" t="t" r="r" b="b"/>
                <a:pathLst>
                  <a:path w="75" h="87">
                    <a:moveTo>
                      <a:pt x="40" y="87"/>
                    </a:moveTo>
                    <a:lnTo>
                      <a:pt x="0" y="65"/>
                    </a:lnTo>
                    <a:lnTo>
                      <a:pt x="31" y="87"/>
                    </a:lnTo>
                    <a:lnTo>
                      <a:pt x="75" y="0"/>
                    </a:lnTo>
                    <a:lnTo>
                      <a:pt x="40" y="8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770160" y="4537080"/>
                <a:ext cx="94680" cy="160560"/>
              </a:xfrm>
              <a:custGeom>
                <a:avLst/>
                <a:gdLst/>
                <a:ahLst/>
                <a:rect l="l" t="t" r="r" b="b"/>
                <a:pathLst>
                  <a:path w="74" h="122">
                    <a:moveTo>
                      <a:pt x="43" y="100"/>
                    </a:moveTo>
                    <a:lnTo>
                      <a:pt x="0" y="13"/>
                    </a:lnTo>
                    <a:lnTo>
                      <a:pt x="30" y="0"/>
                    </a:lnTo>
                    <a:lnTo>
                      <a:pt x="74" y="122"/>
                    </a:lnTo>
                    <a:lnTo>
                      <a:pt x="43" y="10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713640" y="4537080"/>
                <a:ext cx="94680" cy="6300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44" y="13"/>
                    </a:moveTo>
                    <a:lnTo>
                      <a:pt x="0" y="48"/>
                    </a:lnTo>
                    <a:lnTo>
                      <a:pt x="30" y="30"/>
                    </a:lnTo>
                    <a:lnTo>
                      <a:pt x="74" y="0"/>
                    </a:lnTo>
                    <a:lnTo>
                      <a:pt x="44" y="1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657480" y="4576680"/>
                <a:ext cx="94680" cy="138240"/>
              </a:xfrm>
              <a:custGeom>
                <a:avLst/>
                <a:gdLst/>
                <a:ahLst/>
                <a:rect l="l" t="t" r="r" b="b"/>
                <a:pathLst>
                  <a:path w="74" h="105">
                    <a:moveTo>
                      <a:pt x="44" y="18"/>
                    </a:moveTo>
                    <a:lnTo>
                      <a:pt x="0" y="105"/>
                    </a:lnTo>
                    <a:lnTo>
                      <a:pt x="31" y="53"/>
                    </a:lnTo>
                    <a:lnTo>
                      <a:pt x="74" y="0"/>
                    </a:lnTo>
                    <a:lnTo>
                      <a:pt x="44" y="18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600960" y="4646520"/>
                <a:ext cx="95760" cy="148680"/>
              </a:xfrm>
              <a:custGeom>
                <a:avLst/>
                <a:gdLst/>
                <a:ahLst/>
                <a:rect l="l" t="t" r="r" b="b"/>
                <a:pathLst>
                  <a:path w="75" h="113">
                    <a:moveTo>
                      <a:pt x="44" y="52"/>
                    </a:moveTo>
                    <a:lnTo>
                      <a:pt x="0" y="113"/>
                    </a:lnTo>
                    <a:lnTo>
                      <a:pt x="31" y="4"/>
                    </a:lnTo>
                    <a:lnTo>
                      <a:pt x="75" y="0"/>
                    </a:lnTo>
                    <a:lnTo>
                      <a:pt x="44" y="52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39400" y="4651560"/>
                <a:ext cx="100800" cy="155520"/>
              </a:xfrm>
              <a:custGeom>
                <a:avLst/>
                <a:gdLst/>
                <a:ahLst/>
                <a:rect l="l" t="t" r="r" b="b"/>
                <a:pathLst>
                  <a:path w="79" h="118">
                    <a:moveTo>
                      <a:pt x="48" y="109"/>
                    </a:moveTo>
                    <a:lnTo>
                      <a:pt x="0" y="118"/>
                    </a:lnTo>
                    <a:lnTo>
                      <a:pt x="35" y="70"/>
                    </a:lnTo>
                    <a:lnTo>
                      <a:pt x="79" y="0"/>
                    </a:lnTo>
                    <a:lnTo>
                      <a:pt x="48" y="10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483240" y="4743720"/>
                <a:ext cx="100800" cy="63360"/>
              </a:xfrm>
              <a:custGeom>
                <a:avLst/>
                <a:gdLst/>
                <a:ahLst/>
                <a:rect l="l" t="t" r="r" b="b"/>
                <a:pathLst>
                  <a:path w="79" h="48">
                    <a:moveTo>
                      <a:pt x="44" y="48"/>
                    </a:moveTo>
                    <a:lnTo>
                      <a:pt x="0" y="39"/>
                    </a:lnTo>
                    <a:lnTo>
                      <a:pt x="31" y="44"/>
                    </a:lnTo>
                    <a:lnTo>
                      <a:pt x="79" y="0"/>
                    </a:lnTo>
                    <a:lnTo>
                      <a:pt x="44" y="48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21680" y="4795200"/>
                <a:ext cx="101160" cy="35280"/>
              </a:xfrm>
              <a:custGeom>
                <a:avLst/>
                <a:gdLst/>
                <a:ahLst/>
                <a:rect l="l" t="t" r="r" b="b"/>
                <a:pathLst>
                  <a:path w="79" h="27">
                    <a:moveTo>
                      <a:pt x="48" y="0"/>
                    </a:moveTo>
                    <a:lnTo>
                      <a:pt x="0" y="27"/>
                    </a:lnTo>
                    <a:lnTo>
                      <a:pt x="31" y="22"/>
                    </a:lnTo>
                    <a:lnTo>
                      <a:pt x="79" y="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60120" y="4824360"/>
                <a:ext cx="100800" cy="35280"/>
              </a:xfrm>
              <a:custGeom>
                <a:avLst/>
                <a:gdLst/>
                <a:ahLst/>
                <a:rect l="l" t="t" r="r" b="b"/>
                <a:pathLst>
                  <a:path w="79" h="27">
                    <a:moveTo>
                      <a:pt x="48" y="5"/>
                    </a:moveTo>
                    <a:lnTo>
                      <a:pt x="0" y="18"/>
                    </a:lnTo>
                    <a:lnTo>
                      <a:pt x="31" y="27"/>
                    </a:lnTo>
                    <a:lnTo>
                      <a:pt x="79" y="0"/>
                    </a:lnTo>
                    <a:lnTo>
                      <a:pt x="48" y="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298560" y="4847760"/>
                <a:ext cx="10080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48" y="0"/>
                    </a:moveTo>
                    <a:lnTo>
                      <a:pt x="0" y="9"/>
                    </a:lnTo>
                    <a:lnTo>
                      <a:pt x="30" y="22"/>
                    </a:lnTo>
                    <a:lnTo>
                      <a:pt x="79" y="9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83800" y="4680360"/>
                <a:ext cx="96120" cy="22320"/>
              </a:xfrm>
              <a:custGeom>
                <a:avLst/>
                <a:gdLst/>
                <a:ahLst/>
                <a:rect l="l" t="t" r="r" b="b"/>
                <a:pathLst>
                  <a:path w="75" h="17">
                    <a:moveTo>
                      <a:pt x="40" y="0"/>
                    </a:moveTo>
                    <a:lnTo>
                      <a:pt x="0" y="9"/>
                    </a:lnTo>
                    <a:lnTo>
                      <a:pt x="35" y="17"/>
                    </a:lnTo>
                    <a:lnTo>
                      <a:pt x="75" y="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133760" y="4692600"/>
                <a:ext cx="94680" cy="1044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39" y="0"/>
                    </a:moveTo>
                    <a:lnTo>
                      <a:pt x="0" y="4"/>
                    </a:lnTo>
                    <a:lnTo>
                      <a:pt x="35" y="4"/>
                    </a:lnTo>
                    <a:lnTo>
                      <a:pt x="74" y="8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83720" y="4571280"/>
                <a:ext cx="94680" cy="126720"/>
              </a:xfrm>
              <a:custGeom>
                <a:avLst/>
                <a:gdLst/>
                <a:ahLst/>
                <a:rect l="l" t="t" r="r" b="b"/>
                <a:pathLst>
                  <a:path w="74" h="96">
                    <a:moveTo>
                      <a:pt x="39" y="96"/>
                    </a:moveTo>
                    <a:lnTo>
                      <a:pt x="0" y="0"/>
                    </a:lnTo>
                    <a:lnTo>
                      <a:pt x="30" y="61"/>
                    </a:lnTo>
                    <a:lnTo>
                      <a:pt x="74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55640" y="4484160"/>
                <a:ext cx="66240" cy="167040"/>
              </a:xfrm>
              <a:custGeom>
                <a:avLst/>
                <a:gdLst/>
                <a:ahLst/>
                <a:rect l="l" t="t" r="r" b="b"/>
                <a:pathLst>
                  <a:path w="52" h="127">
                    <a:moveTo>
                      <a:pt x="52" y="127"/>
                    </a:moveTo>
                    <a:lnTo>
                      <a:pt x="52" y="127"/>
                    </a:lnTo>
                    <a:lnTo>
                      <a:pt x="22" y="66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52" y="1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 flipV="1">
                <a:off x="7083720" y="4570920"/>
                <a:ext cx="38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7055640" y="4483800"/>
                <a:ext cx="2808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055640" y="44841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027560" y="4403880"/>
                <a:ext cx="33120" cy="86760"/>
              </a:xfrm>
              <a:custGeom>
                <a:avLst/>
                <a:gdLst/>
                <a:ahLst/>
                <a:rect l="l" t="t" r="r" b="b"/>
                <a:pathLst>
                  <a:path w="26" h="66">
                    <a:moveTo>
                      <a:pt x="26" y="66"/>
                    </a:moveTo>
                    <a:lnTo>
                      <a:pt x="22" y="6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6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7055640" y="44841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flipV="1">
                <a:off x="7027560" y="4403520"/>
                <a:ext cx="280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60680" y="4490640"/>
                <a:ext cx="61200" cy="160560"/>
              </a:xfrm>
              <a:custGeom>
                <a:avLst/>
                <a:gdLst/>
                <a:ahLst/>
                <a:rect l="l" t="t" r="r" b="b"/>
                <a:pathLst>
                  <a:path w="48" h="122">
                    <a:moveTo>
                      <a:pt x="48" y="122"/>
                    </a:moveTo>
                    <a:lnTo>
                      <a:pt x="48" y="122"/>
                    </a:lnTo>
                    <a:lnTo>
                      <a:pt x="9" y="13"/>
                    </a:lnTo>
                    <a:lnTo>
                      <a:pt x="9" y="8"/>
                    </a:lnTo>
                    <a:lnTo>
                      <a:pt x="0" y="0"/>
                    </a:lnTo>
                    <a:lnTo>
                      <a:pt x="48" y="12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7072200" y="4507920"/>
                <a:ext cx="49680" cy="14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7072200" y="4501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flipV="1">
                <a:off x="7060320" y="4490280"/>
                <a:ext cx="111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027560" y="4403880"/>
                <a:ext cx="44640" cy="9756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26" y="66"/>
                    </a:moveTo>
                    <a:lnTo>
                      <a:pt x="35" y="7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6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60680" y="4490640"/>
                <a:ext cx="111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flipV="1">
                <a:off x="7027560" y="4403520"/>
                <a:ext cx="44640" cy="9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67160" y="45014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7072200" y="4501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7066800" y="4501440"/>
                <a:ext cx="4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977520" y="4403880"/>
                <a:ext cx="94680" cy="9756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70" y="74"/>
                    </a:moveTo>
                    <a:lnTo>
                      <a:pt x="74" y="74"/>
                    </a:lnTo>
                    <a:lnTo>
                      <a:pt x="39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70" y="7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067160" y="4501440"/>
                <a:ext cx="4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flipV="1">
                <a:off x="7027560" y="4403520"/>
                <a:ext cx="44640" cy="9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977520" y="440388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011000" y="4501440"/>
                <a:ext cx="61200" cy="2880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9" y="22"/>
                    </a:moveTo>
                    <a:lnTo>
                      <a:pt x="9" y="22"/>
                    </a:lnTo>
                    <a:lnTo>
                      <a:pt x="48" y="5"/>
                    </a:lnTo>
                    <a:lnTo>
                      <a:pt x="44" y="0"/>
                    </a:lnTo>
                    <a:lnTo>
                      <a:pt x="0" y="9"/>
                    </a:lnTo>
                    <a:lnTo>
                      <a:pt x="9" y="2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7022160" y="4507920"/>
                <a:ext cx="4968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7011000" y="4501440"/>
                <a:ext cx="5616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011000" y="4512960"/>
                <a:ext cx="1116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977520" y="4409280"/>
                <a:ext cx="89640" cy="103680"/>
              </a:xfrm>
              <a:custGeom>
                <a:avLst/>
                <a:gdLst/>
                <a:ahLst/>
                <a:rect l="l" t="t" r="r" b="b"/>
                <a:pathLst>
                  <a:path w="70" h="79">
                    <a:moveTo>
                      <a:pt x="26" y="79"/>
                    </a:move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7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7011000" y="4501440"/>
                <a:ext cx="5616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977520" y="4409280"/>
                <a:ext cx="33120" cy="10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921000" y="4507920"/>
                <a:ext cx="21600" cy="7488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57"/>
                    </a:moveTo>
                    <a:lnTo>
                      <a:pt x="0" y="57"/>
                    </a:lnTo>
                    <a:lnTo>
                      <a:pt x="17" y="0"/>
                    </a:lnTo>
                    <a:lnTo>
                      <a:pt x="13" y="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6921000" y="4507920"/>
                <a:ext cx="21600" cy="7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6937560" y="4507920"/>
                <a:ext cx="50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6920640" y="4512960"/>
                <a:ext cx="162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937560" y="4362840"/>
                <a:ext cx="39600" cy="150120"/>
              </a:xfrm>
              <a:custGeom>
                <a:avLst/>
                <a:gdLst/>
                <a:ahLst/>
                <a:rect l="l" t="t" r="r" b="b"/>
                <a:pathLst>
                  <a:path w="31" h="114">
                    <a:moveTo>
                      <a:pt x="0" y="114"/>
                    </a:moveTo>
                    <a:lnTo>
                      <a:pt x="4" y="110"/>
                    </a:lnTo>
                    <a:lnTo>
                      <a:pt x="31" y="35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937560" y="4507920"/>
                <a:ext cx="50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6942960" y="4409280"/>
                <a:ext cx="34560" cy="9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6937560" y="4362840"/>
                <a:ext cx="28080" cy="150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011000" y="45129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13"/>
                    </a:moveTo>
                    <a:lnTo>
                      <a:pt x="9" y="1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flipV="1">
                <a:off x="7010640" y="4512960"/>
                <a:ext cx="1116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011000" y="451296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015680" y="4512960"/>
                <a:ext cx="612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966000" y="4362840"/>
                <a:ext cx="49680" cy="150120"/>
              </a:xfrm>
              <a:custGeom>
                <a:avLst/>
                <a:gdLst/>
                <a:ahLst/>
                <a:rect l="l" t="t" r="r" b="b"/>
                <a:pathLst>
                  <a:path w="39" h="114">
                    <a:moveTo>
                      <a:pt x="39" y="114"/>
                    </a:moveTo>
                    <a:lnTo>
                      <a:pt x="35" y="114"/>
                    </a:lnTo>
                    <a:lnTo>
                      <a:pt x="9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9" y="1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7010640" y="451296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337440" y="3762720"/>
              <a:ext cx="986760" cy="1130760"/>
              <a:chOff x="6337440" y="3762720"/>
              <a:chExt cx="986760" cy="1130760"/>
            </a:xfrm>
          </p:grpSpPr>
          <p:sp>
            <p:nvSpPr>
              <p:cNvPr id="463" name=""/>
              <p:cNvSpPr/>
              <p:nvPr/>
            </p:nvSpPr>
            <p:spPr>
              <a:xfrm flipH="1" flipV="1">
                <a:off x="6977520" y="4408560"/>
                <a:ext cx="33120" cy="10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966000" y="4362480"/>
                <a:ext cx="49680" cy="150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864840" y="4512600"/>
                <a:ext cx="56160" cy="184680"/>
              </a:xfrm>
              <a:custGeom>
                <a:avLst/>
                <a:gdLst/>
                <a:ahLst/>
                <a:rect l="l" t="t" r="r" b="b"/>
                <a:pathLst>
                  <a:path w="44" h="140">
                    <a:moveTo>
                      <a:pt x="0" y="140"/>
                    </a:moveTo>
                    <a:lnTo>
                      <a:pt x="0" y="140"/>
                    </a:lnTo>
                    <a:lnTo>
                      <a:pt x="44" y="53"/>
                    </a:lnTo>
                    <a:lnTo>
                      <a:pt x="44" y="0"/>
                    </a:lnTo>
                    <a:lnTo>
                      <a:pt x="17" y="9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6864840" y="4582800"/>
                <a:ext cx="5616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6886080" y="4512600"/>
                <a:ext cx="342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6864840" y="4524480"/>
                <a:ext cx="21600" cy="17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886440" y="4289040"/>
                <a:ext cx="34200" cy="235440"/>
              </a:xfrm>
              <a:custGeom>
                <a:avLst/>
                <a:gdLst/>
                <a:ahLst/>
                <a:rect l="l" t="t" r="r" b="b"/>
                <a:pathLst>
                  <a:path w="27" h="179">
                    <a:moveTo>
                      <a:pt x="0" y="179"/>
                    </a:moveTo>
                    <a:lnTo>
                      <a:pt x="27" y="17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6886440" y="4512240"/>
                <a:ext cx="342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909480" y="4289040"/>
                <a:ext cx="1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6886080" y="4289040"/>
                <a:ext cx="22680" cy="23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909480" y="4281840"/>
                <a:ext cx="1440" cy="68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909480" y="4289040"/>
                <a:ext cx="1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09480" y="4281840"/>
                <a:ext cx="14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21000" y="4512600"/>
                <a:ext cx="16200" cy="69840"/>
              </a:xfrm>
              <a:custGeom>
                <a:avLst/>
                <a:gdLst/>
                <a:ahLst/>
                <a:rect l="l" t="t" r="r" b="b"/>
                <a:pathLst>
                  <a:path w="13" h="53">
                    <a:moveTo>
                      <a:pt x="0" y="53"/>
                    </a:moveTo>
                    <a:lnTo>
                      <a:pt x="0" y="53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6921000" y="4512600"/>
                <a:ext cx="162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6920640" y="4512600"/>
                <a:ext cx="16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909480" y="4289040"/>
                <a:ext cx="56160" cy="223560"/>
              </a:xfrm>
              <a:custGeom>
                <a:avLst/>
                <a:gdLst/>
                <a:ahLst/>
                <a:rect l="l" t="t" r="r" b="b"/>
                <a:pathLst>
                  <a:path w="44" h="170">
                    <a:moveTo>
                      <a:pt x="9" y="170"/>
                    </a:moveTo>
                    <a:lnTo>
                      <a:pt x="22" y="170"/>
                    </a:lnTo>
                    <a:lnTo>
                      <a:pt x="44" y="56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9" y="17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921000" y="4512600"/>
                <a:ext cx="16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6937560" y="4362120"/>
                <a:ext cx="28080" cy="150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flipV="1">
                <a:off x="6914520" y="4289040"/>
                <a:ext cx="5076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6909480" y="4289040"/>
                <a:ext cx="50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909480" y="42818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909480" y="4289040"/>
                <a:ext cx="50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909480" y="4281480"/>
                <a:ext cx="50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808320" y="4524480"/>
                <a:ext cx="56160" cy="172440"/>
              </a:xfrm>
              <a:custGeom>
                <a:avLst/>
                <a:gdLst/>
                <a:ahLst/>
                <a:rect l="l" t="t" r="r" b="b"/>
                <a:pathLst>
                  <a:path w="44" h="131">
                    <a:moveTo>
                      <a:pt x="44" y="131"/>
                    </a:moveTo>
                    <a:lnTo>
                      <a:pt x="44" y="131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44" y="0"/>
                    </a:lnTo>
                    <a:lnTo>
                      <a:pt x="44" y="1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 flipV="1">
                <a:off x="6808320" y="4536720"/>
                <a:ext cx="56160" cy="160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808320" y="452988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808320" y="4524480"/>
                <a:ext cx="561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08320" y="4289040"/>
                <a:ext cx="56160" cy="240840"/>
              </a:xfrm>
              <a:custGeom>
                <a:avLst/>
                <a:gdLst/>
                <a:ahLst/>
                <a:rect l="l" t="t" r="r" b="b"/>
                <a:pathLst>
                  <a:path w="44" h="183">
                    <a:moveTo>
                      <a:pt x="44" y="179"/>
                    </a:moveTo>
                    <a:lnTo>
                      <a:pt x="0" y="183"/>
                    </a:lnTo>
                    <a:lnTo>
                      <a:pt x="18" y="4"/>
                    </a:lnTo>
                    <a:lnTo>
                      <a:pt x="40" y="0"/>
                    </a:lnTo>
                    <a:lnTo>
                      <a:pt x="44" y="17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6808320" y="4524480"/>
                <a:ext cx="561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808320" y="4293720"/>
                <a:ext cx="22680" cy="235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831360" y="428904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831360" y="4046040"/>
                <a:ext cx="28080" cy="247680"/>
              </a:xfrm>
              <a:custGeom>
                <a:avLst/>
                <a:gdLst/>
                <a:ahLst/>
                <a:rect l="l" t="t" r="r" b="b"/>
                <a:pathLst>
                  <a:path w="22" h="188">
                    <a:moveTo>
                      <a:pt x="22" y="184"/>
                    </a:moveTo>
                    <a:lnTo>
                      <a:pt x="0" y="188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18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831360" y="428904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831360" y="4046040"/>
                <a:ext cx="16560" cy="247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848280" y="404604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848280" y="4017240"/>
                <a:ext cx="4680" cy="2880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22"/>
                    </a:moveTo>
                    <a:lnTo>
                      <a:pt x="0" y="2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6847920" y="404604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6848280" y="4017240"/>
                <a:ext cx="468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864840" y="4524480"/>
                <a:ext cx="21600" cy="172440"/>
              </a:xfrm>
              <a:custGeom>
                <a:avLst/>
                <a:gdLst/>
                <a:ahLst/>
                <a:rect l="l" t="t" r="r" b="b"/>
                <a:pathLst>
                  <a:path w="17" h="131">
                    <a:moveTo>
                      <a:pt x="0" y="131"/>
                    </a:moveTo>
                    <a:lnTo>
                      <a:pt x="0" y="131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6864840" y="4524120"/>
                <a:ext cx="21600" cy="17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6864840" y="4524480"/>
                <a:ext cx="216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859440" y="4289040"/>
                <a:ext cx="49680" cy="235440"/>
              </a:xfrm>
              <a:custGeom>
                <a:avLst/>
                <a:gdLst/>
                <a:ahLst/>
                <a:rect l="l" t="t" r="r" b="b"/>
                <a:pathLst>
                  <a:path w="39" h="179">
                    <a:moveTo>
                      <a:pt x="4" y="179"/>
                    </a:moveTo>
                    <a:lnTo>
                      <a:pt x="21" y="179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4" y="17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864840" y="4524480"/>
                <a:ext cx="216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6886440" y="4289040"/>
                <a:ext cx="22680" cy="23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6859440" y="4289040"/>
                <a:ext cx="49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53320" y="4046040"/>
                <a:ext cx="56160" cy="242640"/>
              </a:xfrm>
              <a:custGeom>
                <a:avLst/>
                <a:gdLst/>
                <a:ahLst/>
                <a:rect l="l" t="t" r="r" b="b"/>
                <a:pathLst>
                  <a:path w="44" h="184">
                    <a:moveTo>
                      <a:pt x="5" y="184"/>
                    </a:moveTo>
                    <a:lnTo>
                      <a:pt x="44" y="184"/>
                    </a:lnTo>
                    <a:lnTo>
                      <a:pt x="44" y="17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18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859440" y="4289040"/>
                <a:ext cx="49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6909480" y="4281480"/>
                <a:ext cx="14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 flipV="1">
                <a:off x="6859440" y="4046040"/>
                <a:ext cx="49680" cy="23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6852960" y="40460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853320" y="4017240"/>
                <a:ext cx="6120" cy="2880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5" y="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853320" y="40460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flipV="1">
                <a:off x="6852960" y="4017240"/>
                <a:ext cx="612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52160" y="4529880"/>
                <a:ext cx="56160" cy="4572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35"/>
                    </a:lnTo>
                    <a:lnTo>
                      <a:pt x="44" y="5"/>
                    </a:lnTo>
                    <a:lnTo>
                      <a:pt x="44" y="0"/>
                    </a:lnTo>
                    <a:lnTo>
                      <a:pt x="5" y="9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752160" y="4536360"/>
                <a:ext cx="5616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6808320" y="452988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6758640" y="4529880"/>
                <a:ext cx="496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758640" y="4294080"/>
                <a:ext cx="72720" cy="247680"/>
              </a:xfrm>
              <a:custGeom>
                <a:avLst/>
                <a:gdLst/>
                <a:ahLst/>
                <a:rect l="l" t="t" r="r" b="b"/>
                <a:pathLst>
                  <a:path w="57" h="188">
                    <a:moveTo>
                      <a:pt x="0" y="188"/>
                    </a:moveTo>
                    <a:lnTo>
                      <a:pt x="39" y="179"/>
                    </a:lnTo>
                    <a:lnTo>
                      <a:pt x="57" y="0"/>
                    </a:lnTo>
                    <a:lnTo>
                      <a:pt x="35" y="4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6758640" y="4529880"/>
                <a:ext cx="496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6808320" y="4293720"/>
                <a:ext cx="22680" cy="235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6803280" y="429408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803280" y="4046040"/>
                <a:ext cx="45000" cy="253080"/>
              </a:xfrm>
              <a:custGeom>
                <a:avLst/>
                <a:gdLst/>
                <a:ahLst/>
                <a:rect l="l" t="t" r="r" b="b"/>
                <a:pathLst>
                  <a:path w="35" h="192">
                    <a:moveTo>
                      <a:pt x="0" y="192"/>
                    </a:moveTo>
                    <a:lnTo>
                      <a:pt x="22" y="188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803280" y="429408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6831360" y="4046040"/>
                <a:ext cx="16560" cy="247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48280" y="404604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848280" y="4017240"/>
                <a:ext cx="4680" cy="2880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0" y="22"/>
                    </a:moveTo>
                    <a:lnTo>
                      <a:pt x="0" y="2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848280" y="404604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848280" y="4017240"/>
                <a:ext cx="468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752160" y="4541760"/>
                <a:ext cx="22680" cy="34200"/>
              </a:xfrm>
              <a:custGeom>
                <a:avLst/>
                <a:gdLst/>
                <a:ahLst/>
                <a:rect l="l" t="t" r="r" b="b"/>
                <a:pathLst>
                  <a:path w="18" h="26">
                    <a:moveTo>
                      <a:pt x="0" y="26"/>
                    </a:moveTo>
                    <a:lnTo>
                      <a:pt x="0" y="26"/>
                    </a:lnTo>
                    <a:lnTo>
                      <a:pt x="18" y="4"/>
                    </a:lnTo>
                    <a:lnTo>
                      <a:pt x="5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6752160" y="4547160"/>
                <a:ext cx="2268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>
                <a:off x="6758280" y="4541760"/>
                <a:ext cx="162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758640" y="4299480"/>
                <a:ext cx="61200" cy="247680"/>
              </a:xfrm>
              <a:custGeom>
                <a:avLst/>
                <a:gdLst/>
                <a:ahLst/>
                <a:rect l="l" t="t" r="r" b="b"/>
                <a:pathLst>
                  <a:path w="48" h="188">
                    <a:moveTo>
                      <a:pt x="0" y="184"/>
                    </a:moveTo>
                    <a:lnTo>
                      <a:pt x="13" y="188"/>
                    </a:lnTo>
                    <a:lnTo>
                      <a:pt x="30" y="158"/>
                    </a:lnTo>
                    <a:lnTo>
                      <a:pt x="48" y="5"/>
                    </a:lnTo>
                    <a:lnTo>
                      <a:pt x="35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758640" y="4541760"/>
                <a:ext cx="162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6775200" y="4507200"/>
                <a:ext cx="2160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6796800" y="4305960"/>
                <a:ext cx="23040" cy="201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6803280" y="4299480"/>
                <a:ext cx="1656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803280" y="4046040"/>
                <a:ext cx="45000" cy="259560"/>
              </a:xfrm>
              <a:custGeom>
                <a:avLst/>
                <a:gdLst/>
                <a:ahLst/>
                <a:rect l="l" t="t" r="r" b="b"/>
                <a:pathLst>
                  <a:path w="35" h="197">
                    <a:moveTo>
                      <a:pt x="0" y="192"/>
                    </a:moveTo>
                    <a:lnTo>
                      <a:pt x="13" y="197"/>
                    </a:lnTo>
                    <a:lnTo>
                      <a:pt x="35" y="4"/>
                    </a:lnTo>
                    <a:lnTo>
                      <a:pt x="35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803280" y="4299480"/>
                <a:ext cx="1656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6820200" y="4051440"/>
                <a:ext cx="28080" cy="254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6848280" y="4046040"/>
                <a:ext cx="1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848280" y="4017240"/>
                <a:ext cx="4680" cy="3420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0" y="22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848280" y="4046040"/>
                <a:ext cx="1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6848280" y="4016880"/>
                <a:ext cx="4680" cy="3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697080" y="4553640"/>
                <a:ext cx="55080" cy="92160"/>
              </a:xfrm>
              <a:custGeom>
                <a:avLst/>
                <a:gdLst/>
                <a:ahLst/>
                <a:rect l="l" t="t" r="r" b="b"/>
                <a:pathLst>
                  <a:path w="43" h="70">
                    <a:moveTo>
                      <a:pt x="0" y="70"/>
                    </a:moveTo>
                    <a:lnTo>
                      <a:pt x="0" y="70"/>
                    </a:lnTo>
                    <a:lnTo>
                      <a:pt x="43" y="17"/>
                    </a:lnTo>
                    <a:lnTo>
                      <a:pt x="39" y="0"/>
                    </a:lnTo>
                    <a:lnTo>
                      <a:pt x="22" y="4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6697080" y="4575960"/>
                <a:ext cx="5508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6725160" y="4553640"/>
                <a:ext cx="216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6697080" y="4559040"/>
                <a:ext cx="2808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725160" y="4524480"/>
                <a:ext cx="21600" cy="342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0" y="26"/>
                    </a:moveTo>
                    <a:lnTo>
                      <a:pt x="17" y="2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6725160" y="4553640"/>
                <a:ext cx="216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6725160" y="4524480"/>
                <a:ext cx="16560" cy="3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747120" y="4547160"/>
                <a:ext cx="28080" cy="2880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4" y="22"/>
                    </a:moveTo>
                    <a:lnTo>
                      <a:pt x="4" y="22"/>
                    </a:lnTo>
                    <a:lnTo>
                      <a:pt x="0" y="5"/>
                    </a:lnTo>
                    <a:lnTo>
                      <a:pt x="22" y="0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6747120" y="4547160"/>
                <a:ext cx="28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6751800" y="4547160"/>
                <a:ext cx="2268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742080" y="4507560"/>
                <a:ext cx="54720" cy="4572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26" y="30"/>
                    </a:moveTo>
                    <a:lnTo>
                      <a:pt x="4" y="35"/>
                    </a:lnTo>
                    <a:lnTo>
                      <a:pt x="0" y="13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26" y="3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6747120" y="4547160"/>
                <a:ext cx="28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6742080" y="4507200"/>
                <a:ext cx="5472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6775200" y="4507560"/>
                <a:ext cx="2160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640560" y="4559040"/>
                <a:ext cx="84240" cy="91800"/>
              </a:xfrm>
              <a:custGeom>
                <a:avLst/>
                <a:gdLst/>
                <a:ahLst/>
                <a:rect l="l" t="t" r="r" b="b"/>
                <a:pathLst>
                  <a:path w="66" h="70">
                    <a:moveTo>
                      <a:pt x="44" y="66"/>
                    </a:moveTo>
                    <a:lnTo>
                      <a:pt x="44" y="66"/>
                    </a:lnTo>
                    <a:lnTo>
                      <a:pt x="0" y="70"/>
                    </a:lnTo>
                    <a:lnTo>
                      <a:pt x="52" y="4"/>
                    </a:lnTo>
                    <a:lnTo>
                      <a:pt x="66" y="0"/>
                    </a:lnTo>
                    <a:lnTo>
                      <a:pt x="44" y="6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6640560" y="4646160"/>
                <a:ext cx="561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6707520" y="4559040"/>
                <a:ext cx="17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6697080" y="4559040"/>
                <a:ext cx="2808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707520" y="4524480"/>
                <a:ext cx="34200" cy="3924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14" y="26"/>
                    </a:moveTo>
                    <a:lnTo>
                      <a:pt x="0" y="3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6707160" y="4559040"/>
                <a:ext cx="17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6725160" y="4524480"/>
                <a:ext cx="16560" cy="3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640560" y="4564080"/>
                <a:ext cx="84240" cy="138240"/>
              </a:xfrm>
              <a:custGeom>
                <a:avLst/>
                <a:gdLst/>
                <a:ahLst/>
                <a:rect l="l" t="t" r="r" b="b"/>
                <a:pathLst>
                  <a:path w="66" h="105">
                    <a:moveTo>
                      <a:pt x="35" y="105"/>
                    </a:moveTo>
                    <a:lnTo>
                      <a:pt x="35" y="105"/>
                    </a:lnTo>
                    <a:lnTo>
                      <a:pt x="0" y="66"/>
                    </a:lnTo>
                    <a:lnTo>
                      <a:pt x="52" y="0"/>
                    </a:lnTo>
                    <a:lnTo>
                      <a:pt x="66" y="5"/>
                    </a:lnTo>
                    <a:lnTo>
                      <a:pt x="35" y="10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 flipV="1">
                <a:off x="6640200" y="4651200"/>
                <a:ext cx="45000" cy="51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707520" y="4564080"/>
                <a:ext cx="17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6685200" y="4570560"/>
                <a:ext cx="39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707520" y="4524480"/>
                <a:ext cx="34200" cy="4572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14" y="35"/>
                    </a:moveTo>
                    <a:lnTo>
                      <a:pt x="0" y="3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4" y="3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 flipV="1">
                <a:off x="6707160" y="4564080"/>
                <a:ext cx="17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6725160" y="4524480"/>
                <a:ext cx="1656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584400" y="4651200"/>
                <a:ext cx="101160" cy="92160"/>
              </a:xfrm>
              <a:custGeom>
                <a:avLst/>
                <a:gdLst/>
                <a:ahLst/>
                <a:rect l="l" t="t" r="r" b="b"/>
                <a:pathLst>
                  <a:path w="79" h="70">
                    <a:moveTo>
                      <a:pt x="44" y="0"/>
                    </a:moveTo>
                    <a:lnTo>
                      <a:pt x="0" y="70"/>
                    </a:lnTo>
                    <a:lnTo>
                      <a:pt x="31" y="0"/>
                    </a:lnTo>
                    <a:lnTo>
                      <a:pt x="79" y="3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523200" y="4651200"/>
                <a:ext cx="100800" cy="150120"/>
              </a:xfrm>
              <a:custGeom>
                <a:avLst/>
                <a:gdLst/>
                <a:ahLst/>
                <a:rect l="l" t="t" r="r" b="b"/>
                <a:pathLst>
                  <a:path w="79" h="114">
                    <a:moveTo>
                      <a:pt x="48" y="70"/>
                    </a:moveTo>
                    <a:lnTo>
                      <a:pt x="0" y="114"/>
                    </a:lnTo>
                    <a:lnTo>
                      <a:pt x="35" y="105"/>
                    </a:lnTo>
                    <a:lnTo>
                      <a:pt x="79" y="0"/>
                    </a:lnTo>
                    <a:lnTo>
                      <a:pt x="48" y="7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461640" y="4789440"/>
                <a:ext cx="106200" cy="5796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48" y="9"/>
                    </a:moveTo>
                    <a:lnTo>
                      <a:pt x="0" y="26"/>
                    </a:lnTo>
                    <a:lnTo>
                      <a:pt x="35" y="44"/>
                    </a:lnTo>
                    <a:lnTo>
                      <a:pt x="83" y="0"/>
                    </a:lnTo>
                    <a:lnTo>
                      <a:pt x="48" y="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400080" y="4823640"/>
                <a:ext cx="106200" cy="52560"/>
              </a:xfrm>
              <a:custGeom>
                <a:avLst/>
                <a:gdLst/>
                <a:ahLst/>
                <a:rect l="l" t="t" r="r" b="b"/>
                <a:pathLst>
                  <a:path w="83" h="40">
                    <a:moveTo>
                      <a:pt x="48" y="0"/>
                    </a:moveTo>
                    <a:lnTo>
                      <a:pt x="0" y="27"/>
                    </a:lnTo>
                    <a:lnTo>
                      <a:pt x="35" y="40"/>
                    </a:lnTo>
                    <a:lnTo>
                      <a:pt x="83" y="1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37440" y="4859280"/>
                <a:ext cx="107640" cy="34200"/>
              </a:xfrm>
              <a:custGeom>
                <a:avLst/>
                <a:gdLst/>
                <a:ahLst/>
                <a:rect l="l" t="t" r="r" b="b"/>
                <a:pathLst>
                  <a:path w="84" h="26">
                    <a:moveTo>
                      <a:pt x="49" y="0"/>
                    </a:moveTo>
                    <a:lnTo>
                      <a:pt x="0" y="13"/>
                    </a:lnTo>
                    <a:lnTo>
                      <a:pt x="36" y="26"/>
                    </a:lnTo>
                    <a:lnTo>
                      <a:pt x="84" y="13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28440" y="4691880"/>
                <a:ext cx="95760" cy="22320"/>
              </a:xfrm>
              <a:custGeom>
                <a:avLst/>
                <a:gdLst/>
                <a:ahLst/>
                <a:rect l="l" t="t" r="r" b="b"/>
                <a:pathLst>
                  <a:path w="75" h="17">
                    <a:moveTo>
                      <a:pt x="40" y="0"/>
                    </a:moveTo>
                    <a:lnTo>
                      <a:pt x="0" y="8"/>
                    </a:lnTo>
                    <a:lnTo>
                      <a:pt x="36" y="17"/>
                    </a:lnTo>
                    <a:lnTo>
                      <a:pt x="75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178400" y="4697280"/>
                <a:ext cx="95760" cy="16920"/>
              </a:xfrm>
              <a:custGeom>
                <a:avLst/>
                <a:gdLst/>
                <a:ahLst/>
                <a:rect l="l" t="t" r="r" b="b"/>
                <a:pathLst>
                  <a:path w="75" h="13">
                    <a:moveTo>
                      <a:pt x="39" y="4"/>
                    </a:moveTo>
                    <a:lnTo>
                      <a:pt x="0" y="0"/>
                    </a:lnTo>
                    <a:lnTo>
                      <a:pt x="35" y="13"/>
                    </a:lnTo>
                    <a:lnTo>
                      <a:pt x="75" y="13"/>
                    </a:lnTo>
                    <a:lnTo>
                      <a:pt x="39" y="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122240" y="4628520"/>
                <a:ext cx="101160" cy="85680"/>
              </a:xfrm>
              <a:custGeom>
                <a:avLst/>
                <a:gdLst/>
                <a:ahLst/>
                <a:rect l="l" t="t" r="r" b="b"/>
                <a:pathLst>
                  <a:path w="79" h="65">
                    <a:moveTo>
                      <a:pt x="44" y="52"/>
                    </a:moveTo>
                    <a:lnTo>
                      <a:pt x="0" y="17"/>
                    </a:lnTo>
                    <a:lnTo>
                      <a:pt x="40" y="0"/>
                    </a:lnTo>
                    <a:lnTo>
                      <a:pt x="79" y="65"/>
                    </a:lnTo>
                    <a:lnTo>
                      <a:pt x="44" y="52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072200" y="4501080"/>
                <a:ext cx="49680" cy="149760"/>
              </a:xfrm>
              <a:custGeom>
                <a:avLst/>
                <a:gdLst/>
                <a:ahLst/>
                <a:rect l="l" t="t" r="r" b="b"/>
                <a:pathLst>
                  <a:path w="39" h="114">
                    <a:moveTo>
                      <a:pt x="39" y="114"/>
                    </a:moveTo>
                    <a:lnTo>
                      <a:pt x="39" y="114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35" y="5"/>
                    </a:lnTo>
                    <a:lnTo>
                      <a:pt x="39" y="11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>
                <a:off x="7072200" y="4507560"/>
                <a:ext cx="49680" cy="14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7072200" y="450108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077240" y="4501080"/>
                <a:ext cx="39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077240" y="4471920"/>
                <a:ext cx="39600" cy="3564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31" y="27"/>
                    </a:moveTo>
                    <a:lnTo>
                      <a:pt x="0" y="22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 flipV="1">
                <a:off x="7077240" y="4501080"/>
                <a:ext cx="39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7077240" y="4471560"/>
                <a:ext cx="39600" cy="2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117200" y="4507560"/>
                <a:ext cx="56160" cy="143280"/>
              </a:xfrm>
              <a:custGeom>
                <a:avLst/>
                <a:gdLst/>
                <a:ahLst/>
                <a:rect l="l" t="t" r="r" b="b"/>
                <a:pathLst>
                  <a:path w="44" h="109">
                    <a:moveTo>
                      <a:pt x="4" y="109"/>
                    </a:moveTo>
                    <a:lnTo>
                      <a:pt x="4" y="109"/>
                    </a:lnTo>
                    <a:lnTo>
                      <a:pt x="44" y="92"/>
                    </a:lnTo>
                    <a:lnTo>
                      <a:pt x="13" y="4"/>
                    </a:lnTo>
                    <a:lnTo>
                      <a:pt x="0" y="0"/>
                    </a:lnTo>
                    <a:lnTo>
                      <a:pt x="4" y="10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7122240" y="4628520"/>
                <a:ext cx="5112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 flipV="1">
                <a:off x="7133760" y="4512600"/>
                <a:ext cx="3960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>
                <a:off x="7116840" y="4507560"/>
                <a:ext cx="162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117200" y="4471920"/>
                <a:ext cx="16200" cy="406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27"/>
                    </a:moveTo>
                    <a:lnTo>
                      <a:pt x="13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117200" y="4507560"/>
                <a:ext cx="162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flipV="1">
                <a:off x="7116840" y="4471560"/>
                <a:ext cx="1620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022160" y="4501080"/>
                <a:ext cx="55080" cy="28800"/>
              </a:xfrm>
              <a:custGeom>
                <a:avLst/>
                <a:gdLst/>
                <a:ahLst/>
                <a:rect l="l" t="t" r="r" b="b"/>
                <a:pathLst>
                  <a:path w="43" h="22">
                    <a:moveTo>
                      <a:pt x="0" y="22"/>
                    </a:moveTo>
                    <a:lnTo>
                      <a:pt x="0" y="22"/>
                    </a:lnTo>
                    <a:lnTo>
                      <a:pt x="39" y="5"/>
                    </a:lnTo>
                    <a:lnTo>
                      <a:pt x="43" y="0"/>
                    </a:lnTo>
                    <a:lnTo>
                      <a:pt x="21" y="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7022160" y="4507560"/>
                <a:ext cx="4968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7072200" y="450108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7049160" y="4501080"/>
                <a:ext cx="280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049160" y="4471920"/>
                <a:ext cx="67680" cy="4068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0" y="31"/>
                    </a:moveTo>
                    <a:lnTo>
                      <a:pt x="22" y="22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7049160" y="4501080"/>
                <a:ext cx="280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7077240" y="4471560"/>
                <a:ext cx="39600" cy="2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022160" y="4512600"/>
                <a:ext cx="77760" cy="8028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35" y="61"/>
                    </a:moveTo>
                    <a:lnTo>
                      <a:pt x="35" y="61"/>
                    </a:lnTo>
                    <a:lnTo>
                      <a:pt x="0" y="13"/>
                    </a:lnTo>
                    <a:lnTo>
                      <a:pt x="21" y="0"/>
                    </a:lnTo>
                    <a:lnTo>
                      <a:pt x="61" y="4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 flipV="1">
                <a:off x="7021800" y="4529520"/>
                <a:ext cx="45000" cy="6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049160" y="4512600"/>
                <a:ext cx="507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7066800" y="4518000"/>
                <a:ext cx="32760" cy="7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049160" y="4471920"/>
                <a:ext cx="67680" cy="46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40" y="35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40" y="3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>
                <a:off x="7048800" y="4512600"/>
                <a:ext cx="507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7100280" y="4471920"/>
                <a:ext cx="1656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15680" y="451260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3"/>
                    </a:moveTo>
                    <a:lnTo>
                      <a:pt x="5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 flipV="1">
                <a:off x="7015320" y="4512600"/>
                <a:ext cx="612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015680" y="451260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966000" y="4362480"/>
                <a:ext cx="49680" cy="150120"/>
              </a:xfrm>
              <a:custGeom>
                <a:avLst/>
                <a:gdLst/>
                <a:ahLst/>
                <a:rect l="l" t="t" r="r" b="b"/>
                <a:pathLst>
                  <a:path w="39" h="114">
                    <a:moveTo>
                      <a:pt x="39" y="114"/>
                    </a:moveTo>
                    <a:lnTo>
                      <a:pt x="39" y="114"/>
                    </a:lnTo>
                    <a:lnTo>
                      <a:pt x="0" y="0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9" y="1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015680" y="451260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>
                <a:off x="6966000" y="4362120"/>
                <a:ext cx="49680" cy="150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966000" y="4362480"/>
                <a:ext cx="4500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015680" y="4512600"/>
                <a:ext cx="51120" cy="80280"/>
              </a:xfrm>
              <a:custGeom>
                <a:avLst/>
                <a:gdLst/>
                <a:ahLst/>
                <a:rect l="l" t="t" r="r" b="b"/>
                <a:pathLst>
                  <a:path w="40" h="61">
                    <a:moveTo>
                      <a:pt x="40" y="61"/>
                    </a:moveTo>
                    <a:lnTo>
                      <a:pt x="40" y="61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26" y="13"/>
                    </a:lnTo>
                    <a:lnTo>
                      <a:pt x="40" y="6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>
                <a:off x="7021800" y="4529520"/>
                <a:ext cx="45000" cy="6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015680" y="4512600"/>
                <a:ext cx="3312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049160" y="4529880"/>
                <a:ext cx="18000" cy="6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11000" y="4369320"/>
                <a:ext cx="38160" cy="160560"/>
              </a:xfrm>
              <a:custGeom>
                <a:avLst/>
                <a:gdLst/>
                <a:ahLst/>
                <a:rect l="l" t="t" r="r" b="b"/>
                <a:pathLst>
                  <a:path w="30" h="122">
                    <a:moveTo>
                      <a:pt x="30" y="122"/>
                    </a:moveTo>
                    <a:lnTo>
                      <a:pt x="4" y="10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0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>
                <a:off x="7015680" y="4512600"/>
                <a:ext cx="3312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011000" y="4369320"/>
                <a:ext cx="38160" cy="160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914880" y="4281840"/>
                <a:ext cx="50760" cy="80280"/>
              </a:xfrm>
              <a:custGeom>
                <a:avLst/>
                <a:gdLst/>
                <a:ahLst/>
                <a:rect l="l" t="t" r="r" b="b"/>
                <a:pathLst>
                  <a:path w="40" h="61">
                    <a:moveTo>
                      <a:pt x="40" y="61"/>
                    </a:moveTo>
                    <a:lnTo>
                      <a:pt x="40" y="61"/>
                    </a:lnTo>
                    <a:lnTo>
                      <a:pt x="0" y="5"/>
                    </a:lnTo>
                    <a:lnTo>
                      <a:pt x="35" y="0"/>
                    </a:lnTo>
                    <a:lnTo>
                      <a:pt x="40" y="6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flipV="1">
                <a:off x="6914520" y="4289040"/>
                <a:ext cx="5076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6914880" y="4281480"/>
                <a:ext cx="446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909480" y="4051440"/>
                <a:ext cx="49680" cy="237240"/>
              </a:xfrm>
              <a:custGeom>
                <a:avLst/>
                <a:gdLst/>
                <a:ahLst/>
                <a:rect l="l" t="t" r="r" b="b"/>
                <a:pathLst>
                  <a:path w="39" h="180">
                    <a:moveTo>
                      <a:pt x="39" y="175"/>
                    </a:moveTo>
                    <a:lnTo>
                      <a:pt x="4" y="180"/>
                    </a:lnTo>
                    <a:lnTo>
                      <a:pt x="0" y="175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9" y="17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6914880" y="4281840"/>
                <a:ext cx="446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flipV="1">
                <a:off x="6909480" y="4281480"/>
                <a:ext cx="50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6909480" y="4051440"/>
                <a:ext cx="39600" cy="230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949440" y="4051440"/>
                <a:ext cx="50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949440" y="4029120"/>
                <a:ext cx="5040" cy="22320"/>
              </a:xfrm>
              <a:custGeom>
                <a:avLst/>
                <a:gdLst/>
                <a:ahLst/>
                <a:rect l="l" t="t" r="r" b="b"/>
                <a:pathLst>
                  <a:path w="4" h="17">
                    <a:moveTo>
                      <a:pt x="4" y="17"/>
                    </a:moveTo>
                    <a:lnTo>
                      <a:pt x="0" y="1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6949440" y="4051440"/>
                <a:ext cx="50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949440" y="4029120"/>
                <a:ext cx="50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59520" y="4281840"/>
                <a:ext cx="51120" cy="87120"/>
              </a:xfrm>
              <a:custGeom>
                <a:avLst/>
                <a:gdLst/>
                <a:ahLst/>
                <a:rect l="l" t="t" r="r" b="b"/>
                <a:pathLst>
                  <a:path w="40" h="66">
                    <a:moveTo>
                      <a:pt x="5" y="61"/>
                    </a:moveTo>
                    <a:lnTo>
                      <a:pt x="5" y="61"/>
                    </a:lnTo>
                    <a:lnTo>
                      <a:pt x="40" y="66"/>
                    </a:lnTo>
                    <a:lnTo>
                      <a:pt x="31" y="9"/>
                    </a:lnTo>
                    <a:lnTo>
                      <a:pt x="0" y="0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966000" y="4362480"/>
                <a:ext cx="4500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>
                <a:off x="6999120" y="4293720"/>
                <a:ext cx="11520" cy="7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>
                <a:off x="6959520" y="4281480"/>
                <a:ext cx="396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54480" y="4051440"/>
                <a:ext cx="44640" cy="242280"/>
              </a:xfrm>
              <a:custGeom>
                <a:avLst/>
                <a:gdLst/>
                <a:ahLst/>
                <a:rect l="l" t="t" r="r" b="b"/>
                <a:pathLst>
                  <a:path w="35" h="184">
                    <a:moveTo>
                      <a:pt x="4" y="175"/>
                    </a:moveTo>
                    <a:lnTo>
                      <a:pt x="35" y="18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17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59520" y="4281840"/>
                <a:ext cx="396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 flipV="1">
                <a:off x="6959520" y="4051080"/>
                <a:ext cx="39600" cy="24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6954120" y="4051440"/>
                <a:ext cx="4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954480" y="4029120"/>
                <a:ext cx="4680" cy="22320"/>
              </a:xfrm>
              <a:custGeom>
                <a:avLst/>
                <a:gdLst/>
                <a:ahLst/>
                <a:rect l="l" t="t" r="r" b="b"/>
                <a:pathLst>
                  <a:path w="4" h="17">
                    <a:moveTo>
                      <a:pt x="0" y="17"/>
                    </a:moveTo>
                    <a:lnTo>
                      <a:pt x="4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54480" y="4051440"/>
                <a:ext cx="4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flipV="1">
                <a:off x="6954120" y="4029120"/>
                <a:ext cx="468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59440" y="4046040"/>
                <a:ext cx="89640" cy="235440"/>
              </a:xfrm>
              <a:custGeom>
                <a:avLst/>
                <a:gdLst/>
                <a:ahLst/>
                <a:rect l="l" t="t" r="r" b="b"/>
                <a:pathLst>
                  <a:path w="70" h="179">
                    <a:moveTo>
                      <a:pt x="39" y="179"/>
                    </a:moveTo>
                    <a:lnTo>
                      <a:pt x="39" y="179"/>
                    </a:lnTo>
                    <a:lnTo>
                      <a:pt x="70" y="4"/>
                    </a:lnTo>
                    <a:lnTo>
                      <a:pt x="0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6909480" y="4051440"/>
                <a:ext cx="39600" cy="230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 flipV="1">
                <a:off x="6859080" y="4046040"/>
                <a:ext cx="89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59440" y="4046040"/>
                <a:ext cx="49680" cy="23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853320" y="4017240"/>
                <a:ext cx="101160" cy="34200"/>
              </a:xfrm>
              <a:custGeom>
                <a:avLst/>
                <a:gdLst/>
                <a:ahLst/>
                <a:rect l="l" t="t" r="r" b="b"/>
                <a:pathLst>
                  <a:path w="79" h="26">
                    <a:moveTo>
                      <a:pt x="5" y="22"/>
                    </a:moveTo>
                    <a:lnTo>
                      <a:pt x="75" y="26"/>
                    </a:lnTo>
                    <a:lnTo>
                      <a:pt x="79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859440" y="4046040"/>
                <a:ext cx="89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6949440" y="4029120"/>
                <a:ext cx="50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853320" y="4017240"/>
                <a:ext cx="612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853320" y="3803760"/>
                <a:ext cx="101160" cy="225000"/>
              </a:xfrm>
              <a:custGeom>
                <a:avLst/>
                <a:gdLst/>
                <a:ahLst/>
                <a:rect l="l" t="t" r="r" b="b"/>
                <a:pathLst>
                  <a:path w="79" h="171">
                    <a:moveTo>
                      <a:pt x="79" y="171"/>
                    </a:moveTo>
                    <a:lnTo>
                      <a:pt x="79" y="171"/>
                    </a:lnTo>
                    <a:lnTo>
                      <a:pt x="0" y="162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79" y="17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6853320" y="3803760"/>
                <a:ext cx="33120" cy="213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86440" y="3803760"/>
                <a:ext cx="18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904440" y="3803760"/>
                <a:ext cx="49680" cy="22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86440" y="3763080"/>
                <a:ext cx="18000" cy="406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14" y="31"/>
                    </a:moveTo>
                    <a:lnTo>
                      <a:pt x="0" y="3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4" y="3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6886440" y="3803760"/>
                <a:ext cx="18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6886440" y="3762720"/>
                <a:ext cx="1152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898320" y="3763080"/>
                <a:ext cx="612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6382440" y="3762720"/>
              <a:ext cx="987120" cy="1148400"/>
              <a:chOff x="6382440" y="3762720"/>
              <a:chExt cx="987120" cy="1148400"/>
            </a:xfrm>
          </p:grpSpPr>
          <p:sp>
            <p:nvSpPr>
              <p:cNvPr id="664" name=""/>
              <p:cNvSpPr/>
              <p:nvPr/>
            </p:nvSpPr>
            <p:spPr>
              <a:xfrm>
                <a:off x="6796440" y="4306320"/>
                <a:ext cx="23040" cy="201600"/>
              </a:xfrm>
              <a:custGeom>
                <a:avLst/>
                <a:gdLst/>
                <a:ahLst/>
                <a:rect l="l" t="t" r="r" b="b"/>
                <a:pathLst>
                  <a:path w="18" h="153">
                    <a:moveTo>
                      <a:pt x="0" y="153"/>
                    </a:moveTo>
                    <a:lnTo>
                      <a:pt x="0" y="153"/>
                    </a:lnTo>
                    <a:lnTo>
                      <a:pt x="14" y="4"/>
                    </a:lnTo>
                    <a:lnTo>
                      <a:pt x="18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6796440" y="4311360"/>
                <a:ext cx="18000" cy="196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6814440" y="4306320"/>
                <a:ext cx="50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6796440" y="4306320"/>
                <a:ext cx="23040" cy="201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814440" y="4051800"/>
                <a:ext cx="33120" cy="259560"/>
              </a:xfrm>
              <a:custGeom>
                <a:avLst/>
                <a:gdLst/>
                <a:ahLst/>
                <a:rect l="l" t="t" r="r" b="b"/>
                <a:pathLst>
                  <a:path w="26" h="197">
                    <a:moveTo>
                      <a:pt x="4" y="193"/>
                    </a:moveTo>
                    <a:lnTo>
                      <a:pt x="0" y="197"/>
                    </a:lnTo>
                    <a:lnTo>
                      <a:pt x="21" y="18"/>
                    </a:lnTo>
                    <a:lnTo>
                      <a:pt x="21" y="9"/>
                    </a:lnTo>
                    <a:lnTo>
                      <a:pt x="26" y="0"/>
                    </a:lnTo>
                    <a:lnTo>
                      <a:pt x="4" y="19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6814440" y="4306320"/>
                <a:ext cx="50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6814440" y="4075200"/>
                <a:ext cx="27000" cy="236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6841440" y="4051800"/>
                <a:ext cx="612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6819840" y="4051800"/>
                <a:ext cx="28080" cy="254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841440" y="4017240"/>
                <a:ext cx="11160" cy="4572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5" y="26"/>
                    </a:moveTo>
                    <a:lnTo>
                      <a:pt x="0" y="3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2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6841080" y="4051800"/>
                <a:ext cx="612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6847560" y="4017240"/>
                <a:ext cx="4680" cy="3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841440" y="4063320"/>
                <a:ext cx="1080" cy="11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841440" y="406332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841440" y="4063320"/>
                <a:ext cx="10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841440" y="3803760"/>
                <a:ext cx="44640" cy="259200"/>
              </a:xfrm>
              <a:custGeom>
                <a:avLst/>
                <a:gdLst/>
                <a:ahLst/>
                <a:rect l="l" t="t" r="r" b="b"/>
                <a:pathLst>
                  <a:path w="35" h="197">
                    <a:moveTo>
                      <a:pt x="0" y="197"/>
                    </a:moveTo>
                    <a:lnTo>
                      <a:pt x="0" y="197"/>
                    </a:lnTo>
                    <a:lnTo>
                      <a:pt x="9" y="162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841440" y="406332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6852960" y="3803400"/>
                <a:ext cx="33120" cy="21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886440" y="380376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6841440" y="3803760"/>
                <a:ext cx="44640" cy="25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886440" y="3763080"/>
                <a:ext cx="11520" cy="40680"/>
              </a:xfrm>
              <a:custGeom>
                <a:avLst/>
                <a:gdLst/>
                <a:ahLst/>
                <a:rect l="l" t="t" r="r" b="b"/>
                <a:pathLst>
                  <a:path w="9" h="31">
                    <a:moveTo>
                      <a:pt x="0" y="31"/>
                    </a:moveTo>
                    <a:lnTo>
                      <a:pt x="0" y="3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886440" y="380376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6886440" y="3762720"/>
                <a:ext cx="1152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6886440" y="3763080"/>
                <a:ext cx="1152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741360" y="4311720"/>
                <a:ext cx="72720" cy="213480"/>
              </a:xfrm>
              <a:custGeom>
                <a:avLst/>
                <a:gdLst/>
                <a:ahLst/>
                <a:rect l="l" t="t" r="r" b="b"/>
                <a:pathLst>
                  <a:path w="57" h="162">
                    <a:moveTo>
                      <a:pt x="0" y="162"/>
                    </a:moveTo>
                    <a:lnTo>
                      <a:pt x="0" y="162"/>
                    </a:lnTo>
                    <a:lnTo>
                      <a:pt x="43" y="149"/>
                    </a:lnTo>
                    <a:lnTo>
                      <a:pt x="57" y="0"/>
                    </a:lnTo>
                    <a:lnTo>
                      <a:pt x="35" y="4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6741360" y="4507560"/>
                <a:ext cx="5472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6796440" y="4311360"/>
                <a:ext cx="18000" cy="196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6786360" y="431172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786360" y="4075200"/>
                <a:ext cx="55080" cy="241200"/>
              </a:xfrm>
              <a:custGeom>
                <a:avLst/>
                <a:gdLst/>
                <a:ahLst/>
                <a:rect l="l" t="t" r="r" b="b"/>
                <a:pathLst>
                  <a:path w="43" h="183">
                    <a:moveTo>
                      <a:pt x="0" y="183"/>
                    </a:moveTo>
                    <a:lnTo>
                      <a:pt x="22" y="179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6786360" y="431172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6814440" y="4075200"/>
                <a:ext cx="27000" cy="236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741360" y="4316760"/>
                <a:ext cx="49680" cy="208080"/>
              </a:xfrm>
              <a:custGeom>
                <a:avLst/>
                <a:gdLst/>
                <a:ahLst/>
                <a:rect l="l" t="t" r="r" b="b"/>
                <a:pathLst>
                  <a:path w="39" h="158">
                    <a:moveTo>
                      <a:pt x="0" y="158"/>
                    </a:moveTo>
                    <a:lnTo>
                      <a:pt x="0" y="158"/>
                    </a:lnTo>
                    <a:lnTo>
                      <a:pt x="30" y="49"/>
                    </a:lnTo>
                    <a:lnTo>
                      <a:pt x="39" y="5"/>
                    </a:lnTo>
                    <a:lnTo>
                      <a:pt x="35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6741360" y="4380840"/>
                <a:ext cx="38160" cy="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6779880" y="4322880"/>
                <a:ext cx="11520" cy="57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 flipV="1">
                <a:off x="6786360" y="43167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786360" y="4075200"/>
                <a:ext cx="55080" cy="247680"/>
              </a:xfrm>
              <a:custGeom>
                <a:avLst/>
                <a:gdLst/>
                <a:ahLst/>
                <a:rect l="l" t="t" r="r" b="b"/>
                <a:pathLst>
                  <a:path w="43" h="188">
                    <a:moveTo>
                      <a:pt x="0" y="183"/>
                    </a:moveTo>
                    <a:lnTo>
                      <a:pt x="4" y="188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786360" y="43167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6791400" y="4075200"/>
                <a:ext cx="49680" cy="247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685200" y="4570920"/>
                <a:ext cx="39240" cy="131760"/>
              </a:xfrm>
              <a:custGeom>
                <a:avLst/>
                <a:gdLst/>
                <a:ahLst/>
                <a:rect l="l" t="t" r="r" b="b"/>
                <a:pathLst>
                  <a:path w="31" h="100">
                    <a:moveTo>
                      <a:pt x="0" y="100"/>
                    </a:moveTo>
                    <a:lnTo>
                      <a:pt x="0" y="10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6685200" y="4570920"/>
                <a:ext cx="39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724800" y="4570920"/>
                <a:ext cx="14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724800" y="4381200"/>
                <a:ext cx="55080" cy="195120"/>
              </a:xfrm>
              <a:custGeom>
                <a:avLst/>
                <a:gdLst/>
                <a:ahLst/>
                <a:rect l="l" t="t" r="r" b="b"/>
                <a:pathLst>
                  <a:path w="43" h="148">
                    <a:moveTo>
                      <a:pt x="0" y="148"/>
                    </a:moveTo>
                    <a:lnTo>
                      <a:pt x="0" y="144"/>
                    </a:lnTo>
                    <a:lnTo>
                      <a:pt x="13" y="109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6724800" y="4570920"/>
                <a:ext cx="14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724800" y="4524840"/>
                <a:ext cx="1656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741360" y="4380840"/>
                <a:ext cx="38160" cy="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85200" y="4576320"/>
                <a:ext cx="61200" cy="12636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0" y="96"/>
                    </a:moveTo>
                    <a:lnTo>
                      <a:pt x="0" y="96"/>
                    </a:lnTo>
                    <a:lnTo>
                      <a:pt x="31" y="92"/>
                    </a:lnTo>
                    <a:lnTo>
                      <a:pt x="48" y="9"/>
                    </a:lnTo>
                    <a:lnTo>
                      <a:pt x="31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6685200" y="4698000"/>
                <a:ext cx="392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724800" y="4588200"/>
                <a:ext cx="21600" cy="109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flipV="1">
                <a:off x="6724800" y="4575960"/>
                <a:ext cx="216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724800" y="4381200"/>
                <a:ext cx="55080" cy="207000"/>
              </a:xfrm>
              <a:custGeom>
                <a:avLst/>
                <a:gdLst/>
                <a:ahLst/>
                <a:rect l="l" t="t" r="r" b="b"/>
                <a:pathLst>
                  <a:path w="43" h="157">
                    <a:moveTo>
                      <a:pt x="0" y="148"/>
                    </a:moveTo>
                    <a:lnTo>
                      <a:pt x="17" y="157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724800" y="4576320"/>
                <a:ext cx="216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6746400" y="4380840"/>
                <a:ext cx="3312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623280" y="4651560"/>
                <a:ext cx="101160" cy="51120"/>
              </a:xfrm>
              <a:custGeom>
                <a:avLst/>
                <a:gdLst/>
                <a:ahLst/>
                <a:rect l="l" t="t" r="r" b="b"/>
                <a:pathLst>
                  <a:path w="79" h="39">
                    <a:moveTo>
                      <a:pt x="48" y="39"/>
                    </a:moveTo>
                    <a:lnTo>
                      <a:pt x="0" y="0"/>
                    </a:lnTo>
                    <a:lnTo>
                      <a:pt x="35" y="31"/>
                    </a:lnTo>
                    <a:lnTo>
                      <a:pt x="79" y="35"/>
                    </a:lnTo>
                    <a:lnTo>
                      <a:pt x="48" y="3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567120" y="4651560"/>
                <a:ext cx="101160" cy="138240"/>
              </a:xfrm>
              <a:custGeom>
                <a:avLst/>
                <a:gdLst/>
                <a:ahLst/>
                <a:rect l="l" t="t" r="r" b="b"/>
                <a:pathLst>
                  <a:path w="79" h="105">
                    <a:moveTo>
                      <a:pt x="44" y="0"/>
                    </a:moveTo>
                    <a:lnTo>
                      <a:pt x="0" y="105"/>
                    </a:lnTo>
                    <a:lnTo>
                      <a:pt x="31" y="79"/>
                    </a:lnTo>
                    <a:lnTo>
                      <a:pt x="79" y="3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505200" y="4755960"/>
                <a:ext cx="101160" cy="91800"/>
              </a:xfrm>
              <a:custGeom>
                <a:avLst/>
                <a:gdLst/>
                <a:ahLst/>
                <a:rect l="l" t="t" r="r" b="b"/>
                <a:pathLst>
                  <a:path w="79" h="70">
                    <a:moveTo>
                      <a:pt x="48" y="26"/>
                    </a:moveTo>
                    <a:lnTo>
                      <a:pt x="0" y="70"/>
                    </a:lnTo>
                    <a:lnTo>
                      <a:pt x="35" y="61"/>
                    </a:lnTo>
                    <a:lnTo>
                      <a:pt x="79" y="0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444000" y="4836240"/>
                <a:ext cx="106200" cy="5796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48" y="9"/>
                    </a:moveTo>
                    <a:lnTo>
                      <a:pt x="0" y="31"/>
                    </a:lnTo>
                    <a:lnTo>
                      <a:pt x="35" y="44"/>
                    </a:lnTo>
                    <a:lnTo>
                      <a:pt x="83" y="0"/>
                    </a:lnTo>
                    <a:lnTo>
                      <a:pt x="48" y="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382440" y="4876920"/>
                <a:ext cx="106200" cy="34200"/>
              </a:xfrm>
              <a:custGeom>
                <a:avLst/>
                <a:gdLst/>
                <a:ahLst/>
                <a:rect l="l" t="t" r="r" b="b"/>
                <a:pathLst>
                  <a:path w="83" h="26">
                    <a:moveTo>
                      <a:pt x="48" y="0"/>
                    </a:moveTo>
                    <a:lnTo>
                      <a:pt x="0" y="13"/>
                    </a:lnTo>
                    <a:lnTo>
                      <a:pt x="30" y="26"/>
                    </a:lnTo>
                    <a:lnTo>
                      <a:pt x="83" y="1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274880" y="4709520"/>
                <a:ext cx="94680" cy="22320"/>
              </a:xfrm>
              <a:custGeom>
                <a:avLst/>
                <a:gdLst/>
                <a:ahLst/>
                <a:rect l="l" t="t" r="r" b="b"/>
                <a:pathLst>
                  <a:path w="74" h="17">
                    <a:moveTo>
                      <a:pt x="39" y="0"/>
                    </a:moveTo>
                    <a:lnTo>
                      <a:pt x="0" y="4"/>
                    </a:lnTo>
                    <a:lnTo>
                      <a:pt x="35" y="17"/>
                    </a:lnTo>
                    <a:lnTo>
                      <a:pt x="74" y="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223760" y="4714920"/>
                <a:ext cx="95760" cy="16920"/>
              </a:xfrm>
              <a:custGeom>
                <a:avLst/>
                <a:gdLst/>
                <a:ahLst/>
                <a:rect l="l" t="t" r="r" b="b"/>
                <a:pathLst>
                  <a:path w="75" h="13">
                    <a:moveTo>
                      <a:pt x="40" y="0"/>
                    </a:moveTo>
                    <a:lnTo>
                      <a:pt x="0" y="0"/>
                    </a:lnTo>
                    <a:lnTo>
                      <a:pt x="35" y="13"/>
                    </a:lnTo>
                    <a:lnTo>
                      <a:pt x="75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173720" y="4564440"/>
                <a:ext cx="94680" cy="167400"/>
              </a:xfrm>
              <a:custGeom>
                <a:avLst/>
                <a:gdLst/>
                <a:ahLst/>
                <a:rect l="l" t="t" r="r" b="b"/>
                <a:pathLst>
                  <a:path w="74" h="127">
                    <a:moveTo>
                      <a:pt x="39" y="114"/>
                    </a:moveTo>
                    <a:lnTo>
                      <a:pt x="0" y="49"/>
                    </a:lnTo>
                    <a:lnTo>
                      <a:pt x="35" y="0"/>
                    </a:lnTo>
                    <a:lnTo>
                      <a:pt x="74" y="127"/>
                    </a:lnTo>
                    <a:lnTo>
                      <a:pt x="39" y="11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133760" y="4512960"/>
                <a:ext cx="84600" cy="115920"/>
              </a:xfrm>
              <a:custGeom>
                <a:avLst/>
                <a:gdLst/>
                <a:ahLst/>
                <a:rect l="l" t="t" r="r" b="b"/>
                <a:pathLst>
                  <a:path w="66" h="88">
                    <a:moveTo>
                      <a:pt x="31" y="88"/>
                    </a:moveTo>
                    <a:lnTo>
                      <a:pt x="31" y="88"/>
                    </a:lnTo>
                    <a:lnTo>
                      <a:pt x="66" y="39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31" y="8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7173720" y="4564080"/>
                <a:ext cx="44640" cy="64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7133760" y="4512960"/>
                <a:ext cx="28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33760" y="4512960"/>
                <a:ext cx="3960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17200" y="4472280"/>
                <a:ext cx="44640" cy="4068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13" y="31"/>
                    </a:moveTo>
                    <a:lnTo>
                      <a:pt x="35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33760" y="4512960"/>
                <a:ext cx="28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117200" y="4472280"/>
                <a:ext cx="1656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162200" y="4512960"/>
                <a:ext cx="56160" cy="511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44" y="39"/>
                    </a:moveTo>
                    <a:lnTo>
                      <a:pt x="44" y="3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44" y="3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 flipV="1">
                <a:off x="7167240" y="4524840"/>
                <a:ext cx="5112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>
                <a:off x="7162200" y="4512600"/>
                <a:ext cx="50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117200" y="4472280"/>
                <a:ext cx="49680" cy="5292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35" y="31"/>
                    </a:moveTo>
                    <a:lnTo>
                      <a:pt x="39" y="40"/>
                    </a:lnTo>
                    <a:lnTo>
                      <a:pt x="3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62200" y="4512960"/>
                <a:ext cx="50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 flipV="1">
                <a:off x="7162200" y="45183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 flipV="1">
                <a:off x="7117200" y="4472280"/>
                <a:ext cx="4464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67160" y="4518360"/>
                <a:ext cx="44640" cy="74880"/>
              </a:xfrm>
              <a:custGeom>
                <a:avLst/>
                <a:gdLst/>
                <a:ahLst/>
                <a:rect l="l" t="t" r="r" b="b"/>
                <a:pathLst>
                  <a:path w="35" h="57">
                    <a:moveTo>
                      <a:pt x="0" y="57"/>
                    </a:moveTo>
                    <a:lnTo>
                      <a:pt x="0" y="57"/>
                    </a:lnTo>
                    <a:lnTo>
                      <a:pt x="35" y="40"/>
                    </a:lnTo>
                    <a:lnTo>
                      <a:pt x="35" y="9"/>
                    </a:lnTo>
                    <a:lnTo>
                      <a:pt x="26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7067160" y="4570920"/>
                <a:ext cx="446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 flipV="1">
                <a:off x="7100280" y="4518000"/>
                <a:ext cx="1152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067160" y="4518360"/>
                <a:ext cx="33120" cy="7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100280" y="4472280"/>
                <a:ext cx="16560" cy="57960"/>
              </a:xfrm>
              <a:custGeom>
                <a:avLst/>
                <a:gdLst/>
                <a:ahLst/>
                <a:rect l="l" t="t" r="r" b="b"/>
                <a:pathLst>
                  <a:path w="13" h="44">
                    <a:moveTo>
                      <a:pt x="0" y="35"/>
                    </a:moveTo>
                    <a:lnTo>
                      <a:pt x="9" y="4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100280" y="4518360"/>
                <a:ext cx="1152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100280" y="4472280"/>
                <a:ext cx="1656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112160" y="4530600"/>
                <a:ext cx="44640" cy="4032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0" y="31"/>
                    </a:moveTo>
                    <a:lnTo>
                      <a:pt x="0" y="31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7112160" y="4530600"/>
                <a:ext cx="44640" cy="40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112160" y="4530600"/>
                <a:ext cx="446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112160" y="4472280"/>
                <a:ext cx="49680" cy="579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0" y="44"/>
                    </a:moveTo>
                    <a:lnTo>
                      <a:pt x="35" y="44"/>
                    </a:lnTo>
                    <a:lnTo>
                      <a:pt x="39" y="3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112160" y="4530600"/>
                <a:ext cx="446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7156800" y="4518000"/>
                <a:ext cx="50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 flipV="1">
                <a:off x="7117200" y="4472280"/>
                <a:ext cx="4464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49160" y="4530600"/>
                <a:ext cx="62640" cy="630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14" y="48"/>
                    </a:moveTo>
                    <a:lnTo>
                      <a:pt x="14" y="48"/>
                    </a:lnTo>
                    <a:lnTo>
                      <a:pt x="49" y="31"/>
                    </a:lnTo>
                    <a:lnTo>
                      <a:pt x="35" y="5"/>
                    </a:lnTo>
                    <a:lnTo>
                      <a:pt x="0" y="0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7067160" y="4570920"/>
                <a:ext cx="446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 flipV="1">
                <a:off x="7049160" y="4530600"/>
                <a:ext cx="44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049160" y="4530600"/>
                <a:ext cx="18000" cy="6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011000" y="4369680"/>
                <a:ext cx="83160" cy="167400"/>
              </a:xfrm>
              <a:custGeom>
                <a:avLst/>
                <a:gdLst/>
                <a:ahLst/>
                <a:rect l="l" t="t" r="r" b="b"/>
                <a:pathLst>
                  <a:path w="65" h="127">
                    <a:moveTo>
                      <a:pt x="30" y="122"/>
                    </a:moveTo>
                    <a:lnTo>
                      <a:pt x="65" y="1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0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049160" y="4530600"/>
                <a:ext cx="44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011000" y="4369680"/>
                <a:ext cx="38160" cy="160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094160" y="4537080"/>
                <a:ext cx="18000" cy="3384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14" y="26"/>
                    </a:moveTo>
                    <a:lnTo>
                      <a:pt x="14" y="2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 flipV="1">
                <a:off x="7100280" y="4542120"/>
                <a:ext cx="1152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 flipV="1">
                <a:off x="7093800" y="4537080"/>
                <a:ext cx="61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011000" y="4369680"/>
                <a:ext cx="89280" cy="172440"/>
              </a:xfrm>
              <a:custGeom>
                <a:avLst/>
                <a:gdLst/>
                <a:ahLst/>
                <a:rect l="l" t="t" r="r" b="b"/>
                <a:pathLst>
                  <a:path w="70" h="131">
                    <a:moveTo>
                      <a:pt x="65" y="127"/>
                    </a:moveTo>
                    <a:lnTo>
                      <a:pt x="70" y="131"/>
                    </a:lnTo>
                    <a:lnTo>
                      <a:pt x="35" y="4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5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094160" y="4537080"/>
                <a:ext cx="61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 flipV="1">
                <a:off x="7055640" y="4426200"/>
                <a:ext cx="4464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flipV="1">
                <a:off x="7011000" y="4369680"/>
                <a:ext cx="44640" cy="56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999120" y="4294080"/>
                <a:ext cx="56160" cy="131760"/>
              </a:xfrm>
              <a:custGeom>
                <a:avLst/>
                <a:gdLst/>
                <a:ahLst/>
                <a:rect l="l" t="t" r="r" b="b"/>
                <a:pathLst>
                  <a:path w="44" h="100">
                    <a:moveTo>
                      <a:pt x="44" y="100"/>
                    </a:moveTo>
                    <a:lnTo>
                      <a:pt x="44" y="100"/>
                    </a:lnTo>
                    <a:lnTo>
                      <a:pt x="9" y="57"/>
                    </a:lnTo>
                    <a:lnTo>
                      <a:pt x="0" y="0"/>
                    </a:lnTo>
                    <a:lnTo>
                      <a:pt x="18" y="4"/>
                    </a:lnTo>
                    <a:lnTo>
                      <a:pt x="44" y="10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flipV="1">
                <a:off x="7011000" y="4369680"/>
                <a:ext cx="44640" cy="56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>
                <a:off x="6999120" y="4293720"/>
                <a:ext cx="11520" cy="7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99120" y="4294080"/>
                <a:ext cx="22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59520" y="4051800"/>
                <a:ext cx="62640" cy="247680"/>
              </a:xfrm>
              <a:custGeom>
                <a:avLst/>
                <a:gdLst/>
                <a:ahLst/>
                <a:rect l="l" t="t" r="r" b="b"/>
                <a:pathLst>
                  <a:path w="49" h="188">
                    <a:moveTo>
                      <a:pt x="49" y="188"/>
                    </a:moveTo>
                    <a:lnTo>
                      <a:pt x="31" y="1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9" y="18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 flipV="1">
                <a:off x="6998760" y="4294080"/>
                <a:ext cx="22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flipV="1">
                <a:off x="6959520" y="4051440"/>
                <a:ext cx="39600" cy="24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59520" y="4051800"/>
                <a:ext cx="1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954480" y="4029480"/>
                <a:ext cx="4680" cy="22320"/>
              </a:xfrm>
              <a:custGeom>
                <a:avLst/>
                <a:gdLst/>
                <a:ahLst/>
                <a:rect l="l" t="t" r="r" b="b"/>
                <a:pathLst>
                  <a:path w="4" h="17">
                    <a:moveTo>
                      <a:pt x="4" y="17"/>
                    </a:moveTo>
                    <a:lnTo>
                      <a:pt x="4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959520" y="4051800"/>
                <a:ext cx="1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 flipV="1">
                <a:off x="6954120" y="4029480"/>
                <a:ext cx="468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987600" y="4299480"/>
                <a:ext cx="68040" cy="144720"/>
              </a:xfrm>
              <a:custGeom>
                <a:avLst/>
                <a:gdLst/>
                <a:ahLst/>
                <a:rect l="l" t="t" r="r" b="b"/>
                <a:pathLst>
                  <a:path w="53" h="110">
                    <a:moveTo>
                      <a:pt x="9" y="110"/>
                    </a:moveTo>
                    <a:lnTo>
                      <a:pt x="9" y="110"/>
                    </a:lnTo>
                    <a:lnTo>
                      <a:pt x="53" y="96"/>
                    </a:lnTo>
                    <a:lnTo>
                      <a:pt x="27" y="0"/>
                    </a:lnTo>
                    <a:lnTo>
                      <a:pt x="0" y="5"/>
                    </a:lnTo>
                    <a:lnTo>
                      <a:pt x="9" y="11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6999120" y="4425840"/>
                <a:ext cx="56160" cy="18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6987600" y="4299480"/>
                <a:ext cx="3456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987600" y="4306320"/>
                <a:ext cx="11520" cy="13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954480" y="4051800"/>
                <a:ext cx="67680" cy="254160"/>
              </a:xfrm>
              <a:custGeom>
                <a:avLst/>
                <a:gdLst/>
                <a:ahLst/>
                <a:rect l="l" t="t" r="r" b="b"/>
                <a:pathLst>
                  <a:path w="53" h="193">
                    <a:moveTo>
                      <a:pt x="26" y="193"/>
                    </a:moveTo>
                    <a:lnTo>
                      <a:pt x="53" y="188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6" y="19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6987600" y="4299480"/>
                <a:ext cx="3456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6954120" y="4051800"/>
                <a:ext cx="4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954480" y="4051800"/>
                <a:ext cx="33120" cy="254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954480" y="4029480"/>
                <a:ext cx="4680" cy="22320"/>
              </a:xfrm>
              <a:custGeom>
                <a:avLst/>
                <a:gdLst/>
                <a:ahLst/>
                <a:rect l="l" t="t" r="r" b="b"/>
                <a:pathLst>
                  <a:path w="4" h="17">
                    <a:moveTo>
                      <a:pt x="0" y="17"/>
                    </a:moveTo>
                    <a:lnTo>
                      <a:pt x="4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954480" y="4051800"/>
                <a:ext cx="4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954480" y="4029480"/>
                <a:ext cx="108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982560" y="4306320"/>
                <a:ext cx="16560" cy="138240"/>
              </a:xfrm>
              <a:custGeom>
                <a:avLst/>
                <a:gdLst/>
                <a:ahLst/>
                <a:rect l="l" t="t" r="r" b="b"/>
                <a:pathLst>
                  <a:path w="13" h="105">
                    <a:moveTo>
                      <a:pt x="13" y="105"/>
                    </a:moveTo>
                    <a:lnTo>
                      <a:pt x="13" y="10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3" y="10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 flipV="1">
                <a:off x="6987600" y="4306320"/>
                <a:ext cx="11520" cy="13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6982200" y="4306320"/>
                <a:ext cx="4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942960" y="4051800"/>
                <a:ext cx="44640" cy="259560"/>
              </a:xfrm>
              <a:custGeom>
                <a:avLst/>
                <a:gdLst/>
                <a:ahLst/>
                <a:rect l="l" t="t" r="r" b="b"/>
                <a:pathLst>
                  <a:path w="35" h="197">
                    <a:moveTo>
                      <a:pt x="31" y="197"/>
                    </a:moveTo>
                    <a:lnTo>
                      <a:pt x="35" y="193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31" y="19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6982560" y="4306320"/>
                <a:ext cx="4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 flipV="1">
                <a:off x="6954480" y="4051800"/>
                <a:ext cx="33120" cy="254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6942960" y="4051800"/>
                <a:ext cx="115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904440" y="3803760"/>
                <a:ext cx="49680" cy="254160"/>
              </a:xfrm>
              <a:custGeom>
                <a:avLst/>
                <a:gdLst/>
                <a:ahLst/>
                <a:rect l="l" t="t" r="r" b="b"/>
                <a:pathLst>
                  <a:path w="39" h="193">
                    <a:moveTo>
                      <a:pt x="30" y="193"/>
                    </a:moveTo>
                    <a:lnTo>
                      <a:pt x="39" y="188"/>
                    </a:lnTo>
                    <a:lnTo>
                      <a:pt x="39" y="1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0" y="19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942960" y="4051800"/>
                <a:ext cx="115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6954480" y="4029480"/>
                <a:ext cx="108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 flipV="1">
                <a:off x="6904440" y="3803760"/>
                <a:ext cx="4968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904440" y="380376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897960" y="3763080"/>
                <a:ext cx="6120" cy="40680"/>
              </a:xfrm>
              <a:custGeom>
                <a:avLst/>
                <a:gdLst/>
                <a:ahLst/>
                <a:rect l="l" t="t" r="r" b="b"/>
                <a:pathLst>
                  <a:path w="5" h="31">
                    <a:moveTo>
                      <a:pt x="5" y="31"/>
                    </a:moveTo>
                    <a:lnTo>
                      <a:pt x="5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04440" y="380376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 flipV="1">
                <a:off x="6897600" y="3762720"/>
                <a:ext cx="612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971040" y="4311720"/>
                <a:ext cx="28080" cy="132840"/>
              </a:xfrm>
              <a:custGeom>
                <a:avLst/>
                <a:gdLst/>
                <a:ahLst/>
                <a:rect l="l" t="t" r="r" b="b"/>
                <a:pathLst>
                  <a:path w="22" h="101">
                    <a:moveTo>
                      <a:pt x="22" y="101"/>
                    </a:moveTo>
                    <a:lnTo>
                      <a:pt x="22" y="101"/>
                    </a:lnTo>
                    <a:lnTo>
                      <a:pt x="0" y="4"/>
                    </a:lnTo>
                    <a:lnTo>
                      <a:pt x="9" y="0"/>
                    </a:lnTo>
                    <a:lnTo>
                      <a:pt x="22" y="10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 flipV="1">
                <a:off x="6971040" y="4316400"/>
                <a:ext cx="28080" cy="127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6971040" y="4311720"/>
                <a:ext cx="11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926040" y="4058280"/>
                <a:ext cx="56160" cy="258120"/>
              </a:xfrm>
              <a:custGeom>
                <a:avLst/>
                <a:gdLst/>
                <a:ahLst/>
                <a:rect l="l" t="t" r="r" b="b"/>
                <a:pathLst>
                  <a:path w="44" h="196">
                    <a:moveTo>
                      <a:pt x="44" y="192"/>
                    </a:moveTo>
                    <a:lnTo>
                      <a:pt x="35" y="196"/>
                    </a:lnTo>
                    <a:lnTo>
                      <a:pt x="13" y="109"/>
                    </a:lnTo>
                    <a:lnTo>
                      <a:pt x="0" y="4"/>
                    </a:lnTo>
                    <a:lnTo>
                      <a:pt x="13" y="0"/>
                    </a:lnTo>
                    <a:lnTo>
                      <a:pt x="44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6971040" y="4311720"/>
                <a:ext cx="11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 flipV="1">
                <a:off x="6942960" y="4202280"/>
                <a:ext cx="2808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flipV="1">
                <a:off x="6926040" y="4062960"/>
                <a:ext cx="16560" cy="13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6926040" y="4058280"/>
                <a:ext cx="165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897960" y="3803760"/>
                <a:ext cx="44640" cy="259200"/>
              </a:xfrm>
              <a:custGeom>
                <a:avLst/>
                <a:gdLst/>
                <a:ahLst/>
                <a:rect l="l" t="t" r="r" b="b"/>
                <a:pathLst>
                  <a:path w="35" h="197">
                    <a:moveTo>
                      <a:pt x="35" y="193"/>
                    </a:moveTo>
                    <a:lnTo>
                      <a:pt x="22" y="197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5" y="19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6926040" y="4058280"/>
                <a:ext cx="165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flipV="1">
                <a:off x="6897960" y="3803760"/>
                <a:ext cx="28080" cy="25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897960" y="3803760"/>
                <a:ext cx="6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897960" y="3763080"/>
                <a:ext cx="6120" cy="40680"/>
              </a:xfrm>
              <a:custGeom>
                <a:avLst/>
                <a:gdLst/>
                <a:ahLst/>
                <a:rect l="l" t="t" r="r" b="b"/>
                <a:pathLst>
                  <a:path w="5" h="31">
                    <a:moveTo>
                      <a:pt x="5" y="31"/>
                    </a:moveTo>
                    <a:lnTo>
                      <a:pt x="0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6897600" y="3803760"/>
                <a:ext cx="6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6897960" y="3762720"/>
                <a:ext cx="108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41440" y="4063320"/>
                <a:ext cx="101160" cy="138600"/>
              </a:xfrm>
              <a:custGeom>
                <a:avLst/>
                <a:gdLst/>
                <a:ahLst/>
                <a:rect l="l" t="t" r="r" b="b"/>
                <a:pathLst>
                  <a:path w="79" h="105">
                    <a:moveTo>
                      <a:pt x="79" y="105"/>
                    </a:moveTo>
                    <a:lnTo>
                      <a:pt x="79" y="10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79" y="10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6841440" y="4062960"/>
                <a:ext cx="10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841440" y="4063320"/>
                <a:ext cx="846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26040" y="4063320"/>
                <a:ext cx="16560" cy="13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841440" y="3803760"/>
                <a:ext cx="84600" cy="259200"/>
              </a:xfrm>
              <a:custGeom>
                <a:avLst/>
                <a:gdLst/>
                <a:ahLst/>
                <a:rect l="l" t="t" r="r" b="b"/>
                <a:pathLst>
                  <a:path w="66" h="197">
                    <a:moveTo>
                      <a:pt x="66" y="197"/>
                    </a:moveTo>
                    <a:lnTo>
                      <a:pt x="0" y="197"/>
                    </a:lnTo>
                    <a:lnTo>
                      <a:pt x="35" y="0"/>
                    </a:lnTo>
                    <a:lnTo>
                      <a:pt x="44" y="0"/>
                    </a:lnTo>
                    <a:lnTo>
                      <a:pt x="66" y="1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6841080" y="4063320"/>
                <a:ext cx="846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6841440" y="3803760"/>
                <a:ext cx="44640" cy="25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886440" y="3803760"/>
                <a:ext cx="115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97960" y="3803760"/>
                <a:ext cx="28080" cy="25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886440" y="3763080"/>
                <a:ext cx="11520" cy="40680"/>
              </a:xfrm>
              <a:custGeom>
                <a:avLst/>
                <a:gdLst/>
                <a:ahLst/>
                <a:rect l="l" t="t" r="r" b="b"/>
                <a:pathLst>
                  <a:path w="9" h="31">
                    <a:moveTo>
                      <a:pt x="9" y="31"/>
                    </a:moveTo>
                    <a:lnTo>
                      <a:pt x="0" y="3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3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6886440" y="3803760"/>
                <a:ext cx="115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6886440" y="3762720"/>
                <a:ext cx="1152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897960" y="3763080"/>
                <a:ext cx="108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864480" y="4323240"/>
                <a:ext cx="61560" cy="25308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17" y="192"/>
                    </a:moveTo>
                    <a:lnTo>
                      <a:pt x="17" y="192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17" y="19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6886440" y="4322880"/>
                <a:ext cx="39600" cy="253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6864120" y="4323240"/>
                <a:ext cx="61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64480" y="4323240"/>
                <a:ext cx="21600" cy="253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841440" y="4075200"/>
                <a:ext cx="101160" cy="247680"/>
              </a:xfrm>
              <a:custGeom>
                <a:avLst/>
                <a:gdLst/>
                <a:ahLst/>
                <a:rect l="l" t="t" r="r" b="b"/>
                <a:pathLst>
                  <a:path w="79" h="188">
                    <a:moveTo>
                      <a:pt x="18" y="188"/>
                    </a:moveTo>
                    <a:lnTo>
                      <a:pt x="66" y="188"/>
                    </a:lnTo>
                    <a:lnTo>
                      <a:pt x="79" y="9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18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864480" y="4323240"/>
                <a:ext cx="61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6926040" y="4202280"/>
                <a:ext cx="16560" cy="12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841440" y="4075200"/>
                <a:ext cx="22680" cy="247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779880" y="4323240"/>
                <a:ext cx="51120" cy="160560"/>
              </a:xfrm>
              <a:custGeom>
                <a:avLst/>
                <a:gdLst/>
                <a:ahLst/>
                <a:rect l="l" t="t" r="r" b="b"/>
                <a:pathLst>
                  <a:path w="40" h="122">
                    <a:moveTo>
                      <a:pt x="40" y="122"/>
                    </a:moveTo>
                    <a:lnTo>
                      <a:pt x="40" y="122"/>
                    </a:lnTo>
                    <a:lnTo>
                      <a:pt x="0" y="44"/>
                    </a:lnTo>
                    <a:lnTo>
                      <a:pt x="9" y="0"/>
                    </a:lnTo>
                    <a:lnTo>
                      <a:pt x="40" y="4"/>
                    </a:lnTo>
                    <a:lnTo>
                      <a:pt x="40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 flipV="1">
                <a:off x="6779880" y="4380840"/>
                <a:ext cx="51120" cy="10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779880" y="4322880"/>
                <a:ext cx="11520" cy="57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791400" y="4323240"/>
                <a:ext cx="392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791400" y="4075200"/>
                <a:ext cx="49680" cy="253080"/>
              </a:xfrm>
              <a:custGeom>
                <a:avLst/>
                <a:gdLst/>
                <a:ahLst/>
                <a:rect l="l" t="t" r="r" b="b"/>
                <a:pathLst>
                  <a:path w="39" h="192">
                    <a:moveTo>
                      <a:pt x="31" y="192"/>
                    </a:moveTo>
                    <a:lnTo>
                      <a:pt x="0" y="188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1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 flipV="1">
                <a:off x="6791040" y="4323240"/>
                <a:ext cx="392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6791400" y="4075200"/>
                <a:ext cx="49680" cy="247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831000" y="4323240"/>
                <a:ext cx="55080" cy="253080"/>
              </a:xfrm>
              <a:custGeom>
                <a:avLst/>
                <a:gdLst/>
                <a:ahLst/>
                <a:rect l="l" t="t" r="r" b="b"/>
                <a:pathLst>
                  <a:path w="43" h="192">
                    <a:moveTo>
                      <a:pt x="43" y="192"/>
                    </a:moveTo>
                    <a:lnTo>
                      <a:pt x="43" y="192"/>
                    </a:lnTo>
                    <a:lnTo>
                      <a:pt x="0" y="122"/>
                    </a:lnTo>
                    <a:lnTo>
                      <a:pt x="0" y="4"/>
                    </a:lnTo>
                    <a:lnTo>
                      <a:pt x="26" y="0"/>
                    </a:lnTo>
                    <a:lnTo>
                      <a:pt x="43" y="19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 flipV="1">
                <a:off x="6830640" y="4484160"/>
                <a:ext cx="55080" cy="9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831000" y="4323240"/>
                <a:ext cx="331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864480" y="4323240"/>
                <a:ext cx="21600" cy="253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31000" y="4075200"/>
                <a:ext cx="33120" cy="253080"/>
              </a:xfrm>
              <a:custGeom>
                <a:avLst/>
                <a:gdLst/>
                <a:ahLst/>
                <a:rect l="l" t="t" r="r" b="b"/>
                <a:pathLst>
                  <a:path w="26" h="192">
                    <a:moveTo>
                      <a:pt x="26" y="188"/>
                    </a:moveTo>
                    <a:lnTo>
                      <a:pt x="0" y="19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6" y="18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6831000" y="4323240"/>
                <a:ext cx="331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841440" y="4075200"/>
                <a:ext cx="22680" cy="247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724800" y="4588560"/>
                <a:ext cx="49680" cy="109080"/>
              </a:xfrm>
              <a:custGeom>
                <a:avLst/>
                <a:gdLst/>
                <a:ahLst/>
                <a:rect l="l" t="t" r="r" b="b"/>
                <a:pathLst>
                  <a:path w="39" h="83">
                    <a:moveTo>
                      <a:pt x="0" y="83"/>
                    </a:moveTo>
                    <a:lnTo>
                      <a:pt x="0" y="83"/>
                    </a:lnTo>
                    <a:lnTo>
                      <a:pt x="35" y="39"/>
                    </a:lnTo>
                    <a:lnTo>
                      <a:pt x="39" y="9"/>
                    </a:lnTo>
                    <a:lnTo>
                      <a:pt x="17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6724800" y="4639680"/>
                <a:ext cx="45000" cy="57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 flipV="1">
                <a:off x="6746400" y="4588560"/>
                <a:ext cx="280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6724800" y="4588560"/>
                <a:ext cx="21600" cy="109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746400" y="4381200"/>
                <a:ext cx="33120" cy="218520"/>
              </a:xfrm>
              <a:custGeom>
                <a:avLst/>
                <a:gdLst/>
                <a:ahLst/>
                <a:rect l="l" t="t" r="r" b="b"/>
                <a:pathLst>
                  <a:path w="26" h="166">
                    <a:moveTo>
                      <a:pt x="0" y="157"/>
                    </a:moveTo>
                    <a:lnTo>
                      <a:pt x="22" y="16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746400" y="4588560"/>
                <a:ext cx="280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6746400" y="4381200"/>
                <a:ext cx="3312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769800" y="4600080"/>
                <a:ext cx="16560" cy="3960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30"/>
                    </a:moveTo>
                    <a:lnTo>
                      <a:pt x="0" y="30"/>
                    </a:lnTo>
                    <a:lnTo>
                      <a:pt x="13" y="0"/>
                    </a:lnTo>
                    <a:lnTo>
                      <a:pt x="4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6769800" y="4600080"/>
                <a:ext cx="16560" cy="39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774840" y="4600080"/>
                <a:ext cx="11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774840" y="4381200"/>
                <a:ext cx="56160" cy="218520"/>
              </a:xfrm>
              <a:custGeom>
                <a:avLst/>
                <a:gdLst/>
                <a:ahLst/>
                <a:rect l="l" t="t" r="r" b="b"/>
                <a:pathLst>
                  <a:path w="44" h="166">
                    <a:moveTo>
                      <a:pt x="0" y="166"/>
                    </a:moveTo>
                    <a:lnTo>
                      <a:pt x="9" y="166"/>
                    </a:lnTo>
                    <a:lnTo>
                      <a:pt x="44" y="78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6422400" y="4202280"/>
              <a:ext cx="1041120" cy="743400"/>
              <a:chOff x="6422400" y="4202280"/>
              <a:chExt cx="1041120" cy="743400"/>
            </a:xfrm>
          </p:grpSpPr>
          <p:sp>
            <p:nvSpPr>
              <p:cNvPr id="865" name=""/>
              <p:cNvSpPr/>
              <p:nvPr/>
            </p:nvSpPr>
            <p:spPr>
              <a:xfrm>
                <a:off x="6775200" y="4600080"/>
                <a:ext cx="11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6786720" y="4484160"/>
                <a:ext cx="4464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 flipV="1">
                <a:off x="6779880" y="4380840"/>
                <a:ext cx="50760" cy="10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669000" y="4640040"/>
                <a:ext cx="101160" cy="196200"/>
              </a:xfrm>
              <a:custGeom>
                <a:avLst/>
                <a:gdLst/>
                <a:ahLst/>
                <a:rect l="l" t="t" r="r" b="b"/>
                <a:pathLst>
                  <a:path w="79" h="149">
                    <a:moveTo>
                      <a:pt x="44" y="44"/>
                    </a:moveTo>
                    <a:lnTo>
                      <a:pt x="0" y="40"/>
                    </a:lnTo>
                    <a:lnTo>
                      <a:pt x="35" y="149"/>
                    </a:lnTo>
                    <a:lnTo>
                      <a:pt x="79" y="0"/>
                    </a:lnTo>
                    <a:lnTo>
                      <a:pt x="44" y="4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607800" y="4692600"/>
                <a:ext cx="105840" cy="155520"/>
              </a:xfrm>
              <a:custGeom>
                <a:avLst/>
                <a:gdLst/>
                <a:ahLst/>
                <a:rect l="l" t="t" r="r" b="b"/>
                <a:pathLst>
                  <a:path w="83" h="118">
                    <a:moveTo>
                      <a:pt x="48" y="0"/>
                    </a:moveTo>
                    <a:lnTo>
                      <a:pt x="0" y="48"/>
                    </a:lnTo>
                    <a:lnTo>
                      <a:pt x="35" y="118"/>
                    </a:lnTo>
                    <a:lnTo>
                      <a:pt x="83" y="109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551640" y="4755960"/>
                <a:ext cx="100800" cy="143280"/>
              </a:xfrm>
              <a:custGeom>
                <a:avLst/>
                <a:gdLst/>
                <a:ahLst/>
                <a:rect l="l" t="t" r="r" b="b"/>
                <a:pathLst>
                  <a:path w="79" h="109">
                    <a:moveTo>
                      <a:pt x="44" y="0"/>
                    </a:moveTo>
                    <a:lnTo>
                      <a:pt x="0" y="61"/>
                    </a:lnTo>
                    <a:lnTo>
                      <a:pt x="35" y="109"/>
                    </a:lnTo>
                    <a:lnTo>
                      <a:pt x="79" y="7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490080" y="4836600"/>
                <a:ext cx="105840" cy="74880"/>
              </a:xfrm>
              <a:custGeom>
                <a:avLst/>
                <a:gdLst/>
                <a:ahLst/>
                <a:rect l="l" t="t" r="r" b="b"/>
                <a:pathLst>
                  <a:path w="83" h="57">
                    <a:moveTo>
                      <a:pt x="48" y="0"/>
                    </a:moveTo>
                    <a:lnTo>
                      <a:pt x="0" y="44"/>
                    </a:lnTo>
                    <a:lnTo>
                      <a:pt x="30" y="57"/>
                    </a:lnTo>
                    <a:lnTo>
                      <a:pt x="83" y="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422400" y="4894560"/>
                <a:ext cx="105840" cy="33840"/>
              </a:xfrm>
              <a:custGeom>
                <a:avLst/>
                <a:gdLst/>
                <a:ahLst/>
                <a:rect l="l" t="t" r="r" b="b"/>
                <a:pathLst>
                  <a:path w="83" h="26">
                    <a:moveTo>
                      <a:pt x="53" y="0"/>
                    </a:moveTo>
                    <a:lnTo>
                      <a:pt x="0" y="13"/>
                    </a:lnTo>
                    <a:lnTo>
                      <a:pt x="35" y="26"/>
                    </a:lnTo>
                    <a:lnTo>
                      <a:pt x="83" y="13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318800" y="4721760"/>
                <a:ext cx="94680" cy="22320"/>
              </a:xfrm>
              <a:custGeom>
                <a:avLst/>
                <a:gdLst/>
                <a:ahLst/>
                <a:rect l="l" t="t" r="r" b="b"/>
                <a:pathLst>
                  <a:path w="74" h="17">
                    <a:moveTo>
                      <a:pt x="39" y="0"/>
                    </a:moveTo>
                    <a:lnTo>
                      <a:pt x="0" y="8"/>
                    </a:lnTo>
                    <a:lnTo>
                      <a:pt x="35" y="17"/>
                    </a:lnTo>
                    <a:lnTo>
                      <a:pt x="74" y="8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267680" y="4732200"/>
                <a:ext cx="95760" cy="23760"/>
              </a:xfrm>
              <a:custGeom>
                <a:avLst/>
                <a:gdLst/>
                <a:ahLst/>
                <a:rect l="l" t="t" r="r" b="b"/>
                <a:pathLst>
                  <a:path w="75" h="18">
                    <a:moveTo>
                      <a:pt x="40" y="0"/>
                    </a:moveTo>
                    <a:lnTo>
                      <a:pt x="0" y="0"/>
                    </a:lnTo>
                    <a:lnTo>
                      <a:pt x="35" y="18"/>
                    </a:lnTo>
                    <a:lnTo>
                      <a:pt x="75" y="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217640" y="4564440"/>
                <a:ext cx="94320" cy="191160"/>
              </a:xfrm>
              <a:custGeom>
                <a:avLst/>
                <a:gdLst/>
                <a:ahLst/>
                <a:rect l="l" t="t" r="r" b="b"/>
                <a:pathLst>
                  <a:path w="74" h="145">
                    <a:moveTo>
                      <a:pt x="39" y="127"/>
                    </a:moveTo>
                    <a:lnTo>
                      <a:pt x="0" y="0"/>
                    </a:lnTo>
                    <a:lnTo>
                      <a:pt x="35" y="140"/>
                    </a:lnTo>
                    <a:lnTo>
                      <a:pt x="74" y="145"/>
                    </a:lnTo>
                    <a:lnTo>
                      <a:pt x="39" y="12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166880" y="4525200"/>
                <a:ext cx="95400" cy="224280"/>
              </a:xfrm>
              <a:custGeom>
                <a:avLst/>
                <a:gdLst/>
                <a:ahLst/>
                <a:rect l="l" t="t" r="r" b="b"/>
                <a:pathLst>
                  <a:path w="75" h="170">
                    <a:moveTo>
                      <a:pt x="75" y="170"/>
                    </a:moveTo>
                    <a:lnTo>
                      <a:pt x="75" y="170"/>
                    </a:lnTo>
                    <a:lnTo>
                      <a:pt x="40" y="3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5" y="17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 flipV="1">
                <a:off x="7217640" y="4564080"/>
                <a:ext cx="44640" cy="18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 flipV="1">
                <a:off x="7166520" y="4524840"/>
                <a:ext cx="5076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166880" y="452520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161480" y="451836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166880" y="452520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 flipV="1">
                <a:off x="7161480" y="45183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166880" y="4525200"/>
                <a:ext cx="95400" cy="224280"/>
              </a:xfrm>
              <a:custGeom>
                <a:avLst/>
                <a:gdLst/>
                <a:ahLst/>
                <a:rect l="l" t="t" r="r" b="b"/>
                <a:pathLst>
                  <a:path w="75" h="170">
                    <a:moveTo>
                      <a:pt x="75" y="170"/>
                    </a:moveTo>
                    <a:lnTo>
                      <a:pt x="75" y="170"/>
                    </a:lnTo>
                    <a:lnTo>
                      <a:pt x="35" y="16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5" y="17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 flipV="1">
                <a:off x="7211160" y="4744080"/>
                <a:ext cx="507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 flipV="1">
                <a:off x="7166880" y="4525200"/>
                <a:ext cx="44640" cy="218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166880" y="452520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161480" y="451836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166880" y="452520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 flipV="1">
                <a:off x="7161480" y="45183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111440" y="4530600"/>
                <a:ext cx="44640" cy="4032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0" y="31"/>
                    </a:moveTo>
                    <a:lnTo>
                      <a:pt x="0" y="31"/>
                    </a:lnTo>
                    <a:lnTo>
                      <a:pt x="35" y="0"/>
                    </a:lnTo>
                    <a:lnTo>
                      <a:pt x="21" y="1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7111440" y="4530600"/>
                <a:ext cx="44640" cy="40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7138080" y="4530600"/>
                <a:ext cx="1764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7111440" y="4547520"/>
                <a:ext cx="26640" cy="23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138440" y="4518360"/>
                <a:ext cx="22680" cy="2880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0" y="22"/>
                    </a:moveTo>
                    <a:lnTo>
                      <a:pt x="14" y="9"/>
                    </a:lnTo>
                    <a:lnTo>
                      <a:pt x="18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7138440" y="4530240"/>
                <a:ext cx="1764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7156440" y="4518000"/>
                <a:ext cx="50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7138080" y="4530600"/>
                <a:ext cx="1764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161480" y="4525200"/>
                <a:ext cx="49680" cy="218880"/>
              </a:xfrm>
              <a:custGeom>
                <a:avLst/>
                <a:gdLst/>
                <a:ahLst/>
                <a:rect l="l" t="t" r="r" b="b"/>
                <a:pathLst>
                  <a:path w="39" h="166">
                    <a:moveTo>
                      <a:pt x="39" y="166"/>
                    </a:moveTo>
                    <a:lnTo>
                      <a:pt x="39" y="16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flipV="1">
                <a:off x="7166880" y="4525200"/>
                <a:ext cx="44640" cy="218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7161480" y="4525200"/>
                <a:ext cx="50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161480" y="4547520"/>
                <a:ext cx="49680" cy="196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156440" y="451836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4" y="22"/>
                    </a:moveTo>
                    <a:lnTo>
                      <a:pt x="8" y="5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7161480" y="4525200"/>
                <a:ext cx="50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flipV="1">
                <a:off x="7161480" y="45183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156440" y="4530600"/>
                <a:ext cx="504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99920" y="4542120"/>
                <a:ext cx="38520" cy="28800"/>
              </a:xfrm>
              <a:custGeom>
                <a:avLst/>
                <a:gdLst/>
                <a:ahLst/>
                <a:rect l="l" t="t" r="r" b="b"/>
                <a:pathLst>
                  <a:path w="30" h="22">
                    <a:moveTo>
                      <a:pt x="9" y="22"/>
                    </a:moveTo>
                    <a:lnTo>
                      <a:pt x="9" y="22"/>
                    </a:lnTo>
                    <a:lnTo>
                      <a:pt x="30" y="4"/>
                    </a:lnTo>
                    <a:lnTo>
                      <a:pt x="0" y="0"/>
                    </a:lnTo>
                    <a:lnTo>
                      <a:pt x="9" y="2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7111440" y="4547160"/>
                <a:ext cx="26640" cy="23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 flipV="1">
                <a:off x="7099560" y="4542120"/>
                <a:ext cx="38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099920" y="4542120"/>
                <a:ext cx="1152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055280" y="4426200"/>
                <a:ext cx="100800" cy="121320"/>
              </a:xfrm>
              <a:custGeom>
                <a:avLst/>
                <a:gdLst/>
                <a:ahLst/>
                <a:rect l="l" t="t" r="r" b="b"/>
                <a:pathLst>
                  <a:path w="79" h="92">
                    <a:moveTo>
                      <a:pt x="35" y="88"/>
                    </a:moveTo>
                    <a:lnTo>
                      <a:pt x="65" y="92"/>
                    </a:lnTo>
                    <a:lnTo>
                      <a:pt x="79" y="7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8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099920" y="4542120"/>
                <a:ext cx="38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7138440" y="4530240"/>
                <a:ext cx="1764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055280" y="4426200"/>
                <a:ext cx="4464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055280" y="4392000"/>
                <a:ext cx="100800" cy="138240"/>
              </a:xfrm>
              <a:custGeom>
                <a:avLst/>
                <a:gdLst/>
                <a:ahLst/>
                <a:rect l="l" t="t" r="r" b="b"/>
                <a:pathLst>
                  <a:path w="79" h="105">
                    <a:moveTo>
                      <a:pt x="79" y="105"/>
                    </a:moveTo>
                    <a:lnTo>
                      <a:pt x="0" y="26"/>
                    </a:lnTo>
                    <a:lnTo>
                      <a:pt x="39" y="0"/>
                    </a:lnTo>
                    <a:lnTo>
                      <a:pt x="79" y="105"/>
                    </a:lnTo>
                    <a:lnTo>
                      <a:pt x="79" y="10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055280" y="4392000"/>
                <a:ext cx="100800" cy="13824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6"/>
                    </a:moveTo>
                    <a:lnTo>
                      <a:pt x="9" y="0"/>
                    </a:lnTo>
                    <a:lnTo>
                      <a:pt x="18" y="2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999120" y="4392000"/>
                <a:ext cx="105840" cy="144720"/>
              </a:xfrm>
              <a:custGeom>
                <a:avLst/>
                <a:gdLst/>
                <a:ahLst/>
                <a:rect l="l" t="t" r="r" b="b"/>
                <a:pathLst>
                  <a:path w="83" h="110">
                    <a:moveTo>
                      <a:pt x="44" y="26"/>
                    </a:moveTo>
                    <a:lnTo>
                      <a:pt x="0" y="40"/>
                    </a:lnTo>
                    <a:lnTo>
                      <a:pt x="39" y="110"/>
                    </a:lnTo>
                    <a:lnTo>
                      <a:pt x="83" y="0"/>
                    </a:lnTo>
                    <a:lnTo>
                      <a:pt x="44" y="26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971040" y="4316760"/>
                <a:ext cx="77760" cy="220320"/>
              </a:xfrm>
              <a:custGeom>
                <a:avLst/>
                <a:gdLst/>
                <a:ahLst/>
                <a:rect l="l" t="t" r="r" b="b"/>
                <a:pathLst>
                  <a:path w="61" h="167">
                    <a:moveTo>
                      <a:pt x="61" y="167"/>
                    </a:moveTo>
                    <a:lnTo>
                      <a:pt x="61" y="167"/>
                    </a:lnTo>
                    <a:lnTo>
                      <a:pt x="22" y="97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61" y="16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 flipV="1">
                <a:off x="6999120" y="4444560"/>
                <a:ext cx="49680" cy="9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 flipV="1">
                <a:off x="6971040" y="4316400"/>
                <a:ext cx="28080" cy="127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971040" y="4316760"/>
                <a:ext cx="115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942960" y="4202280"/>
                <a:ext cx="39600" cy="120960"/>
              </a:xfrm>
              <a:custGeom>
                <a:avLst/>
                <a:gdLst/>
                <a:ahLst/>
                <a:rect l="l" t="t" r="r" b="b"/>
                <a:pathLst>
                  <a:path w="31" h="92">
                    <a:moveTo>
                      <a:pt x="31" y="92"/>
                    </a:moveTo>
                    <a:lnTo>
                      <a:pt x="22" y="8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 flipV="1">
                <a:off x="6971040" y="4316760"/>
                <a:ext cx="115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 flipV="1">
                <a:off x="6942960" y="4202280"/>
                <a:ext cx="2808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965640" y="4323240"/>
                <a:ext cx="83160" cy="213840"/>
              </a:xfrm>
              <a:custGeom>
                <a:avLst/>
                <a:gdLst/>
                <a:ahLst/>
                <a:rect l="l" t="t" r="r" b="b"/>
                <a:pathLst>
                  <a:path w="65" h="162">
                    <a:moveTo>
                      <a:pt x="65" y="162"/>
                    </a:moveTo>
                    <a:lnTo>
                      <a:pt x="65" y="162"/>
                    </a:lnTo>
                    <a:lnTo>
                      <a:pt x="22" y="131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65" y="16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 flipV="1">
                <a:off x="6993360" y="4495680"/>
                <a:ext cx="5508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 flipV="1">
                <a:off x="6965640" y="4323240"/>
                <a:ext cx="28080" cy="172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965640" y="4323240"/>
                <a:ext cx="16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942960" y="4202280"/>
                <a:ext cx="39600" cy="120960"/>
              </a:xfrm>
              <a:custGeom>
                <a:avLst/>
                <a:gdLst/>
                <a:ahLst/>
                <a:rect l="l" t="t" r="r" b="b"/>
                <a:pathLst>
                  <a:path w="31" h="92">
                    <a:moveTo>
                      <a:pt x="31" y="92"/>
                    </a:moveTo>
                    <a:lnTo>
                      <a:pt x="18" y="9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6965640" y="4323240"/>
                <a:ext cx="16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 flipV="1">
                <a:off x="6942600" y="4202280"/>
                <a:ext cx="22680" cy="12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892920" y="4583160"/>
                <a:ext cx="44640" cy="457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0" y="35"/>
                    </a:moveTo>
                    <a:lnTo>
                      <a:pt x="30" y="35"/>
                    </a:lnTo>
                    <a:lnTo>
                      <a:pt x="0" y="0"/>
                    </a:lnTo>
                    <a:lnTo>
                      <a:pt x="35" y="8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 flipV="1">
                <a:off x="6892920" y="4582800"/>
                <a:ext cx="3816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892920" y="4583160"/>
                <a:ext cx="4464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886440" y="4323240"/>
                <a:ext cx="56160" cy="270360"/>
              </a:xfrm>
              <a:custGeom>
                <a:avLst/>
                <a:gdLst/>
                <a:ahLst/>
                <a:rect l="l" t="t" r="r" b="b"/>
                <a:pathLst>
                  <a:path w="44" h="205">
                    <a:moveTo>
                      <a:pt x="40" y="205"/>
                    </a:moveTo>
                    <a:lnTo>
                      <a:pt x="5" y="197"/>
                    </a:lnTo>
                    <a:lnTo>
                      <a:pt x="0" y="192"/>
                    </a:lnTo>
                    <a:lnTo>
                      <a:pt x="31" y="0"/>
                    </a:lnTo>
                    <a:lnTo>
                      <a:pt x="44" y="0"/>
                    </a:lnTo>
                    <a:lnTo>
                      <a:pt x="40" y="20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 flipV="1">
                <a:off x="6892920" y="4582800"/>
                <a:ext cx="4464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flipV="1">
                <a:off x="6886080" y="4576680"/>
                <a:ext cx="61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6886440" y="4322880"/>
                <a:ext cx="39600" cy="253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926400" y="4323240"/>
                <a:ext cx="16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926400" y="4202280"/>
                <a:ext cx="16200" cy="120960"/>
              </a:xfrm>
              <a:custGeom>
                <a:avLst/>
                <a:gdLst/>
                <a:ahLst/>
                <a:rect l="l" t="t" r="r" b="b"/>
                <a:pathLst>
                  <a:path w="13" h="92">
                    <a:moveTo>
                      <a:pt x="13" y="92"/>
                    </a:moveTo>
                    <a:lnTo>
                      <a:pt x="0" y="9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6926040" y="4323240"/>
                <a:ext cx="16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6926400" y="4202280"/>
                <a:ext cx="16200" cy="12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931080" y="4593600"/>
                <a:ext cx="17640" cy="352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6931080" y="4593600"/>
                <a:ext cx="1764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6937560" y="4593600"/>
                <a:ext cx="11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937560" y="4323240"/>
                <a:ext cx="56160" cy="270360"/>
              </a:xfrm>
              <a:custGeom>
                <a:avLst/>
                <a:gdLst/>
                <a:ahLst/>
                <a:rect l="l" t="t" r="r" b="b"/>
                <a:pathLst>
                  <a:path w="44" h="205">
                    <a:moveTo>
                      <a:pt x="0" y="205"/>
                    </a:moveTo>
                    <a:lnTo>
                      <a:pt x="9" y="205"/>
                    </a:lnTo>
                    <a:lnTo>
                      <a:pt x="44" y="131"/>
                    </a:lnTo>
                    <a:lnTo>
                      <a:pt x="22" y="0"/>
                    </a:lnTo>
                    <a:lnTo>
                      <a:pt x="4" y="0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937560" y="4593600"/>
                <a:ext cx="11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6949080" y="4496040"/>
                <a:ext cx="44640" cy="9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 flipV="1">
                <a:off x="6965640" y="4323240"/>
                <a:ext cx="28080" cy="172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6942600" y="4323240"/>
                <a:ext cx="22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42960" y="4202280"/>
                <a:ext cx="22680" cy="120960"/>
              </a:xfrm>
              <a:custGeom>
                <a:avLst/>
                <a:gdLst/>
                <a:ahLst/>
                <a:rect l="l" t="t" r="r" b="b"/>
                <a:pathLst>
                  <a:path w="18" h="92">
                    <a:moveTo>
                      <a:pt x="0" y="92"/>
                    </a:moveTo>
                    <a:lnTo>
                      <a:pt x="18" y="9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42960" y="4323240"/>
                <a:ext cx="22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 flipV="1">
                <a:off x="6942600" y="4202280"/>
                <a:ext cx="22680" cy="12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892920" y="458316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30" h="35">
                    <a:moveTo>
                      <a:pt x="30" y="35"/>
                    </a:moveTo>
                    <a:lnTo>
                      <a:pt x="30" y="35"/>
                    </a:lnTo>
                    <a:lnTo>
                      <a:pt x="0" y="0"/>
                    </a:lnTo>
                    <a:lnTo>
                      <a:pt x="13" y="8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 flipV="1">
                <a:off x="6892920" y="4582800"/>
                <a:ext cx="3816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892920" y="4583160"/>
                <a:ext cx="1620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831360" y="4484160"/>
                <a:ext cx="77760" cy="10944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1" y="83"/>
                    </a:moveTo>
                    <a:lnTo>
                      <a:pt x="48" y="75"/>
                    </a:lnTo>
                    <a:lnTo>
                      <a:pt x="43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1" y="8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 flipV="1">
                <a:off x="6892560" y="4582800"/>
                <a:ext cx="1620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 flipV="1">
                <a:off x="6886080" y="4576680"/>
                <a:ext cx="61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 flipV="1">
                <a:off x="6831000" y="4484160"/>
                <a:ext cx="55080" cy="9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869880" y="4593600"/>
                <a:ext cx="60840" cy="3528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48" y="27"/>
                    </a:moveTo>
                    <a:lnTo>
                      <a:pt x="48" y="27"/>
                    </a:lnTo>
                    <a:lnTo>
                      <a:pt x="5" y="22"/>
                    </a:lnTo>
                    <a:lnTo>
                      <a:pt x="0" y="9"/>
                    </a:lnTo>
                    <a:lnTo>
                      <a:pt x="31" y="0"/>
                    </a:lnTo>
                    <a:lnTo>
                      <a:pt x="48" y="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 flipV="1">
                <a:off x="6876360" y="4622760"/>
                <a:ext cx="54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 flipV="1">
                <a:off x="6869520" y="4605120"/>
                <a:ext cx="612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6869880" y="4593240"/>
                <a:ext cx="392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831360" y="4484160"/>
                <a:ext cx="77760" cy="121320"/>
              </a:xfrm>
              <a:custGeom>
                <a:avLst/>
                <a:gdLst/>
                <a:ahLst/>
                <a:rect l="l" t="t" r="r" b="b"/>
                <a:pathLst>
                  <a:path w="61" h="92">
                    <a:moveTo>
                      <a:pt x="61" y="83"/>
                    </a:moveTo>
                    <a:lnTo>
                      <a:pt x="30" y="9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1" y="8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6869520" y="4593600"/>
                <a:ext cx="392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 flipV="1">
                <a:off x="6831000" y="4483800"/>
                <a:ext cx="38520" cy="12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770160" y="4600080"/>
                <a:ext cx="54720" cy="178200"/>
              </a:xfrm>
              <a:custGeom>
                <a:avLst/>
                <a:gdLst/>
                <a:ahLst/>
                <a:rect l="l" t="t" r="r" b="b"/>
                <a:pathLst>
                  <a:path w="43" h="135">
                    <a:moveTo>
                      <a:pt x="39" y="135"/>
                    </a:moveTo>
                    <a:lnTo>
                      <a:pt x="39" y="135"/>
                    </a:lnTo>
                    <a:lnTo>
                      <a:pt x="0" y="30"/>
                    </a:lnTo>
                    <a:lnTo>
                      <a:pt x="13" y="0"/>
                    </a:lnTo>
                    <a:lnTo>
                      <a:pt x="43" y="0"/>
                    </a:lnTo>
                    <a:lnTo>
                      <a:pt x="39" y="13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 flipV="1">
                <a:off x="6770160" y="4640040"/>
                <a:ext cx="49680" cy="13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6770160" y="4600080"/>
                <a:ext cx="16200" cy="39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786720" y="46000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786720" y="4484160"/>
                <a:ext cx="44640" cy="115920"/>
              </a:xfrm>
              <a:custGeom>
                <a:avLst/>
                <a:gdLst/>
                <a:ahLst/>
                <a:rect l="l" t="t" r="r" b="b"/>
                <a:pathLst>
                  <a:path w="35" h="88">
                    <a:moveTo>
                      <a:pt x="30" y="88"/>
                    </a:moveTo>
                    <a:lnTo>
                      <a:pt x="0" y="88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0" y="8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6786720" y="46000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6786720" y="4484160"/>
                <a:ext cx="4464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820200" y="4600080"/>
                <a:ext cx="56160" cy="178200"/>
              </a:xfrm>
              <a:custGeom>
                <a:avLst/>
                <a:gdLst/>
                <a:ahLst/>
                <a:rect l="l" t="t" r="r" b="b"/>
                <a:pathLst>
                  <a:path w="44" h="135">
                    <a:moveTo>
                      <a:pt x="0" y="135"/>
                    </a:moveTo>
                    <a:lnTo>
                      <a:pt x="0" y="135"/>
                    </a:lnTo>
                    <a:lnTo>
                      <a:pt x="44" y="17"/>
                    </a:lnTo>
                    <a:lnTo>
                      <a:pt x="39" y="4"/>
                    </a:lnTo>
                    <a:lnTo>
                      <a:pt x="4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6820200" y="4622760"/>
                <a:ext cx="56160" cy="155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 flipV="1">
                <a:off x="6869520" y="4605120"/>
                <a:ext cx="612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 flipV="1">
                <a:off x="6825240" y="4600080"/>
                <a:ext cx="44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825240" y="4484160"/>
                <a:ext cx="44640" cy="121320"/>
              </a:xfrm>
              <a:custGeom>
                <a:avLst/>
                <a:gdLst/>
                <a:ahLst/>
                <a:rect l="l" t="t" r="r" b="b"/>
                <a:pathLst>
                  <a:path w="35" h="92">
                    <a:moveTo>
                      <a:pt x="0" y="88"/>
                    </a:moveTo>
                    <a:lnTo>
                      <a:pt x="35" y="9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825240" y="4600080"/>
                <a:ext cx="44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6831000" y="4483800"/>
                <a:ext cx="38520" cy="12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714000" y="4610880"/>
                <a:ext cx="56160" cy="22536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0" y="171"/>
                    </a:moveTo>
                    <a:lnTo>
                      <a:pt x="0" y="171"/>
                    </a:lnTo>
                    <a:lnTo>
                      <a:pt x="44" y="22"/>
                    </a:lnTo>
                    <a:lnTo>
                      <a:pt x="39" y="0"/>
                    </a:lnTo>
                    <a:lnTo>
                      <a:pt x="26" y="14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6714000" y="4639680"/>
                <a:ext cx="56160" cy="196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6747120" y="4610880"/>
                <a:ext cx="16560" cy="1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6713640" y="4629240"/>
                <a:ext cx="3276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747120" y="4564440"/>
                <a:ext cx="16560" cy="64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49"/>
                    </a:moveTo>
                    <a:lnTo>
                      <a:pt x="13" y="3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6747120" y="4610880"/>
                <a:ext cx="16560" cy="1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6747120" y="4564440"/>
                <a:ext cx="11520" cy="64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764040" y="4610880"/>
                <a:ext cx="56160" cy="167400"/>
              </a:xfrm>
              <a:custGeom>
                <a:avLst/>
                <a:gdLst/>
                <a:ahLst/>
                <a:rect l="l" t="t" r="r" b="b"/>
                <a:pathLst>
                  <a:path w="44" h="127">
                    <a:moveTo>
                      <a:pt x="44" y="127"/>
                    </a:moveTo>
                    <a:lnTo>
                      <a:pt x="44" y="127"/>
                    </a:lnTo>
                    <a:lnTo>
                      <a:pt x="5" y="22"/>
                    </a:lnTo>
                    <a:lnTo>
                      <a:pt x="0" y="0"/>
                    </a:lnTo>
                    <a:lnTo>
                      <a:pt x="9" y="14"/>
                    </a:lnTo>
                    <a:lnTo>
                      <a:pt x="44" y="1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 flipV="1">
                <a:off x="6770160" y="4640040"/>
                <a:ext cx="49680" cy="13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764040" y="4610880"/>
                <a:ext cx="11160" cy="1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775200" y="4629240"/>
                <a:ext cx="44640" cy="14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758640" y="4564440"/>
                <a:ext cx="16200" cy="64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13" y="49"/>
                    </a:moveTo>
                    <a:lnTo>
                      <a:pt x="4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4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 flipV="1">
                <a:off x="6763680" y="4610880"/>
                <a:ext cx="11160" cy="1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758640" y="4564440"/>
                <a:ext cx="16200" cy="64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52440" y="4629240"/>
                <a:ext cx="94320" cy="218880"/>
              </a:xfrm>
              <a:custGeom>
                <a:avLst/>
                <a:gdLst/>
                <a:ahLst/>
                <a:rect l="l" t="t" r="r" b="b"/>
                <a:pathLst>
                  <a:path w="74" h="166">
                    <a:moveTo>
                      <a:pt x="0" y="166"/>
                    </a:moveTo>
                    <a:lnTo>
                      <a:pt x="0" y="166"/>
                    </a:lnTo>
                    <a:lnTo>
                      <a:pt x="48" y="157"/>
                    </a:lnTo>
                    <a:lnTo>
                      <a:pt x="74" y="0"/>
                    </a:lnTo>
                    <a:lnTo>
                      <a:pt x="65" y="0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V="1">
                <a:off x="6652440" y="4836600"/>
                <a:ext cx="6120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V="1">
                <a:off x="6714000" y="4628880"/>
                <a:ext cx="3276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6735240" y="4629240"/>
                <a:ext cx="11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735600" y="4564440"/>
                <a:ext cx="22680" cy="6444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0" y="49"/>
                    </a:moveTo>
                    <a:lnTo>
                      <a:pt x="9" y="49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735600" y="4629240"/>
                <a:ext cx="11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6747120" y="4564080"/>
                <a:ext cx="11520" cy="64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52440" y="4629240"/>
                <a:ext cx="89280" cy="218880"/>
              </a:xfrm>
              <a:custGeom>
                <a:avLst/>
                <a:gdLst/>
                <a:ahLst/>
                <a:rect l="l" t="t" r="r" b="b"/>
                <a:pathLst>
                  <a:path w="70" h="166">
                    <a:moveTo>
                      <a:pt x="0" y="166"/>
                    </a:moveTo>
                    <a:lnTo>
                      <a:pt x="0" y="166"/>
                    </a:lnTo>
                    <a:lnTo>
                      <a:pt x="35" y="161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6652440" y="4841640"/>
                <a:ext cx="44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6697080" y="4634640"/>
                <a:ext cx="44640" cy="206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 flipV="1">
                <a:off x="6735240" y="4629240"/>
                <a:ext cx="61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735600" y="4564440"/>
                <a:ext cx="22680" cy="69840"/>
              </a:xfrm>
              <a:custGeom>
                <a:avLst/>
                <a:gdLst/>
                <a:ahLst/>
                <a:rect l="l" t="t" r="r" b="b"/>
                <a:pathLst>
                  <a:path w="18" h="53">
                    <a:moveTo>
                      <a:pt x="0" y="49"/>
                    </a:moveTo>
                    <a:lnTo>
                      <a:pt x="5" y="5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735600" y="4629240"/>
                <a:ext cx="61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V="1">
                <a:off x="6742080" y="4564440"/>
                <a:ext cx="162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596280" y="4841640"/>
                <a:ext cx="100800" cy="69840"/>
              </a:xfrm>
              <a:custGeom>
                <a:avLst/>
                <a:gdLst/>
                <a:ahLst/>
                <a:rect l="l" t="t" r="r" b="b"/>
                <a:pathLst>
                  <a:path w="79" h="53">
                    <a:moveTo>
                      <a:pt x="44" y="5"/>
                    </a:moveTo>
                    <a:lnTo>
                      <a:pt x="0" y="44"/>
                    </a:lnTo>
                    <a:lnTo>
                      <a:pt x="35" y="53"/>
                    </a:lnTo>
                    <a:lnTo>
                      <a:pt x="79" y="0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28240" y="4899600"/>
                <a:ext cx="112320" cy="28800"/>
              </a:xfrm>
              <a:custGeom>
                <a:avLst/>
                <a:gdLst/>
                <a:ahLst/>
                <a:rect l="l" t="t" r="r" b="b"/>
                <a:pathLst>
                  <a:path w="88" h="22">
                    <a:moveTo>
                      <a:pt x="53" y="0"/>
                    </a:moveTo>
                    <a:lnTo>
                      <a:pt x="0" y="9"/>
                    </a:lnTo>
                    <a:lnTo>
                      <a:pt x="35" y="22"/>
                    </a:lnTo>
                    <a:lnTo>
                      <a:pt x="88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467040" y="4911480"/>
                <a:ext cx="105840" cy="34200"/>
              </a:xfrm>
              <a:custGeom>
                <a:avLst/>
                <a:gdLst/>
                <a:ahLst/>
                <a:rect l="l" t="t" r="r" b="b"/>
                <a:pathLst>
                  <a:path w="83" h="26">
                    <a:moveTo>
                      <a:pt x="48" y="0"/>
                    </a:moveTo>
                    <a:lnTo>
                      <a:pt x="0" y="13"/>
                    </a:lnTo>
                    <a:lnTo>
                      <a:pt x="35" y="26"/>
                    </a:lnTo>
                    <a:lnTo>
                      <a:pt x="83" y="1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363800" y="4732200"/>
                <a:ext cx="99720" cy="28800"/>
              </a:xfrm>
              <a:custGeom>
                <a:avLst/>
                <a:gdLst/>
                <a:ahLst/>
                <a:rect l="l" t="t" r="r" b="b"/>
                <a:pathLst>
                  <a:path w="78" h="22">
                    <a:moveTo>
                      <a:pt x="39" y="0"/>
                    </a:moveTo>
                    <a:lnTo>
                      <a:pt x="0" y="9"/>
                    </a:lnTo>
                    <a:lnTo>
                      <a:pt x="39" y="22"/>
                    </a:lnTo>
                    <a:lnTo>
                      <a:pt x="78" y="1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312320" y="4744080"/>
                <a:ext cx="10116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40" y="0"/>
                    </a:moveTo>
                    <a:lnTo>
                      <a:pt x="0" y="9"/>
                    </a:lnTo>
                    <a:lnTo>
                      <a:pt x="40" y="22"/>
                    </a:lnTo>
                    <a:lnTo>
                      <a:pt x="79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262280" y="4749480"/>
                <a:ext cx="10116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39" y="5"/>
                    </a:moveTo>
                    <a:lnTo>
                      <a:pt x="0" y="0"/>
                    </a:lnTo>
                    <a:lnTo>
                      <a:pt x="39" y="22"/>
                    </a:lnTo>
                    <a:lnTo>
                      <a:pt x="79" y="18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211520" y="4721760"/>
                <a:ext cx="100800" cy="56520"/>
              </a:xfrm>
              <a:custGeom>
                <a:avLst/>
                <a:gdLst/>
                <a:ahLst/>
                <a:rect l="l" t="t" r="r" b="b"/>
                <a:pathLst>
                  <a:path w="79" h="43">
                    <a:moveTo>
                      <a:pt x="40" y="21"/>
                    </a:moveTo>
                    <a:lnTo>
                      <a:pt x="0" y="17"/>
                    </a:lnTo>
                    <a:lnTo>
                      <a:pt x="35" y="0"/>
                    </a:lnTo>
                    <a:lnTo>
                      <a:pt x="79" y="43"/>
                    </a:lnTo>
                    <a:lnTo>
                      <a:pt x="40" y="21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161480" y="4547520"/>
                <a:ext cx="49680" cy="196200"/>
              </a:xfrm>
              <a:custGeom>
                <a:avLst/>
                <a:gdLst/>
                <a:ahLst/>
                <a:rect l="l" t="t" r="r" b="b"/>
                <a:pathLst>
                  <a:path w="39" h="149">
                    <a:moveTo>
                      <a:pt x="39" y="149"/>
                    </a:moveTo>
                    <a:lnTo>
                      <a:pt x="39" y="149"/>
                    </a:lnTo>
                    <a:lnTo>
                      <a:pt x="0" y="0"/>
                    </a:lnTo>
                    <a:lnTo>
                      <a:pt x="35" y="5"/>
                    </a:lnTo>
                    <a:lnTo>
                      <a:pt x="39" y="14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 flipV="1">
                <a:off x="7161480" y="4547160"/>
                <a:ext cx="49680" cy="196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161480" y="4547520"/>
                <a:ext cx="44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156440" y="4455000"/>
                <a:ext cx="49680" cy="98640"/>
              </a:xfrm>
              <a:custGeom>
                <a:avLst/>
                <a:gdLst/>
                <a:ahLst/>
                <a:rect l="l" t="t" r="r" b="b"/>
                <a:pathLst>
                  <a:path w="39" h="75">
                    <a:moveTo>
                      <a:pt x="39" y="75"/>
                    </a:moveTo>
                    <a:lnTo>
                      <a:pt x="4" y="70"/>
                    </a:lnTo>
                    <a:lnTo>
                      <a:pt x="0" y="57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7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 flipV="1">
                <a:off x="7161480" y="4547520"/>
                <a:ext cx="44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 flipV="1">
                <a:off x="7156440" y="4530240"/>
                <a:ext cx="504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7156440" y="4454640"/>
                <a:ext cx="49680" cy="7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206120" y="4554000"/>
                <a:ext cx="49680" cy="189720"/>
              </a:xfrm>
              <a:custGeom>
                <a:avLst/>
                <a:gdLst/>
                <a:ahLst/>
                <a:rect l="l" t="t" r="r" b="b"/>
                <a:pathLst>
                  <a:path w="39" h="144">
                    <a:moveTo>
                      <a:pt x="4" y="144"/>
                    </a:moveTo>
                    <a:lnTo>
                      <a:pt x="4" y="144"/>
                    </a:lnTo>
                    <a:lnTo>
                      <a:pt x="39" y="127"/>
                    </a:lnTo>
                    <a:lnTo>
                      <a:pt x="17" y="4"/>
                    </a:lnTo>
                    <a:lnTo>
                      <a:pt x="0" y="0"/>
                    </a:lnTo>
                    <a:lnTo>
                      <a:pt x="4" y="14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7211520" y="4721760"/>
                <a:ext cx="446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 flipV="1">
                <a:off x="7228080" y="4559400"/>
                <a:ext cx="28080" cy="16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 flipV="1">
                <a:off x="7206120" y="4554000"/>
                <a:ext cx="216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206120" y="4455000"/>
                <a:ext cx="21600" cy="10404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5"/>
                    </a:moveTo>
                    <a:lnTo>
                      <a:pt x="17" y="7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206120" y="4554000"/>
                <a:ext cx="216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 flipV="1">
                <a:off x="7206120" y="4454640"/>
                <a:ext cx="21600" cy="10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105320" y="4392000"/>
                <a:ext cx="100800" cy="138240"/>
              </a:xfrm>
              <a:custGeom>
                <a:avLst/>
                <a:gdLst/>
                <a:ahLst/>
                <a:rect l="l" t="t" r="r" b="b"/>
                <a:pathLst>
                  <a:path w="79" h="105">
                    <a:moveTo>
                      <a:pt x="40" y="105"/>
                    </a:moveTo>
                    <a:lnTo>
                      <a:pt x="0" y="0"/>
                    </a:lnTo>
                    <a:lnTo>
                      <a:pt x="35" y="18"/>
                    </a:lnTo>
                    <a:lnTo>
                      <a:pt x="79" y="48"/>
                    </a:lnTo>
                    <a:lnTo>
                      <a:pt x="40" y="105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048800" y="4392000"/>
                <a:ext cx="100800" cy="162000"/>
              </a:xfrm>
              <a:custGeom>
                <a:avLst/>
                <a:gdLst/>
                <a:ahLst/>
                <a:rect l="l" t="t" r="r" b="b"/>
                <a:pathLst>
                  <a:path w="79" h="123">
                    <a:moveTo>
                      <a:pt x="44" y="0"/>
                    </a:moveTo>
                    <a:lnTo>
                      <a:pt x="0" y="110"/>
                    </a:lnTo>
                    <a:lnTo>
                      <a:pt x="35" y="123"/>
                    </a:lnTo>
                    <a:lnTo>
                      <a:pt x="79" y="18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993720" y="4496040"/>
                <a:ext cx="99720" cy="57960"/>
              </a:xfrm>
              <a:custGeom>
                <a:avLst/>
                <a:gdLst/>
                <a:ahLst/>
                <a:rect l="l" t="t" r="r" b="b"/>
                <a:pathLst>
                  <a:path w="78" h="44">
                    <a:moveTo>
                      <a:pt x="78" y="44"/>
                    </a:moveTo>
                    <a:lnTo>
                      <a:pt x="43" y="31"/>
                    </a:lnTo>
                    <a:lnTo>
                      <a:pt x="0" y="0"/>
                    </a:lnTo>
                    <a:lnTo>
                      <a:pt x="78" y="44"/>
                    </a:lnTo>
                    <a:lnTo>
                      <a:pt x="78" y="4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93720" y="4496040"/>
                <a:ext cx="99720" cy="579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10"/>
                    </a:moveTo>
                    <a:lnTo>
                      <a:pt x="10" y="7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038720" y="4593600"/>
                <a:ext cx="1080" cy="64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V="1">
                <a:off x="7038720" y="459360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038720" y="459360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038720" y="459360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993720" y="4496040"/>
                <a:ext cx="99720" cy="97200"/>
              </a:xfrm>
              <a:custGeom>
                <a:avLst/>
                <a:gdLst/>
                <a:ahLst/>
                <a:rect l="l" t="t" r="r" b="b"/>
                <a:pathLst>
                  <a:path w="78" h="74">
                    <a:moveTo>
                      <a:pt x="35" y="74"/>
                    </a:moveTo>
                    <a:lnTo>
                      <a:pt x="35" y="74"/>
                    </a:lnTo>
                    <a:lnTo>
                      <a:pt x="78" y="4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7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38720" y="459360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7038720" y="4553640"/>
                <a:ext cx="5472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93720" y="4496040"/>
                <a:ext cx="44640" cy="9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931080" y="4593600"/>
                <a:ext cx="23040" cy="3528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0" y="27"/>
                    </a:moveTo>
                    <a:lnTo>
                      <a:pt x="0" y="27"/>
                    </a:lnTo>
                    <a:lnTo>
                      <a:pt x="18" y="5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6931080" y="4600080"/>
                <a:ext cx="2304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 flipV="1">
                <a:off x="6949080" y="459360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6930720" y="4593600"/>
                <a:ext cx="1764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49080" y="4496040"/>
                <a:ext cx="44640" cy="104040"/>
              </a:xfrm>
              <a:custGeom>
                <a:avLst/>
                <a:gdLst/>
                <a:ahLst/>
                <a:rect l="l" t="t" r="r" b="b"/>
                <a:pathLst>
                  <a:path w="35" h="79">
                    <a:moveTo>
                      <a:pt x="0" y="74"/>
                    </a:moveTo>
                    <a:lnTo>
                      <a:pt x="4" y="79"/>
                    </a:lnTo>
                    <a:lnTo>
                      <a:pt x="26" y="39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949080" y="459360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>
                <a:off x="6954480" y="4547520"/>
                <a:ext cx="28080" cy="52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6949080" y="4496040"/>
                <a:ext cx="44640" cy="9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038720" y="4593600"/>
                <a:ext cx="1080" cy="648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038720" y="460008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7038720" y="459360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038720" y="459360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982560" y="4496040"/>
                <a:ext cx="56160" cy="104040"/>
              </a:xfrm>
              <a:custGeom>
                <a:avLst/>
                <a:gdLst/>
                <a:ahLst/>
                <a:rect l="l" t="t" r="r" b="b"/>
                <a:pathLst>
                  <a:path w="44" h="79">
                    <a:moveTo>
                      <a:pt x="44" y="74"/>
                    </a:moveTo>
                    <a:lnTo>
                      <a:pt x="44" y="79"/>
                    </a:lnTo>
                    <a:lnTo>
                      <a:pt x="0" y="3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4" y="7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038720" y="459360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 flipV="1">
                <a:off x="6982560" y="4547520"/>
                <a:ext cx="56160" cy="52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993720" y="4496040"/>
                <a:ext cx="44640" cy="9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876360" y="4600080"/>
                <a:ext cx="77760" cy="2880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43" y="22"/>
                    </a:moveTo>
                    <a:lnTo>
                      <a:pt x="43" y="22"/>
                    </a:lnTo>
                    <a:lnTo>
                      <a:pt x="0" y="17"/>
                    </a:lnTo>
                    <a:lnTo>
                      <a:pt x="22" y="4"/>
                    </a:lnTo>
                    <a:lnTo>
                      <a:pt x="61" y="0"/>
                    </a:lnTo>
                    <a:lnTo>
                      <a:pt x="43" y="2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 flipV="1">
                <a:off x="6876360" y="4622760"/>
                <a:ext cx="54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6904440" y="460008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>
                <a:off x="6931080" y="4600080"/>
                <a:ext cx="2304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904440" y="4547520"/>
                <a:ext cx="77760" cy="57960"/>
              </a:xfrm>
              <a:custGeom>
                <a:avLst/>
                <a:gdLst/>
                <a:ahLst/>
                <a:rect l="l" t="t" r="r" b="b"/>
                <a:pathLst>
                  <a:path w="61" h="44">
                    <a:moveTo>
                      <a:pt x="39" y="40"/>
                    </a:moveTo>
                    <a:lnTo>
                      <a:pt x="0" y="44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39" y="4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6904440" y="460008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6954480" y="4547520"/>
                <a:ext cx="28080" cy="52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6511320" y="4415400"/>
              <a:ext cx="1098360" cy="583200"/>
              <a:chOff x="6511320" y="4415400"/>
              <a:chExt cx="1098360" cy="583200"/>
            </a:xfrm>
          </p:grpSpPr>
          <p:sp>
            <p:nvSpPr>
              <p:cNvPr id="1066" name=""/>
              <p:cNvSpPr/>
              <p:nvPr/>
            </p:nvSpPr>
            <p:spPr>
              <a:xfrm>
                <a:off x="6876360" y="4605120"/>
                <a:ext cx="78120" cy="8028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35" y="61"/>
                    </a:moveTo>
                    <a:lnTo>
                      <a:pt x="35" y="61"/>
                    </a:lnTo>
                    <a:lnTo>
                      <a:pt x="0" y="13"/>
                    </a:lnTo>
                    <a:lnTo>
                      <a:pt x="22" y="0"/>
                    </a:lnTo>
                    <a:lnTo>
                      <a:pt x="61" y="4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 flipV="1">
                <a:off x="6876360" y="4622400"/>
                <a:ext cx="4464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904440" y="460512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>
                <a:off x="6921000" y="4610520"/>
                <a:ext cx="33120" cy="7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904440" y="4547160"/>
                <a:ext cx="78120" cy="63360"/>
              </a:xfrm>
              <a:custGeom>
                <a:avLst/>
                <a:gdLst/>
                <a:ahLst/>
                <a:rect l="l" t="t" r="r" b="b"/>
                <a:pathLst>
                  <a:path w="61" h="48">
                    <a:moveTo>
                      <a:pt x="39" y="48"/>
                    </a:moveTo>
                    <a:lnTo>
                      <a:pt x="0" y="44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39" y="4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 flipV="1">
                <a:off x="6904440" y="460512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6954480" y="4547160"/>
                <a:ext cx="2808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819840" y="4622400"/>
                <a:ext cx="100800" cy="155880"/>
              </a:xfrm>
              <a:custGeom>
                <a:avLst/>
                <a:gdLst/>
                <a:ahLst/>
                <a:rect l="l" t="t" r="r" b="b"/>
                <a:pathLst>
                  <a:path w="79" h="118">
                    <a:moveTo>
                      <a:pt x="44" y="0"/>
                    </a:moveTo>
                    <a:lnTo>
                      <a:pt x="0" y="118"/>
                    </a:lnTo>
                    <a:lnTo>
                      <a:pt x="35" y="40"/>
                    </a:lnTo>
                    <a:lnTo>
                      <a:pt x="79" y="48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774840" y="4628880"/>
                <a:ext cx="89640" cy="149040"/>
              </a:xfrm>
              <a:custGeom>
                <a:avLst/>
                <a:gdLst/>
                <a:ahLst/>
                <a:rect l="l" t="t" r="r" b="b"/>
                <a:pathLst>
                  <a:path w="70" h="113">
                    <a:moveTo>
                      <a:pt x="35" y="113"/>
                    </a:moveTo>
                    <a:lnTo>
                      <a:pt x="35" y="113"/>
                    </a:lnTo>
                    <a:lnTo>
                      <a:pt x="70" y="35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35" y="11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6819840" y="4674960"/>
                <a:ext cx="44640" cy="10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6774480" y="4628880"/>
                <a:ext cx="45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774840" y="4628880"/>
                <a:ext cx="45000" cy="14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758280" y="4564080"/>
                <a:ext cx="61560" cy="6444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13" y="49"/>
                    </a:moveTo>
                    <a:lnTo>
                      <a:pt x="48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4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774840" y="4628880"/>
                <a:ext cx="45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758280" y="4564080"/>
                <a:ext cx="16200" cy="64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769800" y="4628880"/>
                <a:ext cx="94680" cy="21240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26" y="161"/>
                    </a:moveTo>
                    <a:lnTo>
                      <a:pt x="26" y="161"/>
                    </a:lnTo>
                    <a:lnTo>
                      <a:pt x="74" y="35"/>
                    </a:lnTo>
                    <a:lnTo>
                      <a:pt x="39" y="0"/>
                    </a:lnTo>
                    <a:lnTo>
                      <a:pt x="0" y="4"/>
                    </a:lnTo>
                    <a:lnTo>
                      <a:pt x="26" y="16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6802920" y="4674960"/>
                <a:ext cx="61560" cy="165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>
                <a:off x="6769800" y="462888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769800" y="4634280"/>
                <a:ext cx="3276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758280" y="4564080"/>
                <a:ext cx="61560" cy="69840"/>
              </a:xfrm>
              <a:custGeom>
                <a:avLst/>
                <a:gdLst/>
                <a:ahLst/>
                <a:rect l="l" t="t" r="r" b="b"/>
                <a:pathLst>
                  <a:path w="48" h="53">
                    <a:moveTo>
                      <a:pt x="9" y="53"/>
                    </a:moveTo>
                    <a:lnTo>
                      <a:pt x="48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5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6769800" y="462888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758280" y="4564080"/>
                <a:ext cx="1152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696720" y="4634280"/>
                <a:ext cx="55080" cy="207000"/>
              </a:xfrm>
              <a:custGeom>
                <a:avLst/>
                <a:gdLst/>
                <a:ahLst/>
                <a:rect l="l" t="t" r="r" b="b"/>
                <a:pathLst>
                  <a:path w="43" h="157">
                    <a:moveTo>
                      <a:pt x="0" y="157"/>
                    </a:moveTo>
                    <a:lnTo>
                      <a:pt x="0" y="157"/>
                    </a:lnTo>
                    <a:lnTo>
                      <a:pt x="35" y="70"/>
                    </a:lnTo>
                    <a:lnTo>
                      <a:pt x="43" y="4"/>
                    </a:lnTo>
                    <a:lnTo>
                      <a:pt x="35" y="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6696720" y="4726800"/>
                <a:ext cx="4500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 flipV="1">
                <a:off x="6741720" y="4634280"/>
                <a:ext cx="10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6696360" y="4634280"/>
                <a:ext cx="4500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741720" y="4564080"/>
                <a:ext cx="16200" cy="75240"/>
              </a:xfrm>
              <a:custGeom>
                <a:avLst/>
                <a:gdLst/>
                <a:ahLst/>
                <a:rect l="l" t="t" r="r" b="b"/>
                <a:pathLst>
                  <a:path w="13" h="57">
                    <a:moveTo>
                      <a:pt x="0" y="53"/>
                    </a:moveTo>
                    <a:lnTo>
                      <a:pt x="8" y="5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741720" y="4634280"/>
                <a:ext cx="10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6741360" y="4564080"/>
                <a:ext cx="162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741720" y="4634280"/>
                <a:ext cx="61200" cy="207000"/>
              </a:xfrm>
              <a:custGeom>
                <a:avLst/>
                <a:gdLst/>
                <a:ahLst/>
                <a:rect l="l" t="t" r="r" b="b"/>
                <a:pathLst>
                  <a:path w="48" h="157">
                    <a:moveTo>
                      <a:pt x="48" y="157"/>
                    </a:moveTo>
                    <a:lnTo>
                      <a:pt x="48" y="157"/>
                    </a:lnTo>
                    <a:lnTo>
                      <a:pt x="0" y="70"/>
                    </a:lnTo>
                    <a:lnTo>
                      <a:pt x="8" y="4"/>
                    </a:lnTo>
                    <a:lnTo>
                      <a:pt x="22" y="0"/>
                    </a:lnTo>
                    <a:lnTo>
                      <a:pt x="48" y="15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 flipV="1">
                <a:off x="6741720" y="4726800"/>
                <a:ext cx="6120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V="1">
                <a:off x="6751800" y="4634280"/>
                <a:ext cx="180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769800" y="4634280"/>
                <a:ext cx="3276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751800" y="4564080"/>
                <a:ext cx="18000" cy="75240"/>
              </a:xfrm>
              <a:custGeom>
                <a:avLst/>
                <a:gdLst/>
                <a:ahLst/>
                <a:rect l="l" t="t" r="r" b="b"/>
                <a:pathLst>
                  <a:path w="14" h="57">
                    <a:moveTo>
                      <a:pt x="14" y="53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14" y="5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H="1">
                <a:off x="6751800" y="4634280"/>
                <a:ext cx="180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758280" y="4564080"/>
                <a:ext cx="1152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640560" y="4726800"/>
                <a:ext cx="101160" cy="184320"/>
              </a:xfrm>
              <a:custGeom>
                <a:avLst/>
                <a:gdLst/>
                <a:ahLst/>
                <a:rect l="l" t="t" r="r" b="b"/>
                <a:pathLst>
                  <a:path w="79" h="140">
                    <a:moveTo>
                      <a:pt x="44" y="87"/>
                    </a:moveTo>
                    <a:lnTo>
                      <a:pt x="0" y="140"/>
                    </a:lnTo>
                    <a:lnTo>
                      <a:pt x="35" y="131"/>
                    </a:lnTo>
                    <a:lnTo>
                      <a:pt x="79" y="0"/>
                    </a:lnTo>
                    <a:lnTo>
                      <a:pt x="44" y="8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572880" y="4899600"/>
                <a:ext cx="112680" cy="40680"/>
              </a:xfrm>
              <a:custGeom>
                <a:avLst/>
                <a:gdLst/>
                <a:ahLst/>
                <a:rect l="l" t="t" r="r" b="b"/>
                <a:pathLst>
                  <a:path w="88" h="31">
                    <a:moveTo>
                      <a:pt x="53" y="9"/>
                    </a:moveTo>
                    <a:lnTo>
                      <a:pt x="0" y="22"/>
                    </a:lnTo>
                    <a:lnTo>
                      <a:pt x="40" y="31"/>
                    </a:lnTo>
                    <a:lnTo>
                      <a:pt x="88" y="0"/>
                    </a:lnTo>
                    <a:lnTo>
                      <a:pt x="53" y="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511320" y="4928400"/>
                <a:ext cx="112680" cy="34200"/>
              </a:xfrm>
              <a:custGeom>
                <a:avLst/>
                <a:gdLst/>
                <a:ahLst/>
                <a:rect l="l" t="t" r="r" b="b"/>
                <a:pathLst>
                  <a:path w="88" h="26">
                    <a:moveTo>
                      <a:pt x="48" y="0"/>
                    </a:moveTo>
                    <a:lnTo>
                      <a:pt x="0" y="13"/>
                    </a:lnTo>
                    <a:lnTo>
                      <a:pt x="35" y="26"/>
                    </a:lnTo>
                    <a:lnTo>
                      <a:pt x="88" y="9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414200" y="4749120"/>
                <a:ext cx="100800" cy="23400"/>
              </a:xfrm>
              <a:custGeom>
                <a:avLst/>
                <a:gdLst/>
                <a:ahLst/>
                <a:rect l="l" t="t" r="r" b="b"/>
                <a:pathLst>
                  <a:path w="79" h="18">
                    <a:moveTo>
                      <a:pt x="39" y="0"/>
                    </a:moveTo>
                    <a:lnTo>
                      <a:pt x="0" y="9"/>
                    </a:lnTo>
                    <a:lnTo>
                      <a:pt x="39" y="18"/>
                    </a:lnTo>
                    <a:lnTo>
                      <a:pt x="79" y="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364160" y="4761000"/>
                <a:ext cx="99720" cy="23760"/>
              </a:xfrm>
              <a:custGeom>
                <a:avLst/>
                <a:gdLst/>
                <a:ahLst/>
                <a:rect l="l" t="t" r="r" b="b"/>
                <a:pathLst>
                  <a:path w="78" h="18">
                    <a:moveTo>
                      <a:pt x="39" y="0"/>
                    </a:moveTo>
                    <a:lnTo>
                      <a:pt x="0" y="9"/>
                    </a:lnTo>
                    <a:lnTo>
                      <a:pt x="35" y="18"/>
                    </a:lnTo>
                    <a:lnTo>
                      <a:pt x="78" y="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312680" y="4772880"/>
                <a:ext cx="96120" cy="22320"/>
              </a:xfrm>
              <a:custGeom>
                <a:avLst/>
                <a:gdLst/>
                <a:ahLst/>
                <a:rect l="l" t="t" r="r" b="b"/>
                <a:pathLst>
                  <a:path w="75" h="17">
                    <a:moveTo>
                      <a:pt x="40" y="0"/>
                    </a:moveTo>
                    <a:lnTo>
                      <a:pt x="0" y="4"/>
                    </a:lnTo>
                    <a:lnTo>
                      <a:pt x="35" y="17"/>
                    </a:lnTo>
                    <a:lnTo>
                      <a:pt x="75" y="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256520" y="4721400"/>
                <a:ext cx="101160" cy="73800"/>
              </a:xfrm>
              <a:custGeom>
                <a:avLst/>
                <a:gdLst/>
                <a:ahLst/>
                <a:rect l="l" t="t" r="r" b="b"/>
                <a:pathLst>
                  <a:path w="79" h="56">
                    <a:moveTo>
                      <a:pt x="44" y="43"/>
                    </a:moveTo>
                    <a:lnTo>
                      <a:pt x="0" y="0"/>
                    </a:lnTo>
                    <a:lnTo>
                      <a:pt x="40" y="35"/>
                    </a:lnTo>
                    <a:lnTo>
                      <a:pt x="79" y="56"/>
                    </a:lnTo>
                    <a:lnTo>
                      <a:pt x="44" y="4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228440" y="4559040"/>
                <a:ext cx="79560" cy="208080"/>
              </a:xfrm>
              <a:custGeom>
                <a:avLst/>
                <a:gdLst/>
                <a:ahLst/>
                <a:rect l="l" t="t" r="r" b="b"/>
                <a:pathLst>
                  <a:path w="62" h="158">
                    <a:moveTo>
                      <a:pt x="62" y="158"/>
                    </a:moveTo>
                    <a:lnTo>
                      <a:pt x="62" y="158"/>
                    </a:lnTo>
                    <a:lnTo>
                      <a:pt x="22" y="123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62" y="15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 flipV="1">
                <a:off x="7256520" y="4721400"/>
                <a:ext cx="5112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 flipV="1">
                <a:off x="7228440" y="4559040"/>
                <a:ext cx="28080" cy="16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228440" y="4559040"/>
                <a:ext cx="11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206480" y="4454640"/>
                <a:ext cx="33120" cy="109440"/>
              </a:xfrm>
              <a:custGeom>
                <a:avLst/>
                <a:gdLst/>
                <a:ahLst/>
                <a:rect l="l" t="t" r="r" b="b"/>
                <a:pathLst>
                  <a:path w="26" h="83">
                    <a:moveTo>
                      <a:pt x="26" y="83"/>
                    </a:moveTo>
                    <a:lnTo>
                      <a:pt x="17" y="7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8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 flipV="1">
                <a:off x="7228440" y="4559040"/>
                <a:ext cx="11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 flipV="1">
                <a:off x="7206480" y="4454640"/>
                <a:ext cx="21600" cy="10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239960" y="4564080"/>
                <a:ext cx="67680" cy="203040"/>
              </a:xfrm>
              <a:custGeom>
                <a:avLst/>
                <a:gdLst/>
                <a:ahLst/>
                <a:rect l="l" t="t" r="r" b="b"/>
                <a:pathLst>
                  <a:path w="53" h="154">
                    <a:moveTo>
                      <a:pt x="53" y="154"/>
                    </a:moveTo>
                    <a:lnTo>
                      <a:pt x="53" y="154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53" y="15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 flipV="1">
                <a:off x="7262640" y="4575960"/>
                <a:ext cx="45000" cy="19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 flipV="1">
                <a:off x="7239600" y="4563720"/>
                <a:ext cx="226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206480" y="4454640"/>
                <a:ext cx="56160" cy="121320"/>
              </a:xfrm>
              <a:custGeom>
                <a:avLst/>
                <a:gdLst/>
                <a:ahLst/>
                <a:rect l="l" t="t" r="r" b="b"/>
                <a:pathLst>
                  <a:path w="44" h="92">
                    <a:moveTo>
                      <a:pt x="26" y="83"/>
                    </a:moveTo>
                    <a:lnTo>
                      <a:pt x="44" y="92"/>
                    </a:lnTo>
                    <a:lnTo>
                      <a:pt x="35" y="6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8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239960" y="4564080"/>
                <a:ext cx="226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 flipV="1">
                <a:off x="7251120" y="4536360"/>
                <a:ext cx="1116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 flipV="1">
                <a:off x="7206120" y="4454280"/>
                <a:ext cx="45000" cy="81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150320" y="4415400"/>
                <a:ext cx="101160" cy="148680"/>
              </a:xfrm>
              <a:custGeom>
                <a:avLst/>
                <a:gdLst/>
                <a:ahLst/>
                <a:rect l="l" t="t" r="r" b="b"/>
                <a:pathLst>
                  <a:path w="79" h="113">
                    <a:moveTo>
                      <a:pt x="44" y="30"/>
                    </a:moveTo>
                    <a:lnTo>
                      <a:pt x="0" y="0"/>
                    </a:lnTo>
                    <a:lnTo>
                      <a:pt x="40" y="113"/>
                    </a:lnTo>
                    <a:lnTo>
                      <a:pt x="79" y="92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093800" y="4415400"/>
                <a:ext cx="107640" cy="167400"/>
              </a:xfrm>
              <a:custGeom>
                <a:avLst/>
                <a:gdLst/>
                <a:ahLst/>
                <a:rect l="l" t="t" r="r" b="b"/>
                <a:pathLst>
                  <a:path w="84" h="127">
                    <a:moveTo>
                      <a:pt x="44" y="0"/>
                    </a:moveTo>
                    <a:lnTo>
                      <a:pt x="0" y="105"/>
                    </a:lnTo>
                    <a:lnTo>
                      <a:pt x="40" y="127"/>
                    </a:lnTo>
                    <a:lnTo>
                      <a:pt x="84" y="11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038720" y="45932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>
                <a:off x="7038360" y="459324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038720" y="459324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038720" y="4553640"/>
                <a:ext cx="106200" cy="39240"/>
              </a:xfrm>
              <a:custGeom>
                <a:avLst/>
                <a:gdLst/>
                <a:ahLst/>
                <a:rect l="l" t="t" r="r" b="b"/>
                <a:pathLst>
                  <a:path w="83" h="30">
                    <a:moveTo>
                      <a:pt x="0" y="30"/>
                    </a:moveTo>
                    <a:lnTo>
                      <a:pt x="4" y="30"/>
                    </a:lnTo>
                    <a:lnTo>
                      <a:pt x="83" y="22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038720" y="459324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H="1" flipV="1">
                <a:off x="7093800" y="4553640"/>
                <a:ext cx="5112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>
                <a:off x="7038720" y="4553640"/>
                <a:ext cx="5472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038720" y="4593240"/>
                <a:ext cx="89280" cy="69840"/>
              </a:xfrm>
              <a:custGeom>
                <a:avLst/>
                <a:gdLst/>
                <a:ahLst/>
                <a:rect l="l" t="t" r="r" b="b"/>
                <a:pathLst>
                  <a:path w="70" h="53">
                    <a:moveTo>
                      <a:pt x="39" y="53"/>
                    </a:moveTo>
                    <a:lnTo>
                      <a:pt x="39" y="53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70" y="5"/>
                    </a:lnTo>
                    <a:lnTo>
                      <a:pt x="39" y="5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 flipV="1">
                <a:off x="7038720" y="4599720"/>
                <a:ext cx="4968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043760" y="4593240"/>
                <a:ext cx="84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H="1">
                <a:off x="7088400" y="4599720"/>
                <a:ext cx="3924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043760" y="4582800"/>
                <a:ext cx="101160" cy="16920"/>
              </a:xfrm>
              <a:custGeom>
                <a:avLst/>
                <a:gdLst/>
                <a:ahLst/>
                <a:rect l="l" t="t" r="r" b="b"/>
                <a:pathLst>
                  <a:path w="79" h="13">
                    <a:moveTo>
                      <a:pt x="66" y="13"/>
                    </a:moveTo>
                    <a:lnTo>
                      <a:pt x="0" y="8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 flipV="1">
                <a:off x="7043760" y="4593240"/>
                <a:ext cx="84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7128360" y="4582800"/>
                <a:ext cx="1656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038720" y="4599720"/>
                <a:ext cx="49680" cy="6336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39" y="48"/>
                    </a:moveTo>
                    <a:lnTo>
                      <a:pt x="39" y="4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9" y="4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 flipV="1">
                <a:off x="7038720" y="4599720"/>
                <a:ext cx="4968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038720" y="459972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038720" y="4599720"/>
                <a:ext cx="108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982560" y="4547160"/>
                <a:ext cx="56160" cy="6336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44" y="48"/>
                    </a:moveTo>
                    <a:lnTo>
                      <a:pt x="44" y="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4" y="4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V="1">
                <a:off x="7038720" y="4599360"/>
                <a:ext cx="108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 flipV="1">
                <a:off x="6982560" y="4547160"/>
                <a:ext cx="56160" cy="52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993720" y="4610520"/>
                <a:ext cx="94680" cy="145080"/>
              </a:xfrm>
              <a:custGeom>
                <a:avLst/>
                <a:gdLst/>
                <a:ahLst/>
                <a:rect l="l" t="t" r="r" b="b"/>
                <a:pathLst>
                  <a:path w="74" h="110">
                    <a:moveTo>
                      <a:pt x="26" y="110"/>
                    </a:moveTo>
                    <a:lnTo>
                      <a:pt x="26" y="110"/>
                    </a:lnTo>
                    <a:lnTo>
                      <a:pt x="74" y="40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26" y="11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V="1">
                <a:off x="7027200" y="4663440"/>
                <a:ext cx="61560" cy="9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6993360" y="4610520"/>
                <a:ext cx="45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993720" y="4610520"/>
                <a:ext cx="33120" cy="14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982560" y="4547160"/>
                <a:ext cx="56160" cy="6336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9" y="48"/>
                    </a:moveTo>
                    <a:lnTo>
                      <a:pt x="44" y="4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4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993720" y="4610520"/>
                <a:ext cx="45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982560" y="4547160"/>
                <a:ext cx="1116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921000" y="4610520"/>
                <a:ext cx="56160" cy="138240"/>
              </a:xfrm>
              <a:custGeom>
                <a:avLst/>
                <a:gdLst/>
                <a:ahLst/>
                <a:rect l="l" t="t" r="r" b="b"/>
                <a:pathLst>
                  <a:path w="44" h="105">
                    <a:moveTo>
                      <a:pt x="39" y="105"/>
                    </a:moveTo>
                    <a:lnTo>
                      <a:pt x="39" y="105"/>
                    </a:lnTo>
                    <a:lnTo>
                      <a:pt x="0" y="57"/>
                    </a:lnTo>
                    <a:lnTo>
                      <a:pt x="26" y="0"/>
                    </a:lnTo>
                    <a:lnTo>
                      <a:pt x="44" y="5"/>
                    </a:lnTo>
                    <a:lnTo>
                      <a:pt x="39" y="10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 flipV="1">
                <a:off x="6921000" y="4685760"/>
                <a:ext cx="4968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6921000" y="4610520"/>
                <a:ext cx="33120" cy="7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954480" y="4610520"/>
                <a:ext cx="226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954480" y="4547160"/>
                <a:ext cx="28080" cy="6984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18" y="53"/>
                    </a:moveTo>
                    <a:lnTo>
                      <a:pt x="0" y="48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5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 flipV="1">
                <a:off x="6954120" y="4610520"/>
                <a:ext cx="226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V="1">
                <a:off x="6954480" y="4547160"/>
                <a:ext cx="2808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971040" y="4610520"/>
                <a:ext cx="56160" cy="145080"/>
              </a:xfrm>
              <a:custGeom>
                <a:avLst/>
                <a:gdLst/>
                <a:ahLst/>
                <a:rect l="l" t="t" r="r" b="b"/>
                <a:pathLst>
                  <a:path w="44" h="110">
                    <a:moveTo>
                      <a:pt x="44" y="110"/>
                    </a:moveTo>
                    <a:lnTo>
                      <a:pt x="44" y="110"/>
                    </a:lnTo>
                    <a:lnTo>
                      <a:pt x="0" y="105"/>
                    </a:lnTo>
                    <a:lnTo>
                      <a:pt x="5" y="5"/>
                    </a:lnTo>
                    <a:lnTo>
                      <a:pt x="18" y="0"/>
                    </a:lnTo>
                    <a:lnTo>
                      <a:pt x="44" y="11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 flipV="1">
                <a:off x="6971040" y="4749120"/>
                <a:ext cx="5616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6977160" y="4610520"/>
                <a:ext cx="162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993720" y="4610520"/>
                <a:ext cx="33120" cy="14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977160" y="4547160"/>
                <a:ext cx="16200" cy="69840"/>
              </a:xfrm>
              <a:custGeom>
                <a:avLst/>
                <a:gdLst/>
                <a:ahLst/>
                <a:rect l="l" t="t" r="r" b="b"/>
                <a:pathLst>
                  <a:path w="13" h="53">
                    <a:moveTo>
                      <a:pt x="13" y="48"/>
                    </a:moveTo>
                    <a:lnTo>
                      <a:pt x="0" y="5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3" y="4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6976800" y="4610520"/>
                <a:ext cx="162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982560" y="4547160"/>
                <a:ext cx="1116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864480" y="4675320"/>
                <a:ext cx="106200" cy="172440"/>
              </a:xfrm>
              <a:custGeom>
                <a:avLst/>
                <a:gdLst/>
                <a:ahLst/>
                <a:rect l="l" t="t" r="r" b="b"/>
                <a:pathLst>
                  <a:path w="83" h="131">
                    <a:moveTo>
                      <a:pt x="44" y="8"/>
                    </a:moveTo>
                    <a:lnTo>
                      <a:pt x="0" y="0"/>
                    </a:lnTo>
                    <a:lnTo>
                      <a:pt x="35" y="131"/>
                    </a:lnTo>
                    <a:lnTo>
                      <a:pt x="83" y="56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802920" y="4675320"/>
                <a:ext cx="106200" cy="172440"/>
              </a:xfrm>
              <a:custGeom>
                <a:avLst/>
                <a:gdLst/>
                <a:ahLst/>
                <a:rect l="l" t="t" r="r" b="b"/>
                <a:pathLst>
                  <a:path w="83" h="131">
                    <a:moveTo>
                      <a:pt x="48" y="0"/>
                    </a:moveTo>
                    <a:lnTo>
                      <a:pt x="0" y="126"/>
                    </a:lnTo>
                    <a:lnTo>
                      <a:pt x="39" y="78"/>
                    </a:lnTo>
                    <a:lnTo>
                      <a:pt x="83" y="13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741720" y="4726800"/>
                <a:ext cx="111240" cy="1144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48" y="87"/>
                    </a:moveTo>
                    <a:lnTo>
                      <a:pt x="0" y="0"/>
                    </a:lnTo>
                    <a:lnTo>
                      <a:pt x="39" y="17"/>
                    </a:lnTo>
                    <a:lnTo>
                      <a:pt x="87" y="39"/>
                    </a:lnTo>
                    <a:lnTo>
                      <a:pt x="48" y="8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685560" y="4726800"/>
                <a:ext cx="106200" cy="172440"/>
              </a:xfrm>
              <a:custGeom>
                <a:avLst/>
                <a:gdLst/>
                <a:ahLst/>
                <a:rect l="l" t="t" r="r" b="b"/>
                <a:pathLst>
                  <a:path w="83" h="131">
                    <a:moveTo>
                      <a:pt x="44" y="0"/>
                    </a:moveTo>
                    <a:lnTo>
                      <a:pt x="0" y="131"/>
                    </a:lnTo>
                    <a:lnTo>
                      <a:pt x="35" y="122"/>
                    </a:lnTo>
                    <a:lnTo>
                      <a:pt x="83" y="17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624000" y="4887720"/>
                <a:ext cx="106200" cy="64440"/>
              </a:xfrm>
              <a:custGeom>
                <a:avLst/>
                <a:gdLst/>
                <a:ahLst/>
                <a:rect l="l" t="t" r="r" b="b"/>
                <a:pathLst>
                  <a:path w="83" h="49">
                    <a:moveTo>
                      <a:pt x="48" y="9"/>
                    </a:moveTo>
                    <a:lnTo>
                      <a:pt x="0" y="40"/>
                    </a:lnTo>
                    <a:lnTo>
                      <a:pt x="35" y="49"/>
                    </a:lnTo>
                    <a:lnTo>
                      <a:pt x="83" y="0"/>
                    </a:lnTo>
                    <a:lnTo>
                      <a:pt x="48" y="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555960" y="4940280"/>
                <a:ext cx="112680" cy="39240"/>
              </a:xfrm>
              <a:custGeom>
                <a:avLst/>
                <a:gdLst/>
                <a:ahLst/>
                <a:rect l="l" t="t" r="r" b="b"/>
                <a:pathLst>
                  <a:path w="88" h="30">
                    <a:moveTo>
                      <a:pt x="53" y="0"/>
                    </a:moveTo>
                    <a:lnTo>
                      <a:pt x="0" y="17"/>
                    </a:lnTo>
                    <a:lnTo>
                      <a:pt x="35" y="30"/>
                    </a:lnTo>
                    <a:lnTo>
                      <a:pt x="88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464240" y="4761000"/>
                <a:ext cx="95760" cy="28800"/>
              </a:xfrm>
              <a:custGeom>
                <a:avLst/>
                <a:gdLst/>
                <a:ahLst/>
                <a:rect l="l" t="t" r="r" b="b"/>
                <a:pathLst>
                  <a:path w="75" h="22">
                    <a:moveTo>
                      <a:pt x="40" y="0"/>
                    </a:moveTo>
                    <a:lnTo>
                      <a:pt x="0" y="9"/>
                    </a:lnTo>
                    <a:lnTo>
                      <a:pt x="35" y="22"/>
                    </a:lnTo>
                    <a:lnTo>
                      <a:pt x="75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408800" y="4772880"/>
                <a:ext cx="99720" cy="28800"/>
              </a:xfrm>
              <a:custGeom>
                <a:avLst/>
                <a:gdLst/>
                <a:ahLst/>
                <a:rect l="l" t="t" r="r" b="b"/>
                <a:pathLst>
                  <a:path w="78" h="22">
                    <a:moveTo>
                      <a:pt x="43" y="0"/>
                    </a:moveTo>
                    <a:lnTo>
                      <a:pt x="0" y="9"/>
                    </a:lnTo>
                    <a:lnTo>
                      <a:pt x="39" y="22"/>
                    </a:lnTo>
                    <a:lnTo>
                      <a:pt x="78" y="1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357680" y="4784760"/>
                <a:ext cx="100800" cy="16920"/>
              </a:xfrm>
              <a:custGeom>
                <a:avLst/>
                <a:gdLst/>
                <a:ahLst/>
                <a:rect l="l" t="t" r="r" b="b"/>
                <a:pathLst>
                  <a:path w="79" h="13">
                    <a:moveTo>
                      <a:pt x="40" y="0"/>
                    </a:moveTo>
                    <a:lnTo>
                      <a:pt x="0" y="8"/>
                    </a:lnTo>
                    <a:lnTo>
                      <a:pt x="40" y="13"/>
                    </a:lnTo>
                    <a:lnTo>
                      <a:pt x="79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308000" y="4685760"/>
                <a:ext cx="100800" cy="115920"/>
              </a:xfrm>
              <a:custGeom>
                <a:avLst/>
                <a:gdLst/>
                <a:ahLst/>
                <a:rect l="l" t="t" r="r" b="b"/>
                <a:pathLst>
                  <a:path w="79" h="88">
                    <a:moveTo>
                      <a:pt x="39" y="83"/>
                    </a:moveTo>
                    <a:lnTo>
                      <a:pt x="0" y="62"/>
                    </a:lnTo>
                    <a:lnTo>
                      <a:pt x="39" y="0"/>
                    </a:lnTo>
                    <a:lnTo>
                      <a:pt x="79" y="88"/>
                    </a:lnTo>
                    <a:lnTo>
                      <a:pt x="39" y="8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263000" y="4576320"/>
                <a:ext cx="94680" cy="191160"/>
              </a:xfrm>
              <a:custGeom>
                <a:avLst/>
                <a:gdLst/>
                <a:ahLst/>
                <a:rect l="l" t="t" r="r" b="b"/>
                <a:pathLst>
                  <a:path w="74" h="145">
                    <a:moveTo>
                      <a:pt x="35" y="145"/>
                    </a:moveTo>
                    <a:lnTo>
                      <a:pt x="35" y="145"/>
                    </a:lnTo>
                    <a:lnTo>
                      <a:pt x="74" y="83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35" y="14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7308000" y="4685760"/>
                <a:ext cx="49680" cy="81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7263000" y="4576320"/>
                <a:ext cx="1656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263000" y="4576320"/>
                <a:ext cx="45000" cy="19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251480" y="4536720"/>
                <a:ext cx="28080" cy="39240"/>
              </a:xfrm>
              <a:custGeom>
                <a:avLst/>
                <a:gdLst/>
                <a:ahLst/>
                <a:rect l="l" t="t" r="r" b="b"/>
                <a:pathLst>
                  <a:path w="22" h="30">
                    <a:moveTo>
                      <a:pt x="9" y="30"/>
                    </a:moveTo>
                    <a:lnTo>
                      <a:pt x="22" y="3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263000" y="4576320"/>
                <a:ext cx="1656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251480" y="4536720"/>
                <a:ext cx="1116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279560" y="4576320"/>
                <a:ext cx="78120" cy="10944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1" y="83"/>
                    </a:moveTo>
                    <a:lnTo>
                      <a:pt x="61" y="83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61" y="8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 flipV="1">
                <a:off x="7301520" y="4588200"/>
                <a:ext cx="56160" cy="9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 flipV="1">
                <a:off x="7279560" y="4575960"/>
                <a:ext cx="216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251480" y="4536720"/>
                <a:ext cx="49680" cy="5112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2" y="30"/>
                    </a:moveTo>
                    <a:lnTo>
                      <a:pt x="39" y="39"/>
                    </a:lnTo>
                    <a:lnTo>
                      <a:pt x="39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3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279560" y="4576320"/>
                <a:ext cx="216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301520" y="458820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 flipV="1">
                <a:off x="7251480" y="4536720"/>
                <a:ext cx="49680" cy="51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01440" y="4536720"/>
                <a:ext cx="99720" cy="5112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39" y="0"/>
                    </a:moveTo>
                    <a:lnTo>
                      <a:pt x="0" y="21"/>
                    </a:lnTo>
                    <a:lnTo>
                      <a:pt x="35" y="26"/>
                    </a:lnTo>
                    <a:lnTo>
                      <a:pt x="78" y="3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145280" y="4564080"/>
                <a:ext cx="100800" cy="23760"/>
              </a:xfrm>
              <a:custGeom>
                <a:avLst/>
                <a:gdLst/>
                <a:ahLst/>
                <a:rect l="l" t="t" r="r" b="b"/>
                <a:pathLst>
                  <a:path w="79" h="18">
                    <a:moveTo>
                      <a:pt x="44" y="0"/>
                    </a:moveTo>
                    <a:lnTo>
                      <a:pt x="0" y="14"/>
                    </a:lnTo>
                    <a:lnTo>
                      <a:pt x="35" y="18"/>
                    </a:lnTo>
                    <a:lnTo>
                      <a:pt x="79" y="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088760" y="4599720"/>
                <a:ext cx="67320" cy="633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48"/>
                    </a:moveTo>
                    <a:lnTo>
                      <a:pt x="0" y="48"/>
                    </a:lnTo>
                    <a:lnTo>
                      <a:pt x="31" y="0"/>
                    </a:lnTo>
                    <a:lnTo>
                      <a:pt x="53" y="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V="1">
                <a:off x="7088760" y="4599720"/>
                <a:ext cx="3924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128360" y="4599720"/>
                <a:ext cx="2808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128360" y="4582800"/>
                <a:ext cx="61560" cy="2772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22" y="21"/>
                    </a:moveTo>
                    <a:lnTo>
                      <a:pt x="0" y="13"/>
                    </a:lnTo>
                    <a:lnTo>
                      <a:pt x="13" y="0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22" y="2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 flipV="1">
                <a:off x="7128360" y="4599360"/>
                <a:ext cx="2808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7128360" y="4582440"/>
                <a:ext cx="1656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145280" y="4582800"/>
                <a:ext cx="44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088760" y="4610520"/>
                <a:ext cx="78120" cy="52560"/>
              </a:xfrm>
              <a:custGeom>
                <a:avLst/>
                <a:gdLst/>
                <a:ahLst/>
                <a:rect l="l" t="t" r="r" b="b"/>
                <a:pathLst>
                  <a:path w="61" h="40">
                    <a:moveTo>
                      <a:pt x="0" y="40"/>
                    </a:moveTo>
                    <a:lnTo>
                      <a:pt x="0" y="40"/>
                    </a:lnTo>
                    <a:lnTo>
                      <a:pt x="35" y="40"/>
                    </a:lnTo>
                    <a:lnTo>
                      <a:pt x="61" y="5"/>
                    </a:lnTo>
                    <a:lnTo>
                      <a:pt x="53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088760" y="4663440"/>
                <a:ext cx="446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>
                <a:off x="7133760" y="4617360"/>
                <a:ext cx="3312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 flipV="1">
                <a:off x="7156080" y="4610520"/>
                <a:ext cx="10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156440" y="458820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0" y="17"/>
                    </a:moveTo>
                    <a:lnTo>
                      <a:pt x="8" y="22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156440" y="4610520"/>
                <a:ext cx="10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V="1">
                <a:off x="7166880" y="4588200"/>
                <a:ext cx="2268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027200" y="4622400"/>
                <a:ext cx="61560" cy="133200"/>
              </a:xfrm>
              <a:custGeom>
                <a:avLst/>
                <a:gdLst/>
                <a:ahLst/>
                <a:rect l="l" t="t" r="r" b="b"/>
                <a:pathLst>
                  <a:path w="48" h="101">
                    <a:moveTo>
                      <a:pt x="0" y="101"/>
                    </a:moveTo>
                    <a:lnTo>
                      <a:pt x="0" y="101"/>
                    </a:lnTo>
                    <a:lnTo>
                      <a:pt x="48" y="31"/>
                    </a:lnTo>
                    <a:lnTo>
                      <a:pt x="44" y="0"/>
                    </a:lnTo>
                    <a:lnTo>
                      <a:pt x="31" y="9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V="1">
                <a:off x="7027200" y="4663440"/>
                <a:ext cx="61560" cy="9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7066800" y="4622400"/>
                <a:ext cx="162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7027200" y="4634280"/>
                <a:ext cx="39600" cy="12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067160" y="4588200"/>
                <a:ext cx="16200" cy="4608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35"/>
                    </a:moveTo>
                    <a:lnTo>
                      <a:pt x="13" y="26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V="1">
                <a:off x="7067160" y="4622040"/>
                <a:ext cx="162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7067160" y="4588200"/>
                <a:ext cx="1008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083720" y="4622400"/>
                <a:ext cx="49680" cy="40680"/>
              </a:xfrm>
              <a:custGeom>
                <a:avLst/>
                <a:gdLst/>
                <a:ahLst/>
                <a:rect l="l" t="t" r="r" b="b"/>
                <a:pathLst>
                  <a:path w="39" h="31">
                    <a:moveTo>
                      <a:pt x="4" y="31"/>
                    </a:moveTo>
                    <a:lnTo>
                      <a:pt x="4" y="31"/>
                    </a:lnTo>
                    <a:lnTo>
                      <a:pt x="39" y="31"/>
                    </a:lnTo>
                    <a:lnTo>
                      <a:pt x="22" y="5"/>
                    </a:lnTo>
                    <a:lnTo>
                      <a:pt x="0" y="0"/>
                    </a:lnTo>
                    <a:lnTo>
                      <a:pt x="4" y="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088760" y="4663440"/>
                <a:ext cx="446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 flipV="1">
                <a:off x="7111800" y="4628520"/>
                <a:ext cx="21600" cy="3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 flipV="1">
                <a:off x="7083720" y="4622400"/>
                <a:ext cx="28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077240" y="4588200"/>
                <a:ext cx="34560" cy="4068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5" y="26"/>
                    </a:moveTo>
                    <a:lnTo>
                      <a:pt x="27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2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083720" y="4622400"/>
                <a:ext cx="28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H="1" flipV="1">
                <a:off x="7077240" y="4587840"/>
                <a:ext cx="3456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971040" y="4634280"/>
                <a:ext cx="96120" cy="121320"/>
              </a:xfrm>
              <a:custGeom>
                <a:avLst/>
                <a:gdLst/>
                <a:ahLst/>
                <a:rect l="l" t="t" r="r" b="b"/>
                <a:pathLst>
                  <a:path w="75" h="92">
                    <a:moveTo>
                      <a:pt x="44" y="92"/>
                    </a:moveTo>
                    <a:lnTo>
                      <a:pt x="44" y="92"/>
                    </a:lnTo>
                    <a:lnTo>
                      <a:pt x="0" y="87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44" y="9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 flipV="1">
                <a:off x="6971040" y="4749120"/>
                <a:ext cx="5616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043760" y="4634280"/>
                <a:ext cx="230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H="1">
                <a:off x="7027200" y="4634280"/>
                <a:ext cx="39600" cy="12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043760" y="458820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26" h="35">
                    <a:moveTo>
                      <a:pt x="18" y="35"/>
                    </a:moveTo>
                    <a:lnTo>
                      <a:pt x="0" y="3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8" y="3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>
                <a:off x="7043760" y="4634280"/>
                <a:ext cx="230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>
                <a:off x="7067160" y="4588200"/>
                <a:ext cx="1008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971040" y="4634280"/>
                <a:ext cx="96120" cy="184320"/>
              </a:xfrm>
              <a:custGeom>
                <a:avLst/>
                <a:gdLst/>
                <a:ahLst/>
                <a:rect l="l" t="t" r="r" b="b"/>
                <a:pathLst>
                  <a:path w="75" h="140">
                    <a:moveTo>
                      <a:pt x="40" y="140"/>
                    </a:moveTo>
                    <a:lnTo>
                      <a:pt x="40" y="140"/>
                    </a:lnTo>
                    <a:lnTo>
                      <a:pt x="0" y="87"/>
                    </a:lnTo>
                    <a:lnTo>
                      <a:pt x="57" y="0"/>
                    </a:lnTo>
                    <a:lnTo>
                      <a:pt x="75" y="4"/>
                    </a:lnTo>
                    <a:lnTo>
                      <a:pt x="40" y="14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H="1" flipV="1">
                <a:off x="6971040" y="4748760"/>
                <a:ext cx="51120" cy="69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043760" y="4634280"/>
                <a:ext cx="230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7021800" y="4639680"/>
                <a:ext cx="45000" cy="17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043760" y="4588200"/>
                <a:ext cx="33120" cy="5112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18" y="39"/>
                    </a:moveTo>
                    <a:lnTo>
                      <a:pt x="0" y="3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8" y="3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H="1" flipV="1">
                <a:off x="7043760" y="4634280"/>
                <a:ext cx="230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>
                <a:off x="7067160" y="4588200"/>
                <a:ext cx="10080" cy="51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909480" y="4749120"/>
                <a:ext cx="112680" cy="167400"/>
              </a:xfrm>
              <a:custGeom>
                <a:avLst/>
                <a:gdLst/>
                <a:ahLst/>
                <a:rect l="l" t="t" r="r" b="b"/>
                <a:pathLst>
                  <a:path w="88" h="127">
                    <a:moveTo>
                      <a:pt x="48" y="0"/>
                    </a:moveTo>
                    <a:lnTo>
                      <a:pt x="0" y="75"/>
                    </a:lnTo>
                    <a:lnTo>
                      <a:pt x="39" y="127"/>
                    </a:lnTo>
                    <a:lnTo>
                      <a:pt x="88" y="5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852960" y="4778280"/>
                <a:ext cx="106200" cy="155520"/>
              </a:xfrm>
              <a:custGeom>
                <a:avLst/>
                <a:gdLst/>
                <a:ahLst/>
                <a:rect l="l" t="t" r="r" b="b"/>
                <a:pathLst>
                  <a:path w="83" h="118">
                    <a:moveTo>
                      <a:pt x="44" y="53"/>
                    </a:moveTo>
                    <a:lnTo>
                      <a:pt x="0" y="0"/>
                    </a:lnTo>
                    <a:lnTo>
                      <a:pt x="35" y="118"/>
                    </a:lnTo>
                    <a:lnTo>
                      <a:pt x="83" y="105"/>
                    </a:lnTo>
                    <a:lnTo>
                      <a:pt x="44" y="5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791760" y="4749120"/>
                <a:ext cx="106200" cy="184320"/>
              </a:xfrm>
              <a:custGeom>
                <a:avLst/>
                <a:gdLst/>
                <a:ahLst/>
                <a:rect l="l" t="t" r="r" b="b"/>
                <a:pathLst>
                  <a:path w="83" h="140">
                    <a:moveTo>
                      <a:pt x="48" y="22"/>
                    </a:moveTo>
                    <a:lnTo>
                      <a:pt x="0" y="0"/>
                    </a:lnTo>
                    <a:lnTo>
                      <a:pt x="39" y="140"/>
                    </a:lnTo>
                    <a:lnTo>
                      <a:pt x="83" y="140"/>
                    </a:lnTo>
                    <a:lnTo>
                      <a:pt x="48" y="22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730200" y="4749120"/>
                <a:ext cx="111240" cy="21348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48" y="0"/>
                    </a:moveTo>
                    <a:lnTo>
                      <a:pt x="0" y="105"/>
                    </a:lnTo>
                    <a:lnTo>
                      <a:pt x="39" y="162"/>
                    </a:lnTo>
                    <a:lnTo>
                      <a:pt x="87" y="14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668640" y="4887720"/>
                <a:ext cx="111240" cy="92160"/>
              </a:xfrm>
              <a:custGeom>
                <a:avLst/>
                <a:gdLst/>
                <a:ahLst/>
                <a:rect l="l" t="t" r="r" b="b"/>
                <a:pathLst>
                  <a:path w="87" h="70">
                    <a:moveTo>
                      <a:pt x="48" y="0"/>
                    </a:moveTo>
                    <a:lnTo>
                      <a:pt x="0" y="49"/>
                    </a:lnTo>
                    <a:lnTo>
                      <a:pt x="35" y="70"/>
                    </a:lnTo>
                    <a:lnTo>
                      <a:pt x="87" y="57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600960" y="4952520"/>
                <a:ext cx="112680" cy="46080"/>
              </a:xfrm>
              <a:custGeom>
                <a:avLst/>
                <a:gdLst/>
                <a:ahLst/>
                <a:rect l="l" t="t" r="r" b="b"/>
                <a:pathLst>
                  <a:path w="88" h="35">
                    <a:moveTo>
                      <a:pt x="53" y="0"/>
                    </a:moveTo>
                    <a:lnTo>
                      <a:pt x="0" y="21"/>
                    </a:lnTo>
                    <a:lnTo>
                      <a:pt x="40" y="35"/>
                    </a:lnTo>
                    <a:lnTo>
                      <a:pt x="88" y="21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508880" y="4778280"/>
                <a:ext cx="100800" cy="23400"/>
              </a:xfrm>
              <a:custGeom>
                <a:avLst/>
                <a:gdLst/>
                <a:ahLst/>
                <a:rect l="l" t="t" r="r" b="b"/>
                <a:pathLst>
                  <a:path w="79" h="18">
                    <a:moveTo>
                      <a:pt x="40" y="0"/>
                    </a:moveTo>
                    <a:lnTo>
                      <a:pt x="0" y="9"/>
                    </a:lnTo>
                    <a:lnTo>
                      <a:pt x="40" y="18"/>
                    </a:lnTo>
                    <a:lnTo>
                      <a:pt x="79" y="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458840" y="4789800"/>
                <a:ext cx="10080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39" y="0"/>
                    </a:moveTo>
                    <a:lnTo>
                      <a:pt x="0" y="9"/>
                    </a:lnTo>
                    <a:lnTo>
                      <a:pt x="39" y="22"/>
                    </a:lnTo>
                    <a:lnTo>
                      <a:pt x="79" y="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408800" y="4802040"/>
                <a:ext cx="99720" cy="28800"/>
              </a:xfrm>
              <a:custGeom>
                <a:avLst/>
                <a:gdLst/>
                <a:ahLst/>
                <a:rect l="l" t="t" r="r" b="b"/>
                <a:pathLst>
                  <a:path w="78" h="22">
                    <a:moveTo>
                      <a:pt x="39" y="0"/>
                    </a:moveTo>
                    <a:lnTo>
                      <a:pt x="0" y="0"/>
                    </a:lnTo>
                    <a:lnTo>
                      <a:pt x="39" y="22"/>
                    </a:lnTo>
                    <a:lnTo>
                      <a:pt x="78" y="1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357680" y="4685760"/>
                <a:ext cx="100800" cy="145080"/>
              </a:xfrm>
              <a:custGeom>
                <a:avLst/>
                <a:gdLst/>
                <a:ahLst/>
                <a:rect l="l" t="t" r="r" b="b"/>
                <a:pathLst>
                  <a:path w="79" h="110">
                    <a:moveTo>
                      <a:pt x="40" y="88"/>
                    </a:moveTo>
                    <a:lnTo>
                      <a:pt x="0" y="0"/>
                    </a:lnTo>
                    <a:lnTo>
                      <a:pt x="40" y="31"/>
                    </a:lnTo>
                    <a:lnTo>
                      <a:pt x="79" y="110"/>
                    </a:lnTo>
                    <a:lnTo>
                      <a:pt x="40" y="88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301520" y="4588200"/>
                <a:ext cx="56160" cy="97200"/>
              </a:xfrm>
              <a:custGeom>
                <a:avLst/>
                <a:gdLst/>
                <a:ahLst/>
                <a:rect l="l" t="t" r="r" b="b"/>
                <a:pathLst>
                  <a:path w="44" h="74">
                    <a:moveTo>
                      <a:pt x="44" y="74"/>
                    </a:moveTo>
                    <a:lnTo>
                      <a:pt x="44" y="74"/>
                    </a:lnTo>
                    <a:lnTo>
                      <a:pt x="40" y="2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44" y="7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 flipV="1">
                <a:off x="7308000" y="4588200"/>
                <a:ext cx="44640" cy="33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7301160" y="4588200"/>
                <a:ext cx="6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301520" y="4588200"/>
                <a:ext cx="56160" cy="9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301520" y="458820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301520" y="4588200"/>
                <a:ext cx="6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7301160" y="4588200"/>
                <a:ext cx="6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301520" y="458820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352640" y="4622400"/>
                <a:ext cx="56160" cy="104400"/>
              </a:xfrm>
              <a:custGeom>
                <a:avLst/>
                <a:gdLst/>
                <a:ahLst/>
                <a:rect l="l" t="t" r="r" b="b"/>
                <a:pathLst>
                  <a:path w="44" h="79">
                    <a:moveTo>
                      <a:pt x="44" y="79"/>
                    </a:moveTo>
                    <a:lnTo>
                      <a:pt x="4" y="48"/>
                    </a:lnTo>
                    <a:lnTo>
                      <a:pt x="0" y="0"/>
                    </a:lnTo>
                    <a:lnTo>
                      <a:pt x="44" y="79"/>
                    </a:lnTo>
                    <a:lnTo>
                      <a:pt x="44" y="7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352640" y="4622400"/>
                <a:ext cx="56160" cy="10440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10" y="18"/>
                    </a:lnTo>
                    <a:lnTo>
                      <a:pt x="1" y="1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308000" y="4588200"/>
                <a:ext cx="44640" cy="338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35" y="26"/>
                    </a:moveTo>
                    <a:lnTo>
                      <a:pt x="35" y="26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35" y="2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 flipV="1">
                <a:off x="7308000" y="4588200"/>
                <a:ext cx="44640" cy="33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308000" y="4588200"/>
                <a:ext cx="46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246440" y="4570920"/>
                <a:ext cx="66240" cy="28800"/>
              </a:xfrm>
              <a:custGeom>
                <a:avLst/>
                <a:gdLst/>
                <a:ahLst/>
                <a:rect l="l" t="t" r="r" b="b"/>
                <a:pathLst>
                  <a:path w="52" h="22">
                    <a:moveTo>
                      <a:pt x="52" y="22"/>
                    </a:moveTo>
                    <a:lnTo>
                      <a:pt x="48" y="13"/>
                    </a:lnTo>
                    <a:lnTo>
                      <a:pt x="4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2" y="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 flipV="1">
                <a:off x="7307640" y="4588200"/>
                <a:ext cx="46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>
                <a:off x="7301160" y="4588200"/>
                <a:ext cx="6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 flipV="1">
                <a:off x="7246080" y="4570920"/>
                <a:ext cx="5508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256520" y="4599720"/>
                <a:ext cx="96120" cy="17280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31" y="131"/>
                    </a:moveTo>
                    <a:lnTo>
                      <a:pt x="31" y="131"/>
                    </a:lnTo>
                    <a:lnTo>
                      <a:pt x="75" y="17"/>
                    </a:lnTo>
                    <a:lnTo>
                      <a:pt x="44" y="0"/>
                    </a:lnTo>
                    <a:lnTo>
                      <a:pt x="0" y="4"/>
                    </a:lnTo>
                    <a:lnTo>
                      <a:pt x="31" y="1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7296120" y="4622400"/>
                <a:ext cx="56160" cy="150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7256520" y="4599720"/>
                <a:ext cx="561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256520" y="4605120"/>
                <a:ext cx="39600" cy="167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6" name=""/>
            <p:cNvSpPr/>
            <p:nvPr/>
          </p:nvSpPr>
          <p:spPr>
            <a:xfrm>
              <a:off x="7246440" y="4570920"/>
              <a:ext cx="65880" cy="3384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8" y="26"/>
                  </a:moveTo>
                  <a:lnTo>
                    <a:pt x="52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7256880" y="4600080"/>
              <a:ext cx="5580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246440" y="4570920"/>
              <a:ext cx="10080" cy="33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201080" y="4605120"/>
              <a:ext cx="45000" cy="17172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30" y="131"/>
                  </a:moveTo>
                  <a:lnTo>
                    <a:pt x="30" y="131"/>
                  </a:lnTo>
                  <a:lnTo>
                    <a:pt x="0" y="9"/>
                  </a:lnTo>
                  <a:lnTo>
                    <a:pt x="35" y="0"/>
                  </a:lnTo>
                  <a:lnTo>
                    <a:pt x="30" y="131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7201080" y="4616280"/>
              <a:ext cx="3816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7201080" y="4605120"/>
              <a:ext cx="45000" cy="11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191000" y="4570920"/>
              <a:ext cx="55440" cy="453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26"/>
                  </a:moveTo>
                  <a:lnTo>
                    <a:pt x="9" y="35"/>
                  </a:lnTo>
                  <a:lnTo>
                    <a:pt x="0" y="13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7200720" y="4605120"/>
              <a:ext cx="45000" cy="11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 flipV="1">
              <a:off x="7191000" y="4588560"/>
              <a:ext cx="10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7191000" y="4570560"/>
              <a:ext cx="55440" cy="1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239240" y="4605120"/>
              <a:ext cx="57240" cy="17172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44" y="127"/>
                  </a:moveTo>
                  <a:lnTo>
                    <a:pt x="44" y="127"/>
                  </a:lnTo>
                  <a:lnTo>
                    <a:pt x="0" y="131"/>
                  </a:lnTo>
                  <a:lnTo>
                    <a:pt x="5" y="0"/>
                  </a:lnTo>
                  <a:lnTo>
                    <a:pt x="13" y="0"/>
                  </a:lnTo>
                  <a:lnTo>
                    <a:pt x="44" y="127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7238880" y="4772520"/>
              <a:ext cx="5724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246440" y="4605120"/>
              <a:ext cx="10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256880" y="4605120"/>
              <a:ext cx="39960" cy="167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246440" y="4570920"/>
              <a:ext cx="10080" cy="3384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7246440" y="4605120"/>
              <a:ext cx="10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46440" y="4570920"/>
              <a:ext cx="10080" cy="33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33400" y="4616640"/>
              <a:ext cx="57240" cy="17388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39" y="131"/>
                  </a:moveTo>
                  <a:lnTo>
                    <a:pt x="39" y="131"/>
                  </a:lnTo>
                  <a:lnTo>
                    <a:pt x="0" y="35"/>
                  </a:lnTo>
                  <a:lnTo>
                    <a:pt x="26" y="0"/>
                  </a:lnTo>
                  <a:lnTo>
                    <a:pt x="44" y="0"/>
                  </a:lnTo>
                  <a:lnTo>
                    <a:pt x="39" y="131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 flipV="1">
              <a:off x="7133400" y="4662360"/>
              <a:ext cx="50400" cy="127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7133400" y="4616640"/>
              <a:ext cx="32760" cy="46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166520" y="4616640"/>
              <a:ext cx="241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166520" y="4588920"/>
              <a:ext cx="24120" cy="277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8" y="22"/>
                  </a:moveTo>
                  <a:lnTo>
                    <a:pt x="0" y="2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7166160" y="4616640"/>
              <a:ext cx="241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7166520" y="4588560"/>
              <a:ext cx="2412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183800" y="4616640"/>
              <a:ext cx="55440" cy="17388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44" y="122"/>
                  </a:moveTo>
                  <a:lnTo>
                    <a:pt x="44" y="122"/>
                  </a:lnTo>
                  <a:lnTo>
                    <a:pt x="0" y="131"/>
                  </a:lnTo>
                  <a:lnTo>
                    <a:pt x="5" y="0"/>
                  </a:lnTo>
                  <a:lnTo>
                    <a:pt x="14" y="0"/>
                  </a:lnTo>
                  <a:lnTo>
                    <a:pt x="44" y="12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7183800" y="4777200"/>
              <a:ext cx="55440" cy="13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191000" y="4616640"/>
              <a:ext cx="10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201080" y="4616640"/>
              <a:ext cx="3816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191000" y="4588920"/>
              <a:ext cx="10080" cy="2772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9" y="22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22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7191000" y="4616640"/>
              <a:ext cx="10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191000" y="4588920"/>
              <a:ext cx="10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105680" y="4629960"/>
              <a:ext cx="77760" cy="160200"/>
            </a:xfrm>
            <a:custGeom>
              <a:avLst/>
              <a:gdLst/>
              <a:ahLst/>
              <a:rect l="l" t="t" r="r" b="b"/>
              <a:pathLst>
                <a:path w="61" h="122">
                  <a:moveTo>
                    <a:pt x="61" y="122"/>
                  </a:moveTo>
                  <a:lnTo>
                    <a:pt x="61" y="122"/>
                  </a:lnTo>
                  <a:lnTo>
                    <a:pt x="22" y="26"/>
                  </a:lnTo>
                  <a:lnTo>
                    <a:pt x="5" y="0"/>
                  </a:lnTo>
                  <a:lnTo>
                    <a:pt x="0" y="4"/>
                  </a:lnTo>
                  <a:lnTo>
                    <a:pt x="61" y="12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 flipV="1">
              <a:off x="7133400" y="4662360"/>
              <a:ext cx="50400" cy="127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 flipV="1">
              <a:off x="7112520" y="4629960"/>
              <a:ext cx="20880" cy="3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7105680" y="4629960"/>
              <a:ext cx="648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077600" y="4588920"/>
              <a:ext cx="34560" cy="4608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22" y="35"/>
                  </a:moveTo>
                  <a:lnTo>
                    <a:pt x="27" y="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7105680" y="4629600"/>
              <a:ext cx="648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 flipV="1">
              <a:off x="7077600" y="4588920"/>
              <a:ext cx="34560" cy="41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088400" y="4635000"/>
              <a:ext cx="95400" cy="155520"/>
            </a:xfrm>
            <a:custGeom>
              <a:avLst/>
              <a:gdLst/>
              <a:ahLst/>
              <a:rect l="l" t="t" r="r" b="b"/>
              <a:pathLst>
                <a:path w="74" h="118">
                  <a:moveTo>
                    <a:pt x="74" y="118"/>
                  </a:moveTo>
                  <a:lnTo>
                    <a:pt x="74" y="118"/>
                  </a:lnTo>
                  <a:lnTo>
                    <a:pt x="31" y="105"/>
                  </a:lnTo>
                  <a:lnTo>
                    <a:pt x="0" y="4"/>
                  </a:lnTo>
                  <a:lnTo>
                    <a:pt x="13" y="0"/>
                  </a:lnTo>
                  <a:lnTo>
                    <a:pt x="74" y="118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flipV="1">
              <a:off x="7128360" y="4772520"/>
              <a:ext cx="55440" cy="18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 flipV="1">
              <a:off x="7088400" y="4639680"/>
              <a:ext cx="39600" cy="132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7088400" y="4634640"/>
              <a:ext cx="1728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077600" y="4588920"/>
              <a:ext cx="27720" cy="5076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35"/>
                  </a:moveTo>
                  <a:lnTo>
                    <a:pt x="9" y="39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7088400" y="4635000"/>
              <a:ext cx="1728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7077240" y="4588560"/>
              <a:ext cx="1044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022160" y="4639680"/>
              <a:ext cx="55440" cy="271800"/>
            </a:xfrm>
            <a:custGeom>
              <a:avLst/>
              <a:gdLst/>
              <a:ahLst/>
              <a:rect l="l" t="t" r="r" b="b"/>
              <a:pathLst>
                <a:path w="43" h="206">
                  <a:moveTo>
                    <a:pt x="35" y="206"/>
                  </a:moveTo>
                  <a:lnTo>
                    <a:pt x="35" y="206"/>
                  </a:lnTo>
                  <a:lnTo>
                    <a:pt x="0" y="136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35" y="20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 flipV="1">
              <a:off x="7021800" y="4818240"/>
              <a:ext cx="45000" cy="9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7022160" y="4639680"/>
              <a:ext cx="45000" cy="178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067520" y="4639680"/>
              <a:ext cx="10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067520" y="4588920"/>
              <a:ext cx="10080" cy="50760"/>
            </a:xfrm>
            <a:custGeom>
              <a:avLst/>
              <a:gdLst/>
              <a:ahLst/>
              <a:rect l="l" t="t" r="r" b="b"/>
              <a:pathLst>
                <a:path w="8" h="39">
                  <a:moveTo>
                    <a:pt x="8" y="39"/>
                  </a:moveTo>
                  <a:lnTo>
                    <a:pt x="0" y="39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7067520" y="4639680"/>
              <a:ext cx="10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7067520" y="4588560"/>
              <a:ext cx="1008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067520" y="4639680"/>
              <a:ext cx="60480" cy="271800"/>
            </a:xfrm>
            <a:custGeom>
              <a:avLst/>
              <a:gdLst/>
              <a:ahLst/>
              <a:rect l="l" t="t" r="r" b="b"/>
              <a:pathLst>
                <a:path w="48" h="206">
                  <a:moveTo>
                    <a:pt x="0" y="206"/>
                  </a:moveTo>
                  <a:lnTo>
                    <a:pt x="0" y="206"/>
                  </a:lnTo>
                  <a:lnTo>
                    <a:pt x="48" y="101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7067520" y="4772160"/>
              <a:ext cx="60480" cy="13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 flipV="1">
              <a:off x="7088400" y="4639680"/>
              <a:ext cx="39600" cy="132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7077240" y="4639680"/>
              <a:ext cx="10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077600" y="4588920"/>
              <a:ext cx="10440" cy="5076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0" y="39"/>
                  </a:moveTo>
                  <a:lnTo>
                    <a:pt x="9" y="3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077600" y="4639680"/>
              <a:ext cx="10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 flipV="1">
              <a:off x="7077240" y="4588560"/>
              <a:ext cx="1044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959520" y="4818600"/>
              <a:ext cx="108000" cy="9792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49" y="0"/>
                  </a:moveTo>
                  <a:lnTo>
                    <a:pt x="0" y="74"/>
                  </a:lnTo>
                  <a:lnTo>
                    <a:pt x="40" y="57"/>
                  </a:lnTo>
                  <a:lnTo>
                    <a:pt x="84" y="7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898680" y="4893840"/>
              <a:ext cx="113040" cy="63360"/>
            </a:xfrm>
            <a:custGeom>
              <a:avLst/>
              <a:gdLst/>
              <a:ahLst/>
              <a:rect l="l" t="t" r="r" b="b"/>
              <a:pathLst>
                <a:path w="88" h="48">
                  <a:moveTo>
                    <a:pt x="48" y="17"/>
                  </a:moveTo>
                  <a:lnTo>
                    <a:pt x="0" y="30"/>
                  </a:lnTo>
                  <a:lnTo>
                    <a:pt x="40" y="48"/>
                  </a:lnTo>
                  <a:lnTo>
                    <a:pt x="88" y="0"/>
                  </a:lnTo>
                  <a:lnTo>
                    <a:pt x="48" y="17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841440" y="4933080"/>
              <a:ext cx="107280" cy="36000"/>
            </a:xfrm>
            <a:custGeom>
              <a:avLst/>
              <a:gdLst/>
              <a:ahLst/>
              <a:rect l="l" t="t" r="r" b="b"/>
              <a:pathLst>
                <a:path w="84" h="27">
                  <a:moveTo>
                    <a:pt x="44" y="0"/>
                  </a:moveTo>
                  <a:lnTo>
                    <a:pt x="0" y="0"/>
                  </a:lnTo>
                  <a:lnTo>
                    <a:pt x="35" y="27"/>
                  </a:lnTo>
                  <a:lnTo>
                    <a:pt x="84" y="1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780600" y="4933080"/>
              <a:ext cx="105840" cy="5400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48" y="0"/>
                  </a:moveTo>
                  <a:lnTo>
                    <a:pt x="0" y="22"/>
                  </a:lnTo>
                  <a:lnTo>
                    <a:pt x="35" y="40"/>
                  </a:lnTo>
                  <a:lnTo>
                    <a:pt x="83" y="2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714720" y="4962600"/>
              <a:ext cx="110880" cy="36000"/>
            </a:xfrm>
            <a:custGeom>
              <a:avLst/>
              <a:gdLst/>
              <a:ahLst/>
              <a:rect l="l" t="t" r="r" b="b"/>
              <a:pathLst>
                <a:path w="87" h="27">
                  <a:moveTo>
                    <a:pt x="52" y="0"/>
                  </a:moveTo>
                  <a:lnTo>
                    <a:pt x="0" y="13"/>
                  </a:lnTo>
                  <a:lnTo>
                    <a:pt x="39" y="27"/>
                  </a:lnTo>
                  <a:lnTo>
                    <a:pt x="87" y="1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652080" y="4979160"/>
              <a:ext cx="110880" cy="36000"/>
            </a:xfrm>
            <a:custGeom>
              <a:avLst/>
              <a:gdLst/>
              <a:ahLst/>
              <a:rect l="l" t="t" r="r" b="b"/>
              <a:pathLst>
                <a:path w="87" h="27">
                  <a:moveTo>
                    <a:pt x="48" y="0"/>
                  </a:moveTo>
                  <a:lnTo>
                    <a:pt x="0" y="14"/>
                  </a:lnTo>
                  <a:lnTo>
                    <a:pt x="35" y="27"/>
                  </a:lnTo>
                  <a:lnTo>
                    <a:pt x="87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561080" y="4790520"/>
              <a:ext cx="105840" cy="2772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39" y="0"/>
                  </a:moveTo>
                  <a:lnTo>
                    <a:pt x="0" y="9"/>
                  </a:lnTo>
                  <a:lnTo>
                    <a:pt x="44" y="22"/>
                  </a:lnTo>
                  <a:lnTo>
                    <a:pt x="83" y="1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508880" y="4802040"/>
              <a:ext cx="107280" cy="29160"/>
            </a:xfrm>
            <a:custGeom>
              <a:avLst/>
              <a:gdLst/>
              <a:ahLst/>
              <a:rect l="l" t="t" r="r" b="b"/>
              <a:pathLst>
                <a:path w="84" h="22">
                  <a:moveTo>
                    <a:pt x="40" y="0"/>
                  </a:moveTo>
                  <a:lnTo>
                    <a:pt x="0" y="13"/>
                  </a:lnTo>
                  <a:lnTo>
                    <a:pt x="40" y="22"/>
                  </a:lnTo>
                  <a:lnTo>
                    <a:pt x="84" y="1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58480" y="4807080"/>
              <a:ext cx="102240" cy="24480"/>
            </a:xfrm>
            <a:custGeom>
              <a:avLst/>
              <a:gdLst/>
              <a:ahLst/>
              <a:rect l="l" t="t" r="r" b="b"/>
              <a:pathLst>
                <a:path w="79" h="18">
                  <a:moveTo>
                    <a:pt x="39" y="9"/>
                  </a:moveTo>
                  <a:lnTo>
                    <a:pt x="0" y="18"/>
                  </a:lnTo>
                  <a:lnTo>
                    <a:pt x="39" y="0"/>
                  </a:lnTo>
                  <a:lnTo>
                    <a:pt x="79" y="18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10240" y="4726800"/>
              <a:ext cx="98640" cy="10476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39" y="79"/>
                  </a:moveTo>
                  <a:lnTo>
                    <a:pt x="0" y="0"/>
                  </a:lnTo>
                  <a:lnTo>
                    <a:pt x="39" y="70"/>
                  </a:lnTo>
                  <a:lnTo>
                    <a:pt x="78" y="61"/>
                  </a:lnTo>
                  <a:lnTo>
                    <a:pt x="39" y="79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352640" y="4623480"/>
              <a:ext cx="105840" cy="194760"/>
            </a:xfrm>
            <a:custGeom>
              <a:avLst/>
              <a:gdLst/>
              <a:ahLst/>
              <a:rect l="l" t="t" r="r" b="b"/>
              <a:pathLst>
                <a:path w="83" h="149">
                  <a:moveTo>
                    <a:pt x="44" y="79"/>
                  </a:moveTo>
                  <a:lnTo>
                    <a:pt x="0" y="0"/>
                  </a:lnTo>
                  <a:lnTo>
                    <a:pt x="39" y="70"/>
                  </a:lnTo>
                  <a:lnTo>
                    <a:pt x="83" y="149"/>
                  </a:lnTo>
                  <a:lnTo>
                    <a:pt x="44" y="79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296840" y="4623480"/>
              <a:ext cx="105840" cy="212760"/>
            </a:xfrm>
            <a:custGeom>
              <a:avLst/>
              <a:gdLst/>
              <a:ahLst/>
              <a:rect l="l" t="t" r="r" b="b"/>
              <a:pathLst>
                <a:path w="83" h="162">
                  <a:moveTo>
                    <a:pt x="44" y="0"/>
                  </a:moveTo>
                  <a:lnTo>
                    <a:pt x="0" y="114"/>
                  </a:lnTo>
                  <a:lnTo>
                    <a:pt x="39" y="162"/>
                  </a:lnTo>
                  <a:lnTo>
                    <a:pt x="83" y="7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239240" y="4772520"/>
              <a:ext cx="108000" cy="6372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44" y="0"/>
                  </a:moveTo>
                  <a:lnTo>
                    <a:pt x="0" y="4"/>
                  </a:lnTo>
                  <a:lnTo>
                    <a:pt x="40" y="35"/>
                  </a:lnTo>
                  <a:lnTo>
                    <a:pt x="83" y="4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183800" y="4777200"/>
              <a:ext cx="108000" cy="70560"/>
            </a:xfrm>
            <a:custGeom>
              <a:avLst/>
              <a:gdLst/>
              <a:ahLst/>
              <a:rect l="l" t="t" r="r" b="b"/>
              <a:pathLst>
                <a:path w="84" h="53">
                  <a:moveTo>
                    <a:pt x="44" y="0"/>
                  </a:moveTo>
                  <a:lnTo>
                    <a:pt x="0" y="9"/>
                  </a:lnTo>
                  <a:lnTo>
                    <a:pt x="40" y="53"/>
                  </a:lnTo>
                  <a:lnTo>
                    <a:pt x="84" y="3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128360" y="4772520"/>
              <a:ext cx="105840" cy="75240"/>
            </a:xfrm>
            <a:custGeom>
              <a:avLst/>
              <a:gdLst/>
              <a:ahLst/>
              <a:rect l="l" t="t" r="r" b="b"/>
              <a:pathLst>
                <a:path w="83" h="57">
                  <a:moveTo>
                    <a:pt x="43" y="13"/>
                  </a:moveTo>
                  <a:lnTo>
                    <a:pt x="0" y="0"/>
                  </a:lnTo>
                  <a:lnTo>
                    <a:pt x="39" y="52"/>
                  </a:lnTo>
                  <a:lnTo>
                    <a:pt x="83" y="57"/>
                  </a:lnTo>
                  <a:lnTo>
                    <a:pt x="43" y="13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067520" y="4772520"/>
              <a:ext cx="110880" cy="139320"/>
            </a:xfrm>
            <a:custGeom>
              <a:avLst/>
              <a:gdLst/>
              <a:ahLst/>
              <a:rect l="l" t="t" r="r" b="b"/>
              <a:pathLst>
                <a:path w="87" h="105">
                  <a:moveTo>
                    <a:pt x="48" y="0"/>
                  </a:moveTo>
                  <a:lnTo>
                    <a:pt x="0" y="105"/>
                  </a:lnTo>
                  <a:lnTo>
                    <a:pt x="39" y="70"/>
                  </a:lnTo>
                  <a:lnTo>
                    <a:pt x="87" y="5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011720" y="4866120"/>
              <a:ext cx="105840" cy="56880"/>
            </a:xfrm>
            <a:custGeom>
              <a:avLst/>
              <a:gdLst/>
              <a:ahLst/>
              <a:rect l="l" t="t" r="r" b="b"/>
              <a:pathLst>
                <a:path w="83" h="44">
                  <a:moveTo>
                    <a:pt x="44" y="35"/>
                  </a:moveTo>
                  <a:lnTo>
                    <a:pt x="0" y="22"/>
                  </a:lnTo>
                  <a:lnTo>
                    <a:pt x="39" y="44"/>
                  </a:lnTo>
                  <a:lnTo>
                    <a:pt x="83" y="0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949080" y="4893840"/>
              <a:ext cx="110880" cy="7992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48" y="0"/>
                  </a:moveTo>
                  <a:lnTo>
                    <a:pt x="0" y="48"/>
                  </a:lnTo>
                  <a:lnTo>
                    <a:pt x="39" y="61"/>
                  </a:lnTo>
                  <a:lnTo>
                    <a:pt x="87" y="2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886440" y="4957560"/>
              <a:ext cx="113040" cy="295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49" y="0"/>
                  </a:moveTo>
                  <a:lnTo>
                    <a:pt x="0" y="9"/>
                  </a:lnTo>
                  <a:lnTo>
                    <a:pt x="40" y="22"/>
                  </a:lnTo>
                  <a:lnTo>
                    <a:pt x="88" y="1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825960" y="4969080"/>
              <a:ext cx="113040" cy="3456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48" y="0"/>
                  </a:moveTo>
                  <a:lnTo>
                    <a:pt x="0" y="13"/>
                  </a:lnTo>
                  <a:lnTo>
                    <a:pt x="40" y="26"/>
                  </a:lnTo>
                  <a:lnTo>
                    <a:pt x="88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762960" y="4987080"/>
              <a:ext cx="113040" cy="32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48" y="0"/>
                  </a:moveTo>
                  <a:lnTo>
                    <a:pt x="0" y="9"/>
                  </a:lnTo>
                  <a:lnTo>
                    <a:pt x="40" y="26"/>
                  </a:lnTo>
                  <a:lnTo>
                    <a:pt x="88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697440" y="4998600"/>
              <a:ext cx="117720" cy="39240"/>
            </a:xfrm>
            <a:custGeom>
              <a:avLst/>
              <a:gdLst/>
              <a:ahLst/>
              <a:rect l="l" t="t" r="r" b="b"/>
              <a:pathLst>
                <a:path w="92" h="30">
                  <a:moveTo>
                    <a:pt x="52" y="0"/>
                  </a:moveTo>
                  <a:lnTo>
                    <a:pt x="0" y="13"/>
                  </a:lnTo>
                  <a:lnTo>
                    <a:pt x="39" y="30"/>
                  </a:lnTo>
                  <a:lnTo>
                    <a:pt x="92" y="1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616520" y="4807080"/>
              <a:ext cx="100800" cy="2916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39" y="0"/>
                  </a:moveTo>
                  <a:lnTo>
                    <a:pt x="0" y="9"/>
                  </a:lnTo>
                  <a:lnTo>
                    <a:pt x="39" y="22"/>
                  </a:lnTo>
                  <a:lnTo>
                    <a:pt x="78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561080" y="4818600"/>
              <a:ext cx="105840" cy="2916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44" y="0"/>
                  </a:moveTo>
                  <a:lnTo>
                    <a:pt x="0" y="9"/>
                  </a:lnTo>
                  <a:lnTo>
                    <a:pt x="44" y="22"/>
                  </a:lnTo>
                  <a:lnTo>
                    <a:pt x="83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508880" y="4807080"/>
              <a:ext cx="107280" cy="45360"/>
            </a:xfrm>
            <a:custGeom>
              <a:avLst/>
              <a:gdLst/>
              <a:ahLst/>
              <a:rect l="l" t="t" r="r" b="b"/>
              <a:pathLst>
                <a:path w="84" h="35">
                  <a:moveTo>
                    <a:pt x="40" y="18"/>
                  </a:moveTo>
                  <a:lnTo>
                    <a:pt x="0" y="0"/>
                  </a:lnTo>
                  <a:lnTo>
                    <a:pt x="40" y="35"/>
                  </a:lnTo>
                  <a:lnTo>
                    <a:pt x="84" y="31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458480" y="4807080"/>
              <a:ext cx="102240" cy="52200"/>
            </a:xfrm>
            <a:custGeom>
              <a:avLst/>
              <a:gdLst/>
              <a:ahLst/>
              <a:rect l="l" t="t" r="r" b="b"/>
              <a:pathLst>
                <a:path w="79" h="40">
                  <a:moveTo>
                    <a:pt x="39" y="0"/>
                  </a:moveTo>
                  <a:lnTo>
                    <a:pt x="0" y="9"/>
                  </a:lnTo>
                  <a:lnTo>
                    <a:pt x="39" y="40"/>
                  </a:lnTo>
                  <a:lnTo>
                    <a:pt x="79" y="3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403040" y="4715280"/>
              <a:ext cx="105840" cy="1440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44" y="79"/>
                  </a:moveTo>
                  <a:lnTo>
                    <a:pt x="0" y="0"/>
                  </a:lnTo>
                  <a:lnTo>
                    <a:pt x="40" y="66"/>
                  </a:lnTo>
                  <a:lnTo>
                    <a:pt x="83" y="110"/>
                  </a:lnTo>
                  <a:lnTo>
                    <a:pt x="44" y="79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347240" y="4715280"/>
              <a:ext cx="105840" cy="183240"/>
            </a:xfrm>
            <a:custGeom>
              <a:avLst/>
              <a:gdLst/>
              <a:ahLst/>
              <a:rect l="l" t="t" r="r" b="b"/>
              <a:pathLst>
                <a:path w="84" h="140">
                  <a:moveTo>
                    <a:pt x="44" y="0"/>
                  </a:moveTo>
                  <a:lnTo>
                    <a:pt x="0" y="92"/>
                  </a:lnTo>
                  <a:lnTo>
                    <a:pt x="40" y="140"/>
                  </a:lnTo>
                  <a:lnTo>
                    <a:pt x="84" y="6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291800" y="4818600"/>
              <a:ext cx="105840" cy="79920"/>
            </a:xfrm>
            <a:custGeom>
              <a:avLst/>
              <a:gdLst/>
              <a:ahLst/>
              <a:rect l="l" t="t" r="r" b="b"/>
              <a:pathLst>
                <a:path w="83" h="61">
                  <a:moveTo>
                    <a:pt x="43" y="13"/>
                  </a:moveTo>
                  <a:lnTo>
                    <a:pt x="0" y="0"/>
                  </a:lnTo>
                  <a:lnTo>
                    <a:pt x="39" y="39"/>
                  </a:lnTo>
                  <a:lnTo>
                    <a:pt x="83" y="61"/>
                  </a:lnTo>
                  <a:lnTo>
                    <a:pt x="43" y="13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234200" y="4818600"/>
              <a:ext cx="108000" cy="10476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44" y="0"/>
                  </a:moveTo>
                  <a:lnTo>
                    <a:pt x="0" y="22"/>
                  </a:lnTo>
                  <a:lnTo>
                    <a:pt x="39" y="79"/>
                  </a:lnTo>
                  <a:lnTo>
                    <a:pt x="83" y="39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178760" y="4841280"/>
              <a:ext cx="105840" cy="82080"/>
            </a:xfrm>
            <a:custGeom>
              <a:avLst/>
              <a:gdLst/>
              <a:ahLst/>
              <a:rect l="l" t="t" r="r" b="b"/>
              <a:pathLst>
                <a:path w="83" h="62">
                  <a:moveTo>
                    <a:pt x="44" y="5"/>
                  </a:moveTo>
                  <a:lnTo>
                    <a:pt x="0" y="0"/>
                  </a:lnTo>
                  <a:lnTo>
                    <a:pt x="39" y="62"/>
                  </a:lnTo>
                  <a:lnTo>
                    <a:pt x="83" y="62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117920" y="4841280"/>
              <a:ext cx="110880" cy="8208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48" y="0"/>
                  </a:moveTo>
                  <a:lnTo>
                    <a:pt x="0" y="18"/>
                  </a:lnTo>
                  <a:lnTo>
                    <a:pt x="44" y="18"/>
                  </a:lnTo>
                  <a:lnTo>
                    <a:pt x="87" y="6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060320" y="4866120"/>
              <a:ext cx="113040" cy="86400"/>
            </a:xfrm>
            <a:custGeom>
              <a:avLst/>
              <a:gdLst/>
              <a:ahLst/>
              <a:rect l="l" t="t" r="r" b="b"/>
              <a:pathLst>
                <a:path w="88" h="66">
                  <a:moveTo>
                    <a:pt x="44" y="0"/>
                  </a:moveTo>
                  <a:lnTo>
                    <a:pt x="0" y="44"/>
                  </a:lnTo>
                  <a:lnTo>
                    <a:pt x="40" y="66"/>
                  </a:lnTo>
                  <a:lnTo>
                    <a:pt x="88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999840" y="4923360"/>
              <a:ext cx="112680" cy="68400"/>
            </a:xfrm>
            <a:custGeom>
              <a:avLst/>
              <a:gdLst/>
              <a:ahLst/>
              <a:rect l="l" t="t" r="r" b="b"/>
              <a:pathLst>
                <a:path w="88" h="52">
                  <a:moveTo>
                    <a:pt x="48" y="0"/>
                  </a:moveTo>
                  <a:lnTo>
                    <a:pt x="0" y="39"/>
                  </a:lnTo>
                  <a:lnTo>
                    <a:pt x="39" y="52"/>
                  </a:lnTo>
                  <a:lnTo>
                    <a:pt x="88" y="2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939000" y="4974120"/>
              <a:ext cx="110880" cy="338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48" y="0"/>
                  </a:moveTo>
                  <a:lnTo>
                    <a:pt x="0" y="9"/>
                  </a:lnTo>
                  <a:lnTo>
                    <a:pt x="39" y="26"/>
                  </a:lnTo>
                  <a:lnTo>
                    <a:pt x="87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876360" y="4987080"/>
              <a:ext cx="110880" cy="3240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48" y="0"/>
                  </a:moveTo>
                  <a:lnTo>
                    <a:pt x="0" y="13"/>
                  </a:lnTo>
                  <a:lnTo>
                    <a:pt x="39" y="26"/>
                  </a:lnTo>
                  <a:lnTo>
                    <a:pt x="87" y="1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815160" y="5003640"/>
              <a:ext cx="111240" cy="3456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48" y="0"/>
                  </a:moveTo>
                  <a:lnTo>
                    <a:pt x="0" y="13"/>
                  </a:lnTo>
                  <a:lnTo>
                    <a:pt x="39" y="26"/>
                  </a:lnTo>
                  <a:lnTo>
                    <a:pt x="87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747480" y="5019840"/>
              <a:ext cx="118080" cy="34560"/>
            </a:xfrm>
            <a:custGeom>
              <a:avLst/>
              <a:gdLst/>
              <a:ahLst/>
              <a:rect l="l" t="t" r="r" b="b"/>
              <a:pathLst>
                <a:path w="92" h="26">
                  <a:moveTo>
                    <a:pt x="53" y="0"/>
                  </a:moveTo>
                  <a:lnTo>
                    <a:pt x="0" y="13"/>
                  </a:lnTo>
                  <a:lnTo>
                    <a:pt x="39" y="26"/>
                  </a:lnTo>
                  <a:lnTo>
                    <a:pt x="92" y="1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667280" y="4818600"/>
              <a:ext cx="100800" cy="29160"/>
            </a:xfrm>
            <a:custGeom>
              <a:avLst/>
              <a:gdLst/>
              <a:ahLst/>
              <a:rect l="l" t="t" r="r" b="b"/>
              <a:pathLst>
                <a:path w="79" h="22">
                  <a:moveTo>
                    <a:pt x="39" y="0"/>
                  </a:moveTo>
                  <a:lnTo>
                    <a:pt x="0" y="13"/>
                  </a:lnTo>
                  <a:lnTo>
                    <a:pt x="39" y="22"/>
                  </a:lnTo>
                  <a:lnTo>
                    <a:pt x="79" y="1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616520" y="4836240"/>
              <a:ext cx="100800" cy="2952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39" y="0"/>
                  </a:moveTo>
                  <a:lnTo>
                    <a:pt x="0" y="9"/>
                  </a:lnTo>
                  <a:lnTo>
                    <a:pt x="39" y="22"/>
                  </a:lnTo>
                  <a:lnTo>
                    <a:pt x="78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561080" y="4847760"/>
              <a:ext cx="105840" cy="2304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44" y="0"/>
                  </a:moveTo>
                  <a:lnTo>
                    <a:pt x="0" y="4"/>
                  </a:lnTo>
                  <a:lnTo>
                    <a:pt x="44" y="17"/>
                  </a:lnTo>
                  <a:lnTo>
                    <a:pt x="83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508880" y="4824720"/>
              <a:ext cx="107280" cy="46080"/>
            </a:xfrm>
            <a:custGeom>
              <a:avLst/>
              <a:gdLst/>
              <a:ahLst/>
              <a:rect l="l" t="t" r="r" b="b"/>
              <a:pathLst>
                <a:path w="84" h="35">
                  <a:moveTo>
                    <a:pt x="40" y="22"/>
                  </a:moveTo>
                  <a:lnTo>
                    <a:pt x="0" y="27"/>
                  </a:lnTo>
                  <a:lnTo>
                    <a:pt x="40" y="0"/>
                  </a:lnTo>
                  <a:lnTo>
                    <a:pt x="84" y="35"/>
                  </a:lnTo>
                  <a:lnTo>
                    <a:pt x="40" y="22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453440" y="4802040"/>
              <a:ext cx="107280" cy="68400"/>
            </a:xfrm>
            <a:custGeom>
              <a:avLst/>
              <a:gdLst/>
              <a:ahLst/>
              <a:rect l="l" t="t" r="r" b="b"/>
              <a:pathLst>
                <a:path w="83" h="52">
                  <a:moveTo>
                    <a:pt x="43" y="44"/>
                  </a:moveTo>
                  <a:lnTo>
                    <a:pt x="0" y="0"/>
                  </a:lnTo>
                  <a:lnTo>
                    <a:pt x="43" y="52"/>
                  </a:lnTo>
                  <a:lnTo>
                    <a:pt x="83" y="17"/>
                  </a:lnTo>
                  <a:lnTo>
                    <a:pt x="43" y="44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398000" y="4802040"/>
              <a:ext cx="110880" cy="102600"/>
            </a:xfrm>
            <a:custGeom>
              <a:avLst/>
              <a:gdLst/>
              <a:ahLst/>
              <a:rect l="l" t="t" r="r" b="b"/>
              <a:pathLst>
                <a:path w="87" h="79">
                  <a:moveTo>
                    <a:pt x="44" y="0"/>
                  </a:moveTo>
                  <a:lnTo>
                    <a:pt x="0" y="74"/>
                  </a:lnTo>
                  <a:lnTo>
                    <a:pt x="44" y="79"/>
                  </a:lnTo>
                  <a:lnTo>
                    <a:pt x="87" y="5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342200" y="4870800"/>
              <a:ext cx="110880" cy="33840"/>
            </a:xfrm>
            <a:custGeom>
              <a:avLst/>
              <a:gdLst/>
              <a:ahLst/>
              <a:rect l="l" t="t" r="r" b="b"/>
              <a:pathLst>
                <a:path w="88" h="27">
                  <a:moveTo>
                    <a:pt x="44" y="22"/>
                  </a:moveTo>
                  <a:lnTo>
                    <a:pt x="0" y="0"/>
                  </a:lnTo>
                  <a:lnTo>
                    <a:pt x="44" y="27"/>
                  </a:lnTo>
                  <a:lnTo>
                    <a:pt x="88" y="27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284600" y="4870800"/>
              <a:ext cx="113040" cy="68400"/>
            </a:xfrm>
            <a:custGeom>
              <a:avLst/>
              <a:gdLst/>
              <a:ahLst/>
              <a:rect l="l" t="t" r="r" b="b"/>
              <a:pathLst>
                <a:path w="88" h="53">
                  <a:moveTo>
                    <a:pt x="44" y="0"/>
                  </a:moveTo>
                  <a:lnTo>
                    <a:pt x="0" y="40"/>
                  </a:lnTo>
                  <a:lnTo>
                    <a:pt x="44" y="53"/>
                  </a:lnTo>
                  <a:lnTo>
                    <a:pt x="88" y="2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229160" y="4923360"/>
              <a:ext cx="113040" cy="3384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44" y="0"/>
                  </a:moveTo>
                  <a:lnTo>
                    <a:pt x="0" y="0"/>
                  </a:lnTo>
                  <a:lnTo>
                    <a:pt x="40" y="26"/>
                  </a:lnTo>
                  <a:lnTo>
                    <a:pt x="88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173360" y="4866120"/>
              <a:ext cx="105840" cy="910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43" y="44"/>
                  </a:moveTo>
                  <a:lnTo>
                    <a:pt x="0" y="0"/>
                  </a:lnTo>
                  <a:lnTo>
                    <a:pt x="39" y="66"/>
                  </a:lnTo>
                  <a:lnTo>
                    <a:pt x="83" y="70"/>
                  </a:lnTo>
                  <a:lnTo>
                    <a:pt x="43" y="44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112520" y="4866120"/>
              <a:ext cx="111240" cy="120960"/>
            </a:xfrm>
            <a:custGeom>
              <a:avLst/>
              <a:gdLst/>
              <a:ahLst/>
              <a:rect l="l" t="t" r="r" b="b"/>
              <a:pathLst>
                <a:path w="87" h="92">
                  <a:moveTo>
                    <a:pt x="48" y="0"/>
                  </a:moveTo>
                  <a:lnTo>
                    <a:pt x="0" y="66"/>
                  </a:lnTo>
                  <a:lnTo>
                    <a:pt x="39" y="92"/>
                  </a:lnTo>
                  <a:lnTo>
                    <a:pt x="87" y="6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050240" y="4952520"/>
              <a:ext cx="110880" cy="554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49" y="0"/>
                  </a:moveTo>
                  <a:lnTo>
                    <a:pt x="0" y="30"/>
                  </a:lnTo>
                  <a:lnTo>
                    <a:pt x="40" y="43"/>
                  </a:lnTo>
                  <a:lnTo>
                    <a:pt x="88" y="26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987600" y="4992120"/>
              <a:ext cx="113040" cy="3456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48" y="0"/>
                  </a:moveTo>
                  <a:lnTo>
                    <a:pt x="0" y="13"/>
                  </a:lnTo>
                  <a:lnTo>
                    <a:pt x="40" y="26"/>
                  </a:lnTo>
                  <a:lnTo>
                    <a:pt x="88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926760" y="5008320"/>
              <a:ext cx="112680" cy="36000"/>
            </a:xfrm>
            <a:custGeom>
              <a:avLst/>
              <a:gdLst/>
              <a:ahLst/>
              <a:rect l="l" t="t" r="r" b="b"/>
              <a:pathLst>
                <a:path w="88" h="27">
                  <a:moveTo>
                    <a:pt x="48" y="0"/>
                  </a:moveTo>
                  <a:lnTo>
                    <a:pt x="0" y="9"/>
                  </a:lnTo>
                  <a:lnTo>
                    <a:pt x="40" y="27"/>
                  </a:lnTo>
                  <a:lnTo>
                    <a:pt x="88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865560" y="5019840"/>
              <a:ext cx="111240" cy="40680"/>
            </a:xfrm>
            <a:custGeom>
              <a:avLst/>
              <a:gdLst/>
              <a:ahLst/>
              <a:rect l="l" t="t" r="r" b="b"/>
              <a:pathLst>
                <a:path w="88" h="31">
                  <a:moveTo>
                    <a:pt x="48" y="0"/>
                  </a:moveTo>
                  <a:lnTo>
                    <a:pt x="0" y="13"/>
                  </a:lnTo>
                  <a:lnTo>
                    <a:pt x="39" y="31"/>
                  </a:lnTo>
                  <a:lnTo>
                    <a:pt x="88" y="1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796080" y="5038200"/>
              <a:ext cx="118080" cy="33840"/>
            </a:xfrm>
            <a:custGeom>
              <a:avLst/>
              <a:gdLst/>
              <a:ahLst/>
              <a:rect l="l" t="t" r="r" b="b"/>
              <a:pathLst>
                <a:path w="92" h="26">
                  <a:moveTo>
                    <a:pt x="53" y="0"/>
                  </a:moveTo>
                  <a:lnTo>
                    <a:pt x="0" y="13"/>
                  </a:lnTo>
                  <a:lnTo>
                    <a:pt x="40" y="26"/>
                  </a:lnTo>
                  <a:lnTo>
                    <a:pt x="92" y="18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717680" y="4836240"/>
              <a:ext cx="105840" cy="29520"/>
            </a:xfrm>
            <a:custGeom>
              <a:avLst/>
              <a:gdLst/>
              <a:ahLst/>
              <a:rect l="l" t="t" r="r" b="b"/>
              <a:pathLst>
                <a:path w="84" h="22">
                  <a:moveTo>
                    <a:pt x="40" y="0"/>
                  </a:moveTo>
                  <a:lnTo>
                    <a:pt x="0" y="9"/>
                  </a:lnTo>
                  <a:lnTo>
                    <a:pt x="44" y="22"/>
                  </a:lnTo>
                  <a:lnTo>
                    <a:pt x="84" y="1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67280" y="4847760"/>
              <a:ext cx="105840" cy="2916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39" y="0"/>
                  </a:moveTo>
                  <a:lnTo>
                    <a:pt x="0" y="13"/>
                  </a:lnTo>
                  <a:lnTo>
                    <a:pt x="44" y="22"/>
                  </a:lnTo>
                  <a:lnTo>
                    <a:pt x="83" y="1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16520" y="4866120"/>
              <a:ext cx="105840" cy="2772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39" y="0"/>
                  </a:moveTo>
                  <a:lnTo>
                    <a:pt x="0" y="4"/>
                  </a:lnTo>
                  <a:lnTo>
                    <a:pt x="39" y="22"/>
                  </a:lnTo>
                  <a:lnTo>
                    <a:pt x="83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561080" y="4824720"/>
              <a:ext cx="105840" cy="79920"/>
            </a:xfrm>
            <a:custGeom>
              <a:avLst/>
              <a:gdLst/>
              <a:ahLst/>
              <a:rect l="l" t="t" r="r" b="b"/>
              <a:pathLst>
                <a:path w="83" h="62">
                  <a:moveTo>
                    <a:pt x="44" y="35"/>
                  </a:moveTo>
                  <a:lnTo>
                    <a:pt x="0" y="0"/>
                  </a:lnTo>
                  <a:lnTo>
                    <a:pt x="44" y="62"/>
                  </a:lnTo>
                  <a:lnTo>
                    <a:pt x="83" y="53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508880" y="4824720"/>
              <a:ext cx="107280" cy="9828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40" y="0"/>
                  </a:moveTo>
                  <a:lnTo>
                    <a:pt x="0" y="35"/>
                  </a:lnTo>
                  <a:lnTo>
                    <a:pt x="40" y="75"/>
                  </a:lnTo>
                  <a:lnTo>
                    <a:pt x="84" y="6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453440" y="4870800"/>
              <a:ext cx="107280" cy="6192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43" y="0"/>
                  </a:moveTo>
                  <a:lnTo>
                    <a:pt x="0" y="27"/>
                  </a:lnTo>
                  <a:lnTo>
                    <a:pt x="39" y="48"/>
                  </a:lnTo>
                  <a:lnTo>
                    <a:pt x="83" y="4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398000" y="4905000"/>
              <a:ext cx="105840" cy="475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44" y="0"/>
                  </a:moveTo>
                  <a:lnTo>
                    <a:pt x="0" y="0"/>
                  </a:lnTo>
                  <a:lnTo>
                    <a:pt x="39" y="35"/>
                  </a:lnTo>
                  <a:lnTo>
                    <a:pt x="83" y="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342200" y="4905000"/>
              <a:ext cx="105840" cy="6372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44" y="0"/>
                  </a:moveTo>
                  <a:lnTo>
                    <a:pt x="0" y="26"/>
                  </a:lnTo>
                  <a:lnTo>
                    <a:pt x="39" y="48"/>
                  </a:lnTo>
                  <a:lnTo>
                    <a:pt x="83" y="3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279560" y="4939560"/>
              <a:ext cx="110880" cy="3924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48" y="0"/>
                  </a:moveTo>
                  <a:lnTo>
                    <a:pt x="0" y="13"/>
                  </a:lnTo>
                  <a:lnTo>
                    <a:pt x="44" y="30"/>
                  </a:lnTo>
                  <a:lnTo>
                    <a:pt x="87" y="2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224120" y="4952520"/>
              <a:ext cx="112680" cy="3456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44" y="4"/>
                  </a:moveTo>
                  <a:lnTo>
                    <a:pt x="0" y="0"/>
                  </a:lnTo>
                  <a:lnTo>
                    <a:pt x="40" y="26"/>
                  </a:lnTo>
                  <a:lnTo>
                    <a:pt x="88" y="21"/>
                  </a:lnTo>
                  <a:lnTo>
                    <a:pt x="44" y="4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161480" y="4952520"/>
              <a:ext cx="113040" cy="554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48" y="0"/>
                  </a:moveTo>
                  <a:lnTo>
                    <a:pt x="0" y="26"/>
                  </a:lnTo>
                  <a:lnTo>
                    <a:pt x="44" y="43"/>
                  </a:lnTo>
                  <a:lnTo>
                    <a:pt x="88" y="2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100640" y="4987080"/>
              <a:ext cx="117720" cy="39240"/>
            </a:xfrm>
            <a:custGeom>
              <a:avLst/>
              <a:gdLst/>
              <a:ahLst/>
              <a:rect l="l" t="t" r="r" b="b"/>
              <a:pathLst>
                <a:path w="92" h="30">
                  <a:moveTo>
                    <a:pt x="48" y="0"/>
                  </a:moveTo>
                  <a:lnTo>
                    <a:pt x="0" y="17"/>
                  </a:lnTo>
                  <a:lnTo>
                    <a:pt x="44" y="30"/>
                  </a:lnTo>
                  <a:lnTo>
                    <a:pt x="92" y="1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039440" y="5008320"/>
              <a:ext cx="118080" cy="36000"/>
            </a:xfrm>
            <a:custGeom>
              <a:avLst/>
              <a:gdLst/>
              <a:ahLst/>
              <a:rect l="l" t="t" r="r" b="b"/>
              <a:pathLst>
                <a:path w="92" h="27">
                  <a:moveTo>
                    <a:pt x="48" y="0"/>
                  </a:moveTo>
                  <a:lnTo>
                    <a:pt x="0" y="13"/>
                  </a:lnTo>
                  <a:lnTo>
                    <a:pt x="43" y="27"/>
                  </a:lnTo>
                  <a:lnTo>
                    <a:pt x="92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7160" y="5026680"/>
              <a:ext cx="116280" cy="33840"/>
            </a:xfrm>
            <a:custGeom>
              <a:avLst/>
              <a:gdLst/>
              <a:ahLst/>
              <a:rect l="l" t="t" r="r" b="b"/>
              <a:pathLst>
                <a:path w="91" h="27">
                  <a:moveTo>
                    <a:pt x="48" y="0"/>
                  </a:moveTo>
                  <a:lnTo>
                    <a:pt x="0" y="14"/>
                  </a:lnTo>
                  <a:lnTo>
                    <a:pt x="43" y="27"/>
                  </a:lnTo>
                  <a:lnTo>
                    <a:pt x="91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14520" y="5044320"/>
              <a:ext cx="118080" cy="34560"/>
            </a:xfrm>
            <a:custGeom>
              <a:avLst/>
              <a:gdLst/>
              <a:ahLst/>
              <a:rect l="l" t="t" r="r" b="b"/>
              <a:pathLst>
                <a:path w="92" h="26">
                  <a:moveTo>
                    <a:pt x="49" y="0"/>
                  </a:moveTo>
                  <a:lnTo>
                    <a:pt x="0" y="13"/>
                  </a:lnTo>
                  <a:lnTo>
                    <a:pt x="40" y="26"/>
                  </a:lnTo>
                  <a:lnTo>
                    <a:pt x="92" y="1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848280" y="5060880"/>
              <a:ext cx="118080" cy="34560"/>
            </a:xfrm>
            <a:custGeom>
              <a:avLst/>
              <a:gdLst/>
              <a:ahLst/>
              <a:rect l="l" t="t" r="r" b="b"/>
              <a:pathLst>
                <a:path w="92" h="26">
                  <a:moveTo>
                    <a:pt x="52" y="0"/>
                  </a:moveTo>
                  <a:lnTo>
                    <a:pt x="0" y="8"/>
                  </a:lnTo>
                  <a:lnTo>
                    <a:pt x="44" y="26"/>
                  </a:lnTo>
                  <a:lnTo>
                    <a:pt x="92" y="1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773120" y="4852800"/>
              <a:ext cx="105840" cy="2952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40" y="0"/>
                  </a:moveTo>
                  <a:lnTo>
                    <a:pt x="0" y="9"/>
                  </a:lnTo>
                  <a:lnTo>
                    <a:pt x="44" y="22"/>
                  </a:lnTo>
                  <a:lnTo>
                    <a:pt x="83" y="1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722720" y="4866120"/>
              <a:ext cx="105840" cy="2772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39" y="0"/>
                  </a:moveTo>
                  <a:lnTo>
                    <a:pt x="0" y="9"/>
                  </a:lnTo>
                  <a:lnTo>
                    <a:pt x="43" y="22"/>
                  </a:lnTo>
                  <a:lnTo>
                    <a:pt x="83" y="1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667280" y="4877280"/>
              <a:ext cx="110880" cy="3456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44" y="0"/>
                  </a:moveTo>
                  <a:lnTo>
                    <a:pt x="0" y="13"/>
                  </a:lnTo>
                  <a:lnTo>
                    <a:pt x="44" y="26"/>
                  </a:lnTo>
                  <a:lnTo>
                    <a:pt x="87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616520" y="4893840"/>
              <a:ext cx="105840" cy="2916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39" y="0"/>
                  </a:moveTo>
                  <a:lnTo>
                    <a:pt x="0" y="9"/>
                  </a:lnTo>
                  <a:lnTo>
                    <a:pt x="43" y="22"/>
                  </a:lnTo>
                  <a:lnTo>
                    <a:pt x="83" y="1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561080" y="4905000"/>
              <a:ext cx="110880" cy="3456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44" y="0"/>
                  </a:moveTo>
                  <a:lnTo>
                    <a:pt x="0" y="13"/>
                  </a:lnTo>
                  <a:lnTo>
                    <a:pt x="44" y="26"/>
                  </a:lnTo>
                  <a:lnTo>
                    <a:pt x="87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503840" y="4923360"/>
              <a:ext cx="112680" cy="2916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44" y="0"/>
                  </a:moveTo>
                  <a:lnTo>
                    <a:pt x="0" y="8"/>
                  </a:lnTo>
                  <a:lnTo>
                    <a:pt x="44" y="22"/>
                  </a:lnTo>
                  <a:lnTo>
                    <a:pt x="88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448400" y="4933080"/>
              <a:ext cx="112680" cy="36000"/>
            </a:xfrm>
            <a:custGeom>
              <a:avLst/>
              <a:gdLst/>
              <a:ahLst/>
              <a:rect l="l" t="t" r="r" b="b"/>
              <a:pathLst>
                <a:path w="88" h="27">
                  <a:moveTo>
                    <a:pt x="44" y="0"/>
                  </a:moveTo>
                  <a:lnTo>
                    <a:pt x="0" y="14"/>
                  </a:lnTo>
                  <a:lnTo>
                    <a:pt x="44" y="27"/>
                  </a:lnTo>
                  <a:lnTo>
                    <a:pt x="88" y="1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390800" y="4952520"/>
              <a:ext cx="113040" cy="3456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44" y="0"/>
                  </a:moveTo>
                  <a:lnTo>
                    <a:pt x="0" y="13"/>
                  </a:lnTo>
                  <a:lnTo>
                    <a:pt x="44" y="26"/>
                  </a:lnTo>
                  <a:lnTo>
                    <a:pt x="88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336800" y="4969080"/>
              <a:ext cx="111240" cy="295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43" y="0"/>
                  </a:moveTo>
                  <a:lnTo>
                    <a:pt x="0" y="8"/>
                  </a:lnTo>
                  <a:lnTo>
                    <a:pt x="43" y="22"/>
                  </a:lnTo>
                  <a:lnTo>
                    <a:pt x="87" y="1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274520" y="4979160"/>
              <a:ext cx="116280" cy="36000"/>
            </a:xfrm>
            <a:custGeom>
              <a:avLst/>
              <a:gdLst/>
              <a:ahLst/>
              <a:rect l="l" t="t" r="r" b="b"/>
              <a:pathLst>
                <a:path w="91" h="27">
                  <a:moveTo>
                    <a:pt x="48" y="0"/>
                  </a:moveTo>
                  <a:lnTo>
                    <a:pt x="0" y="5"/>
                  </a:lnTo>
                  <a:lnTo>
                    <a:pt x="43" y="27"/>
                  </a:lnTo>
                  <a:lnTo>
                    <a:pt x="91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218360" y="4987080"/>
              <a:ext cx="111240" cy="4536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44" y="0"/>
                  </a:moveTo>
                  <a:lnTo>
                    <a:pt x="0" y="17"/>
                  </a:lnTo>
                  <a:lnTo>
                    <a:pt x="39" y="35"/>
                  </a:lnTo>
                  <a:lnTo>
                    <a:pt x="87" y="2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157880" y="5008320"/>
              <a:ext cx="110880" cy="4068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48" y="0"/>
                  </a:moveTo>
                  <a:lnTo>
                    <a:pt x="0" y="13"/>
                  </a:lnTo>
                  <a:lnTo>
                    <a:pt x="39" y="31"/>
                  </a:lnTo>
                  <a:lnTo>
                    <a:pt x="87" y="1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093440" y="5026680"/>
              <a:ext cx="113040" cy="40680"/>
            </a:xfrm>
            <a:custGeom>
              <a:avLst/>
              <a:gdLst/>
              <a:ahLst/>
              <a:rect l="l" t="t" r="r" b="b"/>
              <a:pathLst>
                <a:path w="88" h="31">
                  <a:moveTo>
                    <a:pt x="49" y="0"/>
                  </a:moveTo>
                  <a:lnTo>
                    <a:pt x="0" y="14"/>
                  </a:lnTo>
                  <a:lnTo>
                    <a:pt x="40" y="31"/>
                  </a:lnTo>
                  <a:lnTo>
                    <a:pt x="88" y="1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032960" y="5044320"/>
              <a:ext cx="112680" cy="39240"/>
            </a:xfrm>
            <a:custGeom>
              <a:avLst/>
              <a:gdLst/>
              <a:ahLst/>
              <a:rect l="l" t="t" r="r" b="b"/>
              <a:pathLst>
                <a:path w="88" h="30">
                  <a:moveTo>
                    <a:pt x="48" y="0"/>
                  </a:moveTo>
                  <a:lnTo>
                    <a:pt x="0" y="13"/>
                  </a:lnTo>
                  <a:lnTo>
                    <a:pt x="40" y="30"/>
                  </a:lnTo>
                  <a:lnTo>
                    <a:pt x="88" y="1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66720" y="5060880"/>
              <a:ext cx="118080" cy="39240"/>
            </a:xfrm>
            <a:custGeom>
              <a:avLst/>
              <a:gdLst/>
              <a:ahLst/>
              <a:rect l="l" t="t" r="r" b="b"/>
              <a:pathLst>
                <a:path w="92" h="30">
                  <a:moveTo>
                    <a:pt x="52" y="0"/>
                  </a:moveTo>
                  <a:lnTo>
                    <a:pt x="0" y="13"/>
                  </a:lnTo>
                  <a:lnTo>
                    <a:pt x="44" y="30"/>
                  </a:lnTo>
                  <a:lnTo>
                    <a:pt x="92" y="1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03720" y="5078880"/>
              <a:ext cx="118080" cy="39240"/>
            </a:xfrm>
            <a:custGeom>
              <a:avLst/>
              <a:gdLst/>
              <a:ahLst/>
              <a:rect l="l" t="t" r="r" b="b"/>
              <a:pathLst>
                <a:path w="92" h="30">
                  <a:moveTo>
                    <a:pt x="48" y="0"/>
                  </a:moveTo>
                  <a:lnTo>
                    <a:pt x="0" y="13"/>
                  </a:lnTo>
                  <a:lnTo>
                    <a:pt x="39" y="30"/>
                  </a:lnTo>
                  <a:lnTo>
                    <a:pt x="92" y="1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7901640" y="3561120"/>
              <a:ext cx="34920" cy="129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901640" y="4859280"/>
              <a:ext cx="2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907400" y="46105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919640" y="4352760"/>
              <a:ext cx="20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924680" y="409248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931160" y="3828600"/>
              <a:ext cx="20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936920" y="356148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941240" y="4794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948080" y="4547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958880" y="4289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965360" y="4030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970400" y="3763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976160" y="3497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198280" y="4156200"/>
              <a:ext cx="36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Kg/d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403320" y="3199320"/>
              <a:ext cx="1363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misiones con Estánd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468040" y="4069440"/>
              <a:ext cx="533520" cy="706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97560" y="4115520"/>
              <a:ext cx="43200" cy="4536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72080" y="409104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00-2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497560" y="4243320"/>
              <a:ext cx="43200" cy="4536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572080" y="421884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50-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497560" y="4369320"/>
              <a:ext cx="43200" cy="460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572080" y="434664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0-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497560" y="4495680"/>
              <a:ext cx="43200" cy="4536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572440" y="4472640"/>
              <a:ext cx="31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50-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497560" y="4623480"/>
              <a:ext cx="43200" cy="4536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571360" y="4600440"/>
              <a:ext cx="20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0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334120" y="3124080"/>
              <a:ext cx="3504600" cy="2438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38" name=""/>
          <p:cNvGraphicFramePr/>
          <p:nvPr/>
        </p:nvGraphicFramePr>
        <p:xfrm>
          <a:off x="1219320" y="3124080"/>
          <a:ext cx="3733560" cy="254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124080"/>
                    <a:ext cx="373356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1447920" y="1523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Las emisiones permiten estimar las concentraciones en cada una de las celdas de la grill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1" name=""/>
          <p:cNvGraphicFramePr/>
          <p:nvPr/>
        </p:nvGraphicFramePr>
        <p:xfrm>
          <a:off x="1295280" y="2362320"/>
          <a:ext cx="381024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381024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3" name=""/>
          <p:cNvGrpSpPr/>
          <p:nvPr/>
        </p:nvGrpSpPr>
        <p:grpSpPr>
          <a:xfrm>
            <a:off x="5486400" y="2438280"/>
            <a:ext cx="3352680" cy="2514600"/>
            <a:chOff x="5486400" y="2438280"/>
            <a:chExt cx="3352680" cy="2514600"/>
          </a:xfrm>
        </p:grpSpPr>
        <p:grpSp>
          <p:nvGrpSpPr>
            <p:cNvPr id="1444" name=""/>
            <p:cNvGrpSpPr/>
            <p:nvPr/>
          </p:nvGrpSpPr>
          <p:grpSpPr>
            <a:xfrm>
              <a:off x="5486400" y="2438280"/>
              <a:ext cx="3352680" cy="2514600"/>
              <a:chOff x="5486400" y="2438280"/>
              <a:chExt cx="3352680" cy="2514600"/>
            </a:xfrm>
          </p:grpSpPr>
          <p:sp>
            <p:nvSpPr>
              <p:cNvPr id="1445" name=""/>
              <p:cNvSpPr/>
              <p:nvPr/>
            </p:nvSpPr>
            <p:spPr>
              <a:xfrm>
                <a:off x="5486400" y="2438280"/>
                <a:ext cx="335268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365160" y="3996360"/>
                <a:ext cx="1641960" cy="504360"/>
              </a:xfrm>
              <a:custGeom>
                <a:avLst/>
                <a:gdLst/>
                <a:ahLst/>
                <a:rect l="l" t="t" r="r" b="b"/>
                <a:pathLst>
                  <a:path w="1386" h="384">
                    <a:moveTo>
                      <a:pt x="761" y="0"/>
                    </a:moveTo>
                    <a:lnTo>
                      <a:pt x="1386" y="176"/>
                    </a:lnTo>
                    <a:lnTo>
                      <a:pt x="594" y="384"/>
                    </a:lnTo>
                    <a:lnTo>
                      <a:pt x="0" y="158"/>
                    </a:lnTo>
                    <a:lnTo>
                      <a:pt x="761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266960" y="2824560"/>
                <a:ext cx="772200" cy="1402920"/>
              </a:xfrm>
              <a:custGeom>
                <a:avLst/>
                <a:gdLst/>
                <a:ahLst/>
                <a:rect l="l" t="t" r="r" b="b"/>
                <a:pathLst>
                  <a:path w="652" h="1068">
                    <a:moveTo>
                      <a:pt x="625" y="1068"/>
                    </a:moveTo>
                    <a:lnTo>
                      <a:pt x="652" y="50"/>
                    </a:lnTo>
                    <a:lnTo>
                      <a:pt x="0" y="0"/>
                    </a:lnTo>
                    <a:lnTo>
                      <a:pt x="0" y="892"/>
                    </a:lnTo>
                    <a:lnTo>
                      <a:pt x="625" y="106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339240" y="2824560"/>
                <a:ext cx="927360" cy="1379160"/>
              </a:xfrm>
              <a:custGeom>
                <a:avLst/>
                <a:gdLst/>
                <a:ahLst/>
                <a:rect l="l" t="t" r="r" b="b"/>
                <a:pathLst>
                  <a:path w="783" h="1050">
                    <a:moveTo>
                      <a:pt x="783" y="892"/>
                    </a:moveTo>
                    <a:lnTo>
                      <a:pt x="783" y="0"/>
                    </a:lnTo>
                    <a:lnTo>
                      <a:pt x="0" y="41"/>
                    </a:lnTo>
                    <a:lnTo>
                      <a:pt x="22" y="1050"/>
                    </a:lnTo>
                    <a:lnTo>
                      <a:pt x="783" y="8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365160" y="3996360"/>
                <a:ext cx="1641960" cy="231120"/>
              </a:xfrm>
              <a:custGeom>
                <a:avLst/>
                <a:gdLst/>
                <a:ahLst/>
                <a:rect l="l" t="t" r="r" b="b"/>
                <a:pathLst>
                  <a:path w="306" h="39">
                    <a:moveTo>
                      <a:pt x="0" y="35"/>
                    </a:moveTo>
                    <a:lnTo>
                      <a:pt x="168" y="0"/>
                    </a:lnTo>
                    <a:lnTo>
                      <a:pt x="306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360480" y="3834720"/>
                <a:ext cx="1652400" cy="208800"/>
              </a:xfrm>
              <a:custGeom>
                <a:avLst/>
                <a:gdLst/>
                <a:ahLst/>
                <a:rect l="l" t="t" r="r" b="b"/>
                <a:pathLst>
                  <a:path w="308" h="35">
                    <a:moveTo>
                      <a:pt x="0" y="31"/>
                    </a:moveTo>
                    <a:lnTo>
                      <a:pt x="169" y="0"/>
                    </a:lnTo>
                    <a:lnTo>
                      <a:pt x="308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360480" y="3669120"/>
                <a:ext cx="1657440" cy="190080"/>
              </a:xfrm>
              <a:custGeom>
                <a:avLst/>
                <a:gdLst/>
                <a:ahLst/>
                <a:rect l="l" t="t" r="r" b="b"/>
                <a:pathLst>
                  <a:path w="309" h="32">
                    <a:moveTo>
                      <a:pt x="0" y="28"/>
                    </a:moveTo>
                    <a:lnTo>
                      <a:pt x="169" y="0"/>
                    </a:lnTo>
                    <a:lnTo>
                      <a:pt x="309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354360" y="3502440"/>
                <a:ext cx="1669320" cy="166680"/>
              </a:xfrm>
              <a:custGeom>
                <a:avLst/>
                <a:gdLst/>
                <a:ahLst/>
                <a:rect l="l" t="t" r="r" b="b"/>
                <a:pathLst>
                  <a:path w="311" h="28">
                    <a:moveTo>
                      <a:pt x="0" y="24"/>
                    </a:moveTo>
                    <a:lnTo>
                      <a:pt x="170" y="0"/>
                    </a:lnTo>
                    <a:lnTo>
                      <a:pt x="311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350040" y="3335400"/>
                <a:ext cx="1678320" cy="136440"/>
              </a:xfrm>
              <a:custGeom>
                <a:avLst/>
                <a:gdLst/>
                <a:ahLst/>
                <a:rect l="l" t="t" r="r" b="b"/>
                <a:pathLst>
                  <a:path w="313" h="23">
                    <a:moveTo>
                      <a:pt x="0" y="21"/>
                    </a:moveTo>
                    <a:lnTo>
                      <a:pt x="171" y="0"/>
                    </a:lnTo>
                    <a:lnTo>
                      <a:pt x="313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343920" y="3168720"/>
                <a:ext cx="1684440" cy="112680"/>
              </a:xfrm>
              <a:custGeom>
                <a:avLst/>
                <a:gdLst/>
                <a:ahLst/>
                <a:rect l="l" t="t" r="r" b="b"/>
                <a:pathLst>
                  <a:path w="314" h="19">
                    <a:moveTo>
                      <a:pt x="0" y="16"/>
                    </a:moveTo>
                    <a:lnTo>
                      <a:pt x="172" y="0"/>
                    </a:lnTo>
                    <a:lnTo>
                      <a:pt x="314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339240" y="2996280"/>
                <a:ext cx="1694880" cy="89280"/>
              </a:xfrm>
              <a:custGeom>
                <a:avLst/>
                <a:gdLst/>
                <a:ahLst/>
                <a:rect l="l" t="t" r="r" b="b"/>
                <a:pathLst>
                  <a:path w="316" h="15">
                    <a:moveTo>
                      <a:pt x="0" y="13"/>
                    </a:moveTo>
                    <a:lnTo>
                      <a:pt x="173" y="0"/>
                    </a:lnTo>
                    <a:lnTo>
                      <a:pt x="316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6339240" y="2824560"/>
                <a:ext cx="1699920" cy="65520"/>
              </a:xfrm>
              <a:custGeom>
                <a:avLst/>
                <a:gdLst/>
                <a:ahLst/>
                <a:rect l="l" t="t" r="r" b="b"/>
                <a:pathLst>
                  <a:path w="317" h="11">
                    <a:moveTo>
                      <a:pt x="0" y="9"/>
                    </a:moveTo>
                    <a:lnTo>
                      <a:pt x="173" y="0"/>
                    </a:lnTo>
                    <a:lnTo>
                      <a:pt x="317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365160" y="3996360"/>
                <a:ext cx="1641960" cy="504360"/>
              </a:xfrm>
              <a:custGeom>
                <a:avLst/>
                <a:gdLst/>
                <a:ahLst/>
                <a:rect l="l" t="t" r="r" b="b"/>
                <a:pathLst>
                  <a:path w="1386" h="384">
                    <a:moveTo>
                      <a:pt x="594" y="384"/>
                    </a:moveTo>
                    <a:lnTo>
                      <a:pt x="0" y="158"/>
                    </a:lnTo>
                    <a:lnTo>
                      <a:pt x="761" y="0"/>
                    </a:lnTo>
                    <a:lnTo>
                      <a:pt x="1386" y="176"/>
                    </a:lnTo>
                    <a:lnTo>
                      <a:pt x="594" y="38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266960" y="2824560"/>
                <a:ext cx="772200" cy="1402920"/>
              </a:xfrm>
              <a:custGeom>
                <a:avLst/>
                <a:gdLst/>
                <a:ahLst/>
                <a:rect l="l" t="t" r="r" b="b"/>
                <a:pathLst>
                  <a:path w="652" h="1068">
                    <a:moveTo>
                      <a:pt x="625" y="1068"/>
                    </a:moveTo>
                    <a:lnTo>
                      <a:pt x="652" y="50"/>
                    </a:lnTo>
                    <a:lnTo>
                      <a:pt x="0" y="0"/>
                    </a:lnTo>
                    <a:lnTo>
                      <a:pt x="0" y="892"/>
                    </a:lnTo>
                    <a:lnTo>
                      <a:pt x="625" y="1068"/>
                    </a:lnTo>
                    <a:close/>
                  </a:path>
                </a:pathLst>
              </a:custGeom>
              <a:noFill/>
              <a:ln w="79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339240" y="2824560"/>
                <a:ext cx="927360" cy="1379160"/>
              </a:xfrm>
              <a:custGeom>
                <a:avLst/>
                <a:gdLst/>
                <a:ahLst/>
                <a:rect l="l" t="t" r="r" b="b"/>
                <a:pathLst>
                  <a:path w="783" h="1050">
                    <a:moveTo>
                      <a:pt x="783" y="892"/>
                    </a:moveTo>
                    <a:lnTo>
                      <a:pt x="783" y="0"/>
                    </a:lnTo>
                    <a:lnTo>
                      <a:pt x="0" y="41"/>
                    </a:lnTo>
                    <a:lnTo>
                      <a:pt x="22" y="1050"/>
                    </a:lnTo>
                    <a:lnTo>
                      <a:pt x="783" y="892"/>
                    </a:lnTo>
                    <a:close/>
                  </a:path>
                </a:pathLst>
              </a:custGeom>
              <a:noFill/>
              <a:ln w="79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7068960" y="4227480"/>
                <a:ext cx="93816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068960" y="450072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133040" y="448380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192080" y="446544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256160" y="444816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315560" y="4429800"/>
                <a:ext cx="72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374600" y="4411440"/>
                <a:ext cx="1080" cy="24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432560" y="4399920"/>
                <a:ext cx="1080" cy="24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487280" y="438264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546680" y="436428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599600" y="4347000"/>
                <a:ext cx="72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652880" y="433548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706520" y="431712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760880" y="4304880"/>
                <a:ext cx="72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808040" y="4286880"/>
                <a:ext cx="1080" cy="24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862760" y="427500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909920" y="425808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958520" y="424620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8007120" y="4227480"/>
                <a:ext cx="72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084080" y="45507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201080" y="45126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318800" y="44773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438680" y="444312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565760" y="4411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658640" y="4375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765920" y="43459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867440" y="431424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964640" y="429444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365160" y="4204080"/>
                <a:ext cx="703440" cy="296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365160" y="420408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402960" y="421560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441120" y="423396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483600" y="425124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521760" y="426960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564240" y="4286880"/>
                <a:ext cx="720" cy="24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607080" y="4304880"/>
                <a:ext cx="72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644880" y="432360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693480" y="4340520"/>
                <a:ext cx="72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735960" y="435888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778800" y="437580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827400" y="4399920"/>
                <a:ext cx="720" cy="24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869880" y="441828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918480" y="443628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966000" y="446040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020360" y="447732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068960" y="450072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349680" y="4264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425640" y="429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507000" y="4329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591240" y="4364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676920" y="4398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741000" y="443628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834240" y="447732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929280" y="451908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032240" y="456120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197120" y="4001760"/>
                <a:ext cx="86400" cy="11520"/>
              </a:xfrm>
              <a:custGeom>
                <a:avLst/>
                <a:gdLst/>
                <a:ahLst/>
                <a:rect l="l" t="t" r="r" b="b"/>
                <a:pathLst>
                  <a:path w="73" h="9">
                    <a:moveTo>
                      <a:pt x="36" y="0"/>
                    </a:moveTo>
                    <a:lnTo>
                      <a:pt x="0" y="0"/>
                    </a:lnTo>
                    <a:lnTo>
                      <a:pt x="32" y="5"/>
                    </a:lnTo>
                    <a:lnTo>
                      <a:pt x="73" y="9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148520" y="3978000"/>
                <a:ext cx="86400" cy="30240"/>
              </a:xfrm>
              <a:custGeom>
                <a:avLst/>
                <a:gdLst/>
                <a:ahLst/>
                <a:rect l="l" t="t" r="r" b="b"/>
                <a:pathLst>
                  <a:path w="73" h="23">
                    <a:moveTo>
                      <a:pt x="41" y="18"/>
                    </a:moveTo>
                    <a:lnTo>
                      <a:pt x="0" y="18"/>
                    </a:lnTo>
                    <a:lnTo>
                      <a:pt x="32" y="0"/>
                    </a:lnTo>
                    <a:lnTo>
                      <a:pt x="73" y="23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094880" y="3978000"/>
                <a:ext cx="91080" cy="35280"/>
              </a:xfrm>
              <a:custGeom>
                <a:avLst/>
                <a:gdLst/>
                <a:ahLst/>
                <a:rect l="l" t="t" r="r" b="b"/>
                <a:pathLst>
                  <a:path w="77" h="27">
                    <a:moveTo>
                      <a:pt x="45" y="18"/>
                    </a:moveTo>
                    <a:lnTo>
                      <a:pt x="0" y="27"/>
                    </a:lnTo>
                    <a:lnTo>
                      <a:pt x="36" y="9"/>
                    </a:lnTo>
                    <a:lnTo>
                      <a:pt x="77" y="0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046640" y="3989880"/>
                <a:ext cx="90720" cy="4176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41" y="18"/>
                    </a:moveTo>
                    <a:lnTo>
                      <a:pt x="0" y="32"/>
                    </a:lnTo>
                    <a:lnTo>
                      <a:pt x="37" y="5"/>
                    </a:lnTo>
                    <a:lnTo>
                      <a:pt x="77" y="0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999120" y="3996360"/>
                <a:ext cx="91080" cy="5220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40" y="27"/>
                    </a:moveTo>
                    <a:lnTo>
                      <a:pt x="0" y="40"/>
                    </a:lnTo>
                    <a:lnTo>
                      <a:pt x="31" y="22"/>
                    </a:lnTo>
                    <a:lnTo>
                      <a:pt x="77" y="0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944400" y="4025160"/>
                <a:ext cx="91080" cy="4176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46" y="18"/>
                    </a:moveTo>
                    <a:lnTo>
                      <a:pt x="0" y="32"/>
                    </a:lnTo>
                    <a:lnTo>
                      <a:pt x="37" y="23"/>
                    </a:lnTo>
                    <a:lnTo>
                      <a:pt x="77" y="0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897240" y="4048920"/>
                <a:ext cx="91080" cy="23760"/>
              </a:xfrm>
              <a:custGeom>
                <a:avLst/>
                <a:gdLst/>
                <a:ahLst/>
                <a:rect l="l" t="t" r="r" b="b"/>
                <a:pathLst>
                  <a:path w="77" h="18">
                    <a:moveTo>
                      <a:pt x="40" y="14"/>
                    </a:moveTo>
                    <a:lnTo>
                      <a:pt x="0" y="18"/>
                    </a:lnTo>
                    <a:lnTo>
                      <a:pt x="31" y="0"/>
                    </a:lnTo>
                    <a:lnTo>
                      <a:pt x="77" y="5"/>
                    </a:lnTo>
                    <a:lnTo>
                      <a:pt x="40" y="14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842520" y="4037040"/>
                <a:ext cx="91080" cy="4176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46" y="27"/>
                    </a:moveTo>
                    <a:lnTo>
                      <a:pt x="0" y="32"/>
                    </a:lnTo>
                    <a:lnTo>
                      <a:pt x="32" y="0"/>
                    </a:lnTo>
                    <a:lnTo>
                      <a:pt x="77" y="9"/>
                    </a:lnTo>
                    <a:lnTo>
                      <a:pt x="46" y="2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789600" y="4025160"/>
                <a:ext cx="90720" cy="65520"/>
              </a:xfrm>
              <a:custGeom>
                <a:avLst/>
                <a:gdLst/>
                <a:ahLst/>
                <a:rect l="l" t="t" r="r" b="b"/>
                <a:pathLst>
                  <a:path w="77" h="50">
                    <a:moveTo>
                      <a:pt x="45" y="41"/>
                    </a:moveTo>
                    <a:lnTo>
                      <a:pt x="0" y="50"/>
                    </a:lnTo>
                    <a:lnTo>
                      <a:pt x="32" y="0"/>
                    </a:lnTo>
                    <a:lnTo>
                      <a:pt x="77" y="9"/>
                    </a:lnTo>
                    <a:lnTo>
                      <a:pt x="45" y="41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735960" y="4013280"/>
                <a:ext cx="91080" cy="89280"/>
              </a:xfrm>
              <a:custGeom>
                <a:avLst/>
                <a:gdLst/>
                <a:ahLst/>
                <a:rect l="l" t="t" r="r" b="b"/>
                <a:pathLst>
                  <a:path w="77" h="68">
                    <a:moveTo>
                      <a:pt x="45" y="59"/>
                    </a:moveTo>
                    <a:lnTo>
                      <a:pt x="0" y="68"/>
                    </a:lnTo>
                    <a:lnTo>
                      <a:pt x="31" y="0"/>
                    </a:lnTo>
                    <a:lnTo>
                      <a:pt x="77" y="9"/>
                    </a:lnTo>
                    <a:lnTo>
                      <a:pt x="45" y="59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681600" y="4013280"/>
                <a:ext cx="90720" cy="107640"/>
              </a:xfrm>
              <a:custGeom>
                <a:avLst/>
                <a:gdLst/>
                <a:ahLst/>
                <a:rect l="l" t="t" r="r" b="b"/>
                <a:pathLst>
                  <a:path w="77" h="82">
                    <a:moveTo>
                      <a:pt x="46" y="68"/>
                    </a:moveTo>
                    <a:lnTo>
                      <a:pt x="0" y="82"/>
                    </a:lnTo>
                    <a:lnTo>
                      <a:pt x="32" y="27"/>
                    </a:lnTo>
                    <a:lnTo>
                      <a:pt x="77" y="0"/>
                    </a:lnTo>
                    <a:lnTo>
                      <a:pt x="46" y="6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623280" y="4048920"/>
                <a:ext cx="96120" cy="892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49" y="55"/>
                    </a:moveTo>
                    <a:lnTo>
                      <a:pt x="0" y="68"/>
                    </a:lnTo>
                    <a:lnTo>
                      <a:pt x="36" y="28"/>
                    </a:lnTo>
                    <a:lnTo>
                      <a:pt x="81" y="0"/>
                    </a:lnTo>
                    <a:lnTo>
                      <a:pt x="49" y="55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569280" y="4085640"/>
                <a:ext cx="96840" cy="64080"/>
              </a:xfrm>
              <a:custGeom>
                <a:avLst/>
                <a:gdLst/>
                <a:ahLst/>
                <a:rect l="l" t="t" r="r" b="b"/>
                <a:pathLst>
                  <a:path w="82" h="49">
                    <a:moveTo>
                      <a:pt x="46" y="40"/>
                    </a:moveTo>
                    <a:lnTo>
                      <a:pt x="0" y="49"/>
                    </a:lnTo>
                    <a:lnTo>
                      <a:pt x="32" y="36"/>
                    </a:lnTo>
                    <a:lnTo>
                      <a:pt x="82" y="0"/>
                    </a:lnTo>
                    <a:lnTo>
                      <a:pt x="46" y="4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510960" y="4133160"/>
                <a:ext cx="95760" cy="35280"/>
              </a:xfrm>
              <a:custGeom>
                <a:avLst/>
                <a:gdLst/>
                <a:ahLst/>
                <a:rect l="l" t="t" r="r" b="b"/>
                <a:pathLst>
                  <a:path w="81" h="27">
                    <a:moveTo>
                      <a:pt x="49" y="13"/>
                    </a:moveTo>
                    <a:lnTo>
                      <a:pt x="0" y="27"/>
                    </a:lnTo>
                    <a:lnTo>
                      <a:pt x="31" y="22"/>
                    </a:lnTo>
                    <a:lnTo>
                      <a:pt x="81" y="0"/>
                    </a:lnTo>
                    <a:lnTo>
                      <a:pt x="49" y="13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456600" y="4161960"/>
                <a:ext cx="90720" cy="23400"/>
              </a:xfrm>
              <a:custGeom>
                <a:avLst/>
                <a:gdLst/>
                <a:ahLst/>
                <a:rect l="l" t="t" r="r" b="b"/>
                <a:pathLst>
                  <a:path w="77" h="18">
                    <a:moveTo>
                      <a:pt x="46" y="5"/>
                    </a:moveTo>
                    <a:lnTo>
                      <a:pt x="0" y="14"/>
                    </a:lnTo>
                    <a:lnTo>
                      <a:pt x="32" y="18"/>
                    </a:lnTo>
                    <a:lnTo>
                      <a:pt x="77" y="0"/>
                    </a:lnTo>
                    <a:lnTo>
                      <a:pt x="46" y="5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397200" y="4180320"/>
                <a:ext cx="97200" cy="23760"/>
              </a:xfrm>
              <a:custGeom>
                <a:avLst/>
                <a:gdLst/>
                <a:ahLst/>
                <a:rect l="l" t="t" r="r" b="b"/>
                <a:pathLst>
                  <a:path w="82" h="18">
                    <a:moveTo>
                      <a:pt x="50" y="0"/>
                    </a:moveTo>
                    <a:lnTo>
                      <a:pt x="0" y="14"/>
                    </a:lnTo>
                    <a:lnTo>
                      <a:pt x="32" y="18"/>
                    </a:lnTo>
                    <a:lnTo>
                      <a:pt x="82" y="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234920" y="4008240"/>
                <a:ext cx="90720" cy="16920"/>
              </a:xfrm>
              <a:custGeom>
                <a:avLst/>
                <a:gdLst/>
                <a:ahLst/>
                <a:rect l="l" t="t" r="r" b="b"/>
                <a:pathLst>
                  <a:path w="77" h="13">
                    <a:moveTo>
                      <a:pt x="41" y="4"/>
                    </a:moveTo>
                    <a:lnTo>
                      <a:pt x="0" y="0"/>
                    </a:lnTo>
                    <a:lnTo>
                      <a:pt x="36" y="13"/>
                    </a:lnTo>
                    <a:lnTo>
                      <a:pt x="77" y="13"/>
                    </a:lnTo>
                    <a:lnTo>
                      <a:pt x="41" y="4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186320" y="3978000"/>
                <a:ext cx="91080" cy="47160"/>
              </a:xfrm>
              <a:custGeom>
                <a:avLst/>
                <a:gdLst/>
                <a:ahLst/>
                <a:rect l="l" t="t" r="r" b="b"/>
                <a:pathLst>
                  <a:path w="77" h="36">
                    <a:moveTo>
                      <a:pt x="41" y="23"/>
                    </a:moveTo>
                    <a:lnTo>
                      <a:pt x="0" y="0"/>
                    </a:lnTo>
                    <a:lnTo>
                      <a:pt x="36" y="23"/>
                    </a:lnTo>
                    <a:lnTo>
                      <a:pt x="77" y="36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137720" y="3942360"/>
                <a:ext cx="91080" cy="65520"/>
              </a:xfrm>
              <a:custGeom>
                <a:avLst/>
                <a:gdLst/>
                <a:ahLst/>
                <a:rect l="l" t="t" r="r" b="b"/>
                <a:pathLst>
                  <a:path w="77" h="50">
                    <a:moveTo>
                      <a:pt x="41" y="27"/>
                    </a:moveTo>
                    <a:lnTo>
                      <a:pt x="0" y="36"/>
                    </a:lnTo>
                    <a:lnTo>
                      <a:pt x="37" y="0"/>
                    </a:lnTo>
                    <a:lnTo>
                      <a:pt x="77" y="50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090200" y="3907080"/>
                <a:ext cx="90720" cy="89280"/>
              </a:xfrm>
              <a:custGeom>
                <a:avLst/>
                <a:gdLst/>
                <a:ahLst/>
                <a:rect l="l" t="t" r="r" b="b"/>
                <a:pathLst>
                  <a:path w="77" h="68">
                    <a:moveTo>
                      <a:pt x="40" y="63"/>
                    </a:moveTo>
                    <a:lnTo>
                      <a:pt x="0" y="68"/>
                    </a:lnTo>
                    <a:lnTo>
                      <a:pt x="31" y="0"/>
                    </a:lnTo>
                    <a:lnTo>
                      <a:pt x="77" y="27"/>
                    </a:lnTo>
                    <a:lnTo>
                      <a:pt x="40" y="63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035840" y="3907080"/>
                <a:ext cx="91080" cy="118080"/>
              </a:xfrm>
              <a:custGeom>
                <a:avLst/>
                <a:gdLst/>
                <a:ahLst/>
                <a:rect l="l" t="t" r="r" b="b"/>
                <a:pathLst>
                  <a:path w="77" h="90">
                    <a:moveTo>
                      <a:pt x="46" y="68"/>
                    </a:moveTo>
                    <a:lnTo>
                      <a:pt x="0" y="90"/>
                    </a:lnTo>
                    <a:lnTo>
                      <a:pt x="37" y="13"/>
                    </a:lnTo>
                    <a:lnTo>
                      <a:pt x="77" y="0"/>
                    </a:lnTo>
                    <a:lnTo>
                      <a:pt x="46" y="6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988680" y="3924000"/>
                <a:ext cx="90720" cy="131040"/>
              </a:xfrm>
              <a:custGeom>
                <a:avLst/>
                <a:gdLst/>
                <a:ahLst/>
                <a:rect l="l" t="t" r="r" b="b"/>
                <a:pathLst>
                  <a:path w="77" h="100">
                    <a:moveTo>
                      <a:pt x="40" y="77"/>
                    </a:moveTo>
                    <a:lnTo>
                      <a:pt x="0" y="100"/>
                    </a:lnTo>
                    <a:lnTo>
                      <a:pt x="31" y="37"/>
                    </a:lnTo>
                    <a:lnTo>
                      <a:pt x="77" y="0"/>
                    </a:lnTo>
                    <a:lnTo>
                      <a:pt x="40" y="7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933960" y="396612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77" h="68">
                    <a:moveTo>
                      <a:pt x="46" y="68"/>
                    </a:moveTo>
                    <a:lnTo>
                      <a:pt x="0" y="63"/>
                    </a:lnTo>
                    <a:lnTo>
                      <a:pt x="37" y="0"/>
                    </a:lnTo>
                    <a:lnTo>
                      <a:pt x="77" y="5"/>
                    </a:lnTo>
                    <a:lnTo>
                      <a:pt x="46" y="6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880680" y="3942360"/>
                <a:ext cx="53280" cy="106200"/>
              </a:xfrm>
              <a:custGeom>
                <a:avLst/>
                <a:gdLst/>
                <a:ahLst/>
                <a:rect l="l" t="t" r="r" b="b"/>
                <a:pathLst>
                  <a:path w="45" h="81">
                    <a:moveTo>
                      <a:pt x="45" y="81"/>
                    </a:moveTo>
                    <a:lnTo>
                      <a:pt x="45" y="81"/>
                    </a:lnTo>
                    <a:lnTo>
                      <a:pt x="0" y="72"/>
                    </a:lnTo>
                    <a:lnTo>
                      <a:pt x="23" y="0"/>
                    </a:lnTo>
                    <a:lnTo>
                      <a:pt x="36" y="0"/>
                    </a:lnTo>
                    <a:lnTo>
                      <a:pt x="45" y="8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H="1" flipV="1">
                <a:off x="6880680" y="4037040"/>
                <a:ext cx="532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6880680" y="3942000"/>
                <a:ext cx="27360" cy="94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908040" y="3942360"/>
                <a:ext cx="15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908040" y="3895200"/>
                <a:ext cx="15120" cy="47160"/>
              </a:xfrm>
              <a:custGeom>
                <a:avLst/>
                <a:gdLst/>
                <a:ahLst/>
                <a:rect l="l" t="t" r="r" b="b"/>
                <a:pathLst>
                  <a:path w="13" h="36">
                    <a:moveTo>
                      <a:pt x="13" y="36"/>
                    </a:moveTo>
                    <a:lnTo>
                      <a:pt x="0" y="3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H="1">
                <a:off x="6908040" y="3942360"/>
                <a:ext cx="15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V="1">
                <a:off x="6908040" y="3894840"/>
                <a:ext cx="1512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923160" y="3942360"/>
                <a:ext cx="54360" cy="106200"/>
              </a:xfrm>
              <a:custGeom>
                <a:avLst/>
                <a:gdLst/>
                <a:ahLst/>
                <a:rect l="l" t="t" r="r" b="b"/>
                <a:pathLst>
                  <a:path w="46" h="81">
                    <a:moveTo>
                      <a:pt x="9" y="81"/>
                    </a:moveTo>
                    <a:lnTo>
                      <a:pt x="9" y="81"/>
                    </a:lnTo>
                    <a:lnTo>
                      <a:pt x="46" y="18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9" y="8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V="1">
                <a:off x="6933960" y="3965760"/>
                <a:ext cx="43560" cy="82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 flipV="1">
                <a:off x="6955200" y="3942360"/>
                <a:ext cx="2232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6923160" y="3942360"/>
                <a:ext cx="31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923160" y="3895200"/>
                <a:ext cx="31680" cy="4716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0" y="36"/>
                    </a:moveTo>
                    <a:lnTo>
                      <a:pt x="27" y="3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923160" y="3942360"/>
                <a:ext cx="31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H="1" flipV="1">
                <a:off x="6923160" y="3894840"/>
                <a:ext cx="316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827400" y="3942360"/>
                <a:ext cx="80280" cy="94680"/>
              </a:xfrm>
              <a:custGeom>
                <a:avLst/>
                <a:gdLst/>
                <a:ahLst/>
                <a:rect l="l" t="t" r="r" b="b"/>
                <a:pathLst>
                  <a:path w="68" h="72">
                    <a:moveTo>
                      <a:pt x="45" y="72"/>
                    </a:moveTo>
                    <a:lnTo>
                      <a:pt x="45" y="72"/>
                    </a:lnTo>
                    <a:lnTo>
                      <a:pt x="0" y="63"/>
                    </a:lnTo>
                    <a:lnTo>
                      <a:pt x="50" y="4"/>
                    </a:lnTo>
                    <a:lnTo>
                      <a:pt x="68" y="0"/>
                    </a:lnTo>
                    <a:lnTo>
                      <a:pt x="45" y="7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 flipV="1">
                <a:off x="6827040" y="4024800"/>
                <a:ext cx="52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6886440" y="3942360"/>
                <a:ext cx="212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6880680" y="3942360"/>
                <a:ext cx="27360" cy="94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886440" y="389520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18" y="36"/>
                    </a:moveTo>
                    <a:lnTo>
                      <a:pt x="0" y="4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>
                <a:off x="6886080" y="3942360"/>
                <a:ext cx="212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>
                <a:off x="6908040" y="3895200"/>
                <a:ext cx="1512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827400" y="3947760"/>
                <a:ext cx="59040" cy="77400"/>
              </a:xfrm>
              <a:custGeom>
                <a:avLst/>
                <a:gdLst/>
                <a:ahLst/>
                <a:rect l="l" t="t" r="r" b="b"/>
                <a:pathLst>
                  <a:path w="50" h="59">
                    <a:moveTo>
                      <a:pt x="0" y="59"/>
                    </a:moveTo>
                    <a:lnTo>
                      <a:pt x="0" y="59"/>
                    </a:lnTo>
                    <a:lnTo>
                      <a:pt x="22" y="5"/>
                    </a:lnTo>
                    <a:lnTo>
                      <a:pt x="5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6827400" y="3954240"/>
                <a:ext cx="2592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V="1">
                <a:off x="6853320" y="3947760"/>
                <a:ext cx="32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853320" y="3895200"/>
                <a:ext cx="69840" cy="5904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28" y="40"/>
                    </a:moveTo>
                    <a:lnTo>
                      <a:pt x="0" y="45"/>
                    </a:lnTo>
                    <a:lnTo>
                      <a:pt x="14" y="18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28" y="4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>
                <a:off x="6852960" y="3947760"/>
                <a:ext cx="32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6853320" y="3918960"/>
                <a:ext cx="165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V="1">
                <a:off x="6869880" y="3895200"/>
                <a:ext cx="5292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772680" y="3954240"/>
                <a:ext cx="80280" cy="70560"/>
              </a:xfrm>
              <a:custGeom>
                <a:avLst/>
                <a:gdLst/>
                <a:ahLst/>
                <a:rect l="l" t="t" r="r" b="b"/>
                <a:pathLst>
                  <a:path w="68" h="54">
                    <a:moveTo>
                      <a:pt x="46" y="54"/>
                    </a:moveTo>
                    <a:lnTo>
                      <a:pt x="46" y="54"/>
                    </a:lnTo>
                    <a:lnTo>
                      <a:pt x="0" y="45"/>
                    </a:lnTo>
                    <a:lnTo>
                      <a:pt x="46" y="4"/>
                    </a:lnTo>
                    <a:lnTo>
                      <a:pt x="68" y="0"/>
                    </a:lnTo>
                    <a:lnTo>
                      <a:pt x="46" y="5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H="1" flipV="1">
                <a:off x="6772320" y="4012920"/>
                <a:ext cx="543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V="1">
                <a:off x="6827400" y="3954240"/>
                <a:ext cx="259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6827400" y="3954240"/>
                <a:ext cx="2592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827400" y="3918960"/>
                <a:ext cx="42480" cy="4068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22" y="27"/>
                    </a:moveTo>
                    <a:lnTo>
                      <a:pt x="0" y="3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2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>
                <a:off x="6827400" y="3954240"/>
                <a:ext cx="259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6853320" y="3918960"/>
                <a:ext cx="165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772680" y="3959640"/>
                <a:ext cx="54360" cy="5328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41"/>
                    </a:moveTo>
                    <a:lnTo>
                      <a:pt x="0" y="41"/>
                    </a:lnTo>
                    <a:lnTo>
                      <a:pt x="37" y="14"/>
                    </a:lnTo>
                    <a:lnTo>
                      <a:pt x="41" y="5"/>
                    </a:lnTo>
                    <a:lnTo>
                      <a:pt x="46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V="1">
                <a:off x="6772680" y="3978000"/>
                <a:ext cx="435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6816600" y="3966120"/>
                <a:ext cx="46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6821280" y="395964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21280" y="3918960"/>
                <a:ext cx="48600" cy="4716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5" y="31"/>
                    </a:moveTo>
                    <a:lnTo>
                      <a:pt x="0" y="36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6821280" y="395964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V="1">
                <a:off x="6821280" y="3918600"/>
                <a:ext cx="4860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719760" y="39780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82" h="54">
                    <a:moveTo>
                      <a:pt x="45" y="27"/>
                    </a:moveTo>
                    <a:lnTo>
                      <a:pt x="0" y="54"/>
                    </a:lnTo>
                    <a:lnTo>
                      <a:pt x="32" y="54"/>
                    </a:lnTo>
                    <a:lnTo>
                      <a:pt x="82" y="0"/>
                    </a:lnTo>
                    <a:lnTo>
                      <a:pt x="45" y="2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666120" y="4048920"/>
                <a:ext cx="91080" cy="36720"/>
              </a:xfrm>
              <a:custGeom>
                <a:avLst/>
                <a:gdLst/>
                <a:ahLst/>
                <a:rect l="l" t="t" r="r" b="b"/>
                <a:pathLst>
                  <a:path w="77" h="28">
                    <a:moveTo>
                      <a:pt x="45" y="0"/>
                    </a:moveTo>
                    <a:lnTo>
                      <a:pt x="0" y="28"/>
                    </a:lnTo>
                    <a:lnTo>
                      <a:pt x="32" y="28"/>
                    </a:lnTo>
                    <a:lnTo>
                      <a:pt x="77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607080" y="4085640"/>
                <a:ext cx="96840" cy="47160"/>
              </a:xfrm>
              <a:custGeom>
                <a:avLst/>
                <a:gdLst/>
                <a:ahLst/>
                <a:rect l="l" t="t" r="r" b="b"/>
                <a:pathLst>
                  <a:path w="82" h="36">
                    <a:moveTo>
                      <a:pt x="50" y="0"/>
                    </a:moveTo>
                    <a:lnTo>
                      <a:pt x="0" y="36"/>
                    </a:lnTo>
                    <a:lnTo>
                      <a:pt x="32" y="27"/>
                    </a:lnTo>
                    <a:lnTo>
                      <a:pt x="82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547680" y="4121280"/>
                <a:ext cx="97200" cy="40680"/>
              </a:xfrm>
              <a:custGeom>
                <a:avLst/>
                <a:gdLst/>
                <a:ahLst/>
                <a:rect l="l" t="t" r="r" b="b"/>
                <a:pathLst>
                  <a:path w="82" h="31">
                    <a:moveTo>
                      <a:pt x="50" y="9"/>
                    </a:moveTo>
                    <a:lnTo>
                      <a:pt x="0" y="31"/>
                    </a:lnTo>
                    <a:lnTo>
                      <a:pt x="37" y="31"/>
                    </a:lnTo>
                    <a:lnTo>
                      <a:pt x="82" y="0"/>
                    </a:lnTo>
                    <a:lnTo>
                      <a:pt x="50" y="9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494400" y="4161960"/>
                <a:ext cx="96840" cy="36360"/>
              </a:xfrm>
              <a:custGeom>
                <a:avLst/>
                <a:gdLst/>
                <a:ahLst/>
                <a:rect l="l" t="t" r="r" b="b"/>
                <a:pathLst>
                  <a:path w="82" h="28">
                    <a:moveTo>
                      <a:pt x="45" y="0"/>
                    </a:moveTo>
                    <a:lnTo>
                      <a:pt x="0" y="18"/>
                    </a:lnTo>
                    <a:lnTo>
                      <a:pt x="32" y="28"/>
                    </a:lnTo>
                    <a:lnTo>
                      <a:pt x="82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435000" y="4185720"/>
                <a:ext cx="97200" cy="36360"/>
              </a:xfrm>
              <a:custGeom>
                <a:avLst/>
                <a:gdLst/>
                <a:ahLst/>
                <a:rect l="l" t="t" r="r" b="b"/>
                <a:pathLst>
                  <a:path w="82" h="28">
                    <a:moveTo>
                      <a:pt x="50" y="0"/>
                    </a:moveTo>
                    <a:lnTo>
                      <a:pt x="0" y="14"/>
                    </a:lnTo>
                    <a:lnTo>
                      <a:pt x="32" y="28"/>
                    </a:lnTo>
                    <a:lnTo>
                      <a:pt x="82" y="1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277760" y="4025160"/>
                <a:ext cx="90720" cy="18360"/>
              </a:xfrm>
              <a:custGeom>
                <a:avLst/>
                <a:gdLst/>
                <a:ahLst/>
                <a:rect l="l" t="t" r="r" b="b"/>
                <a:pathLst>
                  <a:path w="77" h="14">
                    <a:moveTo>
                      <a:pt x="41" y="0"/>
                    </a:moveTo>
                    <a:lnTo>
                      <a:pt x="0" y="0"/>
                    </a:lnTo>
                    <a:lnTo>
                      <a:pt x="36" y="14"/>
                    </a:lnTo>
                    <a:lnTo>
                      <a:pt x="77" y="1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228800" y="4008240"/>
                <a:ext cx="90720" cy="35280"/>
              </a:xfrm>
              <a:custGeom>
                <a:avLst/>
                <a:gdLst/>
                <a:ahLst/>
                <a:rect l="l" t="t" r="r" b="b"/>
                <a:pathLst>
                  <a:path w="77" h="27">
                    <a:moveTo>
                      <a:pt x="41" y="13"/>
                    </a:moveTo>
                    <a:lnTo>
                      <a:pt x="0" y="0"/>
                    </a:lnTo>
                    <a:lnTo>
                      <a:pt x="37" y="9"/>
                    </a:lnTo>
                    <a:lnTo>
                      <a:pt x="77" y="27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181280" y="3912480"/>
                <a:ext cx="91080" cy="107280"/>
              </a:xfrm>
              <a:custGeom>
                <a:avLst/>
                <a:gdLst/>
                <a:ahLst/>
                <a:rect l="l" t="t" r="r" b="b"/>
                <a:pathLst>
                  <a:path w="77" h="82">
                    <a:moveTo>
                      <a:pt x="40" y="73"/>
                    </a:moveTo>
                    <a:lnTo>
                      <a:pt x="0" y="23"/>
                    </a:lnTo>
                    <a:lnTo>
                      <a:pt x="36" y="0"/>
                    </a:lnTo>
                    <a:lnTo>
                      <a:pt x="77" y="82"/>
                    </a:lnTo>
                    <a:lnTo>
                      <a:pt x="40" y="73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127280" y="3900240"/>
                <a:ext cx="54000" cy="41760"/>
              </a:xfrm>
              <a:custGeom>
                <a:avLst/>
                <a:gdLst/>
                <a:ahLst/>
                <a:rect l="l" t="t" r="r" b="b"/>
                <a:pathLst>
                  <a:path w="46" h="32">
                    <a:moveTo>
                      <a:pt x="46" y="32"/>
                    </a:moveTo>
                    <a:lnTo>
                      <a:pt x="46" y="3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1" y="0"/>
                    </a:lnTo>
                    <a:lnTo>
                      <a:pt x="46" y="3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H="1" flipV="1">
                <a:off x="7127280" y="3907080"/>
                <a:ext cx="5400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127280" y="390708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V="1">
                <a:off x="7127280" y="3900240"/>
                <a:ext cx="482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127280" y="3782160"/>
                <a:ext cx="48240" cy="124560"/>
              </a:xfrm>
              <a:custGeom>
                <a:avLst/>
                <a:gdLst/>
                <a:ahLst/>
                <a:rect l="l" t="t" r="r" b="b"/>
                <a:pathLst>
                  <a:path w="41" h="95">
                    <a:moveTo>
                      <a:pt x="41" y="90"/>
                    </a:moveTo>
                    <a:lnTo>
                      <a:pt x="0" y="95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41" y="9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H="1">
                <a:off x="7127280" y="3900240"/>
                <a:ext cx="482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7127280" y="3782160"/>
                <a:ext cx="435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175520" y="3900240"/>
                <a:ext cx="48600" cy="4176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5" y="32"/>
                    </a:moveTo>
                    <a:lnTo>
                      <a:pt x="5" y="32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0" y="0"/>
                    </a:lnTo>
                    <a:lnTo>
                      <a:pt x="5" y="3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>
                <a:off x="7181280" y="3912120"/>
                <a:ext cx="4248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 flipV="1">
                <a:off x="7218360" y="390708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 flipV="1">
                <a:off x="7175520" y="390024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170840" y="3782160"/>
                <a:ext cx="47160" cy="124560"/>
              </a:xfrm>
              <a:custGeom>
                <a:avLst/>
                <a:gdLst/>
                <a:ahLst/>
                <a:rect l="l" t="t" r="r" b="b"/>
                <a:pathLst>
                  <a:path w="40" h="95">
                    <a:moveTo>
                      <a:pt x="4" y="90"/>
                    </a:moveTo>
                    <a:lnTo>
                      <a:pt x="40" y="9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9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175520" y="390024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 flipV="1">
                <a:off x="7170480" y="3782160"/>
                <a:ext cx="471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79760" y="3907080"/>
                <a:ext cx="47520" cy="16920"/>
              </a:xfrm>
              <a:custGeom>
                <a:avLst/>
                <a:gdLst/>
                <a:ahLst/>
                <a:rect l="l" t="t" r="r" b="b"/>
                <a:pathLst>
                  <a:path w="40" h="13">
                    <a:moveTo>
                      <a:pt x="0" y="13"/>
                    </a:moveTo>
                    <a:lnTo>
                      <a:pt x="0" y="1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0" y="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>
                <a:off x="7079760" y="3906720"/>
                <a:ext cx="4752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H="1">
                <a:off x="7079760" y="3907080"/>
                <a:ext cx="475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079760" y="3918960"/>
                <a:ext cx="10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079760" y="3751920"/>
                <a:ext cx="47520" cy="166680"/>
              </a:xfrm>
              <a:custGeom>
                <a:avLst/>
                <a:gdLst/>
                <a:ahLst/>
                <a:rect l="l" t="t" r="r" b="b"/>
                <a:pathLst>
                  <a:path w="40" h="127">
                    <a:moveTo>
                      <a:pt x="0" y="127"/>
                    </a:moveTo>
                    <a:lnTo>
                      <a:pt x="40" y="118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V="1">
                <a:off x="7079760" y="3906720"/>
                <a:ext cx="475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H="1">
                <a:off x="7116480" y="37519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flipH="1">
                <a:off x="7079760" y="3751920"/>
                <a:ext cx="3672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116480" y="37465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5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116480" y="37519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flipH="1">
                <a:off x="7116480" y="374652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127280" y="3907080"/>
                <a:ext cx="720" cy="144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127280" y="390708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127280" y="390708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122240" y="3751920"/>
                <a:ext cx="48600" cy="154800"/>
              </a:xfrm>
              <a:custGeom>
                <a:avLst/>
                <a:gdLst/>
                <a:ahLst/>
                <a:rect l="l" t="t" r="r" b="b"/>
                <a:pathLst>
                  <a:path w="41" h="118">
                    <a:moveTo>
                      <a:pt x="4" y="118"/>
                    </a:moveTo>
                    <a:lnTo>
                      <a:pt x="4" y="118"/>
                    </a:lnTo>
                    <a:lnTo>
                      <a:pt x="41" y="2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11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127280" y="390708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V="1">
                <a:off x="7127280" y="3782160"/>
                <a:ext cx="435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 flipV="1">
                <a:off x="7126920" y="3751560"/>
                <a:ext cx="4356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>
                <a:off x="7121880" y="37519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122240" y="3746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122240" y="37519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flipV="1">
                <a:off x="7121880" y="3746520"/>
                <a:ext cx="4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025040" y="3918960"/>
                <a:ext cx="54360" cy="536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41"/>
                    </a:moveTo>
                    <a:lnTo>
                      <a:pt x="0" y="41"/>
                    </a:lnTo>
                    <a:lnTo>
                      <a:pt x="46" y="4"/>
                    </a:lnTo>
                    <a:lnTo>
                      <a:pt x="46" y="0"/>
                    </a:lnTo>
                    <a:lnTo>
                      <a:pt x="18" y="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7025040" y="3923640"/>
                <a:ext cx="54360" cy="48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7079760" y="3918960"/>
                <a:ext cx="10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>
                <a:off x="7046280" y="3918960"/>
                <a:ext cx="32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046640" y="3751920"/>
                <a:ext cx="69840" cy="171720"/>
              </a:xfrm>
              <a:custGeom>
                <a:avLst/>
                <a:gdLst/>
                <a:ahLst/>
                <a:rect l="l" t="t" r="r" b="b"/>
                <a:pathLst>
                  <a:path w="59" h="131">
                    <a:moveTo>
                      <a:pt x="0" y="131"/>
                    </a:moveTo>
                    <a:lnTo>
                      <a:pt x="28" y="127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V="1">
                <a:off x="7046640" y="3918960"/>
                <a:ext cx="32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7079760" y="3751560"/>
                <a:ext cx="3672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116480" y="375192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116480" y="37465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116480" y="375192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7116480" y="374652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025040" y="3924000"/>
                <a:ext cx="21240" cy="4860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0" y="37"/>
                    </a:moveTo>
                    <a:lnTo>
                      <a:pt x="0" y="37"/>
                    </a:lnTo>
                    <a:lnTo>
                      <a:pt x="9" y="5"/>
                    </a:lnTo>
                    <a:lnTo>
                      <a:pt x="1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7025040" y="3930840"/>
                <a:ext cx="1044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V="1">
                <a:off x="7035840" y="3923640"/>
                <a:ext cx="1044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035840" y="3751920"/>
                <a:ext cx="80280" cy="178560"/>
              </a:xfrm>
              <a:custGeom>
                <a:avLst/>
                <a:gdLst/>
                <a:ahLst/>
                <a:rect l="l" t="t" r="r" b="b"/>
                <a:pathLst>
                  <a:path w="68" h="136">
                    <a:moveTo>
                      <a:pt x="9" y="131"/>
                    </a:moveTo>
                    <a:lnTo>
                      <a:pt x="0" y="136"/>
                    </a:lnTo>
                    <a:lnTo>
                      <a:pt x="28" y="32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9" y="1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flipH="1">
                <a:off x="7035480" y="3924000"/>
                <a:ext cx="1044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V="1">
                <a:off x="7035840" y="3793680"/>
                <a:ext cx="3276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V="1">
                <a:off x="7068960" y="3751920"/>
                <a:ext cx="4248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111440" y="37519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111440" y="3746520"/>
                <a:ext cx="10440" cy="50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4" y="4"/>
                    </a:moveTo>
                    <a:lnTo>
                      <a:pt x="0" y="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5" name=""/>
            <p:cNvGrpSpPr/>
            <p:nvPr/>
          </p:nvGrpSpPr>
          <p:grpSpPr>
            <a:xfrm>
              <a:off x="6472800" y="3425040"/>
              <a:ext cx="937800" cy="802080"/>
              <a:chOff x="6472800" y="3425040"/>
              <a:chExt cx="937800" cy="802080"/>
            </a:xfrm>
          </p:grpSpPr>
          <p:sp>
            <p:nvSpPr>
              <p:cNvPr id="1646" name=""/>
              <p:cNvSpPr/>
              <p:nvPr/>
            </p:nvSpPr>
            <p:spPr>
              <a:xfrm flipH="1">
                <a:off x="7110720" y="37519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V="1">
                <a:off x="7111080" y="37465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977160" y="3930840"/>
                <a:ext cx="57960" cy="41760"/>
              </a:xfrm>
              <a:custGeom>
                <a:avLst/>
                <a:gdLst/>
                <a:ahLst/>
                <a:rect l="l" t="t" r="r" b="b"/>
                <a:pathLst>
                  <a:path w="49" h="32">
                    <a:moveTo>
                      <a:pt x="40" y="32"/>
                    </a:moveTo>
                    <a:lnTo>
                      <a:pt x="40" y="32"/>
                    </a:lnTo>
                    <a:lnTo>
                      <a:pt x="0" y="27"/>
                    </a:lnTo>
                    <a:lnTo>
                      <a:pt x="9" y="4"/>
                    </a:lnTo>
                    <a:lnTo>
                      <a:pt x="49" y="0"/>
                    </a:lnTo>
                    <a:lnTo>
                      <a:pt x="40" y="3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H="1" flipV="1">
                <a:off x="6976800" y="3966120"/>
                <a:ext cx="471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V="1">
                <a:off x="6987960" y="3930840"/>
                <a:ext cx="471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H="1">
                <a:off x="7024320" y="3930840"/>
                <a:ext cx="1044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987960" y="3794040"/>
                <a:ext cx="80280" cy="141480"/>
              </a:xfrm>
              <a:custGeom>
                <a:avLst/>
                <a:gdLst/>
                <a:ahLst/>
                <a:rect l="l" t="t" r="r" b="b"/>
                <a:pathLst>
                  <a:path w="68" h="108">
                    <a:moveTo>
                      <a:pt x="40" y="104"/>
                    </a:moveTo>
                    <a:lnTo>
                      <a:pt x="0" y="108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H="1">
                <a:off x="6987600" y="3930840"/>
                <a:ext cx="471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H="1">
                <a:off x="7035120" y="3794040"/>
                <a:ext cx="3276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977160" y="393588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6977160" y="3935880"/>
                <a:ext cx="468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982200" y="393588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982200" y="3794040"/>
                <a:ext cx="86040" cy="141480"/>
              </a:xfrm>
              <a:custGeom>
                <a:avLst/>
                <a:gdLst/>
                <a:ahLst/>
                <a:rect l="l" t="t" r="r" b="b"/>
                <a:pathLst>
                  <a:path w="73" h="108">
                    <a:moveTo>
                      <a:pt x="5" y="108"/>
                    </a:moveTo>
                    <a:lnTo>
                      <a:pt x="0" y="108"/>
                    </a:lnTo>
                    <a:lnTo>
                      <a:pt x="27" y="22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5" y="10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>
                <a:off x="6982200" y="393588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V="1">
                <a:off x="6982200" y="3822480"/>
                <a:ext cx="3168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7014240" y="3794040"/>
                <a:ext cx="5400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954840" y="394236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18"/>
                    </a:moveTo>
                    <a:lnTo>
                      <a:pt x="19" y="18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 flipV="1">
                <a:off x="6954840" y="3942360"/>
                <a:ext cx="2232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954840" y="3942360"/>
                <a:ext cx="1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922800" y="3775320"/>
                <a:ext cx="48600" cy="166680"/>
              </a:xfrm>
              <a:custGeom>
                <a:avLst/>
                <a:gdLst/>
                <a:ahLst/>
                <a:rect l="l" t="t" r="r" b="b"/>
                <a:pathLst>
                  <a:path w="41" h="127">
                    <a:moveTo>
                      <a:pt x="41" y="127"/>
                    </a:moveTo>
                    <a:lnTo>
                      <a:pt x="27" y="127"/>
                    </a:lnTo>
                    <a:lnTo>
                      <a:pt x="0" y="91"/>
                    </a:lnTo>
                    <a:lnTo>
                      <a:pt x="23" y="5"/>
                    </a:lnTo>
                    <a:lnTo>
                      <a:pt x="36" y="0"/>
                    </a:lnTo>
                    <a:lnTo>
                      <a:pt x="41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H="1">
                <a:off x="6954840" y="3942360"/>
                <a:ext cx="1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H="1" flipV="1">
                <a:off x="6922800" y="3894480"/>
                <a:ext cx="316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6922800" y="3781800"/>
                <a:ext cx="2736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6950160" y="3775320"/>
                <a:ext cx="151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950160" y="3740040"/>
                <a:ext cx="15120" cy="41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27"/>
                    </a:moveTo>
                    <a:lnTo>
                      <a:pt x="0" y="3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H="1">
                <a:off x="6950160" y="3775320"/>
                <a:ext cx="151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6950160" y="3740040"/>
                <a:ext cx="1044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6971400" y="393588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5" y="23"/>
                    </a:moveTo>
                    <a:lnTo>
                      <a:pt x="5" y="23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6977160" y="3935880"/>
                <a:ext cx="468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H="1">
                <a:off x="6971040" y="393588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965640" y="3775320"/>
                <a:ext cx="48600" cy="166680"/>
              </a:xfrm>
              <a:custGeom>
                <a:avLst/>
                <a:gdLst/>
                <a:ahLst/>
                <a:rect l="l" t="t" r="r" b="b"/>
                <a:pathLst>
                  <a:path w="41" h="127">
                    <a:moveTo>
                      <a:pt x="5" y="127"/>
                    </a:moveTo>
                    <a:lnTo>
                      <a:pt x="14" y="122"/>
                    </a:lnTo>
                    <a:lnTo>
                      <a:pt x="41" y="36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5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6971400" y="393588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6982200" y="3822480"/>
                <a:ext cx="3168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 flipV="1">
                <a:off x="6987960" y="3774960"/>
                <a:ext cx="2592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>
                <a:off x="6965640" y="3775320"/>
                <a:ext cx="223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960600" y="3740040"/>
                <a:ext cx="27360" cy="352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4" y="27"/>
                    </a:moveTo>
                    <a:lnTo>
                      <a:pt x="23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965640" y="3775320"/>
                <a:ext cx="223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 flipV="1">
                <a:off x="6960600" y="3740040"/>
                <a:ext cx="273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869520" y="3782160"/>
                <a:ext cx="80280" cy="136440"/>
              </a:xfrm>
              <a:custGeom>
                <a:avLst/>
                <a:gdLst/>
                <a:ahLst/>
                <a:rect l="l" t="t" r="r" b="b"/>
                <a:pathLst>
                  <a:path w="68" h="104">
                    <a:moveTo>
                      <a:pt x="0" y="104"/>
                    </a:moveTo>
                    <a:lnTo>
                      <a:pt x="0" y="104"/>
                    </a:lnTo>
                    <a:lnTo>
                      <a:pt x="45" y="86"/>
                    </a:lnTo>
                    <a:lnTo>
                      <a:pt x="68" y="0"/>
                    </a:lnTo>
                    <a:lnTo>
                      <a:pt x="59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V="1">
                <a:off x="6869520" y="3894840"/>
                <a:ext cx="5292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>
                <a:off x="6922800" y="3781800"/>
                <a:ext cx="2736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6939000" y="3782160"/>
                <a:ext cx="1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939360" y="3740040"/>
                <a:ext cx="20880" cy="41760"/>
              </a:xfrm>
              <a:custGeom>
                <a:avLst/>
                <a:gdLst/>
                <a:ahLst/>
                <a:rect l="l" t="t" r="r" b="b"/>
                <a:pathLst>
                  <a:path w="18" h="32">
                    <a:moveTo>
                      <a:pt x="0" y="32"/>
                    </a:moveTo>
                    <a:lnTo>
                      <a:pt x="9" y="3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939360" y="3782160"/>
                <a:ext cx="1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V="1">
                <a:off x="6950160" y="3740040"/>
                <a:ext cx="1044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869520" y="3782160"/>
                <a:ext cx="69480" cy="1364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0" y="104"/>
                    </a:moveTo>
                    <a:lnTo>
                      <a:pt x="0" y="104"/>
                    </a:lnTo>
                    <a:lnTo>
                      <a:pt x="32" y="9"/>
                    </a:lnTo>
                    <a:lnTo>
                      <a:pt x="59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6869520" y="3794040"/>
                <a:ext cx="3780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V="1">
                <a:off x="6907320" y="378180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907320" y="3740040"/>
                <a:ext cx="52920" cy="5364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27" y="32"/>
                    </a:moveTo>
                    <a:lnTo>
                      <a:pt x="0" y="41"/>
                    </a:lnTo>
                    <a:lnTo>
                      <a:pt x="0" y="3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27" y="3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6907320" y="378216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6907320" y="3781800"/>
                <a:ext cx="7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6907320" y="3740040"/>
                <a:ext cx="5292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6816240" y="396612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V="1">
                <a:off x="6816240" y="3966120"/>
                <a:ext cx="46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6815880" y="396612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816240" y="3794040"/>
                <a:ext cx="91080" cy="178560"/>
              </a:xfrm>
              <a:custGeom>
                <a:avLst/>
                <a:gdLst/>
                <a:ahLst/>
                <a:rect l="l" t="t" r="r" b="b"/>
                <a:pathLst>
                  <a:path w="77" h="136">
                    <a:moveTo>
                      <a:pt x="0" y="136"/>
                    </a:moveTo>
                    <a:lnTo>
                      <a:pt x="4" y="131"/>
                    </a:lnTo>
                    <a:lnTo>
                      <a:pt x="45" y="95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6816240" y="396612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6820920" y="3918240"/>
                <a:ext cx="4860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6869520" y="3794040"/>
                <a:ext cx="3780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6901560" y="379404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6901560" y="378216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5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6901560" y="379404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6907320" y="3781800"/>
                <a:ext cx="7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6816240" y="3972600"/>
                <a:ext cx="1080" cy="504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6816240" y="3972600"/>
                <a:ext cx="10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6816240" y="397260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6816240" y="3794040"/>
                <a:ext cx="85320" cy="178560"/>
              </a:xfrm>
              <a:custGeom>
                <a:avLst/>
                <a:gdLst/>
                <a:ahLst/>
                <a:rect l="l" t="t" r="r" b="b"/>
                <a:pathLst>
                  <a:path w="72" h="136">
                    <a:moveTo>
                      <a:pt x="0" y="136"/>
                    </a:moveTo>
                    <a:lnTo>
                      <a:pt x="0" y="136"/>
                    </a:lnTo>
                    <a:lnTo>
                      <a:pt x="31" y="54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816240" y="397260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V="1">
                <a:off x="6816240" y="3864600"/>
                <a:ext cx="36720" cy="107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6852960" y="3794040"/>
                <a:ext cx="4860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901560" y="379404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901560" y="378216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01560" y="379404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V="1">
                <a:off x="6901560" y="378180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757200" y="3972600"/>
                <a:ext cx="59040" cy="75960"/>
              </a:xfrm>
              <a:custGeom>
                <a:avLst/>
                <a:gdLst/>
                <a:ahLst/>
                <a:rect l="l" t="t" r="r" b="b"/>
                <a:pathLst>
                  <a:path w="50" h="58">
                    <a:moveTo>
                      <a:pt x="0" y="58"/>
                    </a:moveTo>
                    <a:lnTo>
                      <a:pt x="0" y="58"/>
                    </a:lnTo>
                    <a:lnTo>
                      <a:pt x="50" y="4"/>
                    </a:lnTo>
                    <a:lnTo>
                      <a:pt x="45" y="0"/>
                    </a:lnTo>
                    <a:lnTo>
                      <a:pt x="18" y="13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V="1">
                <a:off x="6757200" y="3977640"/>
                <a:ext cx="5904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6778440" y="3972600"/>
                <a:ext cx="316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6757200" y="3989520"/>
                <a:ext cx="2088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778440" y="3923640"/>
                <a:ext cx="31680" cy="6552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0" y="50"/>
                    </a:moveTo>
                    <a:lnTo>
                      <a:pt x="27" y="37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V="1">
                <a:off x="6778440" y="3972240"/>
                <a:ext cx="316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6778440" y="3923640"/>
                <a:ext cx="208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10120" y="397260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810120" y="397260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816240" y="3972600"/>
                <a:ext cx="10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799680" y="3864960"/>
                <a:ext cx="53280" cy="107640"/>
              </a:xfrm>
              <a:custGeom>
                <a:avLst/>
                <a:gdLst/>
                <a:ahLst/>
                <a:rect l="l" t="t" r="r" b="b"/>
                <a:pathLst>
                  <a:path w="45" h="82">
                    <a:moveTo>
                      <a:pt x="14" y="82"/>
                    </a:moveTo>
                    <a:lnTo>
                      <a:pt x="9" y="82"/>
                    </a:lnTo>
                    <a:lnTo>
                      <a:pt x="0" y="45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14" y="8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6810120" y="397260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V="1">
                <a:off x="6799680" y="3864600"/>
                <a:ext cx="5328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6816240" y="3864960"/>
                <a:ext cx="36720" cy="107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703560" y="3989520"/>
                <a:ext cx="74520" cy="957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0" y="73"/>
                    </a:moveTo>
                    <a:lnTo>
                      <a:pt x="0" y="73"/>
                    </a:lnTo>
                    <a:lnTo>
                      <a:pt x="45" y="45"/>
                    </a:lnTo>
                    <a:lnTo>
                      <a:pt x="63" y="0"/>
                    </a:lnTo>
                    <a:lnTo>
                      <a:pt x="45" y="5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6703560" y="4048560"/>
                <a:ext cx="53280" cy="36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V="1">
                <a:off x="6757200" y="3989160"/>
                <a:ext cx="2088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6757200" y="398952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757200" y="3923640"/>
                <a:ext cx="42120" cy="72360"/>
              </a:xfrm>
              <a:custGeom>
                <a:avLst/>
                <a:gdLst/>
                <a:ahLst/>
                <a:rect l="l" t="t" r="r" b="b"/>
                <a:pathLst>
                  <a:path w="36" h="55">
                    <a:moveTo>
                      <a:pt x="0" y="55"/>
                    </a:moveTo>
                    <a:lnTo>
                      <a:pt x="18" y="5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V="1">
                <a:off x="6757200" y="398952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V="1">
                <a:off x="6778440" y="3923640"/>
                <a:ext cx="208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703560" y="3996360"/>
                <a:ext cx="53280" cy="89280"/>
              </a:xfrm>
              <a:custGeom>
                <a:avLst/>
                <a:gdLst/>
                <a:ahLst/>
                <a:rect l="l" t="t" r="r" b="b"/>
                <a:pathLst>
                  <a:path w="45" h="68">
                    <a:moveTo>
                      <a:pt x="0" y="68"/>
                    </a:moveTo>
                    <a:lnTo>
                      <a:pt x="0" y="68"/>
                    </a:lnTo>
                    <a:lnTo>
                      <a:pt x="31" y="9"/>
                    </a:lnTo>
                    <a:lnTo>
                      <a:pt x="45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>
                <a:off x="6703560" y="4007880"/>
                <a:ext cx="3672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6740280" y="3996000"/>
                <a:ext cx="165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740280" y="3923640"/>
                <a:ext cx="59040" cy="84240"/>
              </a:xfrm>
              <a:custGeom>
                <a:avLst/>
                <a:gdLst/>
                <a:ahLst/>
                <a:rect l="l" t="t" r="r" b="b"/>
                <a:pathLst>
                  <a:path w="50" h="64">
                    <a:moveTo>
                      <a:pt x="14" y="55"/>
                    </a:moveTo>
                    <a:lnTo>
                      <a:pt x="0" y="64"/>
                    </a:lnTo>
                    <a:lnTo>
                      <a:pt x="0" y="55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4" y="5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H="1">
                <a:off x="6740280" y="3996360"/>
                <a:ext cx="165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>
                <a:off x="6740280" y="3996000"/>
                <a:ext cx="7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6740280" y="3923280"/>
                <a:ext cx="59040" cy="72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644520" y="4008240"/>
                <a:ext cx="95760" cy="112680"/>
              </a:xfrm>
              <a:custGeom>
                <a:avLst/>
                <a:gdLst/>
                <a:ahLst/>
                <a:rect l="l" t="t" r="r" b="b"/>
                <a:pathLst>
                  <a:path w="81" h="86">
                    <a:moveTo>
                      <a:pt x="0" y="86"/>
                    </a:moveTo>
                    <a:lnTo>
                      <a:pt x="0" y="86"/>
                    </a:lnTo>
                    <a:lnTo>
                      <a:pt x="50" y="59"/>
                    </a:lnTo>
                    <a:lnTo>
                      <a:pt x="81" y="0"/>
                    </a:lnTo>
                    <a:lnTo>
                      <a:pt x="77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6644520" y="4085640"/>
                <a:ext cx="590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V="1">
                <a:off x="6703560" y="4007880"/>
                <a:ext cx="3672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6735240" y="400824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735600" y="3996360"/>
                <a:ext cx="468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735600" y="400824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V="1">
                <a:off x="6740280" y="3996000"/>
                <a:ext cx="7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644520" y="4008240"/>
                <a:ext cx="90720" cy="112680"/>
              </a:xfrm>
              <a:custGeom>
                <a:avLst/>
                <a:gdLst/>
                <a:ahLst/>
                <a:rect l="l" t="t" r="r" b="b"/>
                <a:pathLst>
                  <a:path w="77" h="86">
                    <a:moveTo>
                      <a:pt x="0" y="86"/>
                    </a:moveTo>
                    <a:lnTo>
                      <a:pt x="0" y="86"/>
                    </a:lnTo>
                    <a:lnTo>
                      <a:pt x="36" y="49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6644520" y="4072320"/>
                <a:ext cx="42480" cy="48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V="1">
                <a:off x="6687360" y="4008240"/>
                <a:ext cx="4824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735600" y="400824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735600" y="3996360"/>
                <a:ext cx="468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735600" y="400824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V="1">
                <a:off x="6735600" y="399600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591240" y="4072320"/>
                <a:ext cx="96120" cy="892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45" y="37"/>
                    </a:moveTo>
                    <a:lnTo>
                      <a:pt x="0" y="68"/>
                    </a:lnTo>
                    <a:lnTo>
                      <a:pt x="31" y="50"/>
                    </a:lnTo>
                    <a:lnTo>
                      <a:pt x="81" y="0"/>
                    </a:lnTo>
                    <a:lnTo>
                      <a:pt x="45" y="3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531840" y="4137840"/>
                <a:ext cx="95760" cy="60120"/>
              </a:xfrm>
              <a:custGeom>
                <a:avLst/>
                <a:gdLst/>
                <a:ahLst/>
                <a:rect l="l" t="t" r="r" b="b"/>
                <a:pathLst>
                  <a:path w="81" h="46">
                    <a:moveTo>
                      <a:pt x="50" y="18"/>
                    </a:moveTo>
                    <a:lnTo>
                      <a:pt x="0" y="46"/>
                    </a:lnTo>
                    <a:lnTo>
                      <a:pt x="31" y="41"/>
                    </a:lnTo>
                    <a:lnTo>
                      <a:pt x="81" y="0"/>
                    </a:lnTo>
                    <a:lnTo>
                      <a:pt x="50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472800" y="4191840"/>
                <a:ext cx="96120" cy="35280"/>
              </a:xfrm>
              <a:custGeom>
                <a:avLst/>
                <a:gdLst/>
                <a:ahLst/>
                <a:rect l="l" t="t" r="r" b="b"/>
                <a:pathLst>
                  <a:path w="81" h="27">
                    <a:moveTo>
                      <a:pt x="50" y="5"/>
                    </a:moveTo>
                    <a:lnTo>
                      <a:pt x="0" y="23"/>
                    </a:lnTo>
                    <a:lnTo>
                      <a:pt x="32" y="27"/>
                    </a:lnTo>
                    <a:lnTo>
                      <a:pt x="81" y="0"/>
                    </a:lnTo>
                    <a:lnTo>
                      <a:pt x="50" y="5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319520" y="4043520"/>
                <a:ext cx="91080" cy="16920"/>
              </a:xfrm>
              <a:custGeom>
                <a:avLst/>
                <a:gdLst/>
                <a:ahLst/>
                <a:rect l="l" t="t" r="r" b="b"/>
                <a:pathLst>
                  <a:path w="77" h="13">
                    <a:moveTo>
                      <a:pt x="41" y="0"/>
                    </a:moveTo>
                    <a:lnTo>
                      <a:pt x="0" y="0"/>
                    </a:lnTo>
                    <a:lnTo>
                      <a:pt x="37" y="13"/>
                    </a:lnTo>
                    <a:lnTo>
                      <a:pt x="77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272360" y="4019760"/>
                <a:ext cx="91080" cy="4068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40" y="18"/>
                    </a:moveTo>
                    <a:lnTo>
                      <a:pt x="0" y="0"/>
                    </a:lnTo>
                    <a:lnTo>
                      <a:pt x="36" y="9"/>
                    </a:lnTo>
                    <a:lnTo>
                      <a:pt x="77" y="31"/>
                    </a:lnTo>
                    <a:lnTo>
                      <a:pt x="40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223760" y="39121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77" h="91">
                    <a:moveTo>
                      <a:pt x="41" y="82"/>
                    </a:moveTo>
                    <a:lnTo>
                      <a:pt x="0" y="0"/>
                    </a:lnTo>
                    <a:lnTo>
                      <a:pt x="32" y="23"/>
                    </a:lnTo>
                    <a:lnTo>
                      <a:pt x="77" y="91"/>
                    </a:lnTo>
                    <a:lnTo>
                      <a:pt x="41" y="82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217640" y="39067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217640" y="390672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217640" y="390672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170480" y="3782160"/>
                <a:ext cx="47160" cy="124560"/>
              </a:xfrm>
              <a:custGeom>
                <a:avLst/>
                <a:gdLst/>
                <a:ahLst/>
                <a:rect l="l" t="t" r="r" b="b"/>
                <a:pathLst>
                  <a:path w="40" h="95">
                    <a:moveTo>
                      <a:pt x="40" y="95"/>
                    </a:moveTo>
                    <a:lnTo>
                      <a:pt x="40" y="9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0" y="9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217640" y="390672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 flipV="1">
                <a:off x="7170120" y="3781800"/>
                <a:ext cx="421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170480" y="3782160"/>
                <a:ext cx="471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217640" y="3906720"/>
                <a:ext cx="43560" cy="352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7" y="27"/>
                    </a:moveTo>
                    <a:lnTo>
                      <a:pt x="37" y="27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32" y="9"/>
                    </a:lnTo>
                    <a:lnTo>
                      <a:pt x="37" y="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 flipV="1">
                <a:off x="7223400" y="3911760"/>
                <a:ext cx="3780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217640" y="390672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255440" y="3918600"/>
                <a:ext cx="57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212960" y="3794040"/>
                <a:ext cx="42480" cy="124560"/>
              </a:xfrm>
              <a:custGeom>
                <a:avLst/>
                <a:gdLst/>
                <a:ahLst/>
                <a:rect l="l" t="t" r="r" b="b"/>
                <a:pathLst>
                  <a:path w="36" h="95">
                    <a:moveTo>
                      <a:pt x="36" y="95"/>
                    </a:moveTo>
                    <a:lnTo>
                      <a:pt x="4" y="8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9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H="1" flipV="1">
                <a:off x="7217280" y="390636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212960" y="3794040"/>
                <a:ext cx="424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126560" y="3751920"/>
                <a:ext cx="43560" cy="2988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37" y="23"/>
                    </a:moveTo>
                    <a:lnTo>
                      <a:pt x="37" y="23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7" y="2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H="1" flipV="1">
                <a:off x="7126200" y="3751560"/>
                <a:ext cx="4356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126560" y="3751920"/>
                <a:ext cx="378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121880" y="3728160"/>
                <a:ext cx="42480" cy="2376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8"/>
                    </a:moveTo>
                    <a:lnTo>
                      <a:pt x="4" y="18"/>
                    </a:lnTo>
                    <a:lnTo>
                      <a:pt x="0" y="1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H="1">
                <a:off x="7126200" y="3751920"/>
                <a:ext cx="378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H="1" flipV="1">
                <a:off x="7121520" y="3746520"/>
                <a:ext cx="4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7121880" y="3727800"/>
                <a:ext cx="424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164720" y="3751920"/>
                <a:ext cx="48240" cy="4176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41" y="32"/>
                    </a:moveTo>
                    <a:lnTo>
                      <a:pt x="41" y="32"/>
                    </a:lnTo>
                    <a:lnTo>
                      <a:pt x="5" y="23"/>
                    </a:lnTo>
                    <a:lnTo>
                      <a:pt x="0" y="0"/>
                    </a:lnTo>
                    <a:lnTo>
                      <a:pt x="18" y="5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H="1" flipV="1">
                <a:off x="7170120" y="3781800"/>
                <a:ext cx="421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164720" y="375192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185600" y="3758400"/>
                <a:ext cx="2700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164720" y="3728160"/>
                <a:ext cx="20880" cy="3024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23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 flipV="1">
                <a:off x="7164720" y="375192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164720" y="3728160"/>
                <a:ext cx="2088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068240" y="3751920"/>
                <a:ext cx="42480" cy="417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0" y="32"/>
                    </a:moveTo>
                    <a:lnTo>
                      <a:pt x="0" y="32"/>
                    </a:lnTo>
                    <a:lnTo>
                      <a:pt x="36" y="0"/>
                    </a:lnTo>
                    <a:lnTo>
                      <a:pt x="4" y="9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7068240" y="3751920"/>
                <a:ext cx="4248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H="1">
                <a:off x="7072920" y="375192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7067880" y="3763800"/>
                <a:ext cx="468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073280" y="3591720"/>
                <a:ext cx="48600" cy="172080"/>
              </a:xfrm>
              <a:custGeom>
                <a:avLst/>
                <a:gdLst/>
                <a:ahLst/>
                <a:rect l="l" t="t" r="r" b="b"/>
                <a:pathLst>
                  <a:path w="41" h="131">
                    <a:moveTo>
                      <a:pt x="0" y="131"/>
                    </a:moveTo>
                    <a:lnTo>
                      <a:pt x="32" y="122"/>
                    </a:lnTo>
                    <a:lnTo>
                      <a:pt x="41" y="118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7073280" y="375156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V="1">
                <a:off x="7111080" y="37465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>
                <a:off x="7105320" y="35917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H="1">
                <a:off x="7073280" y="3591720"/>
                <a:ext cx="31680" cy="172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105320" y="357984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5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105320" y="35917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H="1">
                <a:off x="7105320" y="357984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111080" y="3591720"/>
                <a:ext cx="53280" cy="154800"/>
              </a:xfrm>
              <a:custGeom>
                <a:avLst/>
                <a:gdLst/>
                <a:ahLst/>
                <a:rect l="l" t="t" r="r" b="b"/>
                <a:pathLst>
                  <a:path w="45" h="118">
                    <a:moveTo>
                      <a:pt x="9" y="118"/>
                    </a:moveTo>
                    <a:lnTo>
                      <a:pt x="9" y="118"/>
                    </a:lnTo>
                    <a:lnTo>
                      <a:pt x="45" y="10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9" y="1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7121880" y="3727800"/>
                <a:ext cx="424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H="1" flipV="1">
                <a:off x="7115400" y="3591720"/>
                <a:ext cx="48600" cy="136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>
                <a:off x="7110720" y="35917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111080" y="3579840"/>
                <a:ext cx="468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111080" y="35917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 flipV="1">
                <a:off x="7110720" y="357948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014240" y="3763800"/>
                <a:ext cx="54000" cy="586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0" y="45"/>
                    </a:moveTo>
                    <a:lnTo>
                      <a:pt x="0" y="45"/>
                    </a:lnTo>
                    <a:lnTo>
                      <a:pt x="46" y="23"/>
                    </a:lnTo>
                    <a:lnTo>
                      <a:pt x="46" y="0"/>
                    </a:lnTo>
                    <a:lnTo>
                      <a:pt x="5" y="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7014240" y="3794040"/>
                <a:ext cx="5400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H="1">
                <a:off x="7020000" y="3763800"/>
                <a:ext cx="482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7014240" y="3775320"/>
                <a:ext cx="57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020000" y="3596760"/>
                <a:ext cx="48240" cy="178560"/>
              </a:xfrm>
              <a:custGeom>
                <a:avLst/>
                <a:gdLst/>
                <a:ahLst/>
                <a:rect l="l" t="t" r="r" b="b"/>
                <a:pathLst>
                  <a:path w="41" h="136">
                    <a:moveTo>
                      <a:pt x="0" y="136"/>
                    </a:moveTo>
                    <a:lnTo>
                      <a:pt x="41" y="127"/>
                    </a:lnTo>
                    <a:lnTo>
                      <a:pt x="36" y="0"/>
                    </a:lnTo>
                    <a:lnTo>
                      <a:pt x="18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V="1">
                <a:off x="7020000" y="3763800"/>
                <a:ext cx="482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>
                <a:off x="7041240" y="3596760"/>
                <a:ext cx="20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7020000" y="3596760"/>
                <a:ext cx="2088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041240" y="3460320"/>
                <a:ext cx="20880" cy="136080"/>
              </a:xfrm>
              <a:custGeom>
                <a:avLst/>
                <a:gdLst/>
                <a:ahLst/>
                <a:rect l="l" t="t" r="r" b="b"/>
                <a:pathLst>
                  <a:path w="18" h="104">
                    <a:moveTo>
                      <a:pt x="0" y="104"/>
                    </a:moveTo>
                    <a:lnTo>
                      <a:pt x="18" y="10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041240" y="3596760"/>
                <a:ext cx="20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>
                <a:off x="7041240" y="3460320"/>
                <a:ext cx="15120" cy="136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068240" y="3763800"/>
                <a:ext cx="4680" cy="29880"/>
              </a:xfrm>
              <a:custGeom>
                <a:avLst/>
                <a:gdLst/>
                <a:ahLst/>
                <a:rect l="l" t="t" r="r" b="b"/>
                <a:pathLst>
                  <a:path w="4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7068240" y="3763440"/>
                <a:ext cx="468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>
                <a:off x="7067880" y="376380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062480" y="3591720"/>
                <a:ext cx="42480" cy="172080"/>
              </a:xfrm>
              <a:custGeom>
                <a:avLst/>
                <a:gdLst/>
                <a:ahLst/>
                <a:rect l="l" t="t" r="r" b="b"/>
                <a:pathLst>
                  <a:path w="36" h="131">
                    <a:moveTo>
                      <a:pt x="5" y="131"/>
                    </a:moveTo>
                    <a:lnTo>
                      <a:pt x="9" y="131"/>
                    </a:lnTo>
                    <a:lnTo>
                      <a:pt x="36" y="0"/>
                    </a:lnTo>
                    <a:lnTo>
                      <a:pt x="0" y="4"/>
                    </a:lnTo>
                    <a:lnTo>
                      <a:pt x="5" y="1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068240" y="376380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7073280" y="3591720"/>
                <a:ext cx="31680" cy="172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7062480" y="3591720"/>
                <a:ext cx="42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56720" y="3460320"/>
                <a:ext cx="54360" cy="136080"/>
              </a:xfrm>
              <a:custGeom>
                <a:avLst/>
                <a:gdLst/>
                <a:ahLst/>
                <a:rect l="l" t="t" r="r" b="b"/>
                <a:pathLst>
                  <a:path w="46" h="104">
                    <a:moveTo>
                      <a:pt x="5" y="104"/>
                    </a:moveTo>
                    <a:lnTo>
                      <a:pt x="41" y="100"/>
                    </a:lnTo>
                    <a:lnTo>
                      <a:pt x="46" y="9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10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7062480" y="3591720"/>
                <a:ext cx="42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V="1">
                <a:off x="7105320" y="357948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H="1" flipV="1">
                <a:off x="7056360" y="3459960"/>
                <a:ext cx="5436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987960" y="3775320"/>
                <a:ext cx="25920" cy="4716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22" y="36"/>
                    </a:moveTo>
                    <a:lnTo>
                      <a:pt x="22" y="3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 flipV="1">
                <a:off x="6987960" y="3774960"/>
                <a:ext cx="2592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987960" y="3775320"/>
                <a:ext cx="25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960600" y="3603600"/>
                <a:ext cx="53280" cy="171720"/>
              </a:xfrm>
              <a:custGeom>
                <a:avLst/>
                <a:gdLst/>
                <a:ahLst/>
                <a:rect l="l" t="t" r="r" b="b"/>
                <a:pathLst>
                  <a:path w="45" h="131">
                    <a:moveTo>
                      <a:pt x="45" y="131"/>
                    </a:moveTo>
                    <a:lnTo>
                      <a:pt x="23" y="131"/>
                    </a:lnTo>
                    <a:lnTo>
                      <a:pt x="0" y="104"/>
                    </a:lnTo>
                    <a:lnTo>
                      <a:pt x="9" y="0"/>
                    </a:lnTo>
                    <a:lnTo>
                      <a:pt x="41" y="0"/>
                    </a:lnTo>
                    <a:lnTo>
                      <a:pt x="45" y="1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H="1">
                <a:off x="6987960" y="3775320"/>
                <a:ext cx="25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 flipV="1">
                <a:off x="6960600" y="3740040"/>
                <a:ext cx="273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6960600" y="3603600"/>
                <a:ext cx="10440" cy="136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971400" y="3603600"/>
                <a:ext cx="378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971400" y="3425040"/>
                <a:ext cx="37800" cy="178560"/>
              </a:xfrm>
              <a:custGeom>
                <a:avLst/>
                <a:gdLst/>
                <a:ahLst/>
                <a:rect l="l" t="t" r="r" b="b"/>
                <a:pathLst>
                  <a:path w="32" h="136">
                    <a:moveTo>
                      <a:pt x="32" y="136"/>
                    </a:moveTo>
                    <a:lnTo>
                      <a:pt x="0" y="136"/>
                    </a:lnTo>
                    <a:lnTo>
                      <a:pt x="14" y="0"/>
                    </a:lnTo>
                    <a:lnTo>
                      <a:pt x="27" y="0"/>
                    </a:lnTo>
                    <a:lnTo>
                      <a:pt x="32" y="13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6510960" y="3205080"/>
              <a:ext cx="943560" cy="1022040"/>
              <a:chOff x="6510960" y="3205080"/>
              <a:chExt cx="943560" cy="1022040"/>
            </a:xfrm>
          </p:grpSpPr>
          <p:sp>
            <p:nvSpPr>
              <p:cNvPr id="1847" name=""/>
              <p:cNvSpPr/>
              <p:nvPr/>
            </p:nvSpPr>
            <p:spPr>
              <a:xfrm flipH="1">
                <a:off x="6971040" y="3603600"/>
                <a:ext cx="378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V="1">
                <a:off x="6971400" y="3424680"/>
                <a:ext cx="1656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988320" y="3424680"/>
                <a:ext cx="151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88320" y="3269520"/>
                <a:ext cx="15120" cy="155160"/>
              </a:xfrm>
              <a:custGeom>
                <a:avLst/>
                <a:gdLst/>
                <a:ahLst/>
                <a:rect l="l" t="t" r="r" b="b"/>
                <a:pathLst>
                  <a:path w="13" h="118">
                    <a:moveTo>
                      <a:pt x="13" y="118"/>
                    </a:moveTo>
                    <a:lnTo>
                      <a:pt x="0" y="118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1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6988320" y="3424680"/>
                <a:ext cx="151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V="1">
                <a:off x="6988320" y="3269160"/>
                <a:ext cx="15120" cy="155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014240" y="3775320"/>
                <a:ext cx="5760" cy="47160"/>
              </a:xfrm>
              <a:custGeom>
                <a:avLst/>
                <a:gdLst/>
                <a:ahLst/>
                <a:rect l="l" t="t" r="r" b="b"/>
                <a:pathLst>
                  <a:path w="5" h="36">
                    <a:moveTo>
                      <a:pt x="0" y="36"/>
                    </a:moveTo>
                    <a:lnTo>
                      <a:pt x="0" y="3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V="1">
                <a:off x="7014240" y="3774960"/>
                <a:ext cx="57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7014240" y="377532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009560" y="3596760"/>
                <a:ext cx="31680" cy="178560"/>
              </a:xfrm>
              <a:custGeom>
                <a:avLst/>
                <a:gdLst/>
                <a:ahLst/>
                <a:rect l="l" t="t" r="r" b="b"/>
                <a:pathLst>
                  <a:path w="27" h="136">
                    <a:moveTo>
                      <a:pt x="4" y="136"/>
                    </a:moveTo>
                    <a:lnTo>
                      <a:pt x="9" y="136"/>
                    </a:lnTo>
                    <a:lnTo>
                      <a:pt x="27" y="0"/>
                    </a:lnTo>
                    <a:lnTo>
                      <a:pt x="0" y="5"/>
                    </a:lnTo>
                    <a:lnTo>
                      <a:pt x="4" y="13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014240" y="377532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V="1">
                <a:off x="7020000" y="3596760"/>
                <a:ext cx="2088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H="1">
                <a:off x="7009560" y="3596760"/>
                <a:ext cx="316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003440" y="3424680"/>
                <a:ext cx="52920" cy="178560"/>
              </a:xfrm>
              <a:custGeom>
                <a:avLst/>
                <a:gdLst/>
                <a:ahLst/>
                <a:rect l="l" t="t" r="r" b="b"/>
                <a:pathLst>
                  <a:path w="45" h="136">
                    <a:moveTo>
                      <a:pt x="5" y="136"/>
                    </a:moveTo>
                    <a:lnTo>
                      <a:pt x="32" y="131"/>
                    </a:lnTo>
                    <a:lnTo>
                      <a:pt x="45" y="27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5" y="13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V="1">
                <a:off x="7009560" y="3596400"/>
                <a:ext cx="316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V="1">
                <a:off x="7041240" y="3460320"/>
                <a:ext cx="15120" cy="136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 flipV="1">
                <a:off x="7045920" y="342468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7003440" y="342468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003440" y="3269520"/>
                <a:ext cx="42480" cy="155160"/>
              </a:xfrm>
              <a:custGeom>
                <a:avLst/>
                <a:gdLst/>
                <a:ahLst/>
                <a:rect l="l" t="t" r="r" b="b"/>
                <a:pathLst>
                  <a:path w="36" h="118">
                    <a:moveTo>
                      <a:pt x="0" y="118"/>
                    </a:moveTo>
                    <a:lnTo>
                      <a:pt x="36" y="1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003440" y="342468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H="1" flipV="1">
                <a:off x="7003440" y="3269160"/>
                <a:ext cx="42480" cy="155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907680" y="3603600"/>
                <a:ext cx="63720" cy="178200"/>
              </a:xfrm>
              <a:custGeom>
                <a:avLst/>
                <a:gdLst/>
                <a:ahLst/>
                <a:rect l="l" t="t" r="r" b="b"/>
                <a:pathLst>
                  <a:path w="54" h="136">
                    <a:moveTo>
                      <a:pt x="0" y="136"/>
                    </a:moveTo>
                    <a:lnTo>
                      <a:pt x="0" y="136"/>
                    </a:lnTo>
                    <a:lnTo>
                      <a:pt x="45" y="104"/>
                    </a:lnTo>
                    <a:lnTo>
                      <a:pt x="54" y="0"/>
                    </a:lnTo>
                    <a:lnTo>
                      <a:pt x="27" y="4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V="1">
                <a:off x="6907680" y="3740040"/>
                <a:ext cx="5292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V="1">
                <a:off x="6960600" y="3603600"/>
                <a:ext cx="10440" cy="136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6939360" y="360360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939360" y="3424680"/>
                <a:ext cx="48600" cy="183600"/>
              </a:xfrm>
              <a:custGeom>
                <a:avLst/>
                <a:gdLst/>
                <a:ahLst/>
                <a:rect l="l" t="t" r="r" b="b"/>
                <a:pathLst>
                  <a:path w="41" h="140">
                    <a:moveTo>
                      <a:pt x="0" y="140"/>
                    </a:moveTo>
                    <a:lnTo>
                      <a:pt x="27" y="136"/>
                    </a:lnTo>
                    <a:lnTo>
                      <a:pt x="41" y="0"/>
                    </a:lnTo>
                    <a:lnTo>
                      <a:pt x="27" y="5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6939360" y="360360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V="1">
                <a:off x="6971400" y="3424680"/>
                <a:ext cx="1656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>
                <a:off x="6971400" y="342468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971400" y="3269520"/>
                <a:ext cx="31680" cy="161640"/>
              </a:xfrm>
              <a:custGeom>
                <a:avLst/>
                <a:gdLst/>
                <a:ahLst/>
                <a:rect l="l" t="t" r="r" b="b"/>
                <a:pathLst>
                  <a:path w="27" h="123">
                    <a:moveTo>
                      <a:pt x="0" y="123"/>
                    </a:moveTo>
                    <a:lnTo>
                      <a:pt x="14" y="118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V="1">
                <a:off x="6971400" y="342468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6988320" y="3269160"/>
                <a:ext cx="15120" cy="155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907680" y="3608640"/>
                <a:ext cx="31680" cy="173160"/>
              </a:xfrm>
              <a:custGeom>
                <a:avLst/>
                <a:gdLst/>
                <a:ahLst/>
                <a:rect l="l" t="t" r="r" b="b"/>
                <a:pathLst>
                  <a:path w="27" h="132">
                    <a:moveTo>
                      <a:pt x="0" y="132"/>
                    </a:moveTo>
                    <a:lnTo>
                      <a:pt x="0" y="132"/>
                    </a:lnTo>
                    <a:lnTo>
                      <a:pt x="18" y="5"/>
                    </a:lnTo>
                    <a:lnTo>
                      <a:pt x="27" y="0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V="1">
                <a:off x="6907680" y="3614760"/>
                <a:ext cx="2088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V="1">
                <a:off x="6928920" y="36086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6928920" y="3431520"/>
                <a:ext cx="42480" cy="183600"/>
              </a:xfrm>
              <a:custGeom>
                <a:avLst/>
                <a:gdLst/>
                <a:ahLst/>
                <a:rect l="l" t="t" r="r" b="b"/>
                <a:pathLst>
                  <a:path w="36" h="140">
                    <a:moveTo>
                      <a:pt x="9" y="135"/>
                    </a:moveTo>
                    <a:lnTo>
                      <a:pt x="0" y="140"/>
                    </a:lnTo>
                    <a:lnTo>
                      <a:pt x="18" y="49"/>
                    </a:lnTo>
                    <a:lnTo>
                      <a:pt x="27" y="4"/>
                    </a:lnTo>
                    <a:lnTo>
                      <a:pt x="36" y="0"/>
                    </a:lnTo>
                    <a:lnTo>
                      <a:pt x="9" y="13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H="1">
                <a:off x="6928560" y="36086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V="1">
                <a:off x="6928920" y="3495240"/>
                <a:ext cx="2124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V="1">
                <a:off x="6950160" y="3436560"/>
                <a:ext cx="1044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V="1">
                <a:off x="6960600" y="34315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960600" y="3269520"/>
                <a:ext cx="42480" cy="166680"/>
              </a:xfrm>
              <a:custGeom>
                <a:avLst/>
                <a:gdLst/>
                <a:ahLst/>
                <a:rect l="l" t="t" r="r" b="b"/>
                <a:pathLst>
                  <a:path w="36" h="127">
                    <a:moveTo>
                      <a:pt x="9" y="123"/>
                    </a:moveTo>
                    <a:lnTo>
                      <a:pt x="0" y="127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9" y="123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6960240" y="34315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V="1">
                <a:off x="6960600" y="3269160"/>
                <a:ext cx="4248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852960" y="3794040"/>
                <a:ext cx="48600" cy="70560"/>
              </a:xfrm>
              <a:custGeom>
                <a:avLst/>
                <a:gdLst/>
                <a:ahLst/>
                <a:rect l="l" t="t" r="r" b="b"/>
                <a:pathLst>
                  <a:path w="41" h="54">
                    <a:moveTo>
                      <a:pt x="0" y="54"/>
                    </a:moveTo>
                    <a:lnTo>
                      <a:pt x="0" y="54"/>
                    </a:lnTo>
                    <a:lnTo>
                      <a:pt x="41" y="0"/>
                    </a:lnTo>
                    <a:lnTo>
                      <a:pt x="14" y="9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6852960" y="3794040"/>
                <a:ext cx="4860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H="1">
                <a:off x="6869520" y="379404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869520" y="3615120"/>
                <a:ext cx="59040" cy="190440"/>
              </a:xfrm>
              <a:custGeom>
                <a:avLst/>
                <a:gdLst/>
                <a:ahLst/>
                <a:rect l="l" t="t" r="r" b="b"/>
                <a:pathLst>
                  <a:path w="50" h="145">
                    <a:moveTo>
                      <a:pt x="0" y="145"/>
                    </a:moveTo>
                    <a:lnTo>
                      <a:pt x="27" y="136"/>
                    </a:lnTo>
                    <a:lnTo>
                      <a:pt x="32" y="127"/>
                    </a:lnTo>
                    <a:lnTo>
                      <a:pt x="50" y="0"/>
                    </a:lnTo>
                    <a:lnTo>
                      <a:pt x="41" y="4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V="1">
                <a:off x="6869520" y="379368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6901560" y="378180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V="1">
                <a:off x="6907680" y="3614760"/>
                <a:ext cx="2088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H="1">
                <a:off x="6917760" y="36151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918120" y="3495600"/>
                <a:ext cx="32040" cy="124560"/>
              </a:xfrm>
              <a:custGeom>
                <a:avLst/>
                <a:gdLst/>
                <a:ahLst/>
                <a:rect l="l" t="t" r="r" b="b"/>
                <a:pathLst>
                  <a:path w="27" h="95">
                    <a:moveTo>
                      <a:pt x="0" y="95"/>
                    </a:moveTo>
                    <a:lnTo>
                      <a:pt x="9" y="9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V="1">
                <a:off x="6918120" y="36151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V="1">
                <a:off x="6928920" y="3495240"/>
                <a:ext cx="2124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852960" y="3805920"/>
                <a:ext cx="16560" cy="58680"/>
              </a:xfrm>
              <a:custGeom>
                <a:avLst/>
                <a:gdLst/>
                <a:ahLst/>
                <a:rect l="l" t="t" r="r" b="b"/>
                <a:pathLst>
                  <a:path w="14" h="45">
                    <a:moveTo>
                      <a:pt x="0" y="45"/>
                    </a:moveTo>
                    <a:lnTo>
                      <a:pt x="0" y="45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6852960" y="3805560"/>
                <a:ext cx="1044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863760" y="38059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6863760" y="3620520"/>
                <a:ext cx="54000" cy="185040"/>
              </a:xfrm>
              <a:custGeom>
                <a:avLst/>
                <a:gdLst/>
                <a:ahLst/>
                <a:rect l="l" t="t" r="r" b="b"/>
                <a:pathLst>
                  <a:path w="46" h="141">
                    <a:moveTo>
                      <a:pt x="5" y="141"/>
                    </a:moveTo>
                    <a:lnTo>
                      <a:pt x="0" y="141"/>
                    </a:lnTo>
                    <a:lnTo>
                      <a:pt x="23" y="5"/>
                    </a:lnTo>
                    <a:lnTo>
                      <a:pt x="46" y="0"/>
                    </a:lnTo>
                    <a:lnTo>
                      <a:pt x="5" y="14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H="1">
                <a:off x="6863760" y="38059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6863760" y="3627000"/>
                <a:ext cx="2700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V="1">
                <a:off x="6890760" y="3620520"/>
                <a:ext cx="270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6890760" y="3495600"/>
                <a:ext cx="59040" cy="131040"/>
              </a:xfrm>
              <a:custGeom>
                <a:avLst/>
                <a:gdLst/>
                <a:ahLst/>
                <a:rect l="l" t="t" r="r" b="b"/>
                <a:pathLst>
                  <a:path w="50" h="100">
                    <a:moveTo>
                      <a:pt x="23" y="95"/>
                    </a:moveTo>
                    <a:lnTo>
                      <a:pt x="0" y="100"/>
                    </a:lnTo>
                    <a:lnTo>
                      <a:pt x="0" y="86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23" y="9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6890400" y="3620520"/>
                <a:ext cx="270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V="1">
                <a:off x="6890760" y="3608280"/>
                <a:ext cx="72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V="1">
                <a:off x="6890760" y="3495240"/>
                <a:ext cx="5904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799680" y="3805920"/>
                <a:ext cx="64080" cy="117720"/>
              </a:xfrm>
              <a:custGeom>
                <a:avLst/>
                <a:gdLst/>
                <a:ahLst/>
                <a:rect l="l" t="t" r="r" b="b"/>
                <a:pathLst>
                  <a:path w="54" h="90">
                    <a:moveTo>
                      <a:pt x="0" y="90"/>
                    </a:moveTo>
                    <a:lnTo>
                      <a:pt x="0" y="90"/>
                    </a:lnTo>
                    <a:lnTo>
                      <a:pt x="45" y="45"/>
                    </a:lnTo>
                    <a:lnTo>
                      <a:pt x="54" y="0"/>
                    </a:lnTo>
                    <a:lnTo>
                      <a:pt x="27" y="4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V="1">
                <a:off x="6799680" y="3864600"/>
                <a:ext cx="5328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V="1">
                <a:off x="6852960" y="3805560"/>
                <a:ext cx="1044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H="1">
                <a:off x="6831720" y="380592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6831720" y="3627000"/>
                <a:ext cx="59040" cy="183600"/>
              </a:xfrm>
              <a:custGeom>
                <a:avLst/>
                <a:gdLst/>
                <a:ahLst/>
                <a:rect l="l" t="t" r="r" b="b"/>
                <a:pathLst>
                  <a:path w="50" h="140">
                    <a:moveTo>
                      <a:pt x="0" y="140"/>
                    </a:moveTo>
                    <a:lnTo>
                      <a:pt x="27" y="136"/>
                    </a:lnTo>
                    <a:lnTo>
                      <a:pt x="50" y="0"/>
                    </a:lnTo>
                    <a:lnTo>
                      <a:pt x="46" y="5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V="1">
                <a:off x="6831720" y="380592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V="1">
                <a:off x="6863760" y="3627000"/>
                <a:ext cx="2700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6885720" y="362700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886080" y="3608640"/>
                <a:ext cx="4680" cy="2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0" y="19"/>
                    </a:moveTo>
                    <a:lnTo>
                      <a:pt x="4" y="1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6886080" y="362700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6890760" y="3608280"/>
                <a:ext cx="72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799680" y="3810960"/>
                <a:ext cx="32040" cy="112680"/>
              </a:xfrm>
              <a:custGeom>
                <a:avLst/>
                <a:gdLst/>
                <a:ahLst/>
                <a:rect l="l" t="t" r="r" b="b"/>
                <a:pathLst>
                  <a:path w="27" h="86">
                    <a:moveTo>
                      <a:pt x="0" y="86"/>
                    </a:moveTo>
                    <a:lnTo>
                      <a:pt x="0" y="86"/>
                    </a:lnTo>
                    <a:lnTo>
                      <a:pt x="23" y="9"/>
                    </a:lnTo>
                    <a:lnTo>
                      <a:pt x="27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V="1">
                <a:off x="6799680" y="3822840"/>
                <a:ext cx="2736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V="1">
                <a:off x="6827040" y="381060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827040" y="3633480"/>
                <a:ext cx="59040" cy="189000"/>
              </a:xfrm>
              <a:custGeom>
                <a:avLst/>
                <a:gdLst/>
                <a:ahLst/>
                <a:rect l="l" t="t" r="r" b="b"/>
                <a:pathLst>
                  <a:path w="50" h="144">
                    <a:moveTo>
                      <a:pt x="4" y="135"/>
                    </a:moveTo>
                    <a:lnTo>
                      <a:pt x="0" y="144"/>
                    </a:lnTo>
                    <a:lnTo>
                      <a:pt x="9" y="117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" y="13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>
                <a:off x="6826680" y="381096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V="1">
                <a:off x="6827040" y="378720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V="1">
                <a:off x="6837840" y="3633480"/>
                <a:ext cx="48240" cy="153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886080" y="363348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886080" y="3608640"/>
                <a:ext cx="4680" cy="2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0" y="19"/>
                    </a:moveTo>
                    <a:lnTo>
                      <a:pt x="0" y="1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886080" y="363348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V="1">
                <a:off x="6886080" y="3608280"/>
                <a:ext cx="46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740640" y="3859560"/>
                <a:ext cx="59040" cy="136440"/>
              </a:xfrm>
              <a:custGeom>
                <a:avLst/>
                <a:gdLst/>
                <a:ahLst/>
                <a:rect l="l" t="t" r="r" b="b"/>
                <a:pathLst>
                  <a:path w="50" h="104">
                    <a:moveTo>
                      <a:pt x="0" y="104"/>
                    </a:moveTo>
                    <a:lnTo>
                      <a:pt x="50" y="49"/>
                    </a:lnTo>
                    <a:lnTo>
                      <a:pt x="37" y="0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740640" y="3859560"/>
                <a:ext cx="59040" cy="1364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11" y="11"/>
                    </a:moveTo>
                    <a:lnTo>
                      <a:pt x="0" y="23"/>
                    </a:lnTo>
                    <a:lnTo>
                      <a:pt x="8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784200" y="3822840"/>
                <a:ext cx="42480" cy="100800"/>
              </a:xfrm>
              <a:custGeom>
                <a:avLst/>
                <a:gdLst/>
                <a:ahLst/>
                <a:rect l="l" t="t" r="r" b="b"/>
                <a:pathLst>
                  <a:path w="36" h="77">
                    <a:moveTo>
                      <a:pt x="13" y="77"/>
                    </a:moveTo>
                    <a:lnTo>
                      <a:pt x="13" y="77"/>
                    </a:lnTo>
                    <a:lnTo>
                      <a:pt x="0" y="28"/>
                    </a:lnTo>
                    <a:lnTo>
                      <a:pt x="18" y="9"/>
                    </a:lnTo>
                    <a:lnTo>
                      <a:pt x="36" y="0"/>
                    </a:lnTo>
                    <a:lnTo>
                      <a:pt x="13" y="7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V="1">
                <a:off x="6784200" y="3834720"/>
                <a:ext cx="21240" cy="24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flipV="1">
                <a:off x="6805800" y="3822480"/>
                <a:ext cx="208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H="1">
                <a:off x="6799680" y="3822840"/>
                <a:ext cx="2736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805800" y="3787200"/>
                <a:ext cx="31680" cy="4716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8" y="27"/>
                    </a:moveTo>
                    <a:lnTo>
                      <a:pt x="0" y="3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H="1">
                <a:off x="6805800" y="3822840"/>
                <a:ext cx="208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flipV="1">
                <a:off x="6805800" y="3786840"/>
                <a:ext cx="316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H="1">
                <a:off x="6826680" y="378720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687360" y="4008240"/>
                <a:ext cx="48240" cy="6408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49"/>
                    </a:moveTo>
                    <a:lnTo>
                      <a:pt x="0" y="49"/>
                    </a:lnTo>
                    <a:lnTo>
                      <a:pt x="41" y="0"/>
                    </a:lnTo>
                    <a:lnTo>
                      <a:pt x="18" y="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6687360" y="4008240"/>
                <a:ext cx="4824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>
                <a:off x="6708240" y="4008240"/>
                <a:ext cx="2700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6708600" y="3859560"/>
                <a:ext cx="75600" cy="160200"/>
              </a:xfrm>
              <a:custGeom>
                <a:avLst/>
                <a:gdLst/>
                <a:ahLst/>
                <a:rect l="l" t="t" r="r" b="b"/>
                <a:pathLst>
                  <a:path w="64" h="122">
                    <a:moveTo>
                      <a:pt x="0" y="122"/>
                    </a:moveTo>
                    <a:lnTo>
                      <a:pt x="23" y="113"/>
                    </a:lnTo>
                    <a:lnTo>
                      <a:pt x="27" y="10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V="1">
                <a:off x="6708600" y="4008240"/>
                <a:ext cx="2700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V="1">
                <a:off x="6735600" y="399600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V="1">
                <a:off x="6740640" y="3859200"/>
                <a:ext cx="4356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6687360" y="4019760"/>
                <a:ext cx="20880" cy="52560"/>
              </a:xfrm>
              <a:custGeom>
                <a:avLst/>
                <a:gdLst/>
                <a:ahLst/>
                <a:rect l="l" t="t" r="r" b="b"/>
                <a:pathLst>
                  <a:path w="18" h="40">
                    <a:moveTo>
                      <a:pt x="0" y="40"/>
                    </a:moveTo>
                    <a:lnTo>
                      <a:pt x="0" y="40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V="1">
                <a:off x="6687360" y="4024800"/>
                <a:ext cx="208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flipV="1">
                <a:off x="6708600" y="40197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708600" y="3859560"/>
                <a:ext cx="75600" cy="165600"/>
              </a:xfrm>
              <a:custGeom>
                <a:avLst/>
                <a:gdLst/>
                <a:ahLst/>
                <a:rect l="l" t="t" r="r" b="b"/>
                <a:pathLst>
                  <a:path w="64" h="126">
                    <a:moveTo>
                      <a:pt x="0" y="122"/>
                    </a:moveTo>
                    <a:lnTo>
                      <a:pt x="0" y="126"/>
                    </a:lnTo>
                    <a:lnTo>
                      <a:pt x="14" y="10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708600" y="40197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6708600" y="3996360"/>
                <a:ext cx="1656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6725160" y="3859200"/>
                <a:ext cx="5904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6627960" y="4025160"/>
                <a:ext cx="80280" cy="112680"/>
              </a:xfrm>
              <a:custGeom>
                <a:avLst/>
                <a:gdLst/>
                <a:ahLst/>
                <a:rect l="l" t="t" r="r" b="b"/>
                <a:pathLst>
                  <a:path w="68" h="86">
                    <a:moveTo>
                      <a:pt x="0" y="86"/>
                    </a:moveTo>
                    <a:lnTo>
                      <a:pt x="0" y="86"/>
                    </a:lnTo>
                    <a:lnTo>
                      <a:pt x="50" y="36"/>
                    </a:lnTo>
                    <a:lnTo>
                      <a:pt x="68" y="0"/>
                    </a:lnTo>
                    <a:lnTo>
                      <a:pt x="59" y="5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V="1">
                <a:off x="6627960" y="4072320"/>
                <a:ext cx="5904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V="1">
                <a:off x="6687360" y="4024800"/>
                <a:ext cx="208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H="1">
                <a:off x="6697440" y="402516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697800" y="3996360"/>
                <a:ext cx="27360" cy="352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27"/>
                    </a:moveTo>
                    <a:lnTo>
                      <a:pt x="9" y="22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>
                <a:off x="6697800" y="402516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flipV="1">
                <a:off x="6708600" y="3996360"/>
                <a:ext cx="1656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627960" y="4031640"/>
                <a:ext cx="75600" cy="106200"/>
              </a:xfrm>
              <a:custGeom>
                <a:avLst/>
                <a:gdLst/>
                <a:ahLst/>
                <a:rect l="l" t="t" r="r" b="b"/>
                <a:pathLst>
                  <a:path w="64" h="81">
                    <a:moveTo>
                      <a:pt x="0" y="81"/>
                    </a:moveTo>
                    <a:lnTo>
                      <a:pt x="0" y="81"/>
                    </a:lnTo>
                    <a:lnTo>
                      <a:pt x="36" y="59"/>
                    </a:lnTo>
                    <a:lnTo>
                      <a:pt x="64" y="4"/>
                    </a:lnTo>
                    <a:lnTo>
                      <a:pt x="59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V="1">
                <a:off x="6627960" y="4109040"/>
                <a:ext cx="4248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flipV="1">
                <a:off x="6670800" y="4037040"/>
                <a:ext cx="32760" cy="72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H="1" flipV="1">
                <a:off x="6697800" y="403164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697800" y="3996360"/>
                <a:ext cx="27360" cy="40680"/>
              </a:xfrm>
              <a:custGeom>
                <a:avLst/>
                <a:gdLst/>
                <a:ahLst/>
                <a:rect l="l" t="t" r="r" b="b"/>
                <a:pathLst>
                  <a:path w="23" h="31">
                    <a:moveTo>
                      <a:pt x="0" y="27"/>
                    </a:moveTo>
                    <a:lnTo>
                      <a:pt x="5" y="3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697800" y="403164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V="1">
                <a:off x="6703560" y="3996000"/>
                <a:ext cx="212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6568920" y="4109040"/>
                <a:ext cx="101520" cy="82800"/>
              </a:xfrm>
              <a:custGeom>
                <a:avLst/>
                <a:gdLst/>
                <a:ahLst/>
                <a:rect l="l" t="t" r="r" b="b"/>
                <a:pathLst>
                  <a:path w="86" h="63">
                    <a:moveTo>
                      <a:pt x="50" y="22"/>
                    </a:moveTo>
                    <a:lnTo>
                      <a:pt x="0" y="63"/>
                    </a:lnTo>
                    <a:lnTo>
                      <a:pt x="37" y="58"/>
                    </a:lnTo>
                    <a:lnTo>
                      <a:pt x="86" y="0"/>
                    </a:lnTo>
                    <a:lnTo>
                      <a:pt x="50" y="22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510960" y="4185360"/>
                <a:ext cx="101520" cy="41760"/>
              </a:xfrm>
              <a:custGeom>
                <a:avLst/>
                <a:gdLst/>
                <a:ahLst/>
                <a:rect l="l" t="t" r="r" b="b"/>
                <a:pathLst>
                  <a:path w="86" h="32">
                    <a:moveTo>
                      <a:pt x="49" y="5"/>
                    </a:moveTo>
                    <a:lnTo>
                      <a:pt x="0" y="32"/>
                    </a:lnTo>
                    <a:lnTo>
                      <a:pt x="36" y="32"/>
                    </a:lnTo>
                    <a:lnTo>
                      <a:pt x="86" y="0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363800" y="4055040"/>
                <a:ext cx="90720" cy="16920"/>
              </a:xfrm>
              <a:custGeom>
                <a:avLst/>
                <a:gdLst/>
                <a:ahLst/>
                <a:rect l="l" t="t" r="r" b="b"/>
                <a:pathLst>
                  <a:path w="77" h="13">
                    <a:moveTo>
                      <a:pt x="40" y="0"/>
                    </a:moveTo>
                    <a:lnTo>
                      <a:pt x="0" y="4"/>
                    </a:lnTo>
                    <a:lnTo>
                      <a:pt x="36" y="13"/>
                    </a:lnTo>
                    <a:lnTo>
                      <a:pt x="77" y="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315200" y="4031640"/>
                <a:ext cx="90720" cy="4068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41" y="22"/>
                    </a:moveTo>
                    <a:lnTo>
                      <a:pt x="0" y="0"/>
                    </a:lnTo>
                    <a:lnTo>
                      <a:pt x="36" y="9"/>
                    </a:lnTo>
                    <a:lnTo>
                      <a:pt x="77" y="31"/>
                    </a:lnTo>
                    <a:lnTo>
                      <a:pt x="41" y="22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261560" y="3942360"/>
                <a:ext cx="95760" cy="101160"/>
              </a:xfrm>
              <a:custGeom>
                <a:avLst/>
                <a:gdLst/>
                <a:ahLst/>
                <a:rect l="l" t="t" r="r" b="b"/>
                <a:pathLst>
                  <a:path w="81" h="77">
                    <a:moveTo>
                      <a:pt x="45" y="68"/>
                    </a:moveTo>
                    <a:lnTo>
                      <a:pt x="0" y="0"/>
                    </a:lnTo>
                    <a:lnTo>
                      <a:pt x="40" y="4"/>
                    </a:lnTo>
                    <a:lnTo>
                      <a:pt x="81" y="77"/>
                    </a:lnTo>
                    <a:lnTo>
                      <a:pt x="45" y="6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255800" y="3918600"/>
                <a:ext cx="5760" cy="2340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18"/>
                    </a:moveTo>
                    <a:lnTo>
                      <a:pt x="5" y="18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H="1" flipV="1">
                <a:off x="7255800" y="3918240"/>
                <a:ext cx="57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255800" y="391860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212960" y="3782160"/>
                <a:ext cx="48600" cy="141480"/>
              </a:xfrm>
              <a:custGeom>
                <a:avLst/>
                <a:gdLst/>
                <a:ahLst/>
                <a:rect l="l" t="t" r="r" b="b"/>
                <a:pathLst>
                  <a:path w="41" h="108">
                    <a:moveTo>
                      <a:pt x="41" y="108"/>
                    </a:moveTo>
                    <a:lnTo>
                      <a:pt x="36" y="104"/>
                    </a:lnTo>
                    <a:lnTo>
                      <a:pt x="0" y="9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1" y="10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H="1" flipV="1">
                <a:off x="7255800" y="391860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H="1" flipV="1">
                <a:off x="7212960" y="3794040"/>
                <a:ext cx="424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V="1">
                <a:off x="7212960" y="3781800"/>
                <a:ext cx="424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261560" y="3923640"/>
                <a:ext cx="47520" cy="2376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0" y="14"/>
                    </a:moveTo>
                    <a:lnTo>
                      <a:pt x="0" y="14"/>
                    </a:lnTo>
                    <a:lnTo>
                      <a:pt x="40" y="18"/>
                    </a:lnTo>
                    <a:lnTo>
                      <a:pt x="36" y="5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261560" y="3942360"/>
                <a:ext cx="475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H="1" flipV="1">
                <a:off x="7304040" y="3930120"/>
                <a:ext cx="46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H="1" flipV="1">
                <a:off x="7261560" y="3923280"/>
                <a:ext cx="424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255800" y="3782160"/>
                <a:ext cx="48600" cy="148320"/>
              </a:xfrm>
              <a:custGeom>
                <a:avLst/>
                <a:gdLst/>
                <a:ahLst/>
                <a:rect l="l" t="t" r="r" b="b"/>
                <a:pathLst>
                  <a:path w="41" h="113">
                    <a:moveTo>
                      <a:pt x="5" y="108"/>
                    </a:moveTo>
                    <a:lnTo>
                      <a:pt x="41" y="1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10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261560" y="3923640"/>
                <a:ext cx="424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H="1" flipV="1">
                <a:off x="7255440" y="3782160"/>
                <a:ext cx="48600" cy="148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185960" y="3758400"/>
                <a:ext cx="69840" cy="3528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23" y="27"/>
                    </a:moveTo>
                    <a:lnTo>
                      <a:pt x="23" y="27"/>
                    </a:lnTo>
                    <a:lnTo>
                      <a:pt x="59" y="18"/>
                    </a:lnTo>
                    <a:lnTo>
                      <a:pt x="36" y="4"/>
                    </a:lnTo>
                    <a:lnTo>
                      <a:pt x="0" y="0"/>
                    </a:lnTo>
                    <a:lnTo>
                      <a:pt x="23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7212960" y="3781800"/>
                <a:ext cx="424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flipH="1" flipV="1">
                <a:off x="7185960" y="3758400"/>
                <a:ext cx="42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185960" y="3758400"/>
                <a:ext cx="2700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164720" y="3728160"/>
                <a:ext cx="63720" cy="3564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18" y="23"/>
                    </a:moveTo>
                    <a:lnTo>
                      <a:pt x="54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185960" y="3758400"/>
                <a:ext cx="42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164720" y="3728160"/>
                <a:ext cx="2088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228440" y="3763800"/>
                <a:ext cx="27000" cy="1800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23" y="14"/>
                    </a:moveTo>
                    <a:lnTo>
                      <a:pt x="23" y="14"/>
                    </a:lnTo>
                    <a:lnTo>
                      <a:pt x="0" y="0"/>
                    </a:lnTo>
                    <a:lnTo>
                      <a:pt x="14" y="5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228440" y="376380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245360" y="3770280"/>
                <a:ext cx="104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164720" y="3716640"/>
                <a:ext cx="80280" cy="53640"/>
              </a:xfrm>
              <a:custGeom>
                <a:avLst/>
                <a:gdLst/>
                <a:ahLst/>
                <a:rect l="l" t="t" r="r" b="b"/>
                <a:pathLst>
                  <a:path w="68" h="41">
                    <a:moveTo>
                      <a:pt x="68" y="41"/>
                    </a:moveTo>
                    <a:lnTo>
                      <a:pt x="54" y="36"/>
                    </a:lnTo>
                    <a:lnTo>
                      <a:pt x="0" y="9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68" y="4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H="1" flipV="1">
                <a:off x="7228440" y="376380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V="1">
                <a:off x="7164720" y="3716640"/>
                <a:ext cx="421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207200" y="3716640"/>
                <a:ext cx="3780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116120" y="3591720"/>
                <a:ext cx="48600" cy="136080"/>
              </a:xfrm>
              <a:custGeom>
                <a:avLst/>
                <a:gdLst/>
                <a:ahLst/>
                <a:rect l="l" t="t" r="r" b="b"/>
                <a:pathLst>
                  <a:path w="41" h="104">
                    <a:moveTo>
                      <a:pt x="41" y="104"/>
                    </a:moveTo>
                    <a:lnTo>
                      <a:pt x="41" y="104"/>
                    </a:lnTo>
                    <a:lnTo>
                      <a:pt x="0" y="0"/>
                    </a:lnTo>
                    <a:lnTo>
                      <a:pt x="37" y="4"/>
                    </a:lnTo>
                    <a:lnTo>
                      <a:pt x="41" y="10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H="1" flipV="1">
                <a:off x="7115760" y="3591720"/>
                <a:ext cx="48600" cy="136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116120" y="3591720"/>
                <a:ext cx="435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111080" y="3490200"/>
                <a:ext cx="48600" cy="106200"/>
              </a:xfrm>
              <a:custGeom>
                <a:avLst/>
                <a:gdLst/>
                <a:ahLst/>
                <a:rect l="l" t="t" r="r" b="b"/>
                <a:pathLst>
                  <a:path w="41" h="81">
                    <a:moveTo>
                      <a:pt x="41" y="81"/>
                    </a:moveTo>
                    <a:lnTo>
                      <a:pt x="4" y="77"/>
                    </a:lnTo>
                    <a:lnTo>
                      <a:pt x="0" y="68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1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 flipV="1">
                <a:off x="7115760" y="3591720"/>
                <a:ext cx="435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H="1" flipV="1">
                <a:off x="7110720" y="357948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V="1">
                <a:off x="7111080" y="3490200"/>
                <a:ext cx="42480" cy="89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159680" y="3596760"/>
                <a:ext cx="47160" cy="131040"/>
              </a:xfrm>
              <a:custGeom>
                <a:avLst/>
                <a:gdLst/>
                <a:ahLst/>
                <a:rect l="l" t="t" r="r" b="b"/>
                <a:pathLst>
                  <a:path w="40" h="100">
                    <a:moveTo>
                      <a:pt x="4" y="100"/>
                    </a:moveTo>
                    <a:lnTo>
                      <a:pt x="4" y="100"/>
                    </a:lnTo>
                    <a:lnTo>
                      <a:pt x="40" y="91"/>
                    </a:lnTo>
                    <a:lnTo>
                      <a:pt x="18" y="5"/>
                    </a:lnTo>
                    <a:lnTo>
                      <a:pt x="0" y="0"/>
                    </a:lnTo>
                    <a:lnTo>
                      <a:pt x="4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7164720" y="3716640"/>
                <a:ext cx="421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H="1" flipV="1">
                <a:off x="7180920" y="3603240"/>
                <a:ext cx="2592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H="1" flipV="1">
                <a:off x="7159680" y="3596400"/>
                <a:ext cx="208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153920" y="3490200"/>
                <a:ext cx="27000" cy="113040"/>
              </a:xfrm>
              <a:custGeom>
                <a:avLst/>
                <a:gdLst/>
                <a:ahLst/>
                <a:rect l="l" t="t" r="r" b="b"/>
                <a:pathLst>
                  <a:path w="23" h="86">
                    <a:moveTo>
                      <a:pt x="5" y="81"/>
                    </a:moveTo>
                    <a:lnTo>
                      <a:pt x="23" y="8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159680" y="3596760"/>
                <a:ext cx="208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 flipV="1">
                <a:off x="7153560" y="3490200"/>
                <a:ext cx="27000" cy="11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056720" y="3419280"/>
                <a:ext cx="54360" cy="160200"/>
              </a:xfrm>
              <a:custGeom>
                <a:avLst/>
                <a:gdLst/>
                <a:ahLst/>
                <a:rect l="l" t="t" r="r" b="b"/>
                <a:pathLst>
                  <a:path w="46" h="122">
                    <a:moveTo>
                      <a:pt x="46" y="122"/>
                    </a:moveTo>
                    <a:lnTo>
                      <a:pt x="46" y="122"/>
                    </a:lnTo>
                    <a:lnTo>
                      <a:pt x="0" y="31"/>
                    </a:lnTo>
                    <a:lnTo>
                      <a:pt x="5" y="4"/>
                    </a:lnTo>
                    <a:lnTo>
                      <a:pt x="41" y="0"/>
                    </a:lnTo>
                    <a:lnTo>
                      <a:pt x="46" y="1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 flipV="1">
                <a:off x="7056360" y="3459960"/>
                <a:ext cx="5436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7056720" y="3424680"/>
                <a:ext cx="57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V="1">
                <a:off x="7062480" y="3419280"/>
                <a:ext cx="42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062480" y="3240720"/>
                <a:ext cx="42480" cy="183960"/>
              </a:xfrm>
              <a:custGeom>
                <a:avLst/>
                <a:gdLst/>
                <a:ahLst/>
                <a:rect l="l" t="t" r="r" b="b"/>
                <a:pathLst>
                  <a:path w="36" h="140">
                    <a:moveTo>
                      <a:pt x="36" y="136"/>
                    </a:moveTo>
                    <a:lnTo>
                      <a:pt x="0" y="14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6" y="136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H="1">
                <a:off x="7062480" y="3419280"/>
                <a:ext cx="42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V="1">
                <a:off x="7062480" y="3240360"/>
                <a:ext cx="31680" cy="183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094520" y="3240720"/>
                <a:ext cx="6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094520" y="3205440"/>
                <a:ext cx="6120" cy="3528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27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7094160" y="3240720"/>
                <a:ext cx="6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V="1">
                <a:off x="7094520" y="3205440"/>
                <a:ext cx="612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105320" y="3419280"/>
                <a:ext cx="48600" cy="16020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5" y="122"/>
                    </a:moveTo>
                    <a:lnTo>
                      <a:pt x="5" y="122"/>
                    </a:lnTo>
                    <a:lnTo>
                      <a:pt x="41" y="54"/>
                    </a:lnTo>
                    <a:lnTo>
                      <a:pt x="32" y="4"/>
                    </a:lnTo>
                    <a:lnTo>
                      <a:pt x="0" y="0"/>
                    </a:lnTo>
                    <a:lnTo>
                      <a:pt x="5" y="1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V="1">
                <a:off x="7111080" y="3490200"/>
                <a:ext cx="42480" cy="89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H="1" flipV="1">
                <a:off x="7142760" y="3424680"/>
                <a:ext cx="1044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 flipV="1">
                <a:off x="7104960" y="341928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7100640" y="3240720"/>
                <a:ext cx="42120" cy="183960"/>
              </a:xfrm>
              <a:custGeom>
                <a:avLst/>
                <a:gdLst/>
                <a:ahLst/>
                <a:rect l="l" t="t" r="r" b="b"/>
                <a:pathLst>
                  <a:path w="36" h="140">
                    <a:moveTo>
                      <a:pt x="4" y="136"/>
                    </a:moveTo>
                    <a:lnTo>
                      <a:pt x="36" y="140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4" y="136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105320" y="341928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 flipV="1">
                <a:off x="7104960" y="3246120"/>
                <a:ext cx="3780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H="1" flipV="1">
                <a:off x="7100640" y="3240720"/>
                <a:ext cx="43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100640" y="3205440"/>
                <a:ext cx="4320" cy="40680"/>
              </a:xfrm>
              <a:custGeom>
                <a:avLst/>
                <a:gdLst/>
                <a:ahLst/>
                <a:rect l="l" t="t" r="r" b="b"/>
                <a:pathLst>
                  <a:path w="4" h="31">
                    <a:moveTo>
                      <a:pt x="0" y="27"/>
                    </a:moveTo>
                    <a:lnTo>
                      <a:pt x="4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100640" y="3240720"/>
                <a:ext cx="43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H="1" flipV="1">
                <a:off x="7100640" y="3205080"/>
                <a:ext cx="432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7046280" y="3424680"/>
                <a:ext cx="10440" cy="352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27"/>
                    </a:moveTo>
                    <a:lnTo>
                      <a:pt x="9" y="27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flipH="1" flipV="1">
                <a:off x="7045920" y="342468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7046280" y="342468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7003440" y="3240720"/>
                <a:ext cx="52920" cy="183960"/>
              </a:xfrm>
              <a:custGeom>
                <a:avLst/>
                <a:gdLst/>
                <a:ahLst/>
                <a:rect l="l" t="t" r="r" b="b"/>
                <a:pathLst>
                  <a:path w="45" h="140">
                    <a:moveTo>
                      <a:pt x="45" y="140"/>
                    </a:moveTo>
                    <a:lnTo>
                      <a:pt x="36" y="140"/>
                    </a:lnTo>
                    <a:lnTo>
                      <a:pt x="0" y="22"/>
                    </a:lnTo>
                    <a:lnTo>
                      <a:pt x="0" y="4"/>
                    </a:lnTo>
                    <a:lnTo>
                      <a:pt x="41" y="0"/>
                    </a:lnTo>
                    <a:lnTo>
                      <a:pt x="45" y="14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H="1">
                <a:off x="7045920" y="342468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H="1" flipV="1">
                <a:off x="7003440" y="3269160"/>
                <a:ext cx="42480" cy="155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7" name=""/>
            <p:cNvGrpSpPr/>
            <p:nvPr/>
          </p:nvGrpSpPr>
          <p:grpSpPr>
            <a:xfrm>
              <a:off x="6553440" y="2937600"/>
              <a:ext cx="943920" cy="1289880"/>
              <a:chOff x="6553440" y="2937600"/>
              <a:chExt cx="943920" cy="1289880"/>
            </a:xfrm>
          </p:grpSpPr>
          <p:sp>
            <p:nvSpPr>
              <p:cNvPr id="2048" name=""/>
              <p:cNvSpPr/>
              <p:nvPr/>
            </p:nvSpPr>
            <p:spPr>
              <a:xfrm flipV="1">
                <a:off x="7003440" y="3245760"/>
                <a:ext cx="7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V="1">
                <a:off x="7003440" y="3240720"/>
                <a:ext cx="48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003440" y="3055680"/>
                <a:ext cx="48600" cy="190080"/>
              </a:xfrm>
              <a:custGeom>
                <a:avLst/>
                <a:gdLst/>
                <a:ahLst/>
                <a:rect l="l" t="t" r="r" b="b"/>
                <a:pathLst>
                  <a:path w="41" h="145">
                    <a:moveTo>
                      <a:pt x="41" y="141"/>
                    </a:moveTo>
                    <a:lnTo>
                      <a:pt x="0" y="145"/>
                    </a:lnTo>
                    <a:lnTo>
                      <a:pt x="23" y="5"/>
                    </a:lnTo>
                    <a:lnTo>
                      <a:pt x="36" y="0"/>
                    </a:lnTo>
                    <a:lnTo>
                      <a:pt x="41" y="14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 flipH="1">
                <a:off x="7003080" y="3240720"/>
                <a:ext cx="48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V="1">
                <a:off x="7003440" y="3062160"/>
                <a:ext cx="27000" cy="183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7030800" y="3055680"/>
                <a:ext cx="15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030800" y="2937600"/>
                <a:ext cx="15480" cy="124560"/>
              </a:xfrm>
              <a:custGeom>
                <a:avLst/>
                <a:gdLst/>
                <a:ahLst/>
                <a:rect l="l" t="t" r="r" b="b"/>
                <a:pathLst>
                  <a:path w="13" h="95">
                    <a:moveTo>
                      <a:pt x="13" y="90"/>
                    </a:moveTo>
                    <a:lnTo>
                      <a:pt x="0" y="9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9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H="1">
                <a:off x="7030440" y="3055680"/>
                <a:ext cx="15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V="1">
                <a:off x="7030800" y="2937600"/>
                <a:ext cx="1044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056720" y="3424680"/>
                <a:ext cx="5760" cy="3528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0" y="27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7056720" y="3424680"/>
                <a:ext cx="57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H="1">
                <a:off x="7056720" y="342468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052040" y="3240720"/>
                <a:ext cx="42120" cy="183960"/>
              </a:xfrm>
              <a:custGeom>
                <a:avLst/>
                <a:gdLst/>
                <a:ahLst/>
                <a:rect l="l" t="t" r="r" b="b"/>
                <a:pathLst>
                  <a:path w="36" h="140">
                    <a:moveTo>
                      <a:pt x="4" y="140"/>
                    </a:moveTo>
                    <a:lnTo>
                      <a:pt x="9" y="14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4" y="14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056720" y="342468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7062480" y="3240360"/>
                <a:ext cx="31680" cy="183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H="1">
                <a:off x="7051680" y="3240720"/>
                <a:ext cx="42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7046280" y="3055680"/>
                <a:ext cx="54360" cy="184680"/>
              </a:xfrm>
              <a:custGeom>
                <a:avLst/>
                <a:gdLst/>
                <a:ahLst/>
                <a:rect l="l" t="t" r="r" b="b"/>
                <a:pathLst>
                  <a:path w="46" h="141">
                    <a:moveTo>
                      <a:pt x="5" y="141"/>
                    </a:moveTo>
                    <a:lnTo>
                      <a:pt x="41" y="141"/>
                    </a:lnTo>
                    <a:lnTo>
                      <a:pt x="46" y="114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5" y="14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7052040" y="3240720"/>
                <a:ext cx="42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7094520" y="3205080"/>
                <a:ext cx="612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 flipV="1">
                <a:off x="7068240" y="3061800"/>
                <a:ext cx="32040" cy="142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H="1" flipV="1">
                <a:off x="7045920" y="3055680"/>
                <a:ext cx="219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7041600" y="2937600"/>
                <a:ext cx="27000" cy="124560"/>
              </a:xfrm>
              <a:custGeom>
                <a:avLst/>
                <a:gdLst/>
                <a:ahLst/>
                <a:rect l="l" t="t" r="r" b="b"/>
                <a:pathLst>
                  <a:path w="23" h="95">
                    <a:moveTo>
                      <a:pt x="4" y="90"/>
                    </a:moveTo>
                    <a:lnTo>
                      <a:pt x="23" y="9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9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7046280" y="3055680"/>
                <a:ext cx="219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H="1" flipV="1">
                <a:off x="7041240" y="2937600"/>
                <a:ext cx="2700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950520" y="3436560"/>
                <a:ext cx="10440" cy="59040"/>
              </a:xfrm>
              <a:custGeom>
                <a:avLst/>
                <a:gdLst/>
                <a:ahLst/>
                <a:rect l="l" t="t" r="r" b="b"/>
                <a:pathLst>
                  <a:path w="9" h="45">
                    <a:moveTo>
                      <a:pt x="0" y="45"/>
                    </a:moveTo>
                    <a:lnTo>
                      <a:pt x="0" y="4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V="1">
                <a:off x="6950520" y="3436560"/>
                <a:ext cx="1044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H="1">
                <a:off x="6954840" y="343656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H="1">
                <a:off x="6950520" y="3436560"/>
                <a:ext cx="432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954840" y="3246120"/>
                <a:ext cx="48600" cy="190080"/>
              </a:xfrm>
              <a:custGeom>
                <a:avLst/>
                <a:gdLst/>
                <a:ahLst/>
                <a:rect l="l" t="t" r="r" b="b"/>
                <a:pathLst>
                  <a:path w="41" h="145">
                    <a:moveTo>
                      <a:pt x="0" y="145"/>
                    </a:moveTo>
                    <a:lnTo>
                      <a:pt x="5" y="145"/>
                    </a:lnTo>
                    <a:lnTo>
                      <a:pt x="41" y="18"/>
                    </a:lnTo>
                    <a:lnTo>
                      <a:pt x="37" y="0"/>
                    </a:lnTo>
                    <a:lnTo>
                      <a:pt x="14" y="5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954840" y="343656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V="1">
                <a:off x="6960960" y="3269160"/>
                <a:ext cx="4248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H="1">
                <a:off x="6971040" y="3246120"/>
                <a:ext cx="270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>
                <a:off x="6954840" y="3252600"/>
                <a:ext cx="16560" cy="183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971400" y="3067200"/>
                <a:ext cx="27000" cy="185040"/>
              </a:xfrm>
              <a:custGeom>
                <a:avLst/>
                <a:gdLst/>
                <a:ahLst/>
                <a:rect l="l" t="t" r="r" b="b"/>
                <a:pathLst>
                  <a:path w="23" h="141">
                    <a:moveTo>
                      <a:pt x="0" y="141"/>
                    </a:moveTo>
                    <a:lnTo>
                      <a:pt x="23" y="13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V="1">
                <a:off x="6971400" y="3246120"/>
                <a:ext cx="270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H="1">
                <a:off x="6971400" y="3067200"/>
                <a:ext cx="16560" cy="18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998760" y="3246120"/>
                <a:ext cx="4680" cy="23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8"/>
                    </a:moveTo>
                    <a:lnTo>
                      <a:pt x="4" y="18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998760" y="32461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7003440" y="3246120"/>
                <a:ext cx="7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988320" y="3062160"/>
                <a:ext cx="42120" cy="183600"/>
              </a:xfrm>
              <a:custGeom>
                <a:avLst/>
                <a:gdLst/>
                <a:ahLst/>
                <a:rect l="l" t="t" r="r" b="b"/>
                <a:pathLst>
                  <a:path w="36" h="140">
                    <a:moveTo>
                      <a:pt x="13" y="140"/>
                    </a:moveTo>
                    <a:lnTo>
                      <a:pt x="9" y="14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6" y="0"/>
                    </a:lnTo>
                    <a:lnTo>
                      <a:pt x="13" y="140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H="1">
                <a:off x="6998400" y="32461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6988320" y="306720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6988320" y="3062160"/>
                <a:ext cx="421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>
                <a:off x="7003080" y="3062160"/>
                <a:ext cx="27000" cy="183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6988320" y="2937600"/>
                <a:ext cx="52920" cy="129600"/>
              </a:xfrm>
              <a:custGeom>
                <a:avLst/>
                <a:gdLst/>
                <a:ahLst/>
                <a:rect l="l" t="t" r="r" b="b"/>
                <a:pathLst>
                  <a:path w="45" h="99">
                    <a:moveTo>
                      <a:pt x="36" y="95"/>
                    </a:moveTo>
                    <a:lnTo>
                      <a:pt x="0" y="99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36" y="95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>
                <a:off x="6987960" y="3062160"/>
                <a:ext cx="421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6988320" y="2937600"/>
                <a:ext cx="52920" cy="12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H="1">
                <a:off x="7030440" y="2937600"/>
                <a:ext cx="1044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891120" y="3436560"/>
                <a:ext cx="63720" cy="172080"/>
              </a:xfrm>
              <a:custGeom>
                <a:avLst/>
                <a:gdLst/>
                <a:ahLst/>
                <a:rect l="l" t="t" r="r" b="b"/>
                <a:pathLst>
                  <a:path w="54" h="131">
                    <a:moveTo>
                      <a:pt x="0" y="131"/>
                    </a:moveTo>
                    <a:lnTo>
                      <a:pt x="0" y="131"/>
                    </a:lnTo>
                    <a:lnTo>
                      <a:pt x="50" y="45"/>
                    </a:lnTo>
                    <a:lnTo>
                      <a:pt x="54" y="0"/>
                    </a:lnTo>
                    <a:lnTo>
                      <a:pt x="27" y="5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6891120" y="3495240"/>
                <a:ext cx="5904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V="1">
                <a:off x="6950520" y="3436560"/>
                <a:ext cx="432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H="1">
                <a:off x="6922800" y="3436560"/>
                <a:ext cx="316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922800" y="3252600"/>
                <a:ext cx="48600" cy="190440"/>
              </a:xfrm>
              <a:custGeom>
                <a:avLst/>
                <a:gdLst/>
                <a:ahLst/>
                <a:rect l="l" t="t" r="r" b="b"/>
                <a:pathLst>
                  <a:path w="41" h="145">
                    <a:moveTo>
                      <a:pt x="0" y="145"/>
                    </a:moveTo>
                    <a:lnTo>
                      <a:pt x="27" y="140"/>
                    </a:lnTo>
                    <a:lnTo>
                      <a:pt x="41" y="0"/>
                    </a:lnTo>
                    <a:lnTo>
                      <a:pt x="27" y="4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6922800" y="3436200"/>
                <a:ext cx="316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V="1">
                <a:off x="6954840" y="3252600"/>
                <a:ext cx="16560" cy="183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H="1">
                <a:off x="6954840" y="3252600"/>
                <a:ext cx="165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954840" y="3067200"/>
                <a:ext cx="33120" cy="190440"/>
              </a:xfrm>
              <a:custGeom>
                <a:avLst/>
                <a:gdLst/>
                <a:ahLst/>
                <a:rect l="l" t="t" r="r" b="b"/>
                <a:pathLst>
                  <a:path w="28" h="145">
                    <a:moveTo>
                      <a:pt x="0" y="145"/>
                    </a:moveTo>
                    <a:lnTo>
                      <a:pt x="14" y="141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6954840" y="3252600"/>
                <a:ext cx="165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V="1">
                <a:off x="6971400" y="3067200"/>
                <a:ext cx="16560" cy="18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891120" y="3443400"/>
                <a:ext cx="31680" cy="165240"/>
              </a:xfrm>
              <a:custGeom>
                <a:avLst/>
                <a:gdLst/>
                <a:ahLst/>
                <a:rect l="l" t="t" r="r" b="b"/>
                <a:pathLst>
                  <a:path w="27" h="126">
                    <a:moveTo>
                      <a:pt x="0" y="126"/>
                    </a:moveTo>
                    <a:lnTo>
                      <a:pt x="0" y="126"/>
                    </a:lnTo>
                    <a:lnTo>
                      <a:pt x="18" y="4"/>
                    </a:lnTo>
                    <a:lnTo>
                      <a:pt x="27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6891120" y="3448080"/>
                <a:ext cx="20880" cy="160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flipV="1">
                <a:off x="6912360" y="34434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912360" y="3258000"/>
                <a:ext cx="42480" cy="190080"/>
              </a:xfrm>
              <a:custGeom>
                <a:avLst/>
                <a:gdLst/>
                <a:ahLst/>
                <a:rect l="l" t="t" r="r" b="b"/>
                <a:pathLst>
                  <a:path w="36" h="145">
                    <a:moveTo>
                      <a:pt x="9" y="141"/>
                    </a:moveTo>
                    <a:lnTo>
                      <a:pt x="0" y="145"/>
                    </a:lnTo>
                    <a:lnTo>
                      <a:pt x="18" y="23"/>
                    </a:lnTo>
                    <a:lnTo>
                      <a:pt x="23" y="5"/>
                    </a:lnTo>
                    <a:lnTo>
                      <a:pt x="36" y="0"/>
                    </a:lnTo>
                    <a:lnTo>
                      <a:pt x="9" y="14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H="1">
                <a:off x="6912000" y="34434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flipV="1">
                <a:off x="6912360" y="3287520"/>
                <a:ext cx="21240" cy="160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flipV="1">
                <a:off x="6933600" y="3264120"/>
                <a:ext cx="57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6939720" y="3258000"/>
                <a:ext cx="151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939720" y="3067200"/>
                <a:ext cx="48600" cy="196920"/>
              </a:xfrm>
              <a:custGeom>
                <a:avLst/>
                <a:gdLst/>
                <a:ahLst/>
                <a:rect l="l" t="t" r="r" b="b"/>
                <a:pathLst>
                  <a:path w="41" h="150">
                    <a:moveTo>
                      <a:pt x="13" y="145"/>
                    </a:moveTo>
                    <a:lnTo>
                      <a:pt x="0" y="15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13" y="145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>
                <a:off x="6939720" y="3258000"/>
                <a:ext cx="151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V="1">
                <a:off x="6939720" y="3066840"/>
                <a:ext cx="48600" cy="19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837840" y="3633480"/>
                <a:ext cx="48240" cy="153720"/>
              </a:xfrm>
              <a:custGeom>
                <a:avLst/>
                <a:gdLst/>
                <a:ahLst/>
                <a:rect l="l" t="t" r="r" b="b"/>
                <a:pathLst>
                  <a:path w="41" h="117">
                    <a:moveTo>
                      <a:pt x="0" y="117"/>
                    </a:moveTo>
                    <a:lnTo>
                      <a:pt x="0" y="117"/>
                    </a:lnTo>
                    <a:lnTo>
                      <a:pt x="41" y="0"/>
                    </a:lnTo>
                    <a:lnTo>
                      <a:pt x="22" y="4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V="1">
                <a:off x="6837840" y="3633120"/>
                <a:ext cx="48240" cy="153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H="1">
                <a:off x="6863400" y="3633480"/>
                <a:ext cx="219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863760" y="3448440"/>
                <a:ext cx="48240" cy="190440"/>
              </a:xfrm>
              <a:custGeom>
                <a:avLst/>
                <a:gdLst/>
                <a:ahLst/>
                <a:rect l="l" t="t" r="r" b="b"/>
                <a:pathLst>
                  <a:path w="41" h="145">
                    <a:moveTo>
                      <a:pt x="0" y="145"/>
                    </a:moveTo>
                    <a:lnTo>
                      <a:pt x="19" y="141"/>
                    </a:lnTo>
                    <a:lnTo>
                      <a:pt x="23" y="122"/>
                    </a:lnTo>
                    <a:lnTo>
                      <a:pt x="41" y="0"/>
                    </a:lnTo>
                    <a:lnTo>
                      <a:pt x="32" y="5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V="1">
                <a:off x="6863760" y="3633480"/>
                <a:ext cx="219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V="1">
                <a:off x="6886080" y="3608280"/>
                <a:ext cx="46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V="1">
                <a:off x="6891120" y="3448080"/>
                <a:ext cx="20880" cy="160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H="1">
                <a:off x="6901200" y="34484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6901560" y="3287880"/>
                <a:ext cx="31680" cy="166680"/>
              </a:xfrm>
              <a:custGeom>
                <a:avLst/>
                <a:gdLst/>
                <a:ahLst/>
                <a:rect l="l" t="t" r="r" b="b"/>
                <a:pathLst>
                  <a:path w="27" h="127">
                    <a:moveTo>
                      <a:pt x="0" y="127"/>
                    </a:moveTo>
                    <a:lnTo>
                      <a:pt x="9" y="122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V="1">
                <a:off x="6901560" y="34484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V="1">
                <a:off x="6912360" y="3287520"/>
                <a:ext cx="21240" cy="160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837840" y="3638880"/>
                <a:ext cx="25920" cy="148320"/>
              </a:xfrm>
              <a:custGeom>
                <a:avLst/>
                <a:gdLst/>
                <a:ahLst/>
                <a:rect l="l" t="t" r="r" b="b"/>
                <a:pathLst>
                  <a:path w="22" h="113">
                    <a:moveTo>
                      <a:pt x="0" y="113"/>
                    </a:moveTo>
                    <a:lnTo>
                      <a:pt x="0" y="113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V="1">
                <a:off x="6837840" y="3645360"/>
                <a:ext cx="25920" cy="14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V="1">
                <a:off x="6863760" y="363888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6863760" y="3454920"/>
                <a:ext cx="37800" cy="190440"/>
              </a:xfrm>
              <a:custGeom>
                <a:avLst/>
                <a:gdLst/>
                <a:ahLst/>
                <a:rect l="l" t="t" r="r" b="b"/>
                <a:pathLst>
                  <a:path w="32" h="145">
                    <a:moveTo>
                      <a:pt x="0" y="140"/>
                    </a:moveTo>
                    <a:lnTo>
                      <a:pt x="0" y="145"/>
                    </a:lnTo>
                    <a:lnTo>
                      <a:pt x="14" y="95"/>
                    </a:lnTo>
                    <a:lnTo>
                      <a:pt x="32" y="4"/>
                    </a:lnTo>
                    <a:lnTo>
                      <a:pt x="32" y="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863760" y="363888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V="1">
                <a:off x="6863760" y="3579840"/>
                <a:ext cx="1620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V="1">
                <a:off x="6880320" y="3459960"/>
                <a:ext cx="2124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6901560" y="345492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901560" y="3287880"/>
                <a:ext cx="31680" cy="172080"/>
              </a:xfrm>
              <a:custGeom>
                <a:avLst/>
                <a:gdLst/>
                <a:ahLst/>
                <a:rect l="l" t="t" r="r" b="b"/>
                <a:pathLst>
                  <a:path w="27" h="131">
                    <a:moveTo>
                      <a:pt x="0" y="127"/>
                    </a:moveTo>
                    <a:lnTo>
                      <a:pt x="0" y="13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6901560" y="345492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V="1">
                <a:off x="6901560" y="3287880"/>
                <a:ext cx="31680" cy="172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784200" y="3834720"/>
                <a:ext cx="21240" cy="244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19"/>
                    </a:moveTo>
                    <a:lnTo>
                      <a:pt x="0" y="19"/>
                    </a:lnTo>
                    <a:lnTo>
                      <a:pt x="18" y="0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V="1">
                <a:off x="6784200" y="3834720"/>
                <a:ext cx="21240" cy="24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H="1">
                <a:off x="6789240" y="3834720"/>
                <a:ext cx="16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789240" y="3645720"/>
                <a:ext cx="74520" cy="189000"/>
              </a:xfrm>
              <a:custGeom>
                <a:avLst/>
                <a:gdLst/>
                <a:ahLst/>
                <a:rect l="l" t="t" r="r" b="b"/>
                <a:pathLst>
                  <a:path w="63" h="144">
                    <a:moveTo>
                      <a:pt x="0" y="144"/>
                    </a:moveTo>
                    <a:lnTo>
                      <a:pt x="14" y="144"/>
                    </a:lnTo>
                    <a:lnTo>
                      <a:pt x="41" y="108"/>
                    </a:lnTo>
                    <a:lnTo>
                      <a:pt x="63" y="0"/>
                    </a:lnTo>
                    <a:lnTo>
                      <a:pt x="54" y="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789240" y="3834720"/>
                <a:ext cx="16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V="1">
                <a:off x="6805800" y="3786840"/>
                <a:ext cx="316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flipV="1">
                <a:off x="6837840" y="3645360"/>
                <a:ext cx="25920" cy="14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H="1">
                <a:off x="6852600" y="36457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852960" y="3579840"/>
                <a:ext cx="27000" cy="70560"/>
              </a:xfrm>
              <a:custGeom>
                <a:avLst/>
                <a:gdLst/>
                <a:ahLst/>
                <a:rect l="l" t="t" r="r" b="b"/>
                <a:pathLst>
                  <a:path w="23" h="54">
                    <a:moveTo>
                      <a:pt x="0" y="54"/>
                    </a:moveTo>
                    <a:lnTo>
                      <a:pt x="9" y="5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V="1">
                <a:off x="6852960" y="36457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V="1">
                <a:off x="6863760" y="3579840"/>
                <a:ext cx="1620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6784200" y="3834720"/>
                <a:ext cx="4680" cy="2448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0" y="19"/>
                    </a:moveTo>
                    <a:lnTo>
                      <a:pt x="0" y="19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6784200" y="3841200"/>
                <a:ext cx="468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6789240" y="383472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789240" y="3650760"/>
                <a:ext cx="63720" cy="19044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0" y="140"/>
                    </a:moveTo>
                    <a:lnTo>
                      <a:pt x="0" y="145"/>
                    </a:lnTo>
                    <a:lnTo>
                      <a:pt x="27" y="63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789240" y="383472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6789240" y="3733200"/>
                <a:ext cx="31680" cy="107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V="1">
                <a:off x="6821280" y="3656880"/>
                <a:ext cx="31680" cy="75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6852960" y="365076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852960" y="3579840"/>
                <a:ext cx="27000" cy="77400"/>
              </a:xfrm>
              <a:custGeom>
                <a:avLst/>
                <a:gdLst/>
                <a:ahLst/>
                <a:rect l="l" t="t" r="r" b="b"/>
                <a:pathLst>
                  <a:path w="23" h="59">
                    <a:moveTo>
                      <a:pt x="0" y="54"/>
                    </a:moveTo>
                    <a:lnTo>
                      <a:pt x="0" y="59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852960" y="365076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6852960" y="3579480"/>
                <a:ext cx="2700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725160" y="3841200"/>
                <a:ext cx="63720" cy="154800"/>
              </a:xfrm>
              <a:custGeom>
                <a:avLst/>
                <a:gdLst/>
                <a:ahLst/>
                <a:rect l="l" t="t" r="r" b="b"/>
                <a:pathLst>
                  <a:path w="54" h="118">
                    <a:moveTo>
                      <a:pt x="0" y="118"/>
                    </a:moveTo>
                    <a:lnTo>
                      <a:pt x="0" y="118"/>
                    </a:lnTo>
                    <a:lnTo>
                      <a:pt x="50" y="14"/>
                    </a:lnTo>
                    <a:lnTo>
                      <a:pt x="54" y="0"/>
                    </a:lnTo>
                    <a:lnTo>
                      <a:pt x="45" y="4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6725160" y="3859200"/>
                <a:ext cx="5904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6784200" y="3841200"/>
                <a:ext cx="468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H="1">
                <a:off x="6778080" y="38412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778440" y="3733560"/>
                <a:ext cx="42480" cy="112680"/>
              </a:xfrm>
              <a:custGeom>
                <a:avLst/>
                <a:gdLst/>
                <a:ahLst/>
                <a:rect l="l" t="t" r="r" b="b"/>
                <a:pathLst>
                  <a:path w="36" h="86">
                    <a:moveTo>
                      <a:pt x="0" y="86"/>
                    </a:moveTo>
                    <a:lnTo>
                      <a:pt x="9" y="82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V="1">
                <a:off x="6778440" y="38412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V="1">
                <a:off x="6789240" y="3733200"/>
                <a:ext cx="31680" cy="107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725160" y="3846240"/>
                <a:ext cx="52920" cy="149760"/>
              </a:xfrm>
              <a:custGeom>
                <a:avLst/>
                <a:gdLst/>
                <a:ahLst/>
                <a:rect l="l" t="t" r="r" b="b"/>
                <a:pathLst>
                  <a:path w="45" h="114">
                    <a:moveTo>
                      <a:pt x="0" y="114"/>
                    </a:moveTo>
                    <a:lnTo>
                      <a:pt x="0" y="114"/>
                    </a:lnTo>
                    <a:lnTo>
                      <a:pt x="36" y="41"/>
                    </a:lnTo>
                    <a:lnTo>
                      <a:pt x="45" y="10"/>
                    </a:lnTo>
                    <a:lnTo>
                      <a:pt x="45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V="1">
                <a:off x="6725160" y="3900240"/>
                <a:ext cx="4212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V="1">
                <a:off x="6767640" y="3859200"/>
                <a:ext cx="104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V="1">
                <a:off x="6778440" y="3846240"/>
                <a:ext cx="1080" cy="12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6778440" y="3733560"/>
                <a:ext cx="42480" cy="126000"/>
              </a:xfrm>
              <a:custGeom>
                <a:avLst/>
                <a:gdLst/>
                <a:ahLst/>
                <a:rect l="l" t="t" r="r" b="b"/>
                <a:pathLst>
                  <a:path w="36" h="96">
                    <a:moveTo>
                      <a:pt x="0" y="86"/>
                    </a:moveTo>
                    <a:lnTo>
                      <a:pt x="0" y="96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6778440" y="3846240"/>
                <a:ext cx="1080" cy="12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V="1">
                <a:off x="6778440" y="3733560"/>
                <a:ext cx="42480" cy="126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6670800" y="4037040"/>
                <a:ext cx="32760" cy="720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5"/>
                    </a:moveTo>
                    <a:lnTo>
                      <a:pt x="0" y="55"/>
                    </a:lnTo>
                    <a:lnTo>
                      <a:pt x="28" y="0"/>
                    </a:lnTo>
                    <a:lnTo>
                      <a:pt x="23" y="9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V="1">
                <a:off x="6670800" y="4037040"/>
                <a:ext cx="32760" cy="72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H="1">
                <a:off x="6697800" y="4037040"/>
                <a:ext cx="576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697800" y="3900240"/>
                <a:ext cx="69840" cy="148320"/>
              </a:xfrm>
              <a:custGeom>
                <a:avLst/>
                <a:gdLst/>
                <a:ahLst/>
                <a:rect l="l" t="t" r="r" b="b"/>
                <a:pathLst>
                  <a:path w="59" h="113">
                    <a:moveTo>
                      <a:pt x="0" y="113"/>
                    </a:moveTo>
                    <a:lnTo>
                      <a:pt x="5" y="104"/>
                    </a:lnTo>
                    <a:lnTo>
                      <a:pt x="23" y="73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V="1">
                <a:off x="6697800" y="4037040"/>
                <a:ext cx="576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6703560" y="3996000"/>
                <a:ext cx="212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V="1">
                <a:off x="6725160" y="3900240"/>
                <a:ext cx="4212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670800" y="4048560"/>
                <a:ext cx="37800" cy="6012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0" y="46"/>
                    </a:moveTo>
                    <a:lnTo>
                      <a:pt x="0" y="46"/>
                    </a:lnTo>
                    <a:lnTo>
                      <a:pt x="32" y="9"/>
                    </a:lnTo>
                    <a:lnTo>
                      <a:pt x="23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V="1">
                <a:off x="6670800" y="4060440"/>
                <a:ext cx="37800" cy="48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H="1" flipV="1">
                <a:off x="6697440" y="404820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6697800" y="3900240"/>
                <a:ext cx="69840" cy="160200"/>
              </a:xfrm>
              <a:custGeom>
                <a:avLst/>
                <a:gdLst/>
                <a:ahLst/>
                <a:rect l="l" t="t" r="r" b="b"/>
                <a:pathLst>
                  <a:path w="59" h="122">
                    <a:moveTo>
                      <a:pt x="0" y="113"/>
                    </a:moveTo>
                    <a:lnTo>
                      <a:pt x="9" y="122"/>
                    </a:lnTo>
                    <a:lnTo>
                      <a:pt x="9" y="118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697800" y="404856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V="1">
                <a:off x="6708600" y="405504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V="1">
                <a:off x="6708600" y="3900240"/>
                <a:ext cx="59040" cy="15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6612480" y="4060440"/>
                <a:ext cx="95760" cy="124560"/>
              </a:xfrm>
              <a:custGeom>
                <a:avLst/>
                <a:gdLst/>
                <a:ahLst/>
                <a:rect l="l" t="t" r="r" b="b"/>
                <a:pathLst>
                  <a:path w="81" h="95">
                    <a:moveTo>
                      <a:pt x="0" y="95"/>
                    </a:moveTo>
                    <a:lnTo>
                      <a:pt x="0" y="95"/>
                    </a:lnTo>
                    <a:lnTo>
                      <a:pt x="49" y="37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V="1">
                <a:off x="6612480" y="4108680"/>
                <a:ext cx="57960" cy="75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670800" y="4060440"/>
                <a:ext cx="37800" cy="48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708600" y="40604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708600" y="4055040"/>
                <a:ext cx="720" cy="5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708600" y="40604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6708600" y="405504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612480" y="4060440"/>
                <a:ext cx="95760" cy="124560"/>
              </a:xfrm>
              <a:custGeom>
                <a:avLst/>
                <a:gdLst/>
                <a:ahLst/>
                <a:rect l="l" t="t" r="r" b="b"/>
                <a:pathLst>
                  <a:path w="81" h="95">
                    <a:moveTo>
                      <a:pt x="0" y="95"/>
                    </a:moveTo>
                    <a:lnTo>
                      <a:pt x="0" y="95"/>
                    </a:lnTo>
                    <a:lnTo>
                      <a:pt x="31" y="77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V="1">
                <a:off x="6612480" y="4161600"/>
                <a:ext cx="363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6649200" y="4060080"/>
                <a:ext cx="5904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708600" y="40604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6708600" y="4055040"/>
                <a:ext cx="720" cy="5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6708600" y="40604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V="1">
                <a:off x="6708600" y="405504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6553440" y="4161960"/>
                <a:ext cx="95760" cy="65520"/>
              </a:xfrm>
              <a:custGeom>
                <a:avLst/>
                <a:gdLst/>
                <a:ahLst/>
                <a:rect l="l" t="t" r="r" b="b"/>
                <a:pathLst>
                  <a:path w="81" h="50">
                    <a:moveTo>
                      <a:pt x="50" y="18"/>
                    </a:moveTo>
                    <a:lnTo>
                      <a:pt x="0" y="50"/>
                    </a:lnTo>
                    <a:lnTo>
                      <a:pt x="32" y="50"/>
                    </a:lnTo>
                    <a:lnTo>
                      <a:pt x="81" y="0"/>
                    </a:lnTo>
                    <a:lnTo>
                      <a:pt x="50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406280" y="4066920"/>
                <a:ext cx="91080" cy="18360"/>
              </a:xfrm>
              <a:custGeom>
                <a:avLst/>
                <a:gdLst/>
                <a:ahLst/>
                <a:rect l="l" t="t" r="r" b="b"/>
                <a:pathLst>
                  <a:path w="77" h="14">
                    <a:moveTo>
                      <a:pt x="41" y="0"/>
                    </a:moveTo>
                    <a:lnTo>
                      <a:pt x="0" y="4"/>
                    </a:lnTo>
                    <a:lnTo>
                      <a:pt x="36" y="14"/>
                    </a:lnTo>
                    <a:lnTo>
                      <a:pt x="77" y="1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357680" y="4043520"/>
                <a:ext cx="91080" cy="4176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41" y="22"/>
                    </a:moveTo>
                    <a:lnTo>
                      <a:pt x="0" y="0"/>
                    </a:lnTo>
                    <a:lnTo>
                      <a:pt x="36" y="13"/>
                    </a:lnTo>
                    <a:lnTo>
                      <a:pt x="77" y="32"/>
                    </a:lnTo>
                    <a:lnTo>
                      <a:pt x="41" y="22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309440" y="3942360"/>
                <a:ext cx="48240" cy="101160"/>
              </a:xfrm>
              <a:custGeom>
                <a:avLst/>
                <a:gdLst/>
                <a:ahLst/>
                <a:rect l="l" t="t" r="r" b="b"/>
                <a:pathLst>
                  <a:path w="41" h="77">
                    <a:moveTo>
                      <a:pt x="41" y="77"/>
                    </a:moveTo>
                    <a:lnTo>
                      <a:pt x="41" y="77"/>
                    </a:lnTo>
                    <a:lnTo>
                      <a:pt x="0" y="4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41" y="7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H="1" flipV="1">
                <a:off x="7309440" y="3947760"/>
                <a:ext cx="4824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V="1">
                <a:off x="7309440" y="394236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341120" y="3942360"/>
                <a:ext cx="115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341120" y="394236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H="1">
                <a:off x="7341120" y="3942360"/>
                <a:ext cx="115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7341120" y="3942360"/>
                <a:ext cx="115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7353000" y="3942360"/>
                <a:ext cx="47160" cy="118080"/>
              </a:xfrm>
              <a:custGeom>
                <a:avLst/>
                <a:gdLst/>
                <a:ahLst/>
                <a:rect l="l" t="t" r="r" b="b"/>
                <a:pathLst>
                  <a:path w="40" h="90">
                    <a:moveTo>
                      <a:pt x="40" y="90"/>
                    </a:moveTo>
                    <a:lnTo>
                      <a:pt x="40" y="90"/>
                    </a:lnTo>
                    <a:lnTo>
                      <a:pt x="4" y="7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0" y="9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H="1" flipV="1">
                <a:off x="7357680" y="4043160"/>
                <a:ext cx="424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353000" y="394236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7353000" y="3942360"/>
                <a:ext cx="47160" cy="118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7353000" y="3942360"/>
                <a:ext cx="720" cy="14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7353000" y="394236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7353000" y="394236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7304400" y="3930480"/>
                <a:ext cx="36720" cy="1692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4" y="13"/>
                    </a:moveTo>
                    <a:lnTo>
                      <a:pt x="4" y="13"/>
                    </a:lnTo>
                    <a:lnTo>
                      <a:pt x="31" y="9"/>
                    </a:lnTo>
                    <a:lnTo>
                      <a:pt x="0" y="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V="1">
                <a:off x="7309440" y="394236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 flipV="1">
                <a:off x="7304400" y="3930480"/>
                <a:ext cx="367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304400" y="3930480"/>
                <a:ext cx="46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255800" y="3782160"/>
                <a:ext cx="97200" cy="160200"/>
              </a:xfrm>
              <a:custGeom>
                <a:avLst/>
                <a:gdLst/>
                <a:ahLst/>
                <a:rect l="l" t="t" r="r" b="b"/>
                <a:pathLst>
                  <a:path w="82" h="122">
                    <a:moveTo>
                      <a:pt x="41" y="113"/>
                    </a:moveTo>
                    <a:lnTo>
                      <a:pt x="72" y="122"/>
                    </a:lnTo>
                    <a:lnTo>
                      <a:pt x="82" y="1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1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304400" y="3930480"/>
                <a:ext cx="367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7341120" y="3942360"/>
                <a:ext cx="115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7255800" y="3782160"/>
                <a:ext cx="48600" cy="148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255800" y="3782160"/>
                <a:ext cx="97200" cy="160200"/>
              </a:xfrm>
              <a:custGeom>
                <a:avLst/>
                <a:gdLst/>
                <a:ahLst/>
                <a:rect l="l" t="t" r="r" b="b"/>
                <a:pathLst>
                  <a:path w="82" h="122">
                    <a:moveTo>
                      <a:pt x="82" y="122"/>
                    </a:moveTo>
                    <a:lnTo>
                      <a:pt x="36" y="22"/>
                    </a:lnTo>
                    <a:lnTo>
                      <a:pt x="0" y="0"/>
                    </a:lnTo>
                    <a:lnTo>
                      <a:pt x="82" y="122"/>
                    </a:lnTo>
                    <a:lnTo>
                      <a:pt x="82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255800" y="3782160"/>
                <a:ext cx="97200" cy="16020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0" y="0"/>
                    </a:moveTo>
                    <a:lnTo>
                      <a:pt x="8" y="5"/>
                    </a:lnTo>
                    <a:lnTo>
                      <a:pt x="18" y="2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245360" y="3770280"/>
                <a:ext cx="10440" cy="11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 flipV="1">
                <a:off x="7245000" y="3770280"/>
                <a:ext cx="104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7245360" y="377028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207200" y="3709800"/>
                <a:ext cx="48600" cy="60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41" y="46"/>
                    </a:moveTo>
                    <a:lnTo>
                      <a:pt x="32" y="46"/>
                    </a:lnTo>
                    <a:lnTo>
                      <a:pt x="0" y="5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1" y="4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7245000" y="377028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H="1" flipV="1">
                <a:off x="7206840" y="3715920"/>
                <a:ext cx="3780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flipV="1">
                <a:off x="7207200" y="370980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255800" y="377028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1"/>
                    </a:moveTo>
                    <a:lnTo>
                      <a:pt x="36" y="3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7" y="9"/>
                    </a:lnTo>
                    <a:lnTo>
                      <a:pt x="36" y="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H="1" flipV="1">
                <a:off x="7255800" y="3782160"/>
                <a:ext cx="4248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55800" y="3770280"/>
                <a:ext cx="316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87840" y="3782160"/>
                <a:ext cx="1044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250040" y="3709800"/>
                <a:ext cx="37800" cy="7200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32" y="55"/>
                    </a:moveTo>
                    <a:lnTo>
                      <a:pt x="5" y="4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5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H="1" flipV="1">
                <a:off x="7255800" y="3770280"/>
                <a:ext cx="316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250040" y="3709800"/>
                <a:ext cx="37800" cy="72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181280" y="3603600"/>
                <a:ext cx="68760" cy="11268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22" y="86"/>
                    </a:moveTo>
                    <a:lnTo>
                      <a:pt x="22" y="86"/>
                    </a:lnTo>
                    <a:lnTo>
                      <a:pt x="58" y="81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22" y="8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V="1">
                <a:off x="7207200" y="370980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flipH="1">
                <a:off x="7180920" y="3603600"/>
                <a:ext cx="21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8" name=""/>
            <p:cNvGrpSpPr/>
            <p:nvPr/>
          </p:nvGrpSpPr>
          <p:grpSpPr>
            <a:xfrm>
              <a:off x="6591600" y="2937600"/>
              <a:ext cx="948600" cy="1313280"/>
              <a:chOff x="6591600" y="2937600"/>
              <a:chExt cx="948600" cy="1313280"/>
            </a:xfrm>
          </p:grpSpPr>
          <p:sp>
            <p:nvSpPr>
              <p:cNvPr id="2249" name=""/>
              <p:cNvSpPr/>
              <p:nvPr/>
            </p:nvSpPr>
            <p:spPr>
              <a:xfrm>
                <a:off x="7181280" y="3603600"/>
                <a:ext cx="2592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154280" y="3490200"/>
                <a:ext cx="48600" cy="113040"/>
              </a:xfrm>
              <a:custGeom>
                <a:avLst/>
                <a:gdLst/>
                <a:ahLst/>
                <a:rect l="l" t="t" r="r" b="b"/>
                <a:pathLst>
                  <a:path w="41" h="86">
                    <a:moveTo>
                      <a:pt x="23" y="86"/>
                    </a:moveTo>
                    <a:lnTo>
                      <a:pt x="41" y="8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" y="8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181280" y="3603600"/>
                <a:ext cx="21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154280" y="3490200"/>
                <a:ext cx="27000" cy="11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202880" y="3603600"/>
                <a:ext cx="47160" cy="10620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40" y="81"/>
                    </a:moveTo>
                    <a:lnTo>
                      <a:pt x="40" y="81"/>
                    </a:lnTo>
                    <a:lnTo>
                      <a:pt x="18" y="4"/>
                    </a:lnTo>
                    <a:lnTo>
                      <a:pt x="0" y="0"/>
                    </a:lnTo>
                    <a:lnTo>
                      <a:pt x="40" y="8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H="1" flipV="1">
                <a:off x="7224120" y="3608280"/>
                <a:ext cx="2592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 flipV="1">
                <a:off x="7202880" y="3603600"/>
                <a:ext cx="208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154280" y="3490200"/>
                <a:ext cx="69840" cy="118080"/>
              </a:xfrm>
              <a:custGeom>
                <a:avLst/>
                <a:gdLst/>
                <a:ahLst/>
                <a:rect l="l" t="t" r="r" b="b"/>
                <a:pathLst>
                  <a:path w="59" h="90">
                    <a:moveTo>
                      <a:pt x="41" y="86"/>
                    </a:moveTo>
                    <a:lnTo>
                      <a:pt x="59" y="90"/>
                    </a:lnTo>
                    <a:lnTo>
                      <a:pt x="3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1" y="8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202880" y="3603600"/>
                <a:ext cx="208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H="1" flipV="1">
                <a:off x="7196400" y="3507480"/>
                <a:ext cx="2700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H="1" flipV="1">
                <a:off x="7154280" y="3489840"/>
                <a:ext cx="424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143480" y="3424680"/>
                <a:ext cx="53280" cy="82800"/>
              </a:xfrm>
              <a:custGeom>
                <a:avLst/>
                <a:gdLst/>
                <a:ahLst/>
                <a:rect l="l" t="t" r="r" b="b"/>
                <a:pathLst>
                  <a:path w="45" h="63">
                    <a:moveTo>
                      <a:pt x="45" y="63"/>
                    </a:moveTo>
                    <a:lnTo>
                      <a:pt x="45" y="63"/>
                    </a:lnTo>
                    <a:lnTo>
                      <a:pt x="9" y="50"/>
                    </a:lnTo>
                    <a:lnTo>
                      <a:pt x="0" y="0"/>
                    </a:lnTo>
                    <a:lnTo>
                      <a:pt x="23" y="5"/>
                    </a:lnTo>
                    <a:lnTo>
                      <a:pt x="45" y="6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flipH="1" flipV="1">
                <a:off x="7154280" y="3489840"/>
                <a:ext cx="424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flipH="1" flipV="1">
                <a:off x="7143120" y="3424680"/>
                <a:ext cx="1044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143480" y="3424680"/>
                <a:ext cx="273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7105680" y="3246120"/>
                <a:ext cx="65160" cy="185040"/>
              </a:xfrm>
              <a:custGeom>
                <a:avLst/>
                <a:gdLst/>
                <a:ahLst/>
                <a:rect l="l" t="t" r="r" b="b"/>
                <a:pathLst>
                  <a:path w="55" h="141">
                    <a:moveTo>
                      <a:pt x="55" y="141"/>
                    </a:moveTo>
                    <a:lnTo>
                      <a:pt x="32" y="13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5" y="14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H="1" flipV="1">
                <a:off x="7143480" y="3424680"/>
                <a:ext cx="273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 flipV="1">
                <a:off x="7105320" y="3246120"/>
                <a:ext cx="3780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105680" y="32461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101000" y="3205080"/>
                <a:ext cx="10440" cy="40680"/>
              </a:xfrm>
              <a:custGeom>
                <a:avLst/>
                <a:gdLst/>
                <a:ahLst/>
                <a:rect l="l" t="t" r="r" b="b"/>
                <a:pathLst>
                  <a:path w="9" h="31">
                    <a:moveTo>
                      <a:pt x="9" y="31"/>
                    </a:moveTo>
                    <a:lnTo>
                      <a:pt x="4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3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H="1">
                <a:off x="7105680" y="32461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 flipV="1">
                <a:off x="7101000" y="3204720"/>
                <a:ext cx="432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170840" y="3431160"/>
                <a:ext cx="25920" cy="75960"/>
              </a:xfrm>
              <a:custGeom>
                <a:avLst/>
                <a:gdLst/>
                <a:ahLst/>
                <a:rect l="l" t="t" r="r" b="b"/>
                <a:pathLst>
                  <a:path w="22" h="58">
                    <a:moveTo>
                      <a:pt x="22" y="58"/>
                    </a:moveTo>
                    <a:lnTo>
                      <a:pt x="22" y="5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H="1" flipV="1">
                <a:off x="7170840" y="3436200"/>
                <a:ext cx="25920" cy="70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V="1">
                <a:off x="7170840" y="34311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111440" y="3246120"/>
                <a:ext cx="59040" cy="190080"/>
              </a:xfrm>
              <a:custGeom>
                <a:avLst/>
                <a:gdLst/>
                <a:ahLst/>
                <a:rect l="l" t="t" r="r" b="b"/>
                <a:pathLst>
                  <a:path w="50" h="145">
                    <a:moveTo>
                      <a:pt x="50" y="141"/>
                    </a:moveTo>
                    <a:lnTo>
                      <a:pt x="50" y="145"/>
                    </a:lnTo>
                    <a:lnTo>
                      <a:pt x="27" y="9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0" y="14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170840" y="34311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H="1" flipV="1">
                <a:off x="7143480" y="3370680"/>
                <a:ext cx="273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H="1" flipV="1">
                <a:off x="7111440" y="3246120"/>
                <a:ext cx="316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111440" y="324612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101000" y="3205080"/>
                <a:ext cx="10440" cy="40680"/>
              </a:xfrm>
              <a:custGeom>
                <a:avLst/>
                <a:gdLst/>
                <a:ahLst/>
                <a:rect l="l" t="t" r="r" b="b"/>
                <a:pathLst>
                  <a:path w="9" h="31">
                    <a:moveTo>
                      <a:pt x="9" y="31"/>
                    </a:moveTo>
                    <a:lnTo>
                      <a:pt x="9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3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111440" y="324612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 flipV="1">
                <a:off x="7100640" y="3204720"/>
                <a:ext cx="104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111440" y="3246120"/>
                <a:ext cx="31680" cy="124560"/>
              </a:xfrm>
              <a:custGeom>
                <a:avLst/>
                <a:gdLst/>
                <a:ahLst/>
                <a:rect l="l" t="t" r="r" b="b"/>
                <a:pathLst>
                  <a:path w="27" h="95">
                    <a:moveTo>
                      <a:pt x="27" y="95"/>
                    </a:moveTo>
                    <a:lnTo>
                      <a:pt x="27" y="95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27" y="9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H="1" flipV="1">
                <a:off x="7111440" y="3246120"/>
                <a:ext cx="316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111440" y="324612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068600" y="3062160"/>
                <a:ext cx="47520" cy="190080"/>
              </a:xfrm>
              <a:custGeom>
                <a:avLst/>
                <a:gdLst/>
                <a:ahLst/>
                <a:rect l="l" t="t" r="r" b="b"/>
                <a:pathLst>
                  <a:path w="40" h="145">
                    <a:moveTo>
                      <a:pt x="40" y="145"/>
                    </a:moveTo>
                    <a:lnTo>
                      <a:pt x="36" y="140"/>
                    </a:lnTo>
                    <a:lnTo>
                      <a:pt x="27" y="109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0" y="145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H="1" flipV="1">
                <a:off x="7111080" y="324612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flipH="1" flipV="1">
                <a:off x="7100640" y="3204720"/>
                <a:ext cx="104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H="1" flipV="1">
                <a:off x="7068240" y="3061800"/>
                <a:ext cx="32040" cy="142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068600" y="306216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041600" y="2937600"/>
                <a:ext cx="31680" cy="124560"/>
              </a:xfrm>
              <a:custGeom>
                <a:avLst/>
                <a:gdLst/>
                <a:ahLst/>
                <a:rect l="l" t="t" r="r" b="b"/>
                <a:pathLst>
                  <a:path w="27" h="95">
                    <a:moveTo>
                      <a:pt x="27" y="95"/>
                    </a:moveTo>
                    <a:lnTo>
                      <a:pt x="23" y="9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95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flipH="1">
                <a:off x="7068240" y="306216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 flipV="1">
                <a:off x="7041240" y="2937600"/>
                <a:ext cx="2700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116480" y="3252600"/>
                <a:ext cx="27000" cy="118080"/>
              </a:xfrm>
              <a:custGeom>
                <a:avLst/>
                <a:gdLst/>
                <a:ahLst/>
                <a:rect l="l" t="t" r="r" b="b"/>
                <a:pathLst>
                  <a:path w="23" h="90">
                    <a:moveTo>
                      <a:pt x="23" y="90"/>
                    </a:moveTo>
                    <a:lnTo>
                      <a:pt x="23" y="9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" y="9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flipH="1" flipV="1">
                <a:off x="7116120" y="3252600"/>
                <a:ext cx="27000" cy="118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116480" y="325260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073640" y="3062160"/>
                <a:ext cx="42480" cy="190080"/>
              </a:xfrm>
              <a:custGeom>
                <a:avLst/>
                <a:gdLst/>
                <a:ahLst/>
                <a:rect l="l" t="t" r="r" b="b"/>
                <a:pathLst>
                  <a:path w="36" h="145">
                    <a:moveTo>
                      <a:pt x="36" y="145"/>
                    </a:moveTo>
                    <a:lnTo>
                      <a:pt x="36" y="145"/>
                    </a:lnTo>
                    <a:lnTo>
                      <a:pt x="14" y="6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6" y="145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116480" y="325260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 flipV="1">
                <a:off x="7090200" y="3151440"/>
                <a:ext cx="2592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flipH="1" flipV="1">
                <a:off x="7073640" y="3067200"/>
                <a:ext cx="16560" cy="84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V="1">
                <a:off x="7073640" y="3062160"/>
                <a:ext cx="10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041600" y="2937600"/>
                <a:ext cx="31680" cy="129600"/>
              </a:xfrm>
              <a:custGeom>
                <a:avLst/>
                <a:gdLst/>
                <a:ahLst/>
                <a:rect l="l" t="t" r="r" b="b"/>
                <a:pathLst>
                  <a:path w="27" h="99">
                    <a:moveTo>
                      <a:pt x="27" y="95"/>
                    </a:moveTo>
                    <a:lnTo>
                      <a:pt x="27" y="9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95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073640" y="3062160"/>
                <a:ext cx="10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flipH="1" flipV="1">
                <a:off x="7041600" y="2937600"/>
                <a:ext cx="31680" cy="12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988320" y="3067200"/>
                <a:ext cx="101520" cy="84240"/>
              </a:xfrm>
              <a:custGeom>
                <a:avLst/>
                <a:gdLst/>
                <a:ahLst/>
                <a:rect l="l" t="t" r="r" b="b"/>
                <a:pathLst>
                  <a:path w="86" h="64">
                    <a:moveTo>
                      <a:pt x="86" y="64"/>
                    </a:moveTo>
                    <a:lnTo>
                      <a:pt x="86" y="6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86" y="64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988320" y="306720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988320" y="3067200"/>
                <a:ext cx="84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073640" y="3067200"/>
                <a:ext cx="16560" cy="84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988320" y="2937600"/>
                <a:ext cx="84960" cy="129600"/>
              </a:xfrm>
              <a:custGeom>
                <a:avLst/>
                <a:gdLst/>
                <a:ahLst/>
                <a:rect l="l" t="t" r="r" b="b"/>
                <a:pathLst>
                  <a:path w="72" h="99">
                    <a:moveTo>
                      <a:pt x="72" y="99"/>
                    </a:moveTo>
                    <a:lnTo>
                      <a:pt x="0" y="99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72" y="99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H="1">
                <a:off x="6988320" y="3067200"/>
                <a:ext cx="84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V="1">
                <a:off x="6988320" y="2937600"/>
                <a:ext cx="52920" cy="12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041600" y="2937600"/>
                <a:ext cx="31680" cy="12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030800" y="3264480"/>
                <a:ext cx="10440" cy="234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4" y="18"/>
                    </a:moveTo>
                    <a:lnTo>
                      <a:pt x="4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V="1">
                <a:off x="7035840" y="3264120"/>
                <a:ext cx="57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H="1">
                <a:off x="7030440" y="326448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030800" y="3264480"/>
                <a:ext cx="4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988320" y="3067200"/>
                <a:ext cx="101520" cy="196920"/>
              </a:xfrm>
              <a:custGeom>
                <a:avLst/>
                <a:gdLst/>
                <a:ahLst/>
                <a:rect l="l" t="t" r="r" b="b"/>
                <a:pathLst>
                  <a:path w="86" h="150">
                    <a:moveTo>
                      <a:pt x="36" y="150"/>
                    </a:moveTo>
                    <a:lnTo>
                      <a:pt x="45" y="150"/>
                    </a:lnTo>
                    <a:lnTo>
                      <a:pt x="86" y="6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150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030800" y="326448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V="1">
                <a:off x="7041600" y="3151080"/>
                <a:ext cx="4860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988320" y="3067200"/>
                <a:ext cx="42120" cy="19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933960" y="3264480"/>
                <a:ext cx="48600" cy="89280"/>
              </a:xfrm>
              <a:custGeom>
                <a:avLst/>
                <a:gdLst/>
                <a:ahLst/>
                <a:rect l="l" t="t" r="r" b="b"/>
                <a:pathLst>
                  <a:path w="41" h="68">
                    <a:moveTo>
                      <a:pt x="37" y="68"/>
                    </a:moveTo>
                    <a:lnTo>
                      <a:pt x="37" y="68"/>
                    </a:lnTo>
                    <a:lnTo>
                      <a:pt x="0" y="18"/>
                    </a:lnTo>
                    <a:lnTo>
                      <a:pt x="5" y="0"/>
                    </a:lnTo>
                    <a:lnTo>
                      <a:pt x="41" y="0"/>
                    </a:lnTo>
                    <a:lnTo>
                      <a:pt x="37" y="6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H="1" flipV="1">
                <a:off x="6933600" y="3287880"/>
                <a:ext cx="435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V="1">
                <a:off x="6933960" y="3264120"/>
                <a:ext cx="57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939720" y="326448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939720" y="3067200"/>
                <a:ext cx="48600" cy="196920"/>
              </a:xfrm>
              <a:custGeom>
                <a:avLst/>
                <a:gdLst/>
                <a:ahLst/>
                <a:rect l="l" t="t" r="r" b="b"/>
                <a:pathLst>
                  <a:path w="41" h="150">
                    <a:moveTo>
                      <a:pt x="36" y="150"/>
                    </a:moveTo>
                    <a:lnTo>
                      <a:pt x="0" y="15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150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H="1">
                <a:off x="6939720" y="326448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V="1">
                <a:off x="6939720" y="3066840"/>
                <a:ext cx="48600" cy="19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977880" y="3264480"/>
                <a:ext cx="57960" cy="89280"/>
              </a:xfrm>
              <a:custGeom>
                <a:avLst/>
                <a:gdLst/>
                <a:ahLst/>
                <a:rect l="l" t="t" r="r" b="b"/>
                <a:pathLst>
                  <a:path w="49" h="68">
                    <a:moveTo>
                      <a:pt x="0" y="68"/>
                    </a:moveTo>
                    <a:lnTo>
                      <a:pt x="0" y="68"/>
                    </a:lnTo>
                    <a:lnTo>
                      <a:pt x="49" y="18"/>
                    </a:lnTo>
                    <a:lnTo>
                      <a:pt x="45" y="0"/>
                    </a:lnTo>
                    <a:lnTo>
                      <a:pt x="4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V="1">
                <a:off x="6977880" y="3287880"/>
                <a:ext cx="579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H="1" flipV="1">
                <a:off x="7030440" y="3264120"/>
                <a:ext cx="4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H="1">
                <a:off x="6982560" y="3264480"/>
                <a:ext cx="48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982560" y="3067200"/>
                <a:ext cx="48240" cy="196920"/>
              </a:xfrm>
              <a:custGeom>
                <a:avLst/>
                <a:gdLst/>
                <a:ahLst/>
                <a:rect l="l" t="t" r="r" b="b"/>
                <a:pathLst>
                  <a:path w="41" h="150">
                    <a:moveTo>
                      <a:pt x="0" y="150"/>
                    </a:moveTo>
                    <a:lnTo>
                      <a:pt x="41" y="15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982560" y="3264480"/>
                <a:ext cx="48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 flipH="1" flipV="1">
                <a:off x="6987960" y="3066840"/>
                <a:ext cx="42120" cy="19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880320" y="346032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36" h="91">
                    <a:moveTo>
                      <a:pt x="0" y="91"/>
                    </a:moveTo>
                    <a:lnTo>
                      <a:pt x="0" y="91"/>
                    </a:lnTo>
                    <a:lnTo>
                      <a:pt x="36" y="55"/>
                    </a:lnTo>
                    <a:lnTo>
                      <a:pt x="36" y="5"/>
                    </a:lnTo>
                    <a:lnTo>
                      <a:pt x="18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flipV="1">
                <a:off x="6880320" y="3531960"/>
                <a:ext cx="424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flipH="1" flipV="1">
                <a:off x="6901920" y="346032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>
                <a:off x="6879960" y="3460320"/>
                <a:ext cx="2124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6901920" y="3287880"/>
                <a:ext cx="31680" cy="178560"/>
              </a:xfrm>
              <a:custGeom>
                <a:avLst/>
                <a:gdLst/>
                <a:ahLst/>
                <a:rect l="l" t="t" r="r" b="b"/>
                <a:pathLst>
                  <a:path w="27" h="136">
                    <a:moveTo>
                      <a:pt x="0" y="131"/>
                    </a:moveTo>
                    <a:lnTo>
                      <a:pt x="18" y="13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6901920" y="346032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6901920" y="3287880"/>
                <a:ext cx="31680" cy="172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923160" y="3466800"/>
                <a:ext cx="16560" cy="6552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50"/>
                    </a:moveTo>
                    <a:lnTo>
                      <a:pt x="0" y="5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V="1">
                <a:off x="6923160" y="3466800"/>
                <a:ext cx="165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>
                <a:off x="6923160" y="3466800"/>
                <a:ext cx="16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6923160" y="3287880"/>
                <a:ext cx="54360" cy="178560"/>
              </a:xfrm>
              <a:custGeom>
                <a:avLst/>
                <a:gdLst/>
                <a:ahLst/>
                <a:rect l="l" t="t" r="r" b="b"/>
                <a:pathLst>
                  <a:path w="46" h="136">
                    <a:moveTo>
                      <a:pt x="0" y="136"/>
                    </a:moveTo>
                    <a:lnTo>
                      <a:pt x="14" y="136"/>
                    </a:lnTo>
                    <a:lnTo>
                      <a:pt x="46" y="5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6923160" y="3466800"/>
                <a:ext cx="16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V="1">
                <a:off x="6939720" y="3353400"/>
                <a:ext cx="3780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H="1" flipV="1">
                <a:off x="6933600" y="3287880"/>
                <a:ext cx="435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6821280" y="3657240"/>
                <a:ext cx="37800" cy="7596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0" y="58"/>
                    </a:moveTo>
                    <a:lnTo>
                      <a:pt x="0" y="58"/>
                    </a:lnTo>
                    <a:lnTo>
                      <a:pt x="27" y="0"/>
                    </a:lnTo>
                    <a:lnTo>
                      <a:pt x="32" y="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V="1">
                <a:off x="6821280" y="3656880"/>
                <a:ext cx="31680" cy="75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853320" y="365724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853320" y="3532320"/>
                <a:ext cx="69840" cy="129960"/>
              </a:xfrm>
              <a:custGeom>
                <a:avLst/>
                <a:gdLst/>
                <a:ahLst/>
                <a:rect l="l" t="t" r="r" b="b"/>
                <a:pathLst>
                  <a:path w="59" h="99">
                    <a:moveTo>
                      <a:pt x="5" y="99"/>
                    </a:moveTo>
                    <a:lnTo>
                      <a:pt x="0" y="95"/>
                    </a:lnTo>
                    <a:lnTo>
                      <a:pt x="23" y="36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" y="9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 flipV="1">
                <a:off x="6853320" y="365724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flipV="1">
                <a:off x="6853320" y="3579480"/>
                <a:ext cx="2700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 flipV="1">
                <a:off x="6880320" y="3531960"/>
                <a:ext cx="424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6821280" y="3662640"/>
                <a:ext cx="64800" cy="8928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36" y="68"/>
                    </a:moveTo>
                    <a:lnTo>
                      <a:pt x="36" y="68"/>
                    </a:lnTo>
                    <a:lnTo>
                      <a:pt x="0" y="54"/>
                    </a:lnTo>
                    <a:lnTo>
                      <a:pt x="32" y="0"/>
                    </a:lnTo>
                    <a:lnTo>
                      <a:pt x="55" y="5"/>
                    </a:lnTo>
                    <a:lnTo>
                      <a:pt x="36" y="6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flipH="1" flipV="1">
                <a:off x="6821280" y="3733200"/>
                <a:ext cx="424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859080" y="3662640"/>
                <a:ext cx="270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H="1">
                <a:off x="6863760" y="3669120"/>
                <a:ext cx="21960" cy="82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859080" y="3532320"/>
                <a:ext cx="63720" cy="13644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23" y="104"/>
                    </a:moveTo>
                    <a:lnTo>
                      <a:pt x="0" y="99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23" y="10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 flipH="1" flipV="1">
                <a:off x="6858720" y="3662640"/>
                <a:ext cx="270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>
                <a:off x="6886440" y="3532320"/>
                <a:ext cx="3672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6768000" y="3859560"/>
                <a:ext cx="42480" cy="5904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36" y="45"/>
                    </a:moveTo>
                    <a:lnTo>
                      <a:pt x="36" y="45"/>
                    </a:lnTo>
                    <a:lnTo>
                      <a:pt x="0" y="31"/>
                    </a:lnTo>
                    <a:lnTo>
                      <a:pt x="9" y="0"/>
                    </a:lnTo>
                    <a:lnTo>
                      <a:pt x="36" y="4"/>
                    </a:lnTo>
                    <a:lnTo>
                      <a:pt x="36" y="4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H="1" flipV="1">
                <a:off x="6768000" y="3899880"/>
                <a:ext cx="424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V="1">
                <a:off x="6768000" y="3859200"/>
                <a:ext cx="104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6778800" y="385956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6778800" y="3733560"/>
                <a:ext cx="42480" cy="131040"/>
              </a:xfrm>
              <a:custGeom>
                <a:avLst/>
                <a:gdLst/>
                <a:ahLst/>
                <a:rect l="l" t="t" r="r" b="b"/>
                <a:pathLst>
                  <a:path w="36" h="100">
                    <a:moveTo>
                      <a:pt x="27" y="100"/>
                    </a:moveTo>
                    <a:lnTo>
                      <a:pt x="0" y="96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7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 flipV="1">
                <a:off x="6778800" y="385956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flipV="1">
                <a:off x="6778800" y="3733560"/>
                <a:ext cx="42480" cy="126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810480" y="3864600"/>
                <a:ext cx="16560" cy="53640"/>
              </a:xfrm>
              <a:custGeom>
                <a:avLst/>
                <a:gdLst/>
                <a:ahLst/>
                <a:rect l="l" t="t" r="r" b="b"/>
                <a:pathLst>
                  <a:path w="14" h="41">
                    <a:moveTo>
                      <a:pt x="0" y="41"/>
                    </a:moveTo>
                    <a:lnTo>
                      <a:pt x="0" y="41"/>
                    </a:lnTo>
                    <a:lnTo>
                      <a:pt x="14" y="5"/>
                    </a:lnTo>
                    <a:lnTo>
                      <a:pt x="0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flipV="1">
                <a:off x="6810480" y="3871080"/>
                <a:ext cx="165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flipH="1" flipV="1">
                <a:off x="6810480" y="386460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810480" y="3733560"/>
                <a:ext cx="53280" cy="137880"/>
              </a:xfrm>
              <a:custGeom>
                <a:avLst/>
                <a:gdLst/>
                <a:ahLst/>
                <a:rect l="l" t="t" r="r" b="b"/>
                <a:pathLst>
                  <a:path w="45" h="105">
                    <a:moveTo>
                      <a:pt x="0" y="100"/>
                    </a:moveTo>
                    <a:lnTo>
                      <a:pt x="14" y="105"/>
                    </a:lnTo>
                    <a:lnTo>
                      <a:pt x="45" y="1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810480" y="386460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V="1">
                <a:off x="6827400" y="3751560"/>
                <a:ext cx="3672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H="1" flipV="1">
                <a:off x="6821280" y="3733200"/>
                <a:ext cx="424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708960" y="3900240"/>
                <a:ext cx="101520" cy="154800"/>
              </a:xfrm>
              <a:custGeom>
                <a:avLst/>
                <a:gdLst/>
                <a:ahLst/>
                <a:rect l="l" t="t" r="r" b="b"/>
                <a:pathLst>
                  <a:path w="86" h="118">
                    <a:moveTo>
                      <a:pt x="0" y="118"/>
                    </a:moveTo>
                    <a:lnTo>
                      <a:pt x="86" y="14"/>
                    </a:lnTo>
                    <a:lnTo>
                      <a:pt x="50" y="0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708960" y="3900240"/>
                <a:ext cx="101520" cy="15480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19" y="3"/>
                    </a:moveTo>
                    <a:lnTo>
                      <a:pt x="11" y="0"/>
                    </a:lnTo>
                    <a:lnTo>
                      <a:pt x="0" y="2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6719400" y="4066920"/>
                <a:ext cx="37800" cy="18360"/>
              </a:xfrm>
              <a:custGeom>
                <a:avLst/>
                <a:gdLst/>
                <a:ahLst/>
                <a:rect l="l" t="t" r="r" b="b"/>
                <a:pathLst>
                  <a:path w="32" h="14">
                    <a:moveTo>
                      <a:pt x="27" y="14"/>
                    </a:moveTo>
                    <a:lnTo>
                      <a:pt x="27" y="14"/>
                    </a:lnTo>
                    <a:lnTo>
                      <a:pt x="0" y="0"/>
                    </a:lnTo>
                    <a:lnTo>
                      <a:pt x="32" y="9"/>
                    </a:lnTo>
                    <a:lnTo>
                      <a:pt x="27" y="1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 flipV="1">
                <a:off x="6719400" y="4066560"/>
                <a:ext cx="316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6719400" y="406692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>
                <a:off x="6751440" y="407880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6708960" y="3918600"/>
                <a:ext cx="101520" cy="160200"/>
              </a:xfrm>
              <a:custGeom>
                <a:avLst/>
                <a:gdLst/>
                <a:ahLst/>
                <a:rect l="l" t="t" r="r" b="b"/>
                <a:pathLst>
                  <a:path w="86" h="122">
                    <a:moveTo>
                      <a:pt x="41" y="122"/>
                    </a:moveTo>
                    <a:lnTo>
                      <a:pt x="9" y="113"/>
                    </a:lnTo>
                    <a:lnTo>
                      <a:pt x="0" y="104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41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 flipV="1">
                <a:off x="6719040" y="406656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H="1" flipV="1">
                <a:off x="6708600" y="405468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>
                <a:off x="6757200" y="3918600"/>
                <a:ext cx="52920" cy="160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6649560" y="4060440"/>
                <a:ext cx="59040" cy="124560"/>
              </a:xfrm>
              <a:custGeom>
                <a:avLst/>
                <a:gdLst/>
                <a:ahLst/>
                <a:rect l="l" t="t" r="r" b="b"/>
                <a:pathLst>
                  <a:path w="50" h="95">
                    <a:moveTo>
                      <a:pt x="37" y="95"/>
                    </a:moveTo>
                    <a:lnTo>
                      <a:pt x="37" y="95"/>
                    </a:lnTo>
                    <a:lnTo>
                      <a:pt x="0" y="77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37" y="9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H="1" flipV="1">
                <a:off x="6649560" y="4161240"/>
                <a:ext cx="439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V="1">
                <a:off x="6649560" y="4060080"/>
                <a:ext cx="5904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708960" y="40604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708960" y="4055040"/>
                <a:ext cx="720" cy="5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708960" y="40604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V="1">
                <a:off x="6708960" y="405504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693480" y="4060440"/>
                <a:ext cx="57960" cy="124560"/>
              </a:xfrm>
              <a:custGeom>
                <a:avLst/>
                <a:gdLst/>
                <a:ahLst/>
                <a:rect l="l" t="t" r="r" b="b"/>
                <a:pathLst>
                  <a:path w="49" h="95">
                    <a:moveTo>
                      <a:pt x="0" y="95"/>
                    </a:moveTo>
                    <a:lnTo>
                      <a:pt x="0" y="95"/>
                    </a:lnTo>
                    <a:lnTo>
                      <a:pt x="49" y="19"/>
                    </a:lnTo>
                    <a:lnTo>
                      <a:pt x="22" y="5"/>
                    </a:lnTo>
                    <a:lnTo>
                      <a:pt x="13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V="1">
                <a:off x="6693480" y="4085280"/>
                <a:ext cx="57960" cy="99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flipH="1" flipV="1">
                <a:off x="6719400" y="4066560"/>
                <a:ext cx="316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H="1" flipV="1">
                <a:off x="6708600" y="40604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708960" y="40550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708960" y="40604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H="1" flipV="1">
                <a:off x="6708600" y="405468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591600" y="4161600"/>
                <a:ext cx="101880" cy="8928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49" y="0"/>
                    </a:moveTo>
                    <a:lnTo>
                      <a:pt x="0" y="50"/>
                    </a:lnTo>
                    <a:lnTo>
                      <a:pt x="36" y="68"/>
                    </a:lnTo>
                    <a:lnTo>
                      <a:pt x="86" y="18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449120" y="4085640"/>
                <a:ext cx="91080" cy="16920"/>
              </a:xfrm>
              <a:custGeom>
                <a:avLst/>
                <a:gdLst/>
                <a:ahLst/>
                <a:rect l="l" t="t" r="r" b="b"/>
                <a:pathLst>
                  <a:path w="77" h="13">
                    <a:moveTo>
                      <a:pt x="41" y="0"/>
                    </a:moveTo>
                    <a:lnTo>
                      <a:pt x="0" y="0"/>
                    </a:lnTo>
                    <a:lnTo>
                      <a:pt x="36" y="13"/>
                    </a:lnTo>
                    <a:lnTo>
                      <a:pt x="77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400520" y="4060440"/>
                <a:ext cx="91080" cy="4176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41" y="19"/>
                    </a:moveTo>
                    <a:lnTo>
                      <a:pt x="0" y="0"/>
                    </a:lnTo>
                    <a:lnTo>
                      <a:pt x="37" y="28"/>
                    </a:lnTo>
                    <a:lnTo>
                      <a:pt x="77" y="32"/>
                    </a:lnTo>
                    <a:lnTo>
                      <a:pt x="41" y="19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353360" y="3942360"/>
                <a:ext cx="90720" cy="155160"/>
              </a:xfrm>
              <a:custGeom>
                <a:avLst/>
                <a:gdLst/>
                <a:ahLst/>
                <a:rect l="l" t="t" r="r" b="b"/>
                <a:pathLst>
                  <a:path w="77" h="118">
                    <a:moveTo>
                      <a:pt x="77" y="118"/>
                    </a:moveTo>
                    <a:lnTo>
                      <a:pt x="77" y="118"/>
                    </a:lnTo>
                    <a:lnTo>
                      <a:pt x="40" y="9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7" y="1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H="1" flipV="1">
                <a:off x="7400160" y="4060440"/>
                <a:ext cx="43560" cy="36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H="1" flipV="1">
                <a:off x="7353000" y="3942360"/>
                <a:ext cx="47160" cy="118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353360" y="394236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353360" y="3942360"/>
                <a:ext cx="720" cy="14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353360" y="394236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353360" y="394236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353360" y="3942360"/>
                <a:ext cx="90720" cy="155160"/>
              </a:xfrm>
              <a:custGeom>
                <a:avLst/>
                <a:gdLst/>
                <a:ahLst/>
                <a:rect l="l" t="t" r="r" b="b"/>
                <a:pathLst>
                  <a:path w="77" h="118">
                    <a:moveTo>
                      <a:pt x="77" y="118"/>
                    </a:moveTo>
                    <a:lnTo>
                      <a:pt x="77" y="118"/>
                    </a:lnTo>
                    <a:lnTo>
                      <a:pt x="36" y="7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77" y="1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H="1" flipV="1">
                <a:off x="7395840" y="4043160"/>
                <a:ext cx="4824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 flipV="1">
                <a:off x="7353360" y="3947400"/>
                <a:ext cx="4248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V="1">
                <a:off x="7353360" y="39423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353360" y="394236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353360" y="39423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V="1">
                <a:off x="7353360" y="39423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353360" y="3947400"/>
                <a:ext cx="42480" cy="95760"/>
              </a:xfrm>
              <a:custGeom>
                <a:avLst/>
                <a:gdLst/>
                <a:ahLst/>
                <a:rect l="l" t="t" r="r" b="b"/>
                <a:pathLst>
                  <a:path w="36" h="73">
                    <a:moveTo>
                      <a:pt x="36" y="73"/>
                    </a:moveTo>
                    <a:lnTo>
                      <a:pt x="36" y="73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36" y="7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flipH="1" flipV="1">
                <a:off x="7353360" y="3947400"/>
                <a:ext cx="4248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353360" y="3947400"/>
                <a:ext cx="43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298640" y="3810960"/>
                <a:ext cx="59040" cy="14832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46" y="104"/>
                    </a:lnTo>
                    <a:lnTo>
                      <a:pt x="46" y="10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H="1" flipV="1">
                <a:off x="7353360" y="3947040"/>
                <a:ext cx="43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7353360" y="39423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H="1" flipV="1">
                <a:off x="7298280" y="3810960"/>
                <a:ext cx="54360" cy="131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353360" y="395964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36" h="64">
                    <a:moveTo>
                      <a:pt x="36" y="64"/>
                    </a:moveTo>
                    <a:lnTo>
                      <a:pt x="36" y="64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36" y="6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H="1" flipV="1">
                <a:off x="7353360" y="3965760"/>
                <a:ext cx="4248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7353360" y="3959640"/>
                <a:ext cx="43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298640" y="3810960"/>
                <a:ext cx="59040" cy="155160"/>
              </a:xfrm>
              <a:custGeom>
                <a:avLst/>
                <a:gdLst/>
                <a:ahLst/>
                <a:rect l="l" t="t" r="r" b="b"/>
                <a:pathLst>
                  <a:path w="50" h="118">
                    <a:moveTo>
                      <a:pt x="50" y="113"/>
                    </a:moveTo>
                    <a:lnTo>
                      <a:pt x="46" y="118"/>
                    </a:lnTo>
                    <a:lnTo>
                      <a:pt x="41" y="10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H="1">
                <a:off x="7353360" y="3959640"/>
                <a:ext cx="43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H="1" flipV="1">
                <a:off x="7347240" y="395388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H="1" flipV="1">
                <a:off x="7298280" y="3810960"/>
                <a:ext cx="48600" cy="14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287840" y="378180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9" y="22"/>
                    </a:moveTo>
                    <a:lnTo>
                      <a:pt x="9" y="22"/>
                    </a:lnTo>
                    <a:lnTo>
                      <a:pt x="9" y="4"/>
                    </a:lnTo>
                    <a:lnTo>
                      <a:pt x="0" y="0"/>
                    </a:lnTo>
                    <a:lnTo>
                      <a:pt x="9" y="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H="1" flipV="1">
                <a:off x="7287480" y="37818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287840" y="3781800"/>
                <a:ext cx="1044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250040" y="3709800"/>
                <a:ext cx="48600" cy="77400"/>
              </a:xfrm>
              <a:custGeom>
                <a:avLst/>
                <a:gdLst/>
                <a:ahLst/>
                <a:rect l="l" t="t" r="r" b="b"/>
                <a:pathLst>
                  <a:path w="41" h="59">
                    <a:moveTo>
                      <a:pt x="32" y="55"/>
                    </a:moveTo>
                    <a:lnTo>
                      <a:pt x="41" y="59"/>
                    </a:lnTo>
                    <a:lnTo>
                      <a:pt x="37" y="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5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287840" y="37818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H="1" flipV="1">
                <a:off x="7249680" y="3709440"/>
                <a:ext cx="4356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250040" y="3709800"/>
                <a:ext cx="37800" cy="72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298640" y="3787200"/>
                <a:ext cx="48600" cy="166680"/>
              </a:xfrm>
              <a:custGeom>
                <a:avLst/>
                <a:gdLst/>
                <a:ahLst/>
                <a:rect l="l" t="t" r="r" b="b"/>
                <a:pathLst>
                  <a:path w="41" h="127">
                    <a:moveTo>
                      <a:pt x="41" y="127"/>
                    </a:moveTo>
                    <a:lnTo>
                      <a:pt x="41" y="127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41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H="1" flipV="1">
                <a:off x="7298280" y="3810960"/>
                <a:ext cx="48600" cy="14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298640" y="378720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304760" y="3799080"/>
                <a:ext cx="42480" cy="15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293960" y="3763800"/>
                <a:ext cx="10440" cy="352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27"/>
                    </a:moveTo>
                    <a:lnTo>
                      <a:pt x="4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H="1" flipV="1">
                <a:off x="7298640" y="378684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293960" y="376380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224120" y="3608640"/>
                <a:ext cx="25920" cy="101160"/>
              </a:xfrm>
              <a:custGeom>
                <a:avLst/>
                <a:gdLst/>
                <a:ahLst/>
                <a:rect l="l" t="t" r="r" b="b"/>
                <a:pathLst>
                  <a:path w="22" h="77">
                    <a:moveTo>
                      <a:pt x="22" y="77"/>
                    </a:moveTo>
                    <a:lnTo>
                      <a:pt x="22" y="77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22" y="7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H="1" flipV="1">
                <a:off x="7223760" y="3608280"/>
                <a:ext cx="212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224120" y="3608640"/>
                <a:ext cx="2592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196760" y="3507480"/>
                <a:ext cx="48600" cy="112680"/>
              </a:xfrm>
              <a:custGeom>
                <a:avLst/>
                <a:gdLst/>
                <a:ahLst/>
                <a:rect l="l" t="t" r="r" b="b"/>
                <a:pathLst>
                  <a:path w="41" h="86">
                    <a:moveTo>
                      <a:pt x="23" y="77"/>
                    </a:moveTo>
                    <a:lnTo>
                      <a:pt x="41" y="86"/>
                    </a:lnTo>
                    <a:lnTo>
                      <a:pt x="41" y="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" y="7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9" name=""/>
            <p:cNvGrpSpPr/>
            <p:nvPr/>
          </p:nvGrpSpPr>
          <p:grpSpPr>
            <a:xfrm>
              <a:off x="6634080" y="3151440"/>
              <a:ext cx="954360" cy="1111320"/>
              <a:chOff x="6634080" y="3151440"/>
              <a:chExt cx="954360" cy="1111320"/>
            </a:xfrm>
          </p:grpSpPr>
          <p:sp>
            <p:nvSpPr>
              <p:cNvPr id="2450" name=""/>
              <p:cNvSpPr/>
              <p:nvPr/>
            </p:nvSpPr>
            <p:spPr>
              <a:xfrm>
                <a:off x="7223760" y="3608640"/>
                <a:ext cx="212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H="1" flipV="1">
                <a:off x="7196400" y="3507840"/>
                <a:ext cx="4860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196760" y="3507840"/>
                <a:ext cx="2700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245360" y="3620520"/>
                <a:ext cx="48240" cy="143280"/>
              </a:xfrm>
              <a:custGeom>
                <a:avLst/>
                <a:gdLst/>
                <a:ahLst/>
                <a:rect l="l" t="t" r="r" b="b"/>
                <a:pathLst>
                  <a:path w="41" h="109">
                    <a:moveTo>
                      <a:pt x="41" y="109"/>
                    </a:moveTo>
                    <a:lnTo>
                      <a:pt x="41" y="109"/>
                    </a:lnTo>
                    <a:lnTo>
                      <a:pt x="4" y="68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41" y="10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H="1" flipV="1">
                <a:off x="7249680" y="3709800"/>
                <a:ext cx="4356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245360" y="3620520"/>
                <a:ext cx="162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261920" y="3620520"/>
                <a:ext cx="31680" cy="14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245360" y="3561480"/>
                <a:ext cx="16200" cy="59040"/>
              </a:xfrm>
              <a:custGeom>
                <a:avLst/>
                <a:gdLst/>
                <a:ahLst/>
                <a:rect l="l" t="t" r="r" b="b"/>
                <a:pathLst>
                  <a:path w="14" h="45">
                    <a:moveTo>
                      <a:pt x="14" y="45"/>
                    </a:move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4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H="1">
                <a:off x="7245000" y="3620520"/>
                <a:ext cx="162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245360" y="3561480"/>
                <a:ext cx="1620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170840" y="3436560"/>
                <a:ext cx="74520" cy="124560"/>
              </a:xfrm>
              <a:custGeom>
                <a:avLst/>
                <a:gdLst/>
                <a:ahLst/>
                <a:rect l="l" t="t" r="r" b="b"/>
                <a:pathLst>
                  <a:path w="63" h="95">
                    <a:moveTo>
                      <a:pt x="63" y="95"/>
                    </a:moveTo>
                    <a:lnTo>
                      <a:pt x="63" y="95"/>
                    </a:lnTo>
                    <a:lnTo>
                      <a:pt x="22" y="54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63" y="9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H="1" flipV="1">
                <a:off x="7196400" y="3507840"/>
                <a:ext cx="4860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H="1" flipV="1">
                <a:off x="7170840" y="3436200"/>
                <a:ext cx="25920" cy="70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170840" y="3436560"/>
                <a:ext cx="1044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143120" y="3371040"/>
                <a:ext cx="37800" cy="7236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32" y="55"/>
                    </a:moveTo>
                    <a:lnTo>
                      <a:pt x="23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5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H="1" flipV="1">
                <a:off x="7170480" y="3436200"/>
                <a:ext cx="1044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H="1" flipV="1">
                <a:off x="7143120" y="3371040"/>
                <a:ext cx="273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170840" y="3443400"/>
                <a:ext cx="74520" cy="117720"/>
              </a:xfrm>
              <a:custGeom>
                <a:avLst/>
                <a:gdLst/>
                <a:ahLst/>
                <a:rect l="l" t="t" r="r" b="b"/>
                <a:pathLst>
                  <a:path w="63" h="90">
                    <a:moveTo>
                      <a:pt x="63" y="90"/>
                    </a:moveTo>
                    <a:lnTo>
                      <a:pt x="63" y="90"/>
                    </a:lnTo>
                    <a:lnTo>
                      <a:pt x="18" y="49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63" y="9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 flipV="1">
                <a:off x="7192080" y="3507840"/>
                <a:ext cx="532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 flipV="1">
                <a:off x="7170840" y="3443400"/>
                <a:ext cx="2088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170840" y="344340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143120" y="3371040"/>
                <a:ext cx="37800" cy="7236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32" y="55"/>
                    </a:moveTo>
                    <a:lnTo>
                      <a:pt x="23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5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>
                <a:off x="7170480" y="344340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 flipV="1">
                <a:off x="7143120" y="3370680"/>
                <a:ext cx="27360" cy="72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170840" y="3443400"/>
                <a:ext cx="20880" cy="6408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18" y="49"/>
                    </a:moveTo>
                    <a:lnTo>
                      <a:pt x="18" y="49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18" y="4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 flipV="1">
                <a:off x="7170840" y="3443400"/>
                <a:ext cx="2088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170840" y="3443400"/>
                <a:ext cx="43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116120" y="3252600"/>
                <a:ext cx="59040" cy="195480"/>
              </a:xfrm>
              <a:custGeom>
                <a:avLst/>
                <a:gdLst/>
                <a:ahLst/>
                <a:rect l="l" t="t" r="r" b="b"/>
                <a:pathLst>
                  <a:path w="50" h="149">
                    <a:moveTo>
                      <a:pt x="50" y="149"/>
                    </a:moveTo>
                    <a:lnTo>
                      <a:pt x="46" y="145"/>
                    </a:lnTo>
                    <a:lnTo>
                      <a:pt x="23" y="90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0" y="149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 flipV="1">
                <a:off x="7170840" y="3443400"/>
                <a:ext cx="43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 flipV="1">
                <a:off x="7143120" y="3370680"/>
                <a:ext cx="27360" cy="72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H="1" flipV="1">
                <a:off x="7115760" y="3252600"/>
                <a:ext cx="27000" cy="118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7116120" y="325260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7090200" y="3151800"/>
                <a:ext cx="31680" cy="106200"/>
              </a:xfrm>
              <a:custGeom>
                <a:avLst/>
                <a:gdLst/>
                <a:ahLst/>
                <a:rect l="l" t="t" r="r" b="b"/>
                <a:pathLst>
                  <a:path w="27" h="81">
                    <a:moveTo>
                      <a:pt x="27" y="81"/>
                    </a:moveTo>
                    <a:lnTo>
                      <a:pt x="22" y="7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8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 flipV="1">
                <a:off x="7116120" y="325260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 flipV="1">
                <a:off x="7090200" y="3151800"/>
                <a:ext cx="2592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164720" y="3448440"/>
                <a:ext cx="27000" cy="5904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3" y="45"/>
                    </a:moveTo>
                    <a:lnTo>
                      <a:pt x="23" y="45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H="1" flipV="1">
                <a:off x="7164360" y="3454920"/>
                <a:ext cx="2700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V="1">
                <a:off x="7164720" y="34484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111440" y="3258000"/>
                <a:ext cx="63720" cy="196920"/>
              </a:xfrm>
              <a:custGeom>
                <a:avLst/>
                <a:gdLst/>
                <a:ahLst/>
                <a:rect l="l" t="t" r="r" b="b"/>
                <a:pathLst>
                  <a:path w="54" h="150">
                    <a:moveTo>
                      <a:pt x="54" y="145"/>
                    </a:moveTo>
                    <a:lnTo>
                      <a:pt x="45" y="150"/>
                    </a:lnTo>
                    <a:lnTo>
                      <a:pt x="18" y="100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H="1">
                <a:off x="7164360" y="34484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 flipV="1">
                <a:off x="7132680" y="3389400"/>
                <a:ext cx="316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 flipV="1">
                <a:off x="7111080" y="3264480"/>
                <a:ext cx="2124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V="1">
                <a:off x="7111440" y="325800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090200" y="3151800"/>
                <a:ext cx="31680" cy="112680"/>
              </a:xfrm>
              <a:custGeom>
                <a:avLst/>
                <a:gdLst/>
                <a:ahLst/>
                <a:rect l="l" t="t" r="r" b="b"/>
                <a:pathLst>
                  <a:path w="27" h="86">
                    <a:moveTo>
                      <a:pt x="27" y="81"/>
                    </a:moveTo>
                    <a:lnTo>
                      <a:pt x="18" y="8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8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7111080" y="325800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 flipV="1">
                <a:off x="7090200" y="3151440"/>
                <a:ext cx="2088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035480" y="3264480"/>
                <a:ext cx="48600" cy="190080"/>
              </a:xfrm>
              <a:custGeom>
                <a:avLst/>
                <a:gdLst/>
                <a:ahLst/>
                <a:rect l="l" t="t" r="r" b="b"/>
                <a:pathLst>
                  <a:path w="41" h="145">
                    <a:moveTo>
                      <a:pt x="37" y="145"/>
                    </a:moveTo>
                    <a:lnTo>
                      <a:pt x="37" y="145"/>
                    </a:lnTo>
                    <a:lnTo>
                      <a:pt x="0" y="18"/>
                    </a:lnTo>
                    <a:lnTo>
                      <a:pt x="5" y="0"/>
                    </a:lnTo>
                    <a:lnTo>
                      <a:pt x="41" y="0"/>
                    </a:lnTo>
                    <a:lnTo>
                      <a:pt x="37" y="14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H="1" flipV="1">
                <a:off x="7035120" y="3287880"/>
                <a:ext cx="4356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V="1">
                <a:off x="7035480" y="3264120"/>
                <a:ext cx="57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041600" y="326448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041600" y="3151800"/>
                <a:ext cx="48600" cy="112680"/>
              </a:xfrm>
              <a:custGeom>
                <a:avLst/>
                <a:gdLst/>
                <a:ahLst/>
                <a:rect l="l" t="t" r="r" b="b"/>
                <a:pathLst>
                  <a:path w="41" h="86">
                    <a:moveTo>
                      <a:pt x="36" y="86"/>
                    </a:moveTo>
                    <a:lnTo>
                      <a:pt x="0" y="86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86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>
                <a:off x="7041600" y="326448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V="1">
                <a:off x="7041600" y="3151440"/>
                <a:ext cx="4860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079400" y="3264480"/>
                <a:ext cx="53280" cy="190080"/>
              </a:xfrm>
              <a:custGeom>
                <a:avLst/>
                <a:gdLst/>
                <a:ahLst/>
                <a:rect l="l" t="t" r="r" b="b"/>
                <a:pathLst>
                  <a:path w="45" h="145">
                    <a:moveTo>
                      <a:pt x="0" y="145"/>
                    </a:moveTo>
                    <a:lnTo>
                      <a:pt x="0" y="145"/>
                    </a:lnTo>
                    <a:lnTo>
                      <a:pt x="45" y="95"/>
                    </a:lnTo>
                    <a:lnTo>
                      <a:pt x="27" y="0"/>
                    </a:lnTo>
                    <a:lnTo>
                      <a:pt x="4" y="0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V="1">
                <a:off x="7079400" y="3389400"/>
                <a:ext cx="532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H="1" flipV="1">
                <a:off x="7111080" y="3264480"/>
                <a:ext cx="2124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H="1">
                <a:off x="7083720" y="3264480"/>
                <a:ext cx="27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084080" y="3151800"/>
                <a:ext cx="27000" cy="112680"/>
              </a:xfrm>
              <a:custGeom>
                <a:avLst/>
                <a:gdLst/>
                <a:ahLst/>
                <a:rect l="l" t="t" r="r" b="b"/>
                <a:pathLst>
                  <a:path w="23" h="86">
                    <a:moveTo>
                      <a:pt x="0" y="86"/>
                    </a:moveTo>
                    <a:lnTo>
                      <a:pt x="23" y="8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084080" y="3264480"/>
                <a:ext cx="27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H="1" flipV="1">
                <a:off x="7090200" y="3151440"/>
                <a:ext cx="2088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014240" y="3472200"/>
                <a:ext cx="10440" cy="2988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9" y="23"/>
                    </a:moveTo>
                    <a:lnTo>
                      <a:pt x="9" y="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H="1" flipV="1">
                <a:off x="7013880" y="3471840"/>
                <a:ext cx="1044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14240" y="347220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977520" y="3288240"/>
                <a:ext cx="57960" cy="183960"/>
              </a:xfrm>
              <a:custGeom>
                <a:avLst/>
                <a:gdLst/>
                <a:ahLst/>
                <a:rect l="l" t="t" r="r" b="b"/>
                <a:pathLst>
                  <a:path w="49" h="140">
                    <a:moveTo>
                      <a:pt x="40" y="140"/>
                    </a:moveTo>
                    <a:lnTo>
                      <a:pt x="31" y="140"/>
                    </a:lnTo>
                    <a:lnTo>
                      <a:pt x="0" y="5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0" y="14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H="1">
                <a:off x="7013880" y="347220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 flipV="1">
                <a:off x="6977520" y="3353760"/>
                <a:ext cx="36720" cy="118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V="1">
                <a:off x="6977520" y="3288240"/>
                <a:ext cx="579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024680" y="3466800"/>
                <a:ext cx="37800" cy="3528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0" y="27"/>
                    </a:moveTo>
                    <a:lnTo>
                      <a:pt x="0" y="27"/>
                    </a:lnTo>
                    <a:lnTo>
                      <a:pt x="32" y="0"/>
                    </a:lnTo>
                    <a:lnTo>
                      <a:pt x="0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V="1">
                <a:off x="7024680" y="3466800"/>
                <a:ext cx="3780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 flipH="1">
                <a:off x="7024320" y="346680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024680" y="3288240"/>
                <a:ext cx="54360" cy="183960"/>
              </a:xfrm>
              <a:custGeom>
                <a:avLst/>
                <a:gdLst/>
                <a:ahLst/>
                <a:rect l="l" t="t" r="r" b="b"/>
                <a:pathLst>
                  <a:path w="46" h="140">
                    <a:moveTo>
                      <a:pt x="0" y="140"/>
                    </a:moveTo>
                    <a:lnTo>
                      <a:pt x="32" y="136"/>
                    </a:lnTo>
                    <a:lnTo>
                      <a:pt x="46" y="12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V="1">
                <a:off x="7024680" y="346680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 flipV="1">
                <a:off x="7062840" y="3454560"/>
                <a:ext cx="165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H="1" flipV="1">
                <a:off x="7035120" y="3287880"/>
                <a:ext cx="4356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6922800" y="3466800"/>
                <a:ext cx="48600" cy="190080"/>
              </a:xfrm>
              <a:custGeom>
                <a:avLst/>
                <a:gdLst/>
                <a:ahLst/>
                <a:rect l="l" t="t" r="r" b="b"/>
                <a:pathLst>
                  <a:path w="41" h="145">
                    <a:moveTo>
                      <a:pt x="36" y="145"/>
                    </a:moveTo>
                    <a:lnTo>
                      <a:pt x="36" y="145"/>
                    </a:lnTo>
                    <a:lnTo>
                      <a:pt x="0" y="50"/>
                    </a:lnTo>
                    <a:lnTo>
                      <a:pt x="14" y="0"/>
                    </a:lnTo>
                    <a:lnTo>
                      <a:pt x="41" y="4"/>
                    </a:lnTo>
                    <a:lnTo>
                      <a:pt x="36" y="14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H="1" flipV="1">
                <a:off x="6922800" y="3532320"/>
                <a:ext cx="424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6922800" y="3466800"/>
                <a:ext cx="165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6939720" y="346680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6939720" y="3353760"/>
                <a:ext cx="37800" cy="118080"/>
              </a:xfrm>
              <a:custGeom>
                <a:avLst/>
                <a:gdLst/>
                <a:ahLst/>
                <a:rect l="l" t="t" r="r" b="b"/>
                <a:pathLst>
                  <a:path w="32" h="90">
                    <a:moveTo>
                      <a:pt x="27" y="90"/>
                    </a:moveTo>
                    <a:lnTo>
                      <a:pt x="0" y="86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7" y="9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H="1" flipV="1">
                <a:off x="6939720" y="346680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6939720" y="3353400"/>
                <a:ext cx="3780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6965640" y="3472200"/>
                <a:ext cx="59040" cy="184680"/>
              </a:xfrm>
              <a:custGeom>
                <a:avLst/>
                <a:gdLst/>
                <a:ahLst/>
                <a:rect l="l" t="t" r="r" b="b"/>
                <a:pathLst>
                  <a:path w="50" h="141">
                    <a:moveTo>
                      <a:pt x="0" y="141"/>
                    </a:moveTo>
                    <a:lnTo>
                      <a:pt x="0" y="141"/>
                    </a:lnTo>
                    <a:lnTo>
                      <a:pt x="50" y="23"/>
                    </a:lnTo>
                    <a:lnTo>
                      <a:pt x="41" y="0"/>
                    </a:lnTo>
                    <a:lnTo>
                      <a:pt x="5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 flipV="1">
                <a:off x="6965640" y="3502440"/>
                <a:ext cx="59040" cy="15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 flipV="1">
                <a:off x="7013880" y="3471840"/>
                <a:ext cx="1044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H="1">
                <a:off x="6971760" y="347220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6971760" y="3353760"/>
                <a:ext cx="42480" cy="118080"/>
              </a:xfrm>
              <a:custGeom>
                <a:avLst/>
                <a:gdLst/>
                <a:ahLst/>
                <a:rect l="l" t="t" r="r" b="b"/>
                <a:pathLst>
                  <a:path w="36" h="90">
                    <a:moveTo>
                      <a:pt x="0" y="90"/>
                    </a:moveTo>
                    <a:lnTo>
                      <a:pt x="36" y="9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971760" y="347220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H="1" flipV="1">
                <a:off x="6977520" y="3353760"/>
                <a:ext cx="36720" cy="118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6863760" y="3669120"/>
                <a:ext cx="48240" cy="82800"/>
              </a:xfrm>
              <a:custGeom>
                <a:avLst/>
                <a:gdLst/>
                <a:ahLst/>
                <a:rect l="l" t="t" r="r" b="b"/>
                <a:pathLst>
                  <a:path w="41" h="63">
                    <a:moveTo>
                      <a:pt x="0" y="63"/>
                    </a:moveTo>
                    <a:lnTo>
                      <a:pt x="0" y="63"/>
                    </a:lnTo>
                    <a:lnTo>
                      <a:pt x="37" y="27"/>
                    </a:lnTo>
                    <a:lnTo>
                      <a:pt x="41" y="9"/>
                    </a:lnTo>
                    <a:lnTo>
                      <a:pt x="19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6863760" y="3704400"/>
                <a:ext cx="435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H="1" flipV="1">
                <a:off x="6886080" y="3668760"/>
                <a:ext cx="25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>
                <a:off x="6863400" y="3669120"/>
                <a:ext cx="21960" cy="82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886080" y="3532320"/>
                <a:ext cx="36720" cy="148680"/>
              </a:xfrm>
              <a:custGeom>
                <a:avLst/>
                <a:gdLst/>
                <a:ahLst/>
                <a:rect l="l" t="t" r="r" b="b"/>
                <a:pathLst>
                  <a:path w="31" h="113">
                    <a:moveTo>
                      <a:pt x="0" y="104"/>
                    </a:moveTo>
                    <a:lnTo>
                      <a:pt x="22" y="113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886080" y="3669120"/>
                <a:ext cx="25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H="1">
                <a:off x="6886080" y="3532320"/>
                <a:ext cx="3672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907680" y="368100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0" y="18"/>
                    </a:moveTo>
                    <a:lnTo>
                      <a:pt x="0" y="18"/>
                    </a:lnTo>
                    <a:lnTo>
                      <a:pt x="27" y="0"/>
                    </a:lnTo>
                    <a:lnTo>
                      <a:pt x="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V="1">
                <a:off x="6907680" y="3680640"/>
                <a:ext cx="31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H="1">
                <a:off x="6912360" y="3681000"/>
                <a:ext cx="273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6912360" y="3532320"/>
                <a:ext cx="53280" cy="148680"/>
              </a:xfrm>
              <a:custGeom>
                <a:avLst/>
                <a:gdLst/>
                <a:ahLst/>
                <a:rect l="l" t="t" r="r" b="b"/>
                <a:pathLst>
                  <a:path w="45" h="113">
                    <a:moveTo>
                      <a:pt x="0" y="113"/>
                    </a:moveTo>
                    <a:lnTo>
                      <a:pt x="23" y="113"/>
                    </a:lnTo>
                    <a:lnTo>
                      <a:pt x="45" y="9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6912360" y="3681000"/>
                <a:ext cx="273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flipV="1">
                <a:off x="6939720" y="3657240"/>
                <a:ext cx="2592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6922800" y="3532320"/>
                <a:ext cx="424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810480" y="3871440"/>
                <a:ext cx="16560" cy="4716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36"/>
                    </a:lnTo>
                    <a:lnTo>
                      <a:pt x="14" y="0"/>
                    </a:lnTo>
                    <a:lnTo>
                      <a:pt x="14" y="4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V="1">
                <a:off x="6810480" y="3871080"/>
                <a:ext cx="165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827040" y="387144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827040" y="3704760"/>
                <a:ext cx="80280" cy="172080"/>
              </a:xfrm>
              <a:custGeom>
                <a:avLst/>
                <a:gdLst/>
                <a:ahLst/>
                <a:rect l="l" t="t" r="r" b="b"/>
                <a:pathLst>
                  <a:path w="68" h="131">
                    <a:moveTo>
                      <a:pt x="0" y="131"/>
                    </a:moveTo>
                    <a:lnTo>
                      <a:pt x="0" y="127"/>
                    </a:lnTo>
                    <a:lnTo>
                      <a:pt x="31" y="36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6827040" y="387144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V="1">
                <a:off x="6827040" y="3751560"/>
                <a:ext cx="3672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6863760" y="3704400"/>
                <a:ext cx="435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810480" y="3876840"/>
                <a:ext cx="48600" cy="4176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0" y="32"/>
                    </a:moveTo>
                    <a:lnTo>
                      <a:pt x="0" y="32"/>
                    </a:lnTo>
                    <a:lnTo>
                      <a:pt x="36" y="27"/>
                    </a:lnTo>
                    <a:lnTo>
                      <a:pt x="41" y="9"/>
                    </a:lnTo>
                    <a:lnTo>
                      <a:pt x="14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6810480" y="391248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6852960" y="3888360"/>
                <a:ext cx="576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H="1" flipV="1">
                <a:off x="6827040" y="3876840"/>
                <a:ext cx="316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6827040" y="3704760"/>
                <a:ext cx="80280" cy="183600"/>
              </a:xfrm>
              <a:custGeom>
                <a:avLst/>
                <a:gdLst/>
                <a:ahLst/>
                <a:rect l="l" t="t" r="r" b="b"/>
                <a:pathLst>
                  <a:path w="68" h="140">
                    <a:moveTo>
                      <a:pt x="0" y="131"/>
                    </a:moveTo>
                    <a:lnTo>
                      <a:pt x="27" y="14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827040" y="3876840"/>
                <a:ext cx="316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flipV="1">
                <a:off x="6859080" y="3704760"/>
                <a:ext cx="48600" cy="183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6751440" y="4079160"/>
                <a:ext cx="57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V="1">
                <a:off x="6751440" y="407916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757200" y="407916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6757200" y="3912480"/>
                <a:ext cx="95760" cy="166680"/>
              </a:xfrm>
              <a:custGeom>
                <a:avLst/>
                <a:gdLst/>
                <a:ahLst/>
                <a:rect l="l" t="t" r="r" b="b"/>
                <a:pathLst>
                  <a:path w="81" h="127">
                    <a:moveTo>
                      <a:pt x="0" y="127"/>
                    </a:moveTo>
                    <a:lnTo>
                      <a:pt x="0" y="127"/>
                    </a:lnTo>
                    <a:lnTo>
                      <a:pt x="45" y="5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757200" y="407916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6757200" y="3918600"/>
                <a:ext cx="52920" cy="160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V="1">
                <a:off x="6810480" y="391248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751440" y="4079160"/>
                <a:ext cx="37800" cy="1188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0" y="5"/>
                    </a:moveTo>
                    <a:lnTo>
                      <a:pt x="0" y="5"/>
                    </a:lnTo>
                    <a:lnTo>
                      <a:pt x="32" y="9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751440" y="408564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flipH="1" flipV="1">
                <a:off x="6757200" y="407880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757200" y="3912480"/>
                <a:ext cx="95760" cy="178560"/>
              </a:xfrm>
              <a:custGeom>
                <a:avLst/>
                <a:gdLst/>
                <a:ahLst/>
                <a:rect l="l" t="t" r="r" b="b"/>
                <a:pathLst>
                  <a:path w="81" h="136">
                    <a:moveTo>
                      <a:pt x="0" y="127"/>
                    </a:moveTo>
                    <a:lnTo>
                      <a:pt x="27" y="136"/>
                    </a:lnTo>
                    <a:lnTo>
                      <a:pt x="32" y="136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757200" y="407916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789240" y="409104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6795000" y="3912480"/>
                <a:ext cx="5796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693120" y="4085640"/>
                <a:ext cx="101520" cy="99720"/>
              </a:xfrm>
              <a:custGeom>
                <a:avLst/>
                <a:gdLst/>
                <a:ahLst/>
                <a:rect l="l" t="t" r="r" b="b"/>
                <a:pathLst>
                  <a:path w="86" h="76">
                    <a:moveTo>
                      <a:pt x="0" y="76"/>
                    </a:moveTo>
                    <a:lnTo>
                      <a:pt x="0" y="76"/>
                    </a:lnTo>
                    <a:lnTo>
                      <a:pt x="49" y="0"/>
                    </a:lnTo>
                    <a:lnTo>
                      <a:pt x="81" y="4"/>
                    </a:lnTo>
                    <a:lnTo>
                      <a:pt x="86" y="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V="1">
                <a:off x="6693120" y="4085280"/>
                <a:ext cx="57960" cy="99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6751440" y="408564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789240" y="409104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789240" y="409104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5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H="1">
                <a:off x="6789240" y="409104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789240" y="409104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693120" y="4091040"/>
                <a:ext cx="101520" cy="100800"/>
              </a:xfrm>
              <a:custGeom>
                <a:avLst/>
                <a:gdLst/>
                <a:ahLst/>
                <a:rect l="l" t="t" r="r" b="b"/>
                <a:pathLst>
                  <a:path w="86" h="77">
                    <a:moveTo>
                      <a:pt x="0" y="72"/>
                    </a:moveTo>
                    <a:lnTo>
                      <a:pt x="0" y="72"/>
                    </a:lnTo>
                    <a:lnTo>
                      <a:pt x="36" y="77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693120" y="4185360"/>
                <a:ext cx="421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735600" y="4091040"/>
                <a:ext cx="5904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795000" y="409104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795000" y="4091040"/>
                <a:ext cx="720" cy="108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795000" y="409104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6795000" y="409104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634080" y="4185360"/>
                <a:ext cx="101520" cy="77400"/>
              </a:xfrm>
              <a:custGeom>
                <a:avLst/>
                <a:gdLst/>
                <a:ahLst/>
                <a:rect l="l" t="t" r="r" b="b"/>
                <a:pathLst>
                  <a:path w="86" h="59">
                    <a:moveTo>
                      <a:pt x="50" y="0"/>
                    </a:moveTo>
                    <a:lnTo>
                      <a:pt x="0" y="50"/>
                    </a:lnTo>
                    <a:lnTo>
                      <a:pt x="36" y="59"/>
                    </a:lnTo>
                    <a:lnTo>
                      <a:pt x="86" y="5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491600" y="4097520"/>
                <a:ext cx="96840" cy="28800"/>
              </a:xfrm>
              <a:custGeom>
                <a:avLst/>
                <a:gdLst/>
                <a:ahLst/>
                <a:rect l="l" t="t" r="r" b="b"/>
                <a:pathLst>
                  <a:path w="82" h="22">
                    <a:moveTo>
                      <a:pt x="41" y="0"/>
                    </a:moveTo>
                    <a:lnTo>
                      <a:pt x="0" y="4"/>
                    </a:lnTo>
                    <a:lnTo>
                      <a:pt x="41" y="22"/>
                    </a:lnTo>
                    <a:lnTo>
                      <a:pt x="82" y="1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444080" y="4097520"/>
                <a:ext cx="96120" cy="28800"/>
              </a:xfrm>
              <a:custGeom>
                <a:avLst/>
                <a:gdLst/>
                <a:ahLst/>
                <a:rect l="l" t="t" r="r" b="b"/>
                <a:pathLst>
                  <a:path w="81" h="22">
                    <a:moveTo>
                      <a:pt x="40" y="4"/>
                    </a:moveTo>
                    <a:lnTo>
                      <a:pt x="0" y="0"/>
                    </a:lnTo>
                    <a:lnTo>
                      <a:pt x="40" y="22"/>
                    </a:lnTo>
                    <a:lnTo>
                      <a:pt x="81" y="22"/>
                    </a:lnTo>
                    <a:lnTo>
                      <a:pt x="40" y="4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395840" y="4043880"/>
                <a:ext cx="95760" cy="82800"/>
              </a:xfrm>
              <a:custGeom>
                <a:avLst/>
                <a:gdLst/>
                <a:ahLst/>
                <a:rect l="l" t="t" r="r" b="b"/>
                <a:pathLst>
                  <a:path w="81" h="63">
                    <a:moveTo>
                      <a:pt x="41" y="41"/>
                    </a:moveTo>
                    <a:lnTo>
                      <a:pt x="0" y="0"/>
                    </a:lnTo>
                    <a:lnTo>
                      <a:pt x="41" y="36"/>
                    </a:lnTo>
                    <a:lnTo>
                      <a:pt x="81" y="63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353000" y="3966120"/>
                <a:ext cx="42480" cy="77400"/>
              </a:xfrm>
              <a:custGeom>
                <a:avLst/>
                <a:gdLst/>
                <a:ahLst/>
                <a:rect l="l" t="t" r="r" b="b"/>
                <a:pathLst>
                  <a:path w="36" h="59">
                    <a:moveTo>
                      <a:pt x="36" y="59"/>
                    </a:moveTo>
                    <a:lnTo>
                      <a:pt x="36" y="59"/>
                    </a:lnTo>
                    <a:lnTo>
                      <a:pt x="31" y="18"/>
                    </a:lnTo>
                    <a:lnTo>
                      <a:pt x="22" y="9"/>
                    </a:lnTo>
                    <a:lnTo>
                      <a:pt x="0" y="0"/>
                    </a:lnTo>
                    <a:lnTo>
                      <a:pt x="36" y="5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H="1" flipV="1">
                <a:off x="7378920" y="397764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H="1" flipV="1">
                <a:off x="7353000" y="3966120"/>
                <a:ext cx="259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353000" y="3966120"/>
                <a:ext cx="4248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347240" y="395424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5" y="9"/>
                    </a:moveTo>
                    <a:lnTo>
                      <a:pt x="27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353000" y="3966120"/>
                <a:ext cx="259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H="1" flipV="1">
                <a:off x="7347240" y="3953880"/>
                <a:ext cx="31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347240" y="395424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7390080" y="3989880"/>
                <a:ext cx="54000" cy="101160"/>
              </a:xfrm>
              <a:custGeom>
                <a:avLst/>
                <a:gdLst/>
                <a:ahLst/>
                <a:rect l="l" t="t" r="r" b="b"/>
                <a:pathLst>
                  <a:path w="46" h="77">
                    <a:moveTo>
                      <a:pt x="46" y="77"/>
                    </a:moveTo>
                    <a:lnTo>
                      <a:pt x="5" y="41"/>
                    </a:lnTo>
                    <a:lnTo>
                      <a:pt x="0" y="0"/>
                    </a:lnTo>
                    <a:lnTo>
                      <a:pt x="46" y="77"/>
                    </a:lnTo>
                    <a:lnTo>
                      <a:pt x="46" y="7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7390080" y="3989880"/>
                <a:ext cx="54000" cy="10116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0"/>
                    </a:moveTo>
                    <a:lnTo>
                      <a:pt x="10" y="17"/>
                    </a:lnTo>
                    <a:lnTo>
                      <a:pt x="1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7304400" y="3799440"/>
                <a:ext cx="42480" cy="154800"/>
              </a:xfrm>
              <a:custGeom>
                <a:avLst/>
                <a:gdLst/>
                <a:ahLst/>
                <a:rect l="l" t="t" r="r" b="b"/>
                <a:pathLst>
                  <a:path w="36" h="118">
                    <a:moveTo>
                      <a:pt x="36" y="118"/>
                    </a:moveTo>
                    <a:lnTo>
                      <a:pt x="36" y="118"/>
                    </a:lnTo>
                    <a:lnTo>
                      <a:pt x="0" y="0"/>
                    </a:lnTo>
                    <a:lnTo>
                      <a:pt x="31" y="5"/>
                    </a:lnTo>
                    <a:lnTo>
                      <a:pt x="36" y="11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H="1" flipV="1">
                <a:off x="7304400" y="3799440"/>
                <a:ext cx="42480" cy="15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304400" y="3799440"/>
                <a:ext cx="36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293600" y="3758400"/>
                <a:ext cx="47520" cy="4716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40" y="36"/>
                    </a:moveTo>
                    <a:lnTo>
                      <a:pt x="9" y="31"/>
                    </a:lnTo>
                    <a:lnTo>
                      <a:pt x="0" y="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3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H="1" flipV="1">
                <a:off x="7304400" y="3799440"/>
                <a:ext cx="36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 flipV="1">
                <a:off x="7293240" y="376380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7293600" y="3758400"/>
                <a:ext cx="475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379280" y="397800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7378920" y="397764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379280" y="397800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390080" y="398448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7341120" y="3805920"/>
                <a:ext cx="48600" cy="178200"/>
              </a:xfrm>
              <a:custGeom>
                <a:avLst/>
                <a:gdLst/>
                <a:ahLst/>
                <a:rect l="l" t="t" r="r" b="b"/>
                <a:pathLst>
                  <a:path w="41" h="136">
                    <a:moveTo>
                      <a:pt x="41" y="136"/>
                    </a:moveTo>
                    <a:lnTo>
                      <a:pt x="32" y="131"/>
                    </a:lnTo>
                    <a:lnTo>
                      <a:pt x="5" y="113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41" y="1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H="1" flipV="1">
                <a:off x="7378920" y="397800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H="1" flipV="1">
                <a:off x="7347240" y="3953880"/>
                <a:ext cx="31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341120" y="3805920"/>
                <a:ext cx="115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353000" y="3810960"/>
                <a:ext cx="36720" cy="173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341120" y="3758400"/>
                <a:ext cx="11520" cy="5220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10" y="40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H="1" flipV="1">
                <a:off x="7341120" y="3805920"/>
                <a:ext cx="115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341120" y="3758400"/>
                <a:ext cx="11520" cy="52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261920" y="3620520"/>
                <a:ext cx="79200" cy="143280"/>
              </a:xfrm>
              <a:custGeom>
                <a:avLst/>
                <a:gdLst/>
                <a:ahLst/>
                <a:rect l="l" t="t" r="r" b="b"/>
                <a:pathLst>
                  <a:path w="67" h="109">
                    <a:moveTo>
                      <a:pt x="27" y="109"/>
                    </a:moveTo>
                    <a:lnTo>
                      <a:pt x="27" y="109"/>
                    </a:lnTo>
                    <a:lnTo>
                      <a:pt x="67" y="105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27" y="10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V="1">
                <a:off x="7293600" y="3758400"/>
                <a:ext cx="475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 flipV="1">
                <a:off x="7261560" y="3620520"/>
                <a:ext cx="15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261920" y="3620520"/>
                <a:ext cx="31680" cy="14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7245360" y="3561480"/>
                <a:ext cx="31680" cy="6552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14" y="45"/>
                    </a:moveTo>
                    <a:lnTo>
                      <a:pt x="27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4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261920" y="3620520"/>
                <a:ext cx="15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245360" y="3561480"/>
                <a:ext cx="1620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277400" y="3627000"/>
                <a:ext cx="63720" cy="131040"/>
              </a:xfrm>
              <a:custGeom>
                <a:avLst/>
                <a:gdLst/>
                <a:ahLst/>
                <a:rect l="l" t="t" r="r" b="b"/>
                <a:pathLst>
                  <a:path w="54" h="100">
                    <a:moveTo>
                      <a:pt x="54" y="100"/>
                    </a:moveTo>
                    <a:lnTo>
                      <a:pt x="54" y="100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54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H="1" flipV="1">
                <a:off x="7298640" y="3638880"/>
                <a:ext cx="4248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H="1" flipV="1">
                <a:off x="7277400" y="3626640"/>
                <a:ext cx="208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245360" y="3561480"/>
                <a:ext cx="52920" cy="77760"/>
              </a:xfrm>
              <a:custGeom>
                <a:avLst/>
                <a:gdLst/>
                <a:ahLst/>
                <a:rect l="l" t="t" r="r" b="b"/>
                <a:pathLst>
                  <a:path w="45" h="59">
                    <a:moveTo>
                      <a:pt x="27" y="50"/>
                    </a:moveTo>
                    <a:lnTo>
                      <a:pt x="45" y="59"/>
                    </a:lnTo>
                    <a:lnTo>
                      <a:pt x="36" y="3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5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277400" y="3627000"/>
                <a:ext cx="208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 flipV="1">
                <a:off x="7287480" y="3608640"/>
                <a:ext cx="1044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H="1" flipV="1">
                <a:off x="7245000" y="3561120"/>
                <a:ext cx="4212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7192080" y="3507840"/>
                <a:ext cx="95760" cy="100800"/>
              </a:xfrm>
              <a:custGeom>
                <a:avLst/>
                <a:gdLst/>
                <a:ahLst/>
                <a:rect l="l" t="t" r="r" b="b"/>
                <a:pathLst>
                  <a:path w="81" h="77">
                    <a:moveTo>
                      <a:pt x="45" y="41"/>
                    </a:moveTo>
                    <a:lnTo>
                      <a:pt x="0" y="0"/>
                    </a:lnTo>
                    <a:lnTo>
                      <a:pt x="36" y="59"/>
                    </a:lnTo>
                    <a:lnTo>
                      <a:pt x="81" y="77"/>
                    </a:lnTo>
                    <a:lnTo>
                      <a:pt x="45" y="41"/>
                    </a:lnTo>
                    <a:close/>
                  </a:path>
                </a:pathLst>
              </a:custGeom>
              <a:solidFill>
                <a:srgbClr val="cc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164720" y="3454920"/>
                <a:ext cx="69840" cy="129960"/>
              </a:xfrm>
              <a:custGeom>
                <a:avLst/>
                <a:gdLst/>
                <a:ahLst/>
                <a:rect l="l" t="t" r="r" b="b"/>
                <a:pathLst>
                  <a:path w="59" h="99">
                    <a:moveTo>
                      <a:pt x="59" y="99"/>
                    </a:moveTo>
                    <a:lnTo>
                      <a:pt x="59" y="99"/>
                    </a:lnTo>
                    <a:lnTo>
                      <a:pt x="23" y="4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9" y="9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H="1" flipV="1">
                <a:off x="7192080" y="3507480"/>
                <a:ext cx="4248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 flipV="1">
                <a:off x="7164360" y="3454920"/>
                <a:ext cx="2700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164720" y="345492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132680" y="3389400"/>
                <a:ext cx="37800" cy="6552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32" y="50"/>
                    </a:moveTo>
                    <a:lnTo>
                      <a:pt x="27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>
                <a:off x="7164720" y="345492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flipH="1" flipV="1">
                <a:off x="7132680" y="3389400"/>
                <a:ext cx="316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153920" y="3454920"/>
                <a:ext cx="80280" cy="129960"/>
              </a:xfrm>
              <a:custGeom>
                <a:avLst/>
                <a:gdLst/>
                <a:ahLst/>
                <a:rect l="l" t="t" r="r" b="b"/>
                <a:pathLst>
                  <a:path w="68" h="99">
                    <a:moveTo>
                      <a:pt x="68" y="99"/>
                    </a:moveTo>
                    <a:lnTo>
                      <a:pt x="68" y="99"/>
                    </a:lnTo>
                    <a:lnTo>
                      <a:pt x="23" y="81"/>
                    </a:lnTo>
                    <a:lnTo>
                      <a:pt x="0" y="4"/>
                    </a:lnTo>
                    <a:lnTo>
                      <a:pt x="14" y="0"/>
                    </a:lnTo>
                    <a:lnTo>
                      <a:pt x="68" y="9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0" name=""/>
            <p:cNvGrpSpPr/>
            <p:nvPr/>
          </p:nvGrpSpPr>
          <p:grpSpPr>
            <a:xfrm>
              <a:off x="6676920" y="3389400"/>
              <a:ext cx="960120" cy="885240"/>
              <a:chOff x="6676920" y="3389400"/>
              <a:chExt cx="960120" cy="885240"/>
            </a:xfrm>
          </p:grpSpPr>
          <p:sp>
            <p:nvSpPr>
              <p:cNvPr id="2651" name=""/>
              <p:cNvSpPr/>
              <p:nvPr/>
            </p:nvSpPr>
            <p:spPr>
              <a:xfrm flipH="1" flipV="1">
                <a:off x="7181280" y="3561120"/>
                <a:ext cx="5328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7153560" y="3459960"/>
                <a:ext cx="2700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V="1">
                <a:off x="7153920" y="3454920"/>
                <a:ext cx="165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132680" y="3389400"/>
                <a:ext cx="37800" cy="7056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50"/>
                    </a:moveTo>
                    <a:lnTo>
                      <a:pt x="18" y="5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H="1">
                <a:off x="7153920" y="3454920"/>
                <a:ext cx="165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H="1" flipV="1">
                <a:off x="7132680" y="3389400"/>
                <a:ext cx="2088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084080" y="3466800"/>
                <a:ext cx="48600" cy="77400"/>
              </a:xfrm>
              <a:custGeom>
                <a:avLst/>
                <a:gdLst/>
                <a:ahLst/>
                <a:rect l="l" t="t" r="r" b="b"/>
                <a:pathLst>
                  <a:path w="41" h="59">
                    <a:moveTo>
                      <a:pt x="36" y="59"/>
                    </a:moveTo>
                    <a:lnTo>
                      <a:pt x="36" y="59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36" y="5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H="1" flipV="1">
                <a:off x="7084080" y="3466440"/>
                <a:ext cx="4248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084080" y="3466800"/>
                <a:ext cx="486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079400" y="3389400"/>
                <a:ext cx="53280" cy="77400"/>
              </a:xfrm>
              <a:custGeom>
                <a:avLst/>
                <a:gdLst/>
                <a:ahLst/>
                <a:rect l="l" t="t" r="r" b="b"/>
                <a:pathLst>
                  <a:path w="45" h="59">
                    <a:moveTo>
                      <a:pt x="45" y="59"/>
                    </a:moveTo>
                    <a:lnTo>
                      <a:pt x="4" y="59"/>
                    </a:lnTo>
                    <a:lnTo>
                      <a:pt x="0" y="5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59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flipH="1">
                <a:off x="7083720" y="3466800"/>
                <a:ext cx="486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79040" y="345456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V="1">
                <a:off x="7079400" y="3389400"/>
                <a:ext cx="532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126920" y="3459960"/>
                <a:ext cx="54000" cy="100800"/>
              </a:xfrm>
              <a:custGeom>
                <a:avLst/>
                <a:gdLst/>
                <a:ahLst/>
                <a:rect l="l" t="t" r="r" b="b"/>
                <a:pathLst>
                  <a:path w="46" h="77">
                    <a:moveTo>
                      <a:pt x="46" y="77"/>
                    </a:moveTo>
                    <a:lnTo>
                      <a:pt x="46" y="77"/>
                    </a:lnTo>
                    <a:lnTo>
                      <a:pt x="0" y="64"/>
                    </a:lnTo>
                    <a:lnTo>
                      <a:pt x="5" y="5"/>
                    </a:lnTo>
                    <a:lnTo>
                      <a:pt x="23" y="0"/>
                    </a:lnTo>
                    <a:lnTo>
                      <a:pt x="46" y="7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H="1" flipV="1">
                <a:off x="7126920" y="3543840"/>
                <a:ext cx="5400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V="1">
                <a:off x="7132680" y="345996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153920" y="3459960"/>
                <a:ext cx="2700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32680" y="3389400"/>
                <a:ext cx="20880" cy="77400"/>
              </a:xfrm>
              <a:custGeom>
                <a:avLst/>
                <a:gdLst/>
                <a:ahLst/>
                <a:rect l="l" t="t" r="r" b="b"/>
                <a:pathLst>
                  <a:path w="18" h="59">
                    <a:moveTo>
                      <a:pt x="18" y="54"/>
                    </a:move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32680" y="345996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132680" y="3389400"/>
                <a:ext cx="2088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25040" y="3466800"/>
                <a:ext cx="101880" cy="77400"/>
              </a:xfrm>
              <a:custGeom>
                <a:avLst/>
                <a:gdLst/>
                <a:ahLst/>
                <a:rect l="l" t="t" r="r" b="b"/>
                <a:pathLst>
                  <a:path w="86" h="59">
                    <a:moveTo>
                      <a:pt x="86" y="59"/>
                    </a:moveTo>
                    <a:lnTo>
                      <a:pt x="86" y="59"/>
                    </a:lnTo>
                    <a:lnTo>
                      <a:pt x="0" y="27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86" y="5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V="1">
                <a:off x="7025040" y="3466800"/>
                <a:ext cx="3780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62840" y="3466800"/>
                <a:ext cx="21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084080" y="3466800"/>
                <a:ext cx="4248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062840" y="3454920"/>
                <a:ext cx="21240" cy="118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18" y="9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 flipH="1">
                <a:off x="7062480" y="3466800"/>
                <a:ext cx="21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V="1">
                <a:off x="7062840" y="3454560"/>
                <a:ext cx="165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079400" y="345492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025040" y="3502080"/>
                <a:ext cx="101880" cy="124560"/>
              </a:xfrm>
              <a:custGeom>
                <a:avLst/>
                <a:gdLst/>
                <a:ahLst/>
                <a:rect l="l" t="t" r="r" b="b"/>
                <a:pathLst>
                  <a:path w="86" h="95">
                    <a:moveTo>
                      <a:pt x="37" y="95"/>
                    </a:moveTo>
                    <a:lnTo>
                      <a:pt x="86" y="32"/>
                    </a:lnTo>
                    <a:lnTo>
                      <a:pt x="0" y="0"/>
                    </a:lnTo>
                    <a:lnTo>
                      <a:pt x="37" y="95"/>
                    </a:lnTo>
                    <a:lnTo>
                      <a:pt x="37" y="9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025040" y="3502080"/>
                <a:ext cx="101880" cy="12456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8" y="21"/>
                    </a:lnTo>
                    <a:lnTo>
                      <a:pt x="19" y="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6982560" y="3681000"/>
                <a:ext cx="31680" cy="4032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31"/>
                    </a:moveTo>
                    <a:lnTo>
                      <a:pt x="27" y="31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6982560" y="3681000"/>
                <a:ext cx="31680" cy="40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6982560" y="3681000"/>
                <a:ext cx="31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6965640" y="3502080"/>
                <a:ext cx="59040" cy="178560"/>
              </a:xfrm>
              <a:custGeom>
                <a:avLst/>
                <a:gdLst/>
                <a:ahLst/>
                <a:rect l="l" t="t" r="r" b="b"/>
                <a:pathLst>
                  <a:path w="50" h="136">
                    <a:moveTo>
                      <a:pt x="41" y="136"/>
                    </a:moveTo>
                    <a:lnTo>
                      <a:pt x="14" y="136"/>
                    </a:lnTo>
                    <a:lnTo>
                      <a:pt x="0" y="118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1" y="13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H="1">
                <a:off x="6982560" y="3681000"/>
                <a:ext cx="31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 flipH="1" flipV="1">
                <a:off x="6965640" y="3656880"/>
                <a:ext cx="1656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V="1">
                <a:off x="6965640" y="3502080"/>
                <a:ext cx="59040" cy="15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014240" y="3681000"/>
                <a:ext cx="20880" cy="4032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0" y="31"/>
                    </a:moveTo>
                    <a:lnTo>
                      <a:pt x="0" y="31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V="1">
                <a:off x="7014240" y="3681000"/>
                <a:ext cx="20880" cy="40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H="1">
                <a:off x="7014240" y="3681000"/>
                <a:ext cx="20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014240" y="3502080"/>
                <a:ext cx="54000" cy="178560"/>
              </a:xfrm>
              <a:custGeom>
                <a:avLst/>
                <a:gdLst/>
                <a:ahLst/>
                <a:rect l="l" t="t" r="r" b="b"/>
                <a:pathLst>
                  <a:path w="46" h="136">
                    <a:moveTo>
                      <a:pt x="0" y="136"/>
                    </a:moveTo>
                    <a:lnTo>
                      <a:pt x="18" y="136"/>
                    </a:lnTo>
                    <a:lnTo>
                      <a:pt x="46" y="9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014240" y="3681000"/>
                <a:ext cx="20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V="1">
                <a:off x="7035480" y="3626640"/>
                <a:ext cx="3276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 flipV="1">
                <a:off x="7024680" y="3502080"/>
                <a:ext cx="435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907680" y="3681000"/>
                <a:ext cx="106560" cy="40320"/>
              </a:xfrm>
              <a:custGeom>
                <a:avLst/>
                <a:gdLst/>
                <a:ahLst/>
                <a:rect l="l" t="t" r="r" b="b"/>
                <a:pathLst>
                  <a:path w="90" h="31">
                    <a:moveTo>
                      <a:pt x="90" y="31"/>
                    </a:moveTo>
                    <a:lnTo>
                      <a:pt x="90" y="31"/>
                    </a:lnTo>
                    <a:lnTo>
                      <a:pt x="0" y="18"/>
                    </a:lnTo>
                    <a:lnTo>
                      <a:pt x="27" y="0"/>
                    </a:lnTo>
                    <a:lnTo>
                      <a:pt x="63" y="0"/>
                    </a:lnTo>
                    <a:lnTo>
                      <a:pt x="90" y="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 flipV="1">
                <a:off x="6907680" y="3680640"/>
                <a:ext cx="31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6939720" y="368100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6982560" y="3681000"/>
                <a:ext cx="31680" cy="40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6939720" y="3656880"/>
                <a:ext cx="42480" cy="2376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8"/>
                    </a:moveTo>
                    <a:lnTo>
                      <a:pt x="0" y="18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H="1">
                <a:off x="6939720" y="368100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 flipV="1">
                <a:off x="6939720" y="3656880"/>
                <a:ext cx="2592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6965640" y="3656880"/>
                <a:ext cx="1656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6907680" y="3704400"/>
                <a:ext cx="106560" cy="166680"/>
              </a:xfrm>
              <a:custGeom>
                <a:avLst/>
                <a:gdLst/>
                <a:ahLst/>
                <a:rect l="l" t="t" r="r" b="b"/>
                <a:pathLst>
                  <a:path w="90" h="127">
                    <a:moveTo>
                      <a:pt x="40" y="127"/>
                    </a:moveTo>
                    <a:lnTo>
                      <a:pt x="90" y="13"/>
                    </a:lnTo>
                    <a:lnTo>
                      <a:pt x="0" y="0"/>
                    </a:lnTo>
                    <a:lnTo>
                      <a:pt x="40" y="127"/>
                    </a:lnTo>
                    <a:lnTo>
                      <a:pt x="40" y="1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6907680" y="3704400"/>
                <a:ext cx="106560" cy="1666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9" y="28"/>
                    </a:lnTo>
                    <a:lnTo>
                      <a:pt x="20" y="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6853320" y="3888000"/>
                <a:ext cx="43560" cy="4212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7" y="32"/>
                    </a:moveTo>
                    <a:lnTo>
                      <a:pt x="37" y="32"/>
                    </a:lnTo>
                    <a:lnTo>
                      <a:pt x="0" y="18"/>
                    </a:lnTo>
                    <a:lnTo>
                      <a:pt x="5" y="0"/>
                    </a:lnTo>
                    <a:lnTo>
                      <a:pt x="37" y="9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 flipH="1" flipV="1">
                <a:off x="6852960" y="3911760"/>
                <a:ext cx="4356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V="1">
                <a:off x="6853320" y="3888000"/>
                <a:ext cx="576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6859080" y="388800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6859080" y="3704400"/>
                <a:ext cx="48600" cy="195480"/>
              </a:xfrm>
              <a:custGeom>
                <a:avLst/>
                <a:gdLst/>
                <a:ahLst/>
                <a:rect l="l" t="t" r="r" b="b"/>
                <a:pathLst>
                  <a:path w="41" h="149">
                    <a:moveTo>
                      <a:pt x="32" y="149"/>
                    </a:moveTo>
                    <a:lnTo>
                      <a:pt x="0" y="14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2" y="14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H="1" flipV="1">
                <a:off x="6858720" y="388764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 flipV="1">
                <a:off x="6859080" y="3704400"/>
                <a:ext cx="48600" cy="183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6896880" y="3894840"/>
                <a:ext cx="31680" cy="356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27"/>
                    </a:moveTo>
                    <a:lnTo>
                      <a:pt x="0" y="27"/>
                    </a:lnTo>
                    <a:lnTo>
                      <a:pt x="27" y="0"/>
                    </a:lnTo>
                    <a:lnTo>
                      <a:pt x="0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 flipV="1">
                <a:off x="6896880" y="3894480"/>
                <a:ext cx="31680" cy="35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6896880" y="389484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896880" y="3704400"/>
                <a:ext cx="57960" cy="195480"/>
              </a:xfrm>
              <a:custGeom>
                <a:avLst/>
                <a:gdLst/>
                <a:ahLst/>
                <a:rect l="l" t="t" r="r" b="b"/>
                <a:pathLst>
                  <a:path w="49" h="149">
                    <a:moveTo>
                      <a:pt x="0" y="149"/>
                    </a:moveTo>
                    <a:lnTo>
                      <a:pt x="27" y="145"/>
                    </a:lnTo>
                    <a:lnTo>
                      <a:pt x="49" y="12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V="1">
                <a:off x="6896880" y="389484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V="1">
                <a:off x="6928920" y="3870720"/>
                <a:ext cx="259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 flipH="1" flipV="1">
                <a:off x="6907320" y="3704040"/>
                <a:ext cx="4716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6795360" y="3912120"/>
                <a:ext cx="101520" cy="185040"/>
              </a:xfrm>
              <a:custGeom>
                <a:avLst/>
                <a:gdLst/>
                <a:ahLst/>
                <a:rect l="l" t="t" r="r" b="b"/>
                <a:pathLst>
                  <a:path w="86" h="141">
                    <a:moveTo>
                      <a:pt x="49" y="0"/>
                    </a:moveTo>
                    <a:lnTo>
                      <a:pt x="0" y="136"/>
                    </a:lnTo>
                    <a:lnTo>
                      <a:pt x="36" y="141"/>
                    </a:lnTo>
                    <a:lnTo>
                      <a:pt x="86" y="14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6735960" y="4090680"/>
                <a:ext cx="59040" cy="107280"/>
              </a:xfrm>
              <a:custGeom>
                <a:avLst/>
                <a:gdLst/>
                <a:ahLst/>
                <a:rect l="l" t="t" r="r" b="b"/>
                <a:pathLst>
                  <a:path w="50" h="82">
                    <a:moveTo>
                      <a:pt x="0" y="77"/>
                    </a:moveTo>
                    <a:lnTo>
                      <a:pt x="0" y="77"/>
                    </a:lnTo>
                    <a:lnTo>
                      <a:pt x="36" y="82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6735960" y="419184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6795360" y="40906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 flipH="1">
                <a:off x="6735960" y="4090680"/>
                <a:ext cx="5904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6795360" y="4090680"/>
                <a:ext cx="720" cy="108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795360" y="40906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795360" y="40906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6778440" y="4090680"/>
                <a:ext cx="53280" cy="107280"/>
              </a:xfrm>
              <a:custGeom>
                <a:avLst/>
                <a:gdLst/>
                <a:ahLst/>
                <a:rect l="l" t="t" r="r" b="b"/>
                <a:pathLst>
                  <a:path w="45" h="82">
                    <a:moveTo>
                      <a:pt x="0" y="82"/>
                    </a:moveTo>
                    <a:lnTo>
                      <a:pt x="0" y="82"/>
                    </a:lnTo>
                    <a:lnTo>
                      <a:pt x="14" y="0"/>
                    </a:lnTo>
                    <a:lnTo>
                      <a:pt x="45" y="14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795360" y="4090680"/>
                <a:ext cx="3672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6778440" y="4109040"/>
                <a:ext cx="53280" cy="89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795360" y="4090680"/>
                <a:ext cx="42480" cy="1800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31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1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flipH="1" flipV="1">
                <a:off x="6795360" y="4090680"/>
                <a:ext cx="3672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795360" y="409068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flipH="1">
                <a:off x="6832080" y="4097160"/>
                <a:ext cx="576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676920" y="4191840"/>
                <a:ext cx="101520" cy="82800"/>
              </a:xfrm>
              <a:custGeom>
                <a:avLst/>
                <a:gdLst/>
                <a:ahLst/>
                <a:rect l="l" t="t" r="r" b="b"/>
                <a:pathLst>
                  <a:path w="86" h="63">
                    <a:moveTo>
                      <a:pt x="50" y="0"/>
                    </a:moveTo>
                    <a:lnTo>
                      <a:pt x="0" y="54"/>
                    </a:lnTo>
                    <a:lnTo>
                      <a:pt x="36" y="63"/>
                    </a:lnTo>
                    <a:lnTo>
                      <a:pt x="86" y="5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540200" y="4114440"/>
                <a:ext cx="96840" cy="23400"/>
              </a:xfrm>
              <a:custGeom>
                <a:avLst/>
                <a:gdLst/>
                <a:ahLst/>
                <a:rect l="l" t="t" r="r" b="b"/>
                <a:pathLst>
                  <a:path w="82" h="18">
                    <a:moveTo>
                      <a:pt x="41" y="0"/>
                    </a:moveTo>
                    <a:lnTo>
                      <a:pt x="0" y="9"/>
                    </a:lnTo>
                    <a:lnTo>
                      <a:pt x="41" y="18"/>
                    </a:lnTo>
                    <a:lnTo>
                      <a:pt x="82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491600" y="4126320"/>
                <a:ext cx="96840" cy="1800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41" y="0"/>
                    </a:moveTo>
                    <a:lnTo>
                      <a:pt x="0" y="0"/>
                    </a:lnTo>
                    <a:lnTo>
                      <a:pt x="36" y="14"/>
                    </a:lnTo>
                    <a:lnTo>
                      <a:pt x="82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444080" y="4090680"/>
                <a:ext cx="90000" cy="5328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40" y="27"/>
                    </a:moveTo>
                    <a:lnTo>
                      <a:pt x="0" y="0"/>
                    </a:lnTo>
                    <a:lnTo>
                      <a:pt x="36" y="27"/>
                    </a:lnTo>
                    <a:lnTo>
                      <a:pt x="76" y="41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390080" y="3989520"/>
                <a:ext cx="96840" cy="13644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46" y="77"/>
                    </a:moveTo>
                    <a:lnTo>
                      <a:pt x="0" y="0"/>
                    </a:lnTo>
                    <a:lnTo>
                      <a:pt x="41" y="36"/>
                    </a:lnTo>
                    <a:lnTo>
                      <a:pt x="82" y="104"/>
                    </a:lnTo>
                    <a:lnTo>
                      <a:pt x="46" y="7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390080" y="398412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41" y="40"/>
                    </a:moveTo>
                    <a:lnTo>
                      <a:pt x="41" y="40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7" y="9"/>
                    </a:lnTo>
                    <a:lnTo>
                      <a:pt x="41" y="4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H="1" flipV="1">
                <a:off x="7390080" y="3989160"/>
                <a:ext cx="4824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flipV="1">
                <a:off x="7390080" y="398412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390080" y="398412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353000" y="3810600"/>
                <a:ext cx="68760" cy="185040"/>
              </a:xfrm>
              <a:custGeom>
                <a:avLst/>
                <a:gdLst/>
                <a:ahLst/>
                <a:rect l="l" t="t" r="r" b="b"/>
                <a:pathLst>
                  <a:path w="58" h="141">
                    <a:moveTo>
                      <a:pt x="58" y="141"/>
                    </a:moveTo>
                    <a:lnTo>
                      <a:pt x="31" y="13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 flipV="1">
                <a:off x="7390080" y="398376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H="1" flipV="1">
                <a:off x="7353000" y="3810240"/>
                <a:ext cx="36720" cy="173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353000" y="3810600"/>
                <a:ext cx="43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341120" y="3758400"/>
                <a:ext cx="16200" cy="5220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4" y="40"/>
                    </a:moveTo>
                    <a:lnTo>
                      <a:pt x="10" y="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H="1">
                <a:off x="7353000" y="3810600"/>
                <a:ext cx="43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 flipV="1">
                <a:off x="7341120" y="3758040"/>
                <a:ext cx="11520" cy="52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7421760" y="3996000"/>
                <a:ext cx="16200" cy="406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14" y="31"/>
                    </a:moveTo>
                    <a:lnTo>
                      <a:pt x="14" y="31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14" y="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 flipH="1" flipV="1">
                <a:off x="7427520" y="400140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7421760" y="399600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357680" y="3810600"/>
                <a:ext cx="69840" cy="190440"/>
              </a:xfrm>
              <a:custGeom>
                <a:avLst/>
                <a:gdLst/>
                <a:ahLst/>
                <a:rect l="l" t="t" r="r" b="b"/>
                <a:pathLst>
                  <a:path w="59" h="145">
                    <a:moveTo>
                      <a:pt x="54" y="141"/>
                    </a:moveTo>
                    <a:lnTo>
                      <a:pt x="59" y="145"/>
                    </a:lnTo>
                    <a:lnTo>
                      <a:pt x="27" y="14"/>
                    </a:lnTo>
                    <a:lnTo>
                      <a:pt x="23" y="9"/>
                    </a:lnTo>
                    <a:lnTo>
                      <a:pt x="0" y="0"/>
                    </a:lnTo>
                    <a:lnTo>
                      <a:pt x="54" y="14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421760" y="399600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H="1" flipV="1">
                <a:off x="7389720" y="3829320"/>
                <a:ext cx="37800" cy="172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 flipH="1" flipV="1">
                <a:off x="7384680" y="382248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7357680" y="3810240"/>
                <a:ext cx="273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341120" y="3758400"/>
                <a:ext cx="43560" cy="64080"/>
              </a:xfrm>
              <a:custGeom>
                <a:avLst/>
                <a:gdLst/>
                <a:ahLst/>
                <a:rect l="l" t="t" r="r" b="b"/>
                <a:pathLst>
                  <a:path w="37" h="49">
                    <a:moveTo>
                      <a:pt x="14" y="40"/>
                    </a:moveTo>
                    <a:lnTo>
                      <a:pt x="37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357680" y="3810600"/>
                <a:ext cx="273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H="1" flipV="1">
                <a:off x="7340760" y="3758400"/>
                <a:ext cx="4356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385040" y="3822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7384680" y="382248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385040" y="38224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298640" y="3638880"/>
                <a:ext cx="86400" cy="183600"/>
              </a:xfrm>
              <a:custGeom>
                <a:avLst/>
                <a:gdLst/>
                <a:ahLst/>
                <a:rect l="l" t="t" r="r" b="b"/>
                <a:pathLst>
                  <a:path w="73" h="140">
                    <a:moveTo>
                      <a:pt x="73" y="140"/>
                    </a:moveTo>
                    <a:lnTo>
                      <a:pt x="73" y="140"/>
                    </a:lnTo>
                    <a:lnTo>
                      <a:pt x="36" y="9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3" y="1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385040" y="38224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 flipH="1" flipV="1">
                <a:off x="7340760" y="3758400"/>
                <a:ext cx="4356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7298640" y="3638520"/>
                <a:ext cx="4248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298640" y="36388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287840" y="360864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9" y="23"/>
                    </a:moveTo>
                    <a:lnTo>
                      <a:pt x="9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298640" y="36388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 flipH="1" flipV="1">
                <a:off x="7287480" y="3608640"/>
                <a:ext cx="1044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385040" y="3822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 flipH="1" flipV="1">
                <a:off x="7384680" y="382248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385040" y="38224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298640" y="3638880"/>
                <a:ext cx="86400" cy="183600"/>
              </a:xfrm>
              <a:custGeom>
                <a:avLst/>
                <a:gdLst/>
                <a:ahLst/>
                <a:rect l="l" t="t" r="r" b="b"/>
                <a:pathLst>
                  <a:path w="73" h="140">
                    <a:moveTo>
                      <a:pt x="73" y="140"/>
                    </a:moveTo>
                    <a:lnTo>
                      <a:pt x="73" y="140"/>
                    </a:lnTo>
                    <a:lnTo>
                      <a:pt x="32" y="6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3" y="1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385040" y="38224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7336080" y="3727440"/>
                <a:ext cx="48600" cy="94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 flipH="1" flipV="1">
                <a:off x="7298280" y="3638520"/>
                <a:ext cx="37800" cy="88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7298640" y="36388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7287840" y="360864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9" y="23"/>
                    </a:moveTo>
                    <a:lnTo>
                      <a:pt x="9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7298640" y="36388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7287480" y="3608640"/>
                <a:ext cx="1044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7266600" y="3645360"/>
                <a:ext cx="20880" cy="4032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14" y="31"/>
                    </a:moveTo>
                    <a:lnTo>
                      <a:pt x="14" y="31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14" y="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7266600" y="3645360"/>
                <a:ext cx="208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7266600" y="3656880"/>
                <a:ext cx="1656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7234560" y="3584880"/>
                <a:ext cx="52920" cy="72000"/>
              </a:xfrm>
              <a:custGeom>
                <a:avLst/>
                <a:gdLst/>
                <a:ahLst/>
                <a:rect l="l" t="t" r="r" b="b"/>
                <a:pathLst>
                  <a:path w="45" h="55">
                    <a:moveTo>
                      <a:pt x="27" y="55"/>
                    </a:moveTo>
                    <a:lnTo>
                      <a:pt x="45" y="46"/>
                    </a:lnTo>
                    <a:lnTo>
                      <a:pt x="45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 flipV="1">
                <a:off x="7266600" y="3645360"/>
                <a:ext cx="208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 flipH="1" flipV="1">
                <a:off x="7234200" y="3584520"/>
                <a:ext cx="529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7234560" y="3584880"/>
                <a:ext cx="31680" cy="72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7283160" y="3638880"/>
                <a:ext cx="52920" cy="88920"/>
              </a:xfrm>
              <a:custGeom>
                <a:avLst/>
                <a:gdLst/>
                <a:ahLst/>
                <a:rect l="l" t="t" r="r" b="b"/>
                <a:pathLst>
                  <a:path w="45" h="68">
                    <a:moveTo>
                      <a:pt x="45" y="68"/>
                    </a:moveTo>
                    <a:lnTo>
                      <a:pt x="45" y="68"/>
                    </a:lnTo>
                    <a:lnTo>
                      <a:pt x="0" y="36"/>
                    </a:lnTo>
                    <a:lnTo>
                      <a:pt x="4" y="5"/>
                    </a:lnTo>
                    <a:lnTo>
                      <a:pt x="13" y="0"/>
                    </a:lnTo>
                    <a:lnTo>
                      <a:pt x="45" y="6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 flipH="1" flipV="1">
                <a:off x="7282800" y="3686040"/>
                <a:ext cx="5292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flipV="1">
                <a:off x="7287840" y="363888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298640" y="3638880"/>
                <a:ext cx="37800" cy="88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7287840" y="3608640"/>
                <a:ext cx="10440" cy="367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23"/>
                    </a:move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flipH="1">
                <a:off x="7287480" y="363888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7287840" y="3608640"/>
                <a:ext cx="1044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7255800" y="3656880"/>
                <a:ext cx="27360" cy="28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3" y="22"/>
                    </a:moveTo>
                    <a:lnTo>
                      <a:pt x="23" y="2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3" y="2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H="1" flipV="1">
                <a:off x="7266600" y="3656880"/>
                <a:ext cx="1656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flipH="1">
                <a:off x="7255440" y="3656880"/>
                <a:ext cx="1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7181280" y="3561120"/>
                <a:ext cx="85320" cy="9576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63" y="73"/>
                    </a:moveTo>
                    <a:lnTo>
                      <a:pt x="72" y="73"/>
                    </a:lnTo>
                    <a:lnTo>
                      <a:pt x="45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3" y="7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7255800" y="3656880"/>
                <a:ext cx="1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H="1" flipV="1">
                <a:off x="7234560" y="3584880"/>
                <a:ext cx="31680" cy="72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H="1" flipV="1">
                <a:off x="7181280" y="3561120"/>
                <a:ext cx="5328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218000" y="3656880"/>
                <a:ext cx="65160" cy="40680"/>
              </a:xfrm>
              <a:custGeom>
                <a:avLst/>
                <a:gdLst/>
                <a:ahLst/>
                <a:rect l="l" t="t" r="r" b="b"/>
                <a:pathLst>
                  <a:path w="55" h="31">
                    <a:moveTo>
                      <a:pt x="9" y="31"/>
                    </a:moveTo>
                    <a:lnTo>
                      <a:pt x="9" y="31"/>
                    </a:lnTo>
                    <a:lnTo>
                      <a:pt x="55" y="22"/>
                    </a:lnTo>
                    <a:lnTo>
                      <a:pt x="32" y="0"/>
                    </a:lnTo>
                    <a:lnTo>
                      <a:pt x="0" y="4"/>
                    </a:lnTo>
                    <a:lnTo>
                      <a:pt x="9" y="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7228800" y="3685680"/>
                <a:ext cx="543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 flipH="1">
                <a:off x="7217640" y="365688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218000" y="366228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181280" y="3561120"/>
                <a:ext cx="74520" cy="101160"/>
              </a:xfrm>
              <a:custGeom>
                <a:avLst/>
                <a:gdLst/>
                <a:ahLst/>
                <a:rect l="l" t="t" r="r" b="b"/>
                <a:pathLst>
                  <a:path w="63" h="77">
                    <a:moveTo>
                      <a:pt x="31" y="77"/>
                    </a:moveTo>
                    <a:lnTo>
                      <a:pt x="63" y="7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7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 flipV="1">
                <a:off x="7218000" y="365688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181280" y="3561120"/>
                <a:ext cx="3672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207200" y="3662280"/>
                <a:ext cx="21240" cy="3528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18" y="27"/>
                    </a:moveTo>
                    <a:lnTo>
                      <a:pt x="18" y="27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H="1" flipV="1">
                <a:off x="7217640" y="366228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flipH="1">
                <a:off x="7206840" y="366228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6920" y="3544200"/>
                <a:ext cx="90720" cy="12456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68" y="95"/>
                    </a:moveTo>
                    <a:lnTo>
                      <a:pt x="77" y="90"/>
                    </a:lnTo>
                    <a:lnTo>
                      <a:pt x="4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8" y="9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 flipV="1">
                <a:off x="7207200" y="366228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H="1" flipV="1">
                <a:off x="7181280" y="3560760"/>
                <a:ext cx="3672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H="1" flipV="1">
                <a:off x="7126920" y="3543840"/>
                <a:ext cx="5400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153920" y="3668760"/>
                <a:ext cx="74520" cy="8280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4" y="63"/>
                    </a:moveTo>
                    <a:lnTo>
                      <a:pt x="14" y="63"/>
                    </a:lnTo>
                    <a:lnTo>
                      <a:pt x="63" y="22"/>
                    </a:lnTo>
                    <a:lnTo>
                      <a:pt x="45" y="0"/>
                    </a:lnTo>
                    <a:lnTo>
                      <a:pt x="0" y="4"/>
                    </a:lnTo>
                    <a:lnTo>
                      <a:pt x="14" y="6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V="1">
                <a:off x="7170840" y="3697560"/>
                <a:ext cx="5796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 flipH="1">
                <a:off x="7153560" y="3668760"/>
                <a:ext cx="529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153920" y="3674160"/>
                <a:ext cx="1656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126920" y="3544200"/>
                <a:ext cx="80280" cy="129960"/>
              </a:xfrm>
              <a:custGeom>
                <a:avLst/>
                <a:gdLst/>
                <a:ahLst/>
                <a:rect l="l" t="t" r="r" b="b"/>
                <a:pathLst>
                  <a:path w="68" h="99">
                    <a:moveTo>
                      <a:pt x="23" y="99"/>
                    </a:moveTo>
                    <a:lnTo>
                      <a:pt x="68" y="9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" y="9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 flipV="1">
                <a:off x="7153920" y="3668760"/>
                <a:ext cx="529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126920" y="3544200"/>
                <a:ext cx="27000" cy="129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084080" y="3674160"/>
                <a:ext cx="37800" cy="131040"/>
              </a:xfrm>
              <a:custGeom>
                <a:avLst/>
                <a:gdLst/>
                <a:ahLst/>
                <a:rect l="l" t="t" r="r" b="b"/>
                <a:pathLst>
                  <a:path w="32" h="100">
                    <a:moveTo>
                      <a:pt x="27" y="100"/>
                    </a:moveTo>
                    <a:lnTo>
                      <a:pt x="27" y="100"/>
                    </a:lnTo>
                    <a:lnTo>
                      <a:pt x="0" y="5"/>
                    </a:lnTo>
                    <a:lnTo>
                      <a:pt x="32" y="0"/>
                    </a:lnTo>
                    <a:lnTo>
                      <a:pt x="27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H="1" flipV="1">
                <a:off x="7084080" y="3681000"/>
                <a:ext cx="316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V="1">
                <a:off x="7084080" y="3674160"/>
                <a:ext cx="378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068600" y="3544200"/>
                <a:ext cx="57960" cy="136440"/>
              </a:xfrm>
              <a:custGeom>
                <a:avLst/>
                <a:gdLst/>
                <a:ahLst/>
                <a:rect l="l" t="t" r="r" b="b"/>
                <a:pathLst>
                  <a:path w="49" h="104">
                    <a:moveTo>
                      <a:pt x="45" y="99"/>
                    </a:moveTo>
                    <a:lnTo>
                      <a:pt x="13" y="104"/>
                    </a:lnTo>
                    <a:lnTo>
                      <a:pt x="0" y="6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5" y="9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H="1">
                <a:off x="7083720" y="3674160"/>
                <a:ext cx="378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 flipH="1" flipV="1">
                <a:off x="7068240" y="3626640"/>
                <a:ext cx="1548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 flipV="1">
                <a:off x="7068600" y="3544200"/>
                <a:ext cx="57960" cy="82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7116120" y="3674160"/>
                <a:ext cx="54360" cy="131040"/>
              </a:xfrm>
              <a:custGeom>
                <a:avLst/>
                <a:gdLst/>
                <a:ahLst/>
                <a:rect l="l" t="t" r="r" b="b"/>
                <a:pathLst>
                  <a:path w="46" h="100">
                    <a:moveTo>
                      <a:pt x="0" y="100"/>
                    </a:moveTo>
                    <a:lnTo>
                      <a:pt x="0" y="100"/>
                    </a:lnTo>
                    <a:lnTo>
                      <a:pt x="46" y="59"/>
                    </a:lnTo>
                    <a:lnTo>
                      <a:pt x="32" y="0"/>
                    </a:lnTo>
                    <a:lnTo>
                      <a:pt x="5" y="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V="1">
                <a:off x="7116120" y="3751560"/>
                <a:ext cx="5436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 flipH="1" flipV="1">
                <a:off x="7153920" y="3673800"/>
                <a:ext cx="1656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 flipH="1">
                <a:off x="7122240" y="3674160"/>
                <a:ext cx="31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122240" y="3544200"/>
                <a:ext cx="31680" cy="129960"/>
              </a:xfrm>
              <a:custGeom>
                <a:avLst/>
                <a:gdLst/>
                <a:ahLst/>
                <a:rect l="l" t="t" r="r" b="b"/>
                <a:pathLst>
                  <a:path w="27" h="99">
                    <a:moveTo>
                      <a:pt x="0" y="99"/>
                    </a:moveTo>
                    <a:lnTo>
                      <a:pt x="27" y="9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122240" y="3674160"/>
                <a:ext cx="31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 flipH="1" flipV="1">
                <a:off x="7126560" y="3543840"/>
                <a:ext cx="27000" cy="129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014240" y="3681000"/>
                <a:ext cx="101520" cy="124560"/>
              </a:xfrm>
              <a:custGeom>
                <a:avLst/>
                <a:gdLst/>
                <a:ahLst/>
                <a:rect l="l" t="t" r="r" b="b"/>
                <a:pathLst>
                  <a:path w="86" h="95">
                    <a:moveTo>
                      <a:pt x="86" y="95"/>
                    </a:moveTo>
                    <a:lnTo>
                      <a:pt x="86" y="95"/>
                    </a:lnTo>
                    <a:lnTo>
                      <a:pt x="0" y="31"/>
                    </a:lnTo>
                    <a:lnTo>
                      <a:pt x="18" y="0"/>
                    </a:lnTo>
                    <a:lnTo>
                      <a:pt x="59" y="0"/>
                    </a:lnTo>
                    <a:lnTo>
                      <a:pt x="86" y="9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 flipV="1">
                <a:off x="7014240" y="3681000"/>
                <a:ext cx="20880" cy="40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035480" y="3681000"/>
                <a:ext cx="486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084080" y="3681000"/>
                <a:ext cx="316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035480" y="3627000"/>
                <a:ext cx="48600" cy="536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41"/>
                    </a:moveTo>
                    <a:lnTo>
                      <a:pt x="0" y="41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 flipH="1">
                <a:off x="7035120" y="3681000"/>
                <a:ext cx="486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 flipV="1">
                <a:off x="7035480" y="3626640"/>
                <a:ext cx="3276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7068600" y="3627000"/>
                <a:ext cx="1548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7056720" y="388800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 flipV="1">
                <a:off x="7056720" y="388764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 flipH="1">
                <a:off x="7056720" y="388800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056720" y="3888000"/>
                <a:ext cx="10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1" name=""/>
            <p:cNvGrpSpPr/>
            <p:nvPr/>
          </p:nvGrpSpPr>
          <p:grpSpPr>
            <a:xfrm>
              <a:off x="6719760" y="3686040"/>
              <a:ext cx="1009080" cy="636840"/>
              <a:chOff x="6719760" y="3686040"/>
              <a:chExt cx="1009080" cy="636840"/>
            </a:xfrm>
          </p:grpSpPr>
          <p:sp>
            <p:nvSpPr>
              <p:cNvPr id="2852" name=""/>
              <p:cNvSpPr/>
              <p:nvPr/>
            </p:nvSpPr>
            <p:spPr>
              <a:xfrm>
                <a:off x="7014600" y="3721320"/>
                <a:ext cx="101520" cy="166680"/>
              </a:xfrm>
              <a:custGeom>
                <a:avLst/>
                <a:gdLst/>
                <a:ahLst/>
                <a:rect l="l" t="t" r="r" b="b"/>
                <a:pathLst>
                  <a:path w="86" h="127">
                    <a:moveTo>
                      <a:pt x="36" y="127"/>
                    </a:moveTo>
                    <a:lnTo>
                      <a:pt x="41" y="127"/>
                    </a:lnTo>
                    <a:lnTo>
                      <a:pt x="86" y="6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1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057080" y="388800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V="1">
                <a:off x="7062840" y="3805200"/>
                <a:ext cx="53280" cy="82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014600" y="3721320"/>
                <a:ext cx="4212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6966000" y="3894840"/>
                <a:ext cx="37800" cy="59040"/>
              </a:xfrm>
              <a:custGeom>
                <a:avLst/>
                <a:gdLst/>
                <a:ahLst/>
                <a:rect l="l" t="t" r="r" b="b"/>
                <a:pathLst>
                  <a:path w="32" h="45">
                    <a:moveTo>
                      <a:pt x="32" y="45"/>
                    </a:moveTo>
                    <a:lnTo>
                      <a:pt x="32" y="45"/>
                    </a:lnTo>
                    <a:lnTo>
                      <a:pt x="0" y="0"/>
                    </a:lnTo>
                    <a:lnTo>
                      <a:pt x="32" y="4"/>
                    </a:lnTo>
                    <a:lnTo>
                      <a:pt x="32" y="4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 flipH="1" flipV="1">
                <a:off x="6965640" y="3894840"/>
                <a:ext cx="3780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6966000" y="389484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6955200" y="3721320"/>
                <a:ext cx="59040" cy="178560"/>
              </a:xfrm>
              <a:custGeom>
                <a:avLst/>
                <a:gdLst/>
                <a:ahLst/>
                <a:rect l="l" t="t" r="r" b="b"/>
                <a:pathLst>
                  <a:path w="50" h="136">
                    <a:moveTo>
                      <a:pt x="41" y="136"/>
                    </a:moveTo>
                    <a:lnTo>
                      <a:pt x="9" y="132"/>
                    </a:lnTo>
                    <a:lnTo>
                      <a:pt x="0" y="114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1" y="13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H="1" flipV="1">
                <a:off x="6965640" y="389484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H="1" flipV="1">
                <a:off x="6954840" y="3870720"/>
                <a:ext cx="1044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6955200" y="3721320"/>
                <a:ext cx="59040" cy="149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003800" y="3888000"/>
                <a:ext cx="52920" cy="655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0" y="50"/>
                    </a:moveTo>
                    <a:lnTo>
                      <a:pt x="0" y="50"/>
                    </a:lnTo>
                    <a:lnTo>
                      <a:pt x="45" y="9"/>
                    </a:lnTo>
                    <a:lnTo>
                      <a:pt x="45" y="0"/>
                    </a:lnTo>
                    <a:lnTo>
                      <a:pt x="0" y="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V="1">
                <a:off x="7003800" y="3899880"/>
                <a:ext cx="5292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V="1">
                <a:off x="7057080" y="3887640"/>
                <a:ext cx="10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flipH="1">
                <a:off x="7003440" y="3888000"/>
                <a:ext cx="52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003800" y="3721320"/>
                <a:ext cx="52920" cy="178560"/>
              </a:xfrm>
              <a:custGeom>
                <a:avLst/>
                <a:gdLst/>
                <a:ahLst/>
                <a:rect l="l" t="t" r="r" b="b"/>
                <a:pathLst>
                  <a:path w="45" h="136">
                    <a:moveTo>
                      <a:pt x="0" y="136"/>
                    </a:moveTo>
                    <a:lnTo>
                      <a:pt x="45" y="12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V="1">
                <a:off x="7003800" y="3887640"/>
                <a:ext cx="52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H="1" flipV="1">
                <a:off x="7014240" y="3720960"/>
                <a:ext cx="4212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6897240" y="3894840"/>
                <a:ext cx="53280" cy="89280"/>
              </a:xfrm>
              <a:custGeom>
                <a:avLst/>
                <a:gdLst/>
                <a:ahLst/>
                <a:rect l="l" t="t" r="r" b="b"/>
                <a:pathLst>
                  <a:path w="45" h="68">
                    <a:moveTo>
                      <a:pt x="40" y="68"/>
                    </a:moveTo>
                    <a:lnTo>
                      <a:pt x="40" y="68"/>
                    </a:lnTo>
                    <a:lnTo>
                      <a:pt x="0" y="27"/>
                    </a:lnTo>
                    <a:lnTo>
                      <a:pt x="27" y="0"/>
                    </a:lnTo>
                    <a:lnTo>
                      <a:pt x="45" y="0"/>
                    </a:lnTo>
                    <a:lnTo>
                      <a:pt x="40" y="6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 flipH="1" flipV="1">
                <a:off x="6896880" y="3930480"/>
                <a:ext cx="4716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flipV="1">
                <a:off x="6897240" y="3894480"/>
                <a:ext cx="31680" cy="35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6928920" y="3894840"/>
                <a:ext cx="21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6928920" y="3871080"/>
                <a:ext cx="25920" cy="234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8" y="18"/>
                    </a:moveTo>
                    <a:lnTo>
                      <a:pt x="0" y="18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H="1">
                <a:off x="6928560" y="3894840"/>
                <a:ext cx="21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V="1">
                <a:off x="6928920" y="3870720"/>
                <a:ext cx="259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6944400" y="3894840"/>
                <a:ext cx="59040" cy="8928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0" y="68"/>
                    </a:moveTo>
                    <a:lnTo>
                      <a:pt x="0" y="68"/>
                    </a:lnTo>
                    <a:lnTo>
                      <a:pt x="50" y="45"/>
                    </a:lnTo>
                    <a:lnTo>
                      <a:pt x="18" y="0"/>
                    </a:lnTo>
                    <a:lnTo>
                      <a:pt x="5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6944400" y="3953520"/>
                <a:ext cx="5904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H="1" flipV="1">
                <a:off x="6965640" y="3894840"/>
                <a:ext cx="3780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H="1">
                <a:off x="6950520" y="3894840"/>
                <a:ext cx="15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6950520" y="3871080"/>
                <a:ext cx="1512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0" y="18"/>
                    </a:moveTo>
                    <a:lnTo>
                      <a:pt x="13" y="18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950520" y="3894840"/>
                <a:ext cx="15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H="1" flipV="1">
                <a:off x="6954840" y="3870720"/>
                <a:ext cx="1044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6838200" y="3930480"/>
                <a:ext cx="106200" cy="183600"/>
              </a:xfrm>
              <a:custGeom>
                <a:avLst/>
                <a:gdLst/>
                <a:ahLst/>
                <a:rect l="l" t="t" r="r" b="b"/>
                <a:pathLst>
                  <a:path w="90" h="140">
                    <a:moveTo>
                      <a:pt x="50" y="0"/>
                    </a:moveTo>
                    <a:lnTo>
                      <a:pt x="0" y="127"/>
                    </a:lnTo>
                    <a:lnTo>
                      <a:pt x="41" y="140"/>
                    </a:lnTo>
                    <a:lnTo>
                      <a:pt x="90" y="41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6778800" y="4109040"/>
                <a:ext cx="59040" cy="106200"/>
              </a:xfrm>
              <a:custGeom>
                <a:avLst/>
                <a:gdLst/>
                <a:ahLst/>
                <a:rect l="l" t="t" r="r" b="b"/>
                <a:pathLst>
                  <a:path w="50" h="81">
                    <a:moveTo>
                      <a:pt x="0" y="68"/>
                    </a:moveTo>
                    <a:lnTo>
                      <a:pt x="0" y="68"/>
                    </a:lnTo>
                    <a:lnTo>
                      <a:pt x="41" y="81"/>
                    </a:lnTo>
                    <a:lnTo>
                      <a:pt x="50" y="4"/>
                    </a:lnTo>
                    <a:lnTo>
                      <a:pt x="45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778800" y="4198320"/>
                <a:ext cx="4860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H="1" flipV="1">
                <a:off x="6832080" y="410904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H="1">
                <a:off x="6778800" y="4109040"/>
                <a:ext cx="53280" cy="89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6832080" y="4097160"/>
                <a:ext cx="5760" cy="169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9"/>
                    </a:moveTo>
                    <a:lnTo>
                      <a:pt x="5" y="1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6832080" y="410904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H="1">
                <a:off x="6832080" y="4097160"/>
                <a:ext cx="576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6827400" y="4114440"/>
                <a:ext cx="48600" cy="100800"/>
              </a:xfrm>
              <a:custGeom>
                <a:avLst/>
                <a:gdLst/>
                <a:ahLst/>
                <a:rect l="l" t="t" r="r" b="b"/>
                <a:pathLst>
                  <a:path w="41" h="77">
                    <a:moveTo>
                      <a:pt x="0" y="77"/>
                    </a:moveTo>
                    <a:lnTo>
                      <a:pt x="0" y="77"/>
                    </a:lnTo>
                    <a:lnTo>
                      <a:pt x="9" y="0"/>
                    </a:lnTo>
                    <a:lnTo>
                      <a:pt x="41" y="9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6838200" y="411444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H="1">
                <a:off x="6827040" y="4126320"/>
                <a:ext cx="48600" cy="88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6838200" y="4097160"/>
                <a:ext cx="48240" cy="28800"/>
              </a:xfrm>
              <a:custGeom>
                <a:avLst/>
                <a:gdLst/>
                <a:ahLst/>
                <a:rect l="l" t="t" r="r" b="b"/>
                <a:pathLst>
                  <a:path w="41" h="22">
                    <a:moveTo>
                      <a:pt x="32" y="22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2" y="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H="1" flipV="1">
                <a:off x="6837840" y="411408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6838200" y="4097160"/>
                <a:ext cx="4824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H="1">
                <a:off x="6875640" y="411444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6719760" y="4198320"/>
                <a:ext cx="107640" cy="82800"/>
              </a:xfrm>
              <a:custGeom>
                <a:avLst/>
                <a:gdLst/>
                <a:ahLst/>
                <a:rect l="l" t="t" r="r" b="b"/>
                <a:pathLst>
                  <a:path w="91" h="63">
                    <a:moveTo>
                      <a:pt x="50" y="0"/>
                    </a:moveTo>
                    <a:lnTo>
                      <a:pt x="0" y="58"/>
                    </a:lnTo>
                    <a:lnTo>
                      <a:pt x="36" y="63"/>
                    </a:lnTo>
                    <a:lnTo>
                      <a:pt x="91" y="13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588800" y="4126320"/>
                <a:ext cx="91080" cy="29880"/>
              </a:xfrm>
              <a:custGeom>
                <a:avLst/>
                <a:gdLst/>
                <a:ahLst/>
                <a:rect l="l" t="t" r="r" b="b"/>
                <a:pathLst>
                  <a:path w="77" h="23">
                    <a:moveTo>
                      <a:pt x="41" y="0"/>
                    </a:moveTo>
                    <a:lnTo>
                      <a:pt x="0" y="9"/>
                    </a:lnTo>
                    <a:lnTo>
                      <a:pt x="36" y="23"/>
                    </a:lnTo>
                    <a:lnTo>
                      <a:pt x="77" y="1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534440" y="4137840"/>
                <a:ext cx="96840" cy="23760"/>
              </a:xfrm>
              <a:custGeom>
                <a:avLst/>
                <a:gdLst/>
                <a:ahLst/>
                <a:rect l="l" t="t" r="r" b="b"/>
                <a:pathLst>
                  <a:path w="82" h="18">
                    <a:moveTo>
                      <a:pt x="46" y="0"/>
                    </a:moveTo>
                    <a:lnTo>
                      <a:pt x="0" y="5"/>
                    </a:lnTo>
                    <a:lnTo>
                      <a:pt x="41" y="18"/>
                    </a:lnTo>
                    <a:lnTo>
                      <a:pt x="82" y="14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486920" y="4126320"/>
                <a:ext cx="95760" cy="35280"/>
              </a:xfrm>
              <a:custGeom>
                <a:avLst/>
                <a:gdLst/>
                <a:ahLst/>
                <a:rect l="l" t="t" r="r" b="b"/>
                <a:pathLst>
                  <a:path w="81" h="27">
                    <a:moveTo>
                      <a:pt x="40" y="14"/>
                    </a:moveTo>
                    <a:lnTo>
                      <a:pt x="0" y="0"/>
                    </a:lnTo>
                    <a:lnTo>
                      <a:pt x="40" y="9"/>
                    </a:lnTo>
                    <a:lnTo>
                      <a:pt x="81" y="27"/>
                    </a:lnTo>
                    <a:lnTo>
                      <a:pt x="40" y="14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438320" y="4024800"/>
                <a:ext cx="96120" cy="112680"/>
              </a:xfrm>
              <a:custGeom>
                <a:avLst/>
                <a:gdLst/>
                <a:ahLst/>
                <a:rect l="l" t="t" r="r" b="b"/>
                <a:pathLst>
                  <a:path w="81" h="86">
                    <a:moveTo>
                      <a:pt x="41" y="77"/>
                    </a:moveTo>
                    <a:lnTo>
                      <a:pt x="0" y="9"/>
                    </a:lnTo>
                    <a:lnTo>
                      <a:pt x="41" y="0"/>
                    </a:lnTo>
                    <a:lnTo>
                      <a:pt x="81" y="86"/>
                    </a:lnTo>
                    <a:lnTo>
                      <a:pt x="41" y="7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427880" y="4001400"/>
                <a:ext cx="59040" cy="35280"/>
              </a:xfrm>
              <a:custGeom>
                <a:avLst/>
                <a:gdLst/>
                <a:ahLst/>
                <a:rect l="l" t="t" r="r" b="b"/>
                <a:pathLst>
                  <a:path w="50" h="27">
                    <a:moveTo>
                      <a:pt x="9" y="27"/>
                    </a:moveTo>
                    <a:lnTo>
                      <a:pt x="9" y="27"/>
                    </a:lnTo>
                    <a:lnTo>
                      <a:pt x="50" y="18"/>
                    </a:lnTo>
                    <a:lnTo>
                      <a:pt x="41" y="9"/>
                    </a:lnTo>
                    <a:lnTo>
                      <a:pt x="0" y="0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7438320" y="4024440"/>
                <a:ext cx="486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H="1" flipV="1">
                <a:off x="7427880" y="4001400"/>
                <a:ext cx="482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427880" y="400140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390080" y="3829320"/>
                <a:ext cx="86040" cy="183600"/>
              </a:xfrm>
              <a:custGeom>
                <a:avLst/>
                <a:gdLst/>
                <a:ahLst/>
                <a:rect l="l" t="t" r="r" b="b"/>
                <a:pathLst>
                  <a:path w="73" h="140">
                    <a:moveTo>
                      <a:pt x="32" y="131"/>
                    </a:moveTo>
                    <a:lnTo>
                      <a:pt x="73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1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7427880" y="4001400"/>
                <a:ext cx="482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7390080" y="3829320"/>
                <a:ext cx="37800" cy="172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476120" y="401292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H="1" flipV="1">
                <a:off x="7481160" y="401256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H="1">
                <a:off x="7475760" y="4012920"/>
                <a:ext cx="4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390080" y="3829320"/>
                <a:ext cx="90720" cy="183600"/>
              </a:xfrm>
              <a:custGeom>
                <a:avLst/>
                <a:gdLst/>
                <a:ahLst/>
                <a:rect l="l" t="t" r="r" b="b"/>
                <a:pathLst>
                  <a:path w="77" h="140">
                    <a:moveTo>
                      <a:pt x="73" y="140"/>
                    </a:moveTo>
                    <a:lnTo>
                      <a:pt x="77" y="140"/>
                    </a:lnTo>
                    <a:lnTo>
                      <a:pt x="36" y="3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3" y="14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476120" y="4012920"/>
                <a:ext cx="4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H="1" flipV="1">
                <a:off x="7432200" y="3870720"/>
                <a:ext cx="48600" cy="14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H="1" flipV="1">
                <a:off x="7389720" y="3829320"/>
                <a:ext cx="4212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385040" y="3822480"/>
                <a:ext cx="47160" cy="48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40" y="37"/>
                    </a:moveTo>
                    <a:lnTo>
                      <a:pt x="40" y="37"/>
                    </a:lnTo>
                    <a:lnTo>
                      <a:pt x="4" y="5"/>
                    </a:lnTo>
                    <a:lnTo>
                      <a:pt x="0" y="0"/>
                    </a:lnTo>
                    <a:lnTo>
                      <a:pt x="22" y="9"/>
                    </a:lnTo>
                    <a:lnTo>
                      <a:pt x="40" y="3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H="1" flipV="1">
                <a:off x="7389720" y="3829320"/>
                <a:ext cx="4212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H="1" flipV="1">
                <a:off x="7384680" y="382248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385040" y="3822480"/>
                <a:ext cx="25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336440" y="3727800"/>
                <a:ext cx="74520" cy="10656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81"/>
                    </a:moveTo>
                    <a:lnTo>
                      <a:pt x="41" y="7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3" y="8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H="1" flipV="1">
                <a:off x="7385040" y="3822120"/>
                <a:ext cx="25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H="1" flipV="1">
                <a:off x="7336080" y="3727440"/>
                <a:ext cx="48600" cy="94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411320" y="383436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28"/>
                    </a:moveTo>
                    <a:lnTo>
                      <a:pt x="18" y="28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18" y="2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H="1" flipV="1">
                <a:off x="7417080" y="3840840"/>
                <a:ext cx="1512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H="1" flipV="1">
                <a:off x="7411320" y="383436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336440" y="3727800"/>
                <a:ext cx="80280" cy="113040"/>
              </a:xfrm>
              <a:custGeom>
                <a:avLst/>
                <a:gdLst/>
                <a:ahLst/>
                <a:rect l="l" t="t" r="r" b="b"/>
                <a:pathLst>
                  <a:path w="68" h="86">
                    <a:moveTo>
                      <a:pt x="63" y="81"/>
                    </a:moveTo>
                    <a:lnTo>
                      <a:pt x="68" y="86"/>
                    </a:lnTo>
                    <a:lnTo>
                      <a:pt x="41" y="4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3" y="8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411320" y="383436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H="1" flipV="1">
                <a:off x="7385040" y="3786840"/>
                <a:ext cx="3168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H="1" flipV="1">
                <a:off x="7336080" y="3727800"/>
                <a:ext cx="4860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283520" y="368604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86" h="77">
                    <a:moveTo>
                      <a:pt x="45" y="32"/>
                    </a:moveTo>
                    <a:lnTo>
                      <a:pt x="0" y="0"/>
                    </a:lnTo>
                    <a:lnTo>
                      <a:pt x="40" y="41"/>
                    </a:lnTo>
                    <a:lnTo>
                      <a:pt x="86" y="77"/>
                    </a:lnTo>
                    <a:lnTo>
                      <a:pt x="45" y="32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228800" y="3686040"/>
                <a:ext cx="101520" cy="65520"/>
              </a:xfrm>
              <a:custGeom>
                <a:avLst/>
                <a:gdLst/>
                <a:ahLst/>
                <a:rect l="l" t="t" r="r" b="b"/>
                <a:pathLst>
                  <a:path w="86" h="50">
                    <a:moveTo>
                      <a:pt x="46" y="0"/>
                    </a:moveTo>
                    <a:lnTo>
                      <a:pt x="0" y="9"/>
                    </a:lnTo>
                    <a:lnTo>
                      <a:pt x="37" y="50"/>
                    </a:lnTo>
                    <a:lnTo>
                      <a:pt x="86" y="4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170840" y="3697920"/>
                <a:ext cx="101520" cy="53640"/>
              </a:xfrm>
              <a:custGeom>
                <a:avLst/>
                <a:gdLst/>
                <a:ahLst/>
                <a:rect l="l" t="t" r="r" b="b"/>
                <a:pathLst>
                  <a:path w="86" h="41">
                    <a:moveTo>
                      <a:pt x="49" y="0"/>
                    </a:moveTo>
                    <a:lnTo>
                      <a:pt x="0" y="41"/>
                    </a:lnTo>
                    <a:lnTo>
                      <a:pt x="40" y="37"/>
                    </a:lnTo>
                    <a:lnTo>
                      <a:pt x="86" y="4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116480" y="3746160"/>
                <a:ext cx="101520" cy="141480"/>
              </a:xfrm>
              <a:custGeom>
                <a:avLst/>
                <a:gdLst/>
                <a:ahLst/>
                <a:rect l="l" t="t" r="r" b="b"/>
                <a:pathLst>
                  <a:path w="86" h="108">
                    <a:moveTo>
                      <a:pt x="46" y="4"/>
                    </a:moveTo>
                    <a:lnTo>
                      <a:pt x="0" y="45"/>
                    </a:lnTo>
                    <a:lnTo>
                      <a:pt x="41" y="108"/>
                    </a:lnTo>
                    <a:lnTo>
                      <a:pt x="86" y="0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057080" y="3888000"/>
                <a:ext cx="65160" cy="11880"/>
              </a:xfrm>
              <a:custGeom>
                <a:avLst/>
                <a:gdLst/>
                <a:ahLst/>
                <a:rect l="l" t="t" r="r" b="b"/>
                <a:pathLst>
                  <a:path w="55" h="9">
                    <a:moveTo>
                      <a:pt x="0" y="9"/>
                    </a:moveTo>
                    <a:lnTo>
                      <a:pt x="0" y="9"/>
                    </a:lnTo>
                    <a:lnTo>
                      <a:pt x="55" y="5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H="1" flipV="1">
                <a:off x="7062840" y="3888000"/>
                <a:ext cx="590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H="1">
                <a:off x="7057080" y="388800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062840" y="3805560"/>
                <a:ext cx="101880" cy="8892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0" y="63"/>
                    </a:moveTo>
                    <a:lnTo>
                      <a:pt x="50" y="68"/>
                    </a:lnTo>
                    <a:lnTo>
                      <a:pt x="86" y="63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062840" y="3888000"/>
                <a:ext cx="590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H="1" flipV="1">
                <a:off x="7116120" y="3805200"/>
                <a:ext cx="48600" cy="82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H="1">
                <a:off x="7062840" y="3805560"/>
                <a:ext cx="53280" cy="82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057080" y="3894840"/>
                <a:ext cx="102960" cy="12456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41" y="95"/>
                    </a:moveTo>
                    <a:lnTo>
                      <a:pt x="41" y="95"/>
                    </a:lnTo>
                    <a:lnTo>
                      <a:pt x="0" y="4"/>
                    </a:lnTo>
                    <a:lnTo>
                      <a:pt x="55" y="0"/>
                    </a:lnTo>
                    <a:lnTo>
                      <a:pt x="87" y="0"/>
                    </a:lnTo>
                    <a:lnTo>
                      <a:pt x="41" y="9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H="1" flipV="1">
                <a:off x="7056720" y="3899880"/>
                <a:ext cx="4860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122240" y="3894840"/>
                <a:ext cx="37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H="1">
                <a:off x="7105320" y="3894840"/>
                <a:ext cx="543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122240" y="3888000"/>
                <a:ext cx="42480" cy="6480"/>
              </a:xfrm>
              <a:custGeom>
                <a:avLst/>
                <a:gdLst/>
                <a:ahLst/>
                <a:rect l="l" t="t" r="r" b="b"/>
                <a:pathLst>
                  <a:path w="36" h="5">
                    <a:moveTo>
                      <a:pt x="32" y="5"/>
                    </a:moveTo>
                    <a:lnTo>
                      <a:pt x="0" y="5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H="1">
                <a:off x="7121880" y="3894840"/>
                <a:ext cx="37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H="1">
                <a:off x="7159680" y="388800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7003800" y="3900240"/>
                <a:ext cx="101520" cy="196920"/>
              </a:xfrm>
              <a:custGeom>
                <a:avLst/>
                <a:gdLst/>
                <a:ahLst/>
                <a:rect l="l" t="t" r="r" b="b"/>
                <a:pathLst>
                  <a:path w="86" h="150">
                    <a:moveTo>
                      <a:pt x="45" y="0"/>
                    </a:moveTo>
                    <a:lnTo>
                      <a:pt x="0" y="41"/>
                    </a:lnTo>
                    <a:lnTo>
                      <a:pt x="36" y="150"/>
                    </a:lnTo>
                    <a:lnTo>
                      <a:pt x="86" y="9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6944400" y="3953880"/>
                <a:ext cx="101880" cy="143280"/>
              </a:xfrm>
              <a:custGeom>
                <a:avLst/>
                <a:gdLst/>
                <a:ahLst/>
                <a:rect l="l" t="t" r="r" b="b"/>
                <a:pathLst>
                  <a:path w="86" h="109">
                    <a:moveTo>
                      <a:pt x="86" y="109"/>
                    </a:moveTo>
                    <a:lnTo>
                      <a:pt x="0" y="23"/>
                    </a:lnTo>
                    <a:lnTo>
                      <a:pt x="50" y="0"/>
                    </a:lnTo>
                    <a:lnTo>
                      <a:pt x="86" y="109"/>
                    </a:lnTo>
                    <a:lnTo>
                      <a:pt x="86" y="10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6944400" y="3953880"/>
                <a:ext cx="101880" cy="1432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9" y="24"/>
                    </a:moveTo>
                    <a:lnTo>
                      <a:pt x="11" y="0"/>
                    </a:lnTo>
                    <a:lnTo>
                      <a:pt x="0" y="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6982560" y="412092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5" y="18"/>
                    </a:moveTo>
                    <a:lnTo>
                      <a:pt x="5" y="18"/>
                    </a:lnTo>
                    <a:lnTo>
                      <a:pt x="27" y="0"/>
                    </a:lnTo>
                    <a:lnTo>
                      <a:pt x="0" y="4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V="1">
                <a:off x="6988320" y="4120560"/>
                <a:ext cx="259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H="1">
                <a:off x="6982560" y="412092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6982560" y="4126320"/>
                <a:ext cx="576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6944400" y="3984120"/>
                <a:ext cx="101880" cy="141840"/>
              </a:xfrm>
              <a:custGeom>
                <a:avLst/>
                <a:gdLst/>
                <a:ahLst/>
                <a:rect l="l" t="t" r="r" b="b"/>
                <a:pathLst>
                  <a:path w="86" h="108">
                    <a:moveTo>
                      <a:pt x="32" y="108"/>
                    </a:moveTo>
                    <a:lnTo>
                      <a:pt x="59" y="104"/>
                    </a:lnTo>
                    <a:lnTo>
                      <a:pt x="86" y="8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10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6982560" y="412092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7014600" y="4096800"/>
                <a:ext cx="31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6944400" y="3984120"/>
                <a:ext cx="37800" cy="141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6891120" y="412632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36" h="64">
                    <a:moveTo>
                      <a:pt x="32" y="64"/>
                    </a:moveTo>
                    <a:lnTo>
                      <a:pt x="32" y="64"/>
                    </a:lnTo>
                    <a:lnTo>
                      <a:pt x="0" y="0"/>
                    </a:lnTo>
                    <a:lnTo>
                      <a:pt x="36" y="5"/>
                    </a:lnTo>
                    <a:lnTo>
                      <a:pt x="32" y="6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 flipH="1" flipV="1">
                <a:off x="6890760" y="4125960"/>
                <a:ext cx="37800" cy="83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891120" y="412632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886440" y="3984120"/>
                <a:ext cx="57960" cy="148320"/>
              </a:xfrm>
              <a:custGeom>
                <a:avLst/>
                <a:gdLst/>
                <a:ahLst/>
                <a:rect l="l" t="t" r="r" b="b"/>
                <a:pathLst>
                  <a:path w="49" h="113">
                    <a:moveTo>
                      <a:pt x="40" y="113"/>
                    </a:moveTo>
                    <a:lnTo>
                      <a:pt x="4" y="108"/>
                    </a:lnTo>
                    <a:lnTo>
                      <a:pt x="0" y="99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0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H="1" flipV="1">
                <a:off x="6891120" y="412632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H="1" flipV="1">
                <a:off x="6886080" y="411408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6886440" y="3983760"/>
                <a:ext cx="57960" cy="129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928920" y="4126320"/>
                <a:ext cx="59040" cy="83880"/>
              </a:xfrm>
              <a:custGeom>
                <a:avLst/>
                <a:gdLst/>
                <a:ahLst/>
                <a:rect l="l" t="t" r="r" b="b"/>
                <a:pathLst>
                  <a:path w="50" h="64">
                    <a:moveTo>
                      <a:pt x="0" y="64"/>
                    </a:moveTo>
                    <a:lnTo>
                      <a:pt x="0" y="64"/>
                    </a:lnTo>
                    <a:lnTo>
                      <a:pt x="50" y="14"/>
                    </a:lnTo>
                    <a:lnTo>
                      <a:pt x="45" y="0"/>
                    </a:lnTo>
                    <a:lnTo>
                      <a:pt x="4" y="5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6928920" y="4144320"/>
                <a:ext cx="5904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H="1" flipV="1">
                <a:off x="6982560" y="4126320"/>
                <a:ext cx="576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H="1">
                <a:off x="6933600" y="4126320"/>
                <a:ext cx="486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6933960" y="3984120"/>
                <a:ext cx="48600" cy="148320"/>
              </a:xfrm>
              <a:custGeom>
                <a:avLst/>
                <a:gdLst/>
                <a:ahLst/>
                <a:rect l="l" t="t" r="r" b="b"/>
                <a:pathLst>
                  <a:path w="41" h="113">
                    <a:moveTo>
                      <a:pt x="0" y="113"/>
                    </a:moveTo>
                    <a:lnTo>
                      <a:pt x="41" y="108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6933960" y="4126320"/>
                <a:ext cx="486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H="1" flipV="1">
                <a:off x="6944040" y="3984120"/>
                <a:ext cx="37800" cy="141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827400" y="4126320"/>
                <a:ext cx="52920" cy="142920"/>
              </a:xfrm>
              <a:custGeom>
                <a:avLst/>
                <a:gdLst/>
                <a:ahLst/>
                <a:rect l="l" t="t" r="r" b="b"/>
                <a:pathLst>
                  <a:path w="45" h="109">
                    <a:moveTo>
                      <a:pt x="36" y="109"/>
                    </a:moveTo>
                    <a:lnTo>
                      <a:pt x="36" y="109"/>
                    </a:lnTo>
                    <a:lnTo>
                      <a:pt x="0" y="68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36" y="10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H="1" flipV="1">
                <a:off x="6827400" y="4214880"/>
                <a:ext cx="4248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6827400" y="4125960"/>
                <a:ext cx="48600" cy="88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876000" y="4126320"/>
                <a:ext cx="43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876000" y="41144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0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H="1">
                <a:off x="6876000" y="4126320"/>
                <a:ext cx="43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6876000" y="411408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869880" y="4126320"/>
                <a:ext cx="59040" cy="142920"/>
              </a:xfrm>
              <a:custGeom>
                <a:avLst/>
                <a:gdLst/>
                <a:ahLst/>
                <a:rect l="l" t="t" r="r" b="b"/>
                <a:pathLst>
                  <a:path w="50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50" y="64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6869880" y="4209840"/>
                <a:ext cx="5904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H="1" flipV="1">
                <a:off x="6890760" y="4125960"/>
                <a:ext cx="37800" cy="83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H="1">
                <a:off x="6879960" y="412632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6880320" y="41144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9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6880320" y="412632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flipH="1" flipV="1">
                <a:off x="6886080" y="411408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761880" y="4215240"/>
                <a:ext cx="107640" cy="107640"/>
              </a:xfrm>
              <a:custGeom>
                <a:avLst/>
                <a:gdLst/>
                <a:ahLst/>
                <a:rect l="l" t="t" r="r" b="b"/>
                <a:pathLst>
                  <a:path w="91" h="82">
                    <a:moveTo>
                      <a:pt x="55" y="0"/>
                    </a:moveTo>
                    <a:lnTo>
                      <a:pt x="0" y="50"/>
                    </a:lnTo>
                    <a:lnTo>
                      <a:pt x="41" y="82"/>
                    </a:lnTo>
                    <a:lnTo>
                      <a:pt x="91" y="41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631640" y="4144320"/>
                <a:ext cx="97200" cy="23760"/>
              </a:xfrm>
              <a:custGeom>
                <a:avLst/>
                <a:gdLst/>
                <a:ahLst/>
                <a:rect l="l" t="t" r="r" b="b"/>
                <a:pathLst>
                  <a:path w="82" h="18">
                    <a:moveTo>
                      <a:pt x="41" y="0"/>
                    </a:moveTo>
                    <a:lnTo>
                      <a:pt x="0" y="9"/>
                    </a:lnTo>
                    <a:lnTo>
                      <a:pt x="41" y="18"/>
                    </a:lnTo>
                    <a:lnTo>
                      <a:pt x="82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7583040" y="4156200"/>
                <a:ext cx="97200" cy="169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41" y="0"/>
                    </a:moveTo>
                    <a:lnTo>
                      <a:pt x="0" y="4"/>
                    </a:lnTo>
                    <a:lnTo>
                      <a:pt x="41" y="13"/>
                    </a:lnTo>
                    <a:lnTo>
                      <a:pt x="82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7534440" y="4137840"/>
                <a:ext cx="96840" cy="35280"/>
              </a:xfrm>
              <a:custGeom>
                <a:avLst/>
                <a:gdLst/>
                <a:ahLst/>
                <a:rect l="l" t="t" r="r" b="b"/>
                <a:pathLst>
                  <a:path w="82" h="27">
                    <a:moveTo>
                      <a:pt x="41" y="18"/>
                    </a:moveTo>
                    <a:lnTo>
                      <a:pt x="0" y="0"/>
                    </a:lnTo>
                    <a:lnTo>
                      <a:pt x="41" y="18"/>
                    </a:lnTo>
                    <a:lnTo>
                      <a:pt x="82" y="27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486920" y="4024800"/>
                <a:ext cx="95760" cy="136440"/>
              </a:xfrm>
              <a:custGeom>
                <a:avLst/>
                <a:gdLst/>
                <a:ahLst/>
                <a:rect l="l" t="t" r="r" b="b"/>
                <a:pathLst>
                  <a:path w="81" h="104">
                    <a:moveTo>
                      <a:pt x="40" y="86"/>
                    </a:moveTo>
                    <a:lnTo>
                      <a:pt x="0" y="0"/>
                    </a:lnTo>
                    <a:lnTo>
                      <a:pt x="40" y="32"/>
                    </a:lnTo>
                    <a:lnTo>
                      <a:pt x="81" y="104"/>
                    </a:lnTo>
                    <a:lnTo>
                      <a:pt x="40" y="86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481160" y="4012920"/>
                <a:ext cx="53280" cy="5364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45" y="41"/>
                    </a:moveTo>
                    <a:lnTo>
                      <a:pt x="45" y="41"/>
                    </a:lnTo>
                    <a:lnTo>
                      <a:pt x="5" y="9"/>
                    </a:lnTo>
                    <a:lnTo>
                      <a:pt x="0" y="0"/>
                    </a:lnTo>
                    <a:lnTo>
                      <a:pt x="27" y="9"/>
                    </a:lnTo>
                    <a:lnTo>
                      <a:pt x="45" y="4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H="1" flipV="1">
                <a:off x="7486920" y="4024800"/>
                <a:ext cx="4752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H="1" flipV="1">
                <a:off x="7481160" y="401256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481160" y="401292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432560" y="3871080"/>
                <a:ext cx="80280" cy="153720"/>
              </a:xfrm>
              <a:custGeom>
                <a:avLst/>
                <a:gdLst/>
                <a:ahLst/>
                <a:rect l="l" t="t" r="r" b="b"/>
                <a:pathLst>
                  <a:path w="68" h="117">
                    <a:moveTo>
                      <a:pt x="68" y="117"/>
                    </a:moveTo>
                    <a:lnTo>
                      <a:pt x="41" y="10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8" y="11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H="1" flipV="1">
                <a:off x="7481160" y="401256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H="1" flipV="1">
                <a:off x="7432200" y="3870720"/>
                <a:ext cx="48600" cy="14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513200" y="4024800"/>
                <a:ext cx="21240" cy="41760"/>
              </a:xfrm>
              <a:custGeom>
                <a:avLst/>
                <a:gdLst/>
                <a:ahLst/>
                <a:rect l="l" t="t" r="r" b="b"/>
                <a:pathLst>
                  <a:path w="18" h="32">
                    <a:moveTo>
                      <a:pt x="18" y="32"/>
                    </a:moveTo>
                    <a:lnTo>
                      <a:pt x="18" y="32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18" y="3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H="1" flipV="1">
                <a:off x="7518600" y="4031280"/>
                <a:ext cx="1548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H="1" flipV="1">
                <a:off x="7513200" y="402480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432560" y="3871080"/>
                <a:ext cx="86400" cy="160200"/>
              </a:xfrm>
              <a:custGeom>
                <a:avLst/>
                <a:gdLst/>
                <a:ahLst/>
                <a:rect l="l" t="t" r="r" b="b"/>
                <a:pathLst>
                  <a:path w="73" h="122">
                    <a:moveTo>
                      <a:pt x="68" y="117"/>
                    </a:moveTo>
                    <a:lnTo>
                      <a:pt x="73" y="122"/>
                    </a:lnTo>
                    <a:lnTo>
                      <a:pt x="41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8" y="11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7513200" y="402480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H="1" flipV="1">
                <a:off x="7480800" y="3935520"/>
                <a:ext cx="3780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H="1" flipV="1">
                <a:off x="7432200" y="3871080"/>
                <a:ext cx="4860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7417080" y="3841200"/>
                <a:ext cx="63720" cy="9432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54" y="72"/>
                    </a:moveTo>
                    <a:lnTo>
                      <a:pt x="54" y="72"/>
                    </a:lnTo>
                    <a:lnTo>
                      <a:pt x="13" y="23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H="1" flipV="1">
                <a:off x="7432200" y="3871080"/>
                <a:ext cx="4860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H="1" flipV="1">
                <a:off x="7417080" y="3840840"/>
                <a:ext cx="1512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417080" y="38412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385040" y="3787200"/>
                <a:ext cx="42480" cy="586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36" y="45"/>
                    </a:moveTo>
                    <a:lnTo>
                      <a:pt x="27" y="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4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H="1" flipV="1">
                <a:off x="7416720" y="38412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H="1" flipV="1">
                <a:off x="7385040" y="3786840"/>
                <a:ext cx="3168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406280" y="3846240"/>
                <a:ext cx="74520" cy="89280"/>
              </a:xfrm>
              <a:custGeom>
                <a:avLst/>
                <a:gdLst/>
                <a:ahLst/>
                <a:rect l="l" t="t" r="r" b="b"/>
                <a:pathLst>
                  <a:path w="63" h="68">
                    <a:moveTo>
                      <a:pt x="63" y="68"/>
                    </a:moveTo>
                    <a:lnTo>
                      <a:pt x="63" y="68"/>
                    </a:lnTo>
                    <a:lnTo>
                      <a:pt x="18" y="68"/>
                    </a:lnTo>
                    <a:lnTo>
                      <a:pt x="0" y="5"/>
                    </a:lnTo>
                    <a:lnTo>
                      <a:pt x="18" y="0"/>
                    </a:lnTo>
                    <a:lnTo>
                      <a:pt x="63" y="6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H="1">
                <a:off x="7427520" y="3935520"/>
                <a:ext cx="52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H="1" flipV="1">
                <a:off x="7405920" y="3852720"/>
                <a:ext cx="21240" cy="82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7406280" y="3846240"/>
                <a:ext cx="212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385040" y="3787200"/>
                <a:ext cx="42480" cy="65520"/>
              </a:xfrm>
              <a:custGeom>
                <a:avLst/>
                <a:gdLst/>
                <a:ahLst/>
                <a:rect l="l" t="t" r="r" b="b"/>
                <a:pathLst>
                  <a:path w="36" h="50">
                    <a:moveTo>
                      <a:pt x="36" y="45"/>
                    </a:moveTo>
                    <a:lnTo>
                      <a:pt x="18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4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H="1">
                <a:off x="7405920" y="3846240"/>
                <a:ext cx="212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flipH="1" flipV="1">
                <a:off x="7385040" y="3787200"/>
                <a:ext cx="208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390080" y="3852720"/>
                <a:ext cx="37800" cy="82800"/>
              </a:xfrm>
              <a:custGeom>
                <a:avLst/>
                <a:gdLst/>
                <a:ahLst/>
                <a:rect l="l" t="t" r="r" b="b"/>
                <a:pathLst>
                  <a:path w="32" h="63">
                    <a:moveTo>
                      <a:pt x="32" y="63"/>
                    </a:moveTo>
                    <a:lnTo>
                      <a:pt x="32" y="63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H="1" flipV="1">
                <a:off x="7405920" y="3852720"/>
                <a:ext cx="21240" cy="82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H="1">
                <a:off x="7389720" y="3852720"/>
                <a:ext cx="162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330680" y="3739680"/>
                <a:ext cx="75600" cy="119160"/>
              </a:xfrm>
              <a:custGeom>
                <a:avLst/>
                <a:gdLst/>
                <a:ahLst/>
                <a:rect l="l" t="t" r="r" b="b"/>
                <a:pathLst>
                  <a:path w="64" h="91">
                    <a:moveTo>
                      <a:pt x="50" y="91"/>
                    </a:moveTo>
                    <a:lnTo>
                      <a:pt x="64" y="86"/>
                    </a:lnTo>
                    <a:lnTo>
                      <a:pt x="46" y="3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0" y="9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7390080" y="3852720"/>
                <a:ext cx="162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H="1" flipV="1">
                <a:off x="7385040" y="3787200"/>
                <a:ext cx="208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H="1" flipV="1">
                <a:off x="7330320" y="3739320"/>
                <a:ext cx="543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363800" y="3859200"/>
                <a:ext cx="63720" cy="75960"/>
              </a:xfrm>
              <a:custGeom>
                <a:avLst/>
                <a:gdLst/>
                <a:ahLst/>
                <a:rect l="l" t="t" r="r" b="b"/>
                <a:pathLst>
                  <a:path w="54" h="58">
                    <a:moveTo>
                      <a:pt x="54" y="58"/>
                    </a:moveTo>
                    <a:lnTo>
                      <a:pt x="54" y="58"/>
                    </a:lnTo>
                    <a:lnTo>
                      <a:pt x="9" y="40"/>
                    </a:lnTo>
                    <a:lnTo>
                      <a:pt x="0" y="9"/>
                    </a:lnTo>
                    <a:lnTo>
                      <a:pt x="22" y="0"/>
                    </a:lnTo>
                    <a:lnTo>
                      <a:pt x="54" y="5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H="1" flipV="1">
                <a:off x="7374600" y="3911760"/>
                <a:ext cx="532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 flipH="1" flipV="1">
                <a:off x="7363440" y="3870720"/>
                <a:ext cx="104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7363800" y="3858840"/>
                <a:ext cx="25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7330680" y="3739680"/>
                <a:ext cx="59040" cy="131040"/>
              </a:xfrm>
              <a:custGeom>
                <a:avLst/>
                <a:gdLst/>
                <a:ahLst/>
                <a:rect l="l" t="t" r="r" b="b"/>
                <a:pathLst>
                  <a:path w="50" h="100">
                    <a:moveTo>
                      <a:pt x="50" y="91"/>
                    </a:moveTo>
                    <a:lnTo>
                      <a:pt x="28" y="10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0" y="9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H="1">
                <a:off x="7363800" y="3859200"/>
                <a:ext cx="25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H="1" flipV="1">
                <a:off x="7330680" y="3739680"/>
                <a:ext cx="33120" cy="131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315200" y="3882960"/>
                <a:ext cx="10440" cy="352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4" y="27"/>
                    </a:moveTo>
                    <a:lnTo>
                      <a:pt x="4" y="27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4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H="1" flipV="1">
                <a:off x="7315200" y="3882960"/>
                <a:ext cx="432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7315200" y="388296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272720" y="3739680"/>
                <a:ext cx="57960" cy="143280"/>
              </a:xfrm>
              <a:custGeom>
                <a:avLst/>
                <a:gdLst/>
                <a:ahLst/>
                <a:rect l="l" t="t" r="r" b="b"/>
                <a:pathLst>
                  <a:path w="49" h="109">
                    <a:moveTo>
                      <a:pt x="45" y="109"/>
                    </a:moveTo>
                    <a:lnTo>
                      <a:pt x="36" y="109"/>
                    </a:lnTo>
                    <a:lnTo>
                      <a:pt x="0" y="9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5" y="10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H="1">
                <a:off x="7314840" y="388296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H="1" flipV="1">
                <a:off x="7272720" y="3751560"/>
                <a:ext cx="42480" cy="131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7272720" y="3739320"/>
                <a:ext cx="579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7319880" y="3871080"/>
                <a:ext cx="54360" cy="47160"/>
              </a:xfrm>
              <a:custGeom>
                <a:avLst/>
                <a:gdLst/>
                <a:ahLst/>
                <a:rect l="l" t="t" r="r" b="b"/>
                <a:pathLst>
                  <a:path w="46" h="36">
                    <a:moveTo>
                      <a:pt x="46" y="31"/>
                    </a:moveTo>
                    <a:lnTo>
                      <a:pt x="46" y="31"/>
                    </a:lnTo>
                    <a:lnTo>
                      <a:pt x="0" y="36"/>
                    </a:lnTo>
                    <a:lnTo>
                      <a:pt x="5" y="9"/>
                    </a:lnTo>
                    <a:lnTo>
                      <a:pt x="37" y="0"/>
                    </a:lnTo>
                    <a:lnTo>
                      <a:pt x="46" y="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H="1">
                <a:off x="7319520" y="3912120"/>
                <a:ext cx="543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7326000" y="387072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7363800" y="3871080"/>
                <a:ext cx="104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7326000" y="3739680"/>
                <a:ext cx="37800" cy="143280"/>
              </a:xfrm>
              <a:custGeom>
                <a:avLst/>
                <a:gdLst/>
                <a:ahLst/>
                <a:rect l="l" t="t" r="r" b="b"/>
                <a:pathLst>
                  <a:path w="32" h="109">
                    <a:moveTo>
                      <a:pt x="32" y="100"/>
                    </a:moveTo>
                    <a:lnTo>
                      <a:pt x="0" y="10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2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H="1">
                <a:off x="7325640" y="387108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7330680" y="3739680"/>
                <a:ext cx="33120" cy="131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7304760" y="3882960"/>
                <a:ext cx="15120" cy="352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27"/>
                    </a:moveTo>
                    <a:lnTo>
                      <a:pt x="13" y="2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H="1" flipV="1">
                <a:off x="7315200" y="3882960"/>
                <a:ext cx="432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2" name=""/>
            <p:cNvGrpSpPr/>
            <p:nvPr/>
          </p:nvGrpSpPr>
          <p:grpSpPr>
            <a:xfrm>
              <a:off x="6810840" y="3746160"/>
              <a:ext cx="1019880" cy="653040"/>
              <a:chOff x="6810840" y="3746160"/>
              <a:chExt cx="1019880" cy="653040"/>
            </a:xfrm>
          </p:grpSpPr>
          <p:sp>
            <p:nvSpPr>
              <p:cNvPr id="3053" name=""/>
              <p:cNvSpPr/>
              <p:nvPr/>
            </p:nvSpPr>
            <p:spPr>
              <a:xfrm flipH="1">
                <a:off x="7304400" y="388296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7218000" y="3746520"/>
                <a:ext cx="97200" cy="13644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73" y="104"/>
                    </a:moveTo>
                    <a:lnTo>
                      <a:pt x="82" y="104"/>
                    </a:lnTo>
                    <a:lnTo>
                      <a:pt x="46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3" y="10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7304760" y="388296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H="1" flipV="1">
                <a:off x="7272720" y="3751560"/>
                <a:ext cx="42480" cy="131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H="1" flipV="1">
                <a:off x="7217640" y="3746520"/>
                <a:ext cx="543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7261920" y="3882960"/>
                <a:ext cx="57960" cy="35280"/>
              </a:xfrm>
              <a:custGeom>
                <a:avLst/>
                <a:gdLst/>
                <a:ahLst/>
                <a:rect l="l" t="t" r="r" b="b"/>
                <a:pathLst>
                  <a:path w="49" h="27">
                    <a:moveTo>
                      <a:pt x="49" y="27"/>
                    </a:moveTo>
                    <a:lnTo>
                      <a:pt x="49" y="27"/>
                    </a:lnTo>
                    <a:lnTo>
                      <a:pt x="4" y="27"/>
                    </a:lnTo>
                    <a:lnTo>
                      <a:pt x="0" y="9"/>
                    </a:lnTo>
                    <a:lnTo>
                      <a:pt x="36" y="0"/>
                    </a:lnTo>
                    <a:lnTo>
                      <a:pt x="49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flipH="1">
                <a:off x="7266600" y="3918600"/>
                <a:ext cx="52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 flipV="1">
                <a:off x="7261560" y="3894840"/>
                <a:ext cx="468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7261920" y="3882960"/>
                <a:ext cx="424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218000" y="3746520"/>
                <a:ext cx="86400" cy="148320"/>
              </a:xfrm>
              <a:custGeom>
                <a:avLst/>
                <a:gdLst/>
                <a:ahLst/>
                <a:rect l="l" t="t" r="r" b="b"/>
                <a:pathLst>
                  <a:path w="73" h="113">
                    <a:moveTo>
                      <a:pt x="73" y="104"/>
                    </a:moveTo>
                    <a:lnTo>
                      <a:pt x="37" y="1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3" y="10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 flipH="1">
                <a:off x="7261920" y="3882960"/>
                <a:ext cx="424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H="1" flipV="1">
                <a:off x="7217640" y="3746520"/>
                <a:ext cx="43560" cy="148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165080" y="3894840"/>
                <a:ext cx="48240" cy="129960"/>
              </a:xfrm>
              <a:custGeom>
                <a:avLst/>
                <a:gdLst/>
                <a:ahLst/>
                <a:rect l="l" t="t" r="r" b="b"/>
                <a:pathLst>
                  <a:path w="41" h="99">
                    <a:moveTo>
                      <a:pt x="36" y="99"/>
                    </a:moveTo>
                    <a:lnTo>
                      <a:pt x="36" y="99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36" y="9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H="1" flipV="1">
                <a:off x="7164720" y="3894480"/>
                <a:ext cx="42120" cy="129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165080" y="3894840"/>
                <a:ext cx="48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165080" y="3746520"/>
                <a:ext cx="52920" cy="148320"/>
              </a:xfrm>
              <a:custGeom>
                <a:avLst/>
                <a:gdLst/>
                <a:ahLst/>
                <a:rect l="l" t="t" r="r" b="b"/>
                <a:pathLst>
                  <a:path w="45" h="113">
                    <a:moveTo>
                      <a:pt x="41" y="113"/>
                    </a:moveTo>
                    <a:lnTo>
                      <a:pt x="0" y="113"/>
                    </a:lnTo>
                    <a:lnTo>
                      <a:pt x="0" y="108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11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7165080" y="3894840"/>
                <a:ext cx="48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7165080" y="388800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7165080" y="3746160"/>
                <a:ext cx="52920" cy="14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7207560" y="3894840"/>
                <a:ext cx="59040" cy="12996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0" y="99"/>
                    </a:moveTo>
                    <a:lnTo>
                      <a:pt x="0" y="99"/>
                    </a:lnTo>
                    <a:lnTo>
                      <a:pt x="50" y="18"/>
                    </a:lnTo>
                    <a:lnTo>
                      <a:pt x="46" y="0"/>
                    </a:lnTo>
                    <a:lnTo>
                      <a:pt x="5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V="1">
                <a:off x="7207560" y="3918240"/>
                <a:ext cx="59040" cy="106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H="1" flipV="1">
                <a:off x="7261560" y="3894840"/>
                <a:ext cx="468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H="1">
                <a:off x="7212960" y="3894840"/>
                <a:ext cx="486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7213320" y="3746520"/>
                <a:ext cx="48600" cy="148320"/>
              </a:xfrm>
              <a:custGeom>
                <a:avLst/>
                <a:gdLst/>
                <a:ahLst/>
                <a:rect l="l" t="t" r="r" b="b"/>
                <a:pathLst>
                  <a:path w="41" h="113">
                    <a:moveTo>
                      <a:pt x="0" y="113"/>
                    </a:moveTo>
                    <a:lnTo>
                      <a:pt x="41" y="11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7213320" y="3894840"/>
                <a:ext cx="486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H="1" flipV="1">
                <a:off x="7217640" y="3746520"/>
                <a:ext cx="43560" cy="148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7105680" y="3894840"/>
                <a:ext cx="59040" cy="207360"/>
              </a:xfrm>
              <a:custGeom>
                <a:avLst/>
                <a:gdLst/>
                <a:ahLst/>
                <a:rect l="l" t="t" r="r" b="b"/>
                <a:pathLst>
                  <a:path w="50" h="158">
                    <a:moveTo>
                      <a:pt x="41" y="158"/>
                    </a:moveTo>
                    <a:lnTo>
                      <a:pt x="41" y="158"/>
                    </a:lnTo>
                    <a:lnTo>
                      <a:pt x="0" y="95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41" y="15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 flipV="1">
                <a:off x="7105320" y="4019400"/>
                <a:ext cx="48600" cy="82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V="1">
                <a:off x="7105680" y="3894840"/>
                <a:ext cx="543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7160040" y="3894840"/>
                <a:ext cx="4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160040" y="38880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H="1">
                <a:off x="7159680" y="3894840"/>
                <a:ext cx="4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V="1">
                <a:off x="7160040" y="388800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7154280" y="3894840"/>
                <a:ext cx="52920" cy="207360"/>
              </a:xfrm>
              <a:custGeom>
                <a:avLst/>
                <a:gdLst/>
                <a:ahLst/>
                <a:rect l="l" t="t" r="r" b="b"/>
                <a:pathLst>
                  <a:path w="45" h="158">
                    <a:moveTo>
                      <a:pt x="0" y="158"/>
                    </a:moveTo>
                    <a:lnTo>
                      <a:pt x="0" y="158"/>
                    </a:lnTo>
                    <a:lnTo>
                      <a:pt x="45" y="9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flipV="1">
                <a:off x="7154280" y="4024440"/>
                <a:ext cx="5292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H="1" flipV="1">
                <a:off x="7164720" y="3894480"/>
                <a:ext cx="42120" cy="129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165080" y="38948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165080" y="3888000"/>
                <a:ext cx="720" cy="6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165080" y="38948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V="1">
                <a:off x="7165080" y="388800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046640" y="4019400"/>
                <a:ext cx="107640" cy="82800"/>
              </a:xfrm>
              <a:custGeom>
                <a:avLst/>
                <a:gdLst/>
                <a:ahLst/>
                <a:rect l="l" t="t" r="r" b="b"/>
                <a:pathLst>
                  <a:path w="91" h="63">
                    <a:moveTo>
                      <a:pt x="91" y="63"/>
                    </a:moveTo>
                    <a:lnTo>
                      <a:pt x="0" y="59"/>
                    </a:lnTo>
                    <a:lnTo>
                      <a:pt x="50" y="0"/>
                    </a:lnTo>
                    <a:lnTo>
                      <a:pt x="91" y="63"/>
                    </a:lnTo>
                    <a:lnTo>
                      <a:pt x="91" y="6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046640" y="4019400"/>
                <a:ext cx="107640" cy="8280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14"/>
                    </a:moveTo>
                    <a:lnTo>
                      <a:pt x="11" y="0"/>
                    </a:lnTo>
                    <a:lnTo>
                      <a:pt x="0" y="1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062840" y="4120920"/>
                <a:ext cx="74520" cy="64080"/>
              </a:xfrm>
              <a:custGeom>
                <a:avLst/>
                <a:gdLst/>
                <a:ahLst/>
                <a:rect l="l" t="t" r="r" b="b"/>
                <a:pathLst>
                  <a:path w="63" h="49">
                    <a:moveTo>
                      <a:pt x="27" y="49"/>
                    </a:moveTo>
                    <a:lnTo>
                      <a:pt x="27" y="49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27" y="4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flipV="1">
                <a:off x="7094880" y="4120920"/>
                <a:ext cx="4248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H="1">
                <a:off x="7062480" y="4120920"/>
                <a:ext cx="745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062840" y="4120920"/>
                <a:ext cx="3168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046640" y="4097160"/>
                <a:ext cx="107640" cy="23400"/>
              </a:xfrm>
              <a:custGeom>
                <a:avLst/>
                <a:gdLst/>
                <a:ahLst/>
                <a:rect l="l" t="t" r="r" b="b"/>
                <a:pathLst>
                  <a:path w="91" h="18">
                    <a:moveTo>
                      <a:pt x="14" y="18"/>
                    </a:moveTo>
                    <a:lnTo>
                      <a:pt x="77" y="18"/>
                    </a:lnTo>
                    <a:lnTo>
                      <a:pt x="91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062840" y="4120920"/>
                <a:ext cx="745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7137720" y="4102200"/>
                <a:ext cx="1656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046640" y="4097160"/>
                <a:ext cx="1620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6988320" y="4120920"/>
                <a:ext cx="106200" cy="64080"/>
              </a:xfrm>
              <a:custGeom>
                <a:avLst/>
                <a:gdLst/>
                <a:ahLst/>
                <a:rect l="l" t="t" r="r" b="b"/>
                <a:pathLst>
                  <a:path w="90" h="49">
                    <a:moveTo>
                      <a:pt x="90" y="49"/>
                    </a:moveTo>
                    <a:lnTo>
                      <a:pt x="90" y="49"/>
                    </a:lnTo>
                    <a:lnTo>
                      <a:pt x="0" y="18"/>
                    </a:lnTo>
                    <a:lnTo>
                      <a:pt x="22" y="0"/>
                    </a:lnTo>
                    <a:lnTo>
                      <a:pt x="63" y="0"/>
                    </a:lnTo>
                    <a:lnTo>
                      <a:pt x="90" y="4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V="1">
                <a:off x="6988320" y="4120560"/>
                <a:ext cx="259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014600" y="4120920"/>
                <a:ext cx="48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062840" y="4120920"/>
                <a:ext cx="3168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014600" y="4097160"/>
                <a:ext cx="48240" cy="23400"/>
              </a:xfrm>
              <a:custGeom>
                <a:avLst/>
                <a:gdLst/>
                <a:ahLst/>
                <a:rect l="l" t="t" r="r" b="b"/>
                <a:pathLst>
                  <a:path w="41" h="18">
                    <a:moveTo>
                      <a:pt x="41" y="18"/>
                    </a:moveTo>
                    <a:lnTo>
                      <a:pt x="0" y="18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H="1">
                <a:off x="7014600" y="4120920"/>
                <a:ext cx="48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 flipV="1">
                <a:off x="7014600" y="4096800"/>
                <a:ext cx="31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046640" y="4097160"/>
                <a:ext cx="1620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6988320" y="4144320"/>
                <a:ext cx="106200" cy="9468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40" y="72"/>
                    </a:moveTo>
                    <a:lnTo>
                      <a:pt x="90" y="31"/>
                    </a:lnTo>
                    <a:lnTo>
                      <a:pt x="0" y="0"/>
                    </a:lnTo>
                    <a:lnTo>
                      <a:pt x="40" y="72"/>
                    </a:lnTo>
                    <a:lnTo>
                      <a:pt x="40" y="7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6988320" y="4144320"/>
                <a:ext cx="106200" cy="9468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0"/>
                    </a:moveTo>
                    <a:lnTo>
                      <a:pt x="9" y="16"/>
                    </a:lnTo>
                    <a:lnTo>
                      <a:pt x="20" y="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929280" y="4144320"/>
                <a:ext cx="106560" cy="141840"/>
              </a:xfrm>
              <a:custGeom>
                <a:avLst/>
                <a:gdLst/>
                <a:ahLst/>
                <a:rect l="l" t="t" r="r" b="b"/>
                <a:pathLst>
                  <a:path w="90" h="108">
                    <a:moveTo>
                      <a:pt x="50" y="0"/>
                    </a:moveTo>
                    <a:lnTo>
                      <a:pt x="0" y="50"/>
                    </a:lnTo>
                    <a:lnTo>
                      <a:pt x="41" y="108"/>
                    </a:lnTo>
                    <a:lnTo>
                      <a:pt x="90" y="7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869880" y="4210200"/>
                <a:ext cx="107640" cy="118080"/>
              </a:xfrm>
              <a:custGeom>
                <a:avLst/>
                <a:gdLst/>
                <a:ahLst/>
                <a:rect l="l" t="t" r="r" b="b"/>
                <a:pathLst>
                  <a:path w="91" h="90">
                    <a:moveTo>
                      <a:pt x="50" y="0"/>
                    </a:moveTo>
                    <a:lnTo>
                      <a:pt x="0" y="45"/>
                    </a:lnTo>
                    <a:lnTo>
                      <a:pt x="41" y="90"/>
                    </a:lnTo>
                    <a:lnTo>
                      <a:pt x="91" y="58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810840" y="4269240"/>
                <a:ext cx="107640" cy="94680"/>
              </a:xfrm>
              <a:custGeom>
                <a:avLst/>
                <a:gdLst/>
                <a:ahLst/>
                <a:rect l="l" t="t" r="r" b="b"/>
                <a:pathLst>
                  <a:path w="91" h="72">
                    <a:moveTo>
                      <a:pt x="50" y="0"/>
                    </a:moveTo>
                    <a:lnTo>
                      <a:pt x="0" y="41"/>
                    </a:lnTo>
                    <a:lnTo>
                      <a:pt x="36" y="72"/>
                    </a:lnTo>
                    <a:lnTo>
                      <a:pt x="91" y="45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680240" y="4156200"/>
                <a:ext cx="101520" cy="28800"/>
              </a:xfrm>
              <a:custGeom>
                <a:avLst/>
                <a:gdLst/>
                <a:ahLst/>
                <a:rect l="l" t="t" r="r" b="b"/>
                <a:pathLst>
                  <a:path w="86" h="22">
                    <a:moveTo>
                      <a:pt x="41" y="0"/>
                    </a:moveTo>
                    <a:lnTo>
                      <a:pt x="0" y="9"/>
                    </a:lnTo>
                    <a:lnTo>
                      <a:pt x="45" y="22"/>
                    </a:lnTo>
                    <a:lnTo>
                      <a:pt x="86" y="1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631640" y="4168080"/>
                <a:ext cx="101520" cy="23400"/>
              </a:xfrm>
              <a:custGeom>
                <a:avLst/>
                <a:gdLst/>
                <a:ahLst/>
                <a:rect l="l" t="t" r="r" b="b"/>
                <a:pathLst>
                  <a:path w="86" h="18">
                    <a:moveTo>
                      <a:pt x="41" y="0"/>
                    </a:moveTo>
                    <a:lnTo>
                      <a:pt x="0" y="4"/>
                    </a:lnTo>
                    <a:lnTo>
                      <a:pt x="41" y="18"/>
                    </a:lnTo>
                    <a:lnTo>
                      <a:pt x="86" y="1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583040" y="4161600"/>
                <a:ext cx="97200" cy="29880"/>
              </a:xfrm>
              <a:custGeom>
                <a:avLst/>
                <a:gdLst/>
                <a:ahLst/>
                <a:rect l="l" t="t" r="r" b="b"/>
                <a:pathLst>
                  <a:path w="82" h="23">
                    <a:moveTo>
                      <a:pt x="41" y="9"/>
                    </a:moveTo>
                    <a:lnTo>
                      <a:pt x="0" y="0"/>
                    </a:lnTo>
                    <a:lnTo>
                      <a:pt x="41" y="5"/>
                    </a:lnTo>
                    <a:lnTo>
                      <a:pt x="82" y="23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534440" y="4066920"/>
                <a:ext cx="96840" cy="101160"/>
              </a:xfrm>
              <a:custGeom>
                <a:avLst/>
                <a:gdLst/>
                <a:ahLst/>
                <a:rect l="l" t="t" r="r" b="b"/>
                <a:pathLst>
                  <a:path w="82" h="77">
                    <a:moveTo>
                      <a:pt x="41" y="72"/>
                    </a:moveTo>
                    <a:lnTo>
                      <a:pt x="0" y="0"/>
                    </a:lnTo>
                    <a:lnTo>
                      <a:pt x="41" y="50"/>
                    </a:lnTo>
                    <a:lnTo>
                      <a:pt x="82" y="77"/>
                    </a:lnTo>
                    <a:lnTo>
                      <a:pt x="41" y="72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518960" y="4031640"/>
                <a:ext cx="63720" cy="101160"/>
              </a:xfrm>
              <a:custGeom>
                <a:avLst/>
                <a:gdLst/>
                <a:ahLst/>
                <a:rect l="l" t="t" r="r" b="b"/>
                <a:pathLst>
                  <a:path w="54" h="77">
                    <a:moveTo>
                      <a:pt x="54" y="77"/>
                    </a:moveTo>
                    <a:lnTo>
                      <a:pt x="54" y="77"/>
                    </a:lnTo>
                    <a:lnTo>
                      <a:pt x="13" y="27"/>
                    </a:lnTo>
                    <a:lnTo>
                      <a:pt x="0" y="0"/>
                    </a:lnTo>
                    <a:lnTo>
                      <a:pt x="13" y="4"/>
                    </a:lnTo>
                    <a:lnTo>
                      <a:pt x="54" y="7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flipH="1" flipV="1">
                <a:off x="7534440" y="4066920"/>
                <a:ext cx="4824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 flipH="1" flipV="1">
                <a:off x="7518600" y="4031640"/>
                <a:ext cx="1548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518960" y="4031640"/>
                <a:ext cx="15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481160" y="3935520"/>
                <a:ext cx="53280" cy="101160"/>
              </a:xfrm>
              <a:custGeom>
                <a:avLst/>
                <a:gdLst/>
                <a:ahLst/>
                <a:rect l="l" t="t" r="r" b="b"/>
                <a:pathLst>
                  <a:path w="45" h="77">
                    <a:moveTo>
                      <a:pt x="45" y="77"/>
                    </a:moveTo>
                    <a:lnTo>
                      <a:pt x="32" y="7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5" y="7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H="1" flipV="1">
                <a:off x="7518600" y="4031640"/>
                <a:ext cx="15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flipH="1" flipV="1">
                <a:off x="7480800" y="3935520"/>
                <a:ext cx="3780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534440" y="4036680"/>
                <a:ext cx="48240" cy="95760"/>
              </a:xfrm>
              <a:custGeom>
                <a:avLst/>
                <a:gdLst/>
                <a:ahLst/>
                <a:rect l="l" t="t" r="r" b="b"/>
                <a:pathLst>
                  <a:path w="41" h="73">
                    <a:moveTo>
                      <a:pt x="41" y="73"/>
                    </a:moveTo>
                    <a:lnTo>
                      <a:pt x="41" y="73"/>
                    </a:lnTo>
                    <a:lnTo>
                      <a:pt x="5" y="9"/>
                    </a:lnTo>
                    <a:lnTo>
                      <a:pt x="0" y="0"/>
                    </a:lnTo>
                    <a:lnTo>
                      <a:pt x="41" y="7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 flipH="1" flipV="1">
                <a:off x="7540200" y="4048560"/>
                <a:ext cx="42120" cy="84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H="1" flipV="1">
                <a:off x="7534440" y="4036680"/>
                <a:ext cx="576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481160" y="3935520"/>
                <a:ext cx="59040" cy="112680"/>
              </a:xfrm>
              <a:custGeom>
                <a:avLst/>
                <a:gdLst/>
                <a:ahLst/>
                <a:rect l="l" t="t" r="r" b="b"/>
                <a:pathLst>
                  <a:path w="50" h="86">
                    <a:moveTo>
                      <a:pt x="45" y="77"/>
                    </a:moveTo>
                    <a:lnTo>
                      <a:pt x="50" y="86"/>
                    </a:lnTo>
                    <a:lnTo>
                      <a:pt x="41" y="7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5" y="7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534440" y="4036680"/>
                <a:ext cx="576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H="1" flipV="1">
                <a:off x="7529400" y="4036680"/>
                <a:ext cx="104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flipH="1" flipV="1">
                <a:off x="7480800" y="3935160"/>
                <a:ext cx="4860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427880" y="3935520"/>
                <a:ext cx="101520" cy="119160"/>
              </a:xfrm>
              <a:custGeom>
                <a:avLst/>
                <a:gdLst/>
                <a:ahLst/>
                <a:rect l="l" t="t" r="r" b="b"/>
                <a:pathLst>
                  <a:path w="86" h="91">
                    <a:moveTo>
                      <a:pt x="45" y="0"/>
                    </a:moveTo>
                    <a:lnTo>
                      <a:pt x="0" y="0"/>
                    </a:lnTo>
                    <a:lnTo>
                      <a:pt x="41" y="91"/>
                    </a:lnTo>
                    <a:lnTo>
                      <a:pt x="86" y="7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374600" y="391212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w="86" h="109">
                    <a:moveTo>
                      <a:pt x="45" y="18"/>
                    </a:moveTo>
                    <a:lnTo>
                      <a:pt x="0" y="0"/>
                    </a:lnTo>
                    <a:lnTo>
                      <a:pt x="40" y="91"/>
                    </a:lnTo>
                    <a:lnTo>
                      <a:pt x="86" y="109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319880" y="3912120"/>
                <a:ext cx="101880" cy="124560"/>
              </a:xfrm>
              <a:custGeom>
                <a:avLst/>
                <a:gdLst/>
                <a:ahLst/>
                <a:rect l="l" t="t" r="r" b="b"/>
                <a:pathLst>
                  <a:path w="86" h="95">
                    <a:moveTo>
                      <a:pt x="46" y="0"/>
                    </a:moveTo>
                    <a:lnTo>
                      <a:pt x="0" y="5"/>
                    </a:lnTo>
                    <a:lnTo>
                      <a:pt x="41" y="95"/>
                    </a:lnTo>
                    <a:lnTo>
                      <a:pt x="86" y="9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266960" y="3918600"/>
                <a:ext cx="101520" cy="129600"/>
              </a:xfrm>
              <a:custGeom>
                <a:avLst/>
                <a:gdLst/>
                <a:ahLst/>
                <a:rect l="l" t="t" r="r" b="b"/>
                <a:pathLst>
                  <a:path w="86" h="99">
                    <a:moveTo>
                      <a:pt x="45" y="0"/>
                    </a:moveTo>
                    <a:lnTo>
                      <a:pt x="0" y="0"/>
                    </a:lnTo>
                    <a:lnTo>
                      <a:pt x="41" y="99"/>
                    </a:lnTo>
                    <a:lnTo>
                      <a:pt x="86" y="9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207560" y="3918600"/>
                <a:ext cx="107640" cy="178560"/>
              </a:xfrm>
              <a:custGeom>
                <a:avLst/>
                <a:gdLst/>
                <a:ahLst/>
                <a:rect l="l" t="t" r="r" b="b"/>
                <a:pathLst>
                  <a:path w="91" h="136">
                    <a:moveTo>
                      <a:pt x="50" y="0"/>
                    </a:moveTo>
                    <a:lnTo>
                      <a:pt x="0" y="81"/>
                    </a:lnTo>
                    <a:lnTo>
                      <a:pt x="41" y="136"/>
                    </a:lnTo>
                    <a:lnTo>
                      <a:pt x="91" y="9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154280" y="4024800"/>
                <a:ext cx="101520" cy="77400"/>
              </a:xfrm>
              <a:custGeom>
                <a:avLst/>
                <a:gdLst/>
                <a:ahLst/>
                <a:rect l="l" t="t" r="r" b="b"/>
                <a:pathLst>
                  <a:path w="86" h="59">
                    <a:moveTo>
                      <a:pt x="0" y="59"/>
                    </a:moveTo>
                    <a:lnTo>
                      <a:pt x="86" y="55"/>
                    </a:lnTo>
                    <a:lnTo>
                      <a:pt x="45" y="0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154280" y="4024800"/>
                <a:ext cx="101520" cy="774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12"/>
                    </a:moveTo>
                    <a:lnTo>
                      <a:pt x="10" y="0"/>
                    </a:lnTo>
                    <a:lnTo>
                      <a:pt x="0" y="1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165080" y="4120920"/>
                <a:ext cx="74160" cy="52200"/>
              </a:xfrm>
              <a:custGeom>
                <a:avLst/>
                <a:gdLst/>
                <a:ahLst/>
                <a:rect l="l" t="t" r="r" b="b"/>
                <a:pathLst>
                  <a:path w="63" h="40">
                    <a:moveTo>
                      <a:pt x="32" y="40"/>
                    </a:moveTo>
                    <a:lnTo>
                      <a:pt x="32" y="40"/>
                    </a:lnTo>
                    <a:lnTo>
                      <a:pt x="0" y="0"/>
                    </a:lnTo>
                    <a:lnTo>
                      <a:pt x="63" y="4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 flipH="1" flipV="1">
                <a:off x="7164720" y="4120560"/>
                <a:ext cx="37800" cy="52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165080" y="4120920"/>
                <a:ext cx="741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flipH="1">
                <a:off x="7202520" y="4126320"/>
                <a:ext cx="36360" cy="46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7154280" y="4097160"/>
                <a:ext cx="101520" cy="28800"/>
              </a:xfrm>
              <a:custGeom>
                <a:avLst/>
                <a:gdLst/>
                <a:ahLst/>
                <a:rect l="l" t="t" r="r" b="b"/>
                <a:pathLst>
                  <a:path w="86" h="22">
                    <a:moveTo>
                      <a:pt x="72" y="22"/>
                    </a:moveTo>
                    <a:lnTo>
                      <a:pt x="9" y="18"/>
                    </a:lnTo>
                    <a:lnTo>
                      <a:pt x="0" y="4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flipH="1" flipV="1">
                <a:off x="7165080" y="4120920"/>
                <a:ext cx="741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 flipH="1" flipV="1">
                <a:off x="7153920" y="4102200"/>
                <a:ext cx="1044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H="1">
                <a:off x="7239240" y="4097160"/>
                <a:ext cx="1656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7094880" y="4120920"/>
                <a:ext cx="59040" cy="124560"/>
              </a:xfrm>
              <a:custGeom>
                <a:avLst/>
                <a:gdLst/>
                <a:ahLst/>
                <a:rect l="l" t="t" r="r" b="b"/>
                <a:pathLst>
                  <a:path w="50" h="95">
                    <a:moveTo>
                      <a:pt x="41" y="95"/>
                    </a:moveTo>
                    <a:lnTo>
                      <a:pt x="41" y="95"/>
                    </a:lnTo>
                    <a:lnTo>
                      <a:pt x="0" y="49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41" y="9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 flipH="1" flipV="1">
                <a:off x="7094520" y="4185360"/>
                <a:ext cx="48600" cy="60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V="1">
                <a:off x="7094880" y="4120920"/>
                <a:ext cx="4248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7137720" y="4120920"/>
                <a:ext cx="16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7137720" y="4102560"/>
                <a:ext cx="16560" cy="183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 flipH="1">
                <a:off x="7137720" y="4120920"/>
                <a:ext cx="16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V="1">
                <a:off x="7137720" y="4102200"/>
                <a:ext cx="1656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143480" y="4120920"/>
                <a:ext cx="59040" cy="124560"/>
              </a:xfrm>
              <a:custGeom>
                <a:avLst/>
                <a:gdLst/>
                <a:ahLst/>
                <a:rect l="l" t="t" r="r" b="b"/>
                <a:pathLst>
                  <a:path w="50" h="95">
                    <a:moveTo>
                      <a:pt x="0" y="95"/>
                    </a:moveTo>
                    <a:lnTo>
                      <a:pt x="0" y="95"/>
                    </a:lnTo>
                    <a:lnTo>
                      <a:pt x="50" y="4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V="1">
                <a:off x="7143480" y="4172760"/>
                <a:ext cx="59040" cy="72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H="1" flipV="1">
                <a:off x="7164720" y="4120560"/>
                <a:ext cx="37800" cy="52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 flipH="1">
                <a:off x="7153920" y="412092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154280" y="4102560"/>
                <a:ext cx="10440" cy="183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4"/>
                    </a:moveTo>
                    <a:lnTo>
                      <a:pt x="9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154280" y="412092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 flipH="1" flipV="1">
                <a:off x="7153920" y="4102200"/>
                <a:ext cx="1044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035840" y="4185360"/>
                <a:ext cx="107640" cy="107640"/>
              </a:xfrm>
              <a:custGeom>
                <a:avLst/>
                <a:gdLst/>
                <a:ahLst/>
                <a:rect l="l" t="t" r="r" b="b"/>
                <a:pathLst>
                  <a:path w="91" h="82">
                    <a:moveTo>
                      <a:pt x="50" y="0"/>
                    </a:moveTo>
                    <a:lnTo>
                      <a:pt x="0" y="41"/>
                    </a:lnTo>
                    <a:lnTo>
                      <a:pt x="41" y="82"/>
                    </a:lnTo>
                    <a:lnTo>
                      <a:pt x="91" y="4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977880" y="4239000"/>
                <a:ext cx="106560" cy="95760"/>
              </a:xfrm>
              <a:custGeom>
                <a:avLst/>
                <a:gdLst/>
                <a:ahLst/>
                <a:rect l="l" t="t" r="r" b="b"/>
                <a:pathLst>
                  <a:path w="90" h="73">
                    <a:moveTo>
                      <a:pt x="49" y="0"/>
                    </a:moveTo>
                    <a:lnTo>
                      <a:pt x="0" y="36"/>
                    </a:lnTo>
                    <a:lnTo>
                      <a:pt x="40" y="73"/>
                    </a:lnTo>
                    <a:lnTo>
                      <a:pt x="90" y="4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918480" y="4286520"/>
                <a:ext cx="106560" cy="83880"/>
              </a:xfrm>
              <a:custGeom>
                <a:avLst/>
                <a:gdLst/>
                <a:ahLst/>
                <a:rect l="l" t="t" r="r" b="b"/>
                <a:pathLst>
                  <a:path w="90" h="64">
                    <a:moveTo>
                      <a:pt x="50" y="0"/>
                    </a:moveTo>
                    <a:lnTo>
                      <a:pt x="0" y="32"/>
                    </a:lnTo>
                    <a:lnTo>
                      <a:pt x="40" y="64"/>
                    </a:lnTo>
                    <a:lnTo>
                      <a:pt x="90" y="37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853320" y="4328640"/>
                <a:ext cx="112320" cy="70560"/>
              </a:xfrm>
              <a:custGeom>
                <a:avLst/>
                <a:gdLst/>
                <a:ahLst/>
                <a:rect l="l" t="t" r="r" b="b"/>
                <a:pathLst>
                  <a:path w="95" h="54">
                    <a:moveTo>
                      <a:pt x="55" y="0"/>
                    </a:moveTo>
                    <a:lnTo>
                      <a:pt x="0" y="27"/>
                    </a:lnTo>
                    <a:lnTo>
                      <a:pt x="41" y="54"/>
                    </a:lnTo>
                    <a:lnTo>
                      <a:pt x="95" y="32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7733520" y="4173120"/>
                <a:ext cx="97200" cy="248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41" y="0"/>
                    </a:moveTo>
                    <a:lnTo>
                      <a:pt x="0" y="9"/>
                    </a:lnTo>
                    <a:lnTo>
                      <a:pt x="41" y="19"/>
                    </a:lnTo>
                    <a:lnTo>
                      <a:pt x="82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680240" y="4185360"/>
                <a:ext cx="101520" cy="24840"/>
              </a:xfrm>
              <a:custGeom>
                <a:avLst/>
                <a:gdLst/>
                <a:ahLst/>
                <a:rect l="l" t="t" r="r" b="b"/>
                <a:pathLst>
                  <a:path w="86" h="19">
                    <a:moveTo>
                      <a:pt x="45" y="0"/>
                    </a:moveTo>
                    <a:lnTo>
                      <a:pt x="0" y="5"/>
                    </a:lnTo>
                    <a:lnTo>
                      <a:pt x="45" y="19"/>
                    </a:lnTo>
                    <a:lnTo>
                      <a:pt x="86" y="1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631640" y="4168080"/>
                <a:ext cx="101520" cy="41760"/>
              </a:xfrm>
              <a:custGeom>
                <a:avLst/>
                <a:gdLst/>
                <a:ahLst/>
                <a:rect l="l" t="t" r="r" b="b"/>
                <a:pathLst>
                  <a:path w="86" h="32">
                    <a:moveTo>
                      <a:pt x="41" y="18"/>
                    </a:moveTo>
                    <a:lnTo>
                      <a:pt x="0" y="0"/>
                    </a:lnTo>
                    <a:lnTo>
                      <a:pt x="41" y="27"/>
                    </a:lnTo>
                    <a:lnTo>
                      <a:pt x="86" y="32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583040" y="4132800"/>
                <a:ext cx="97200" cy="70560"/>
              </a:xfrm>
              <a:custGeom>
                <a:avLst/>
                <a:gdLst/>
                <a:ahLst/>
                <a:rect l="l" t="t" r="r" b="b"/>
                <a:pathLst>
                  <a:path w="82" h="54">
                    <a:moveTo>
                      <a:pt x="41" y="27"/>
                    </a:moveTo>
                    <a:lnTo>
                      <a:pt x="0" y="0"/>
                    </a:lnTo>
                    <a:lnTo>
                      <a:pt x="41" y="40"/>
                    </a:lnTo>
                    <a:lnTo>
                      <a:pt x="82" y="54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540560" y="4048560"/>
                <a:ext cx="90720" cy="136440"/>
              </a:xfrm>
              <a:custGeom>
                <a:avLst/>
                <a:gdLst/>
                <a:ahLst/>
                <a:rect l="l" t="t" r="r" b="b"/>
                <a:pathLst>
                  <a:path w="77" h="104">
                    <a:moveTo>
                      <a:pt x="77" y="104"/>
                    </a:moveTo>
                    <a:lnTo>
                      <a:pt x="77" y="104"/>
                    </a:lnTo>
                    <a:lnTo>
                      <a:pt x="36" y="64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77" y="10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H="1" flipV="1">
                <a:off x="7582680" y="4132440"/>
                <a:ext cx="48600" cy="52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H="1" flipV="1">
                <a:off x="7540200" y="4048560"/>
                <a:ext cx="42120" cy="84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540560" y="404856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529760" y="4036680"/>
                <a:ext cx="16560" cy="180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H="1" flipV="1">
                <a:off x="7540560" y="404856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H="1" flipV="1">
                <a:off x="7529400" y="4036680"/>
                <a:ext cx="104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540560" y="4055040"/>
                <a:ext cx="90720" cy="129960"/>
              </a:xfrm>
              <a:custGeom>
                <a:avLst/>
                <a:gdLst/>
                <a:ahLst/>
                <a:rect l="l" t="t" r="r" b="b"/>
                <a:pathLst>
                  <a:path w="77" h="99">
                    <a:moveTo>
                      <a:pt x="77" y="99"/>
                    </a:moveTo>
                    <a:lnTo>
                      <a:pt x="77" y="99"/>
                    </a:lnTo>
                    <a:lnTo>
                      <a:pt x="32" y="5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77" y="9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H="1" flipV="1">
                <a:off x="7578000" y="4125960"/>
                <a:ext cx="5292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H="1" flipV="1">
                <a:off x="7540200" y="4054680"/>
                <a:ext cx="37800" cy="70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7540560" y="405504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529760" y="4036680"/>
                <a:ext cx="16560" cy="180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9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H="1">
                <a:off x="7540560" y="405504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H="1" flipV="1">
                <a:off x="7529400" y="4036680"/>
                <a:ext cx="1044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497720" y="4055040"/>
                <a:ext cx="80280" cy="70920"/>
              </a:xfrm>
              <a:custGeom>
                <a:avLst/>
                <a:gdLst/>
                <a:ahLst/>
                <a:rect l="l" t="t" r="r" b="b"/>
                <a:pathLst>
                  <a:path w="68" h="54">
                    <a:moveTo>
                      <a:pt x="68" y="54"/>
                    </a:moveTo>
                    <a:lnTo>
                      <a:pt x="68" y="54"/>
                    </a:lnTo>
                    <a:lnTo>
                      <a:pt x="0" y="9"/>
                    </a:lnTo>
                    <a:lnTo>
                      <a:pt x="36" y="0"/>
                    </a:lnTo>
                    <a:lnTo>
                      <a:pt x="68" y="5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V="1">
                <a:off x="7497720" y="4054680"/>
                <a:ext cx="424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540560" y="4055040"/>
                <a:ext cx="37800" cy="70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7476480" y="4036680"/>
                <a:ext cx="64080" cy="298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14"/>
                    </a:moveTo>
                    <a:lnTo>
                      <a:pt x="18" y="23"/>
                    </a:lnTo>
                    <a:lnTo>
                      <a:pt x="0" y="14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4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 flipH="1">
                <a:off x="7497720" y="4055040"/>
                <a:ext cx="424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 flipV="1">
                <a:off x="7476480" y="4036680"/>
                <a:ext cx="5328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529760" y="4036680"/>
                <a:ext cx="1044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486920" y="4066920"/>
                <a:ext cx="91080" cy="89280"/>
              </a:xfrm>
              <a:custGeom>
                <a:avLst/>
                <a:gdLst/>
                <a:ahLst/>
                <a:rect l="l" t="t" r="r" b="b"/>
                <a:pathLst>
                  <a:path w="77" h="68">
                    <a:moveTo>
                      <a:pt x="36" y="68"/>
                    </a:moveTo>
                    <a:lnTo>
                      <a:pt x="36" y="68"/>
                    </a:lnTo>
                    <a:lnTo>
                      <a:pt x="77" y="4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36" y="6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flipV="1">
                <a:off x="7529760" y="4125960"/>
                <a:ext cx="4860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 flipH="1">
                <a:off x="7486560" y="4066920"/>
                <a:ext cx="1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486920" y="4066920"/>
                <a:ext cx="42480" cy="89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476480" y="4055040"/>
                <a:ext cx="21240" cy="118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9" y="9"/>
                    </a:moveTo>
                    <a:lnTo>
                      <a:pt x="1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7486920" y="4066920"/>
                <a:ext cx="1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476480" y="405504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7465680" y="4066920"/>
                <a:ext cx="63720" cy="8928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54" y="68"/>
                    </a:moveTo>
                    <a:lnTo>
                      <a:pt x="54" y="68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54" y="6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 flipH="1" flipV="1">
                <a:off x="7486920" y="4066920"/>
                <a:ext cx="42480" cy="89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 flipH="1">
                <a:off x="7465680" y="4066920"/>
                <a:ext cx="208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7422120" y="4031640"/>
                <a:ext cx="64800" cy="4716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37" y="36"/>
                    </a:moveTo>
                    <a:lnTo>
                      <a:pt x="55" y="27"/>
                    </a:lnTo>
                    <a:lnTo>
                      <a:pt x="46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 flipV="1">
                <a:off x="7465680" y="4066560"/>
                <a:ext cx="208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 flipH="1" flipV="1">
                <a:off x="7476120" y="405468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 flipH="1" flipV="1">
                <a:off x="7422120" y="4031280"/>
                <a:ext cx="5400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449120" y="4078800"/>
                <a:ext cx="80280" cy="77400"/>
              </a:xfrm>
              <a:custGeom>
                <a:avLst/>
                <a:gdLst/>
                <a:ahLst/>
                <a:rect l="l" t="t" r="r" b="b"/>
                <a:pathLst>
                  <a:path w="68" h="59">
                    <a:moveTo>
                      <a:pt x="68" y="59"/>
                    </a:moveTo>
                    <a:lnTo>
                      <a:pt x="68" y="59"/>
                    </a:lnTo>
                    <a:lnTo>
                      <a:pt x="23" y="50"/>
                    </a:lnTo>
                    <a:lnTo>
                      <a:pt x="0" y="5"/>
                    </a:lnTo>
                    <a:lnTo>
                      <a:pt x="14" y="0"/>
                    </a:lnTo>
                    <a:lnTo>
                      <a:pt x="68" y="5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 flipH="1" flipV="1">
                <a:off x="7476480" y="4143960"/>
                <a:ext cx="532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flipH="1" flipV="1">
                <a:off x="7448760" y="4084920"/>
                <a:ext cx="2700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 flipV="1">
                <a:off x="7449120" y="407880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422120" y="4031640"/>
                <a:ext cx="43560" cy="53640"/>
              </a:xfrm>
              <a:custGeom>
                <a:avLst/>
                <a:gdLst/>
                <a:ahLst/>
                <a:rect l="l" t="t" r="r" b="b"/>
                <a:pathLst>
                  <a:path w="37" h="41">
                    <a:moveTo>
                      <a:pt x="37" y="36"/>
                    </a:moveTo>
                    <a:lnTo>
                      <a:pt x="23" y="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 flipH="1">
                <a:off x="7449120" y="407880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 flipH="1" flipV="1">
                <a:off x="7421760" y="4031280"/>
                <a:ext cx="2700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422120" y="4085280"/>
                <a:ext cx="54000" cy="586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45"/>
                    </a:moveTo>
                    <a:lnTo>
                      <a:pt x="46" y="45"/>
                    </a:lnTo>
                    <a:lnTo>
                      <a:pt x="23" y="0"/>
                    </a:lnTo>
                    <a:lnTo>
                      <a:pt x="0" y="4"/>
                    </a:lnTo>
                    <a:lnTo>
                      <a:pt x="46" y="4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 flipH="1" flipV="1">
                <a:off x="7448760" y="4084920"/>
                <a:ext cx="2700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 flipH="1">
                <a:off x="7421760" y="4085280"/>
                <a:ext cx="270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368480" y="4031640"/>
                <a:ext cx="80280" cy="59040"/>
              </a:xfrm>
              <a:custGeom>
                <a:avLst/>
                <a:gdLst/>
                <a:ahLst/>
                <a:rect l="l" t="t" r="r" b="b"/>
                <a:pathLst>
                  <a:path w="68" h="45">
                    <a:moveTo>
                      <a:pt x="45" y="45"/>
                    </a:moveTo>
                    <a:lnTo>
                      <a:pt x="68" y="41"/>
                    </a:lnTo>
                    <a:lnTo>
                      <a:pt x="4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5" y="4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 flipV="1">
                <a:off x="7422120" y="4085280"/>
                <a:ext cx="270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 flipH="1" flipV="1">
                <a:off x="7421760" y="4031280"/>
                <a:ext cx="2700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 flipH="1">
                <a:off x="7368480" y="4031640"/>
                <a:ext cx="532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395840" y="4090680"/>
                <a:ext cx="80280" cy="77400"/>
              </a:xfrm>
              <a:custGeom>
                <a:avLst/>
                <a:gdLst/>
                <a:ahLst/>
                <a:rect l="l" t="t" r="r" b="b"/>
                <a:pathLst>
                  <a:path w="68" h="59">
                    <a:moveTo>
                      <a:pt x="18" y="59"/>
                    </a:moveTo>
                    <a:lnTo>
                      <a:pt x="18" y="59"/>
                    </a:lnTo>
                    <a:lnTo>
                      <a:pt x="68" y="41"/>
                    </a:lnTo>
                    <a:lnTo>
                      <a:pt x="22" y="0"/>
                    </a:lnTo>
                    <a:lnTo>
                      <a:pt x="0" y="9"/>
                    </a:lnTo>
                    <a:lnTo>
                      <a:pt x="18" y="5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 flipV="1">
                <a:off x="7417080" y="4144320"/>
                <a:ext cx="5904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 flipH="1">
                <a:off x="7395840" y="4090680"/>
                <a:ext cx="259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395840" y="4102560"/>
                <a:ext cx="208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368480" y="4036680"/>
                <a:ext cx="53280" cy="655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23" y="50"/>
                    </a:moveTo>
                    <a:lnTo>
                      <a:pt x="45" y="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" y="5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 flipV="1">
                <a:off x="7395840" y="4090680"/>
                <a:ext cx="259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368480" y="4036680"/>
                <a:ext cx="273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368480" y="4102560"/>
                <a:ext cx="48600" cy="65520"/>
              </a:xfrm>
              <a:custGeom>
                <a:avLst/>
                <a:gdLst/>
                <a:ahLst/>
                <a:rect l="l" t="t" r="r" b="b"/>
                <a:pathLst>
                  <a:path w="41" h="50">
                    <a:moveTo>
                      <a:pt x="41" y="50"/>
                    </a:moveTo>
                    <a:lnTo>
                      <a:pt x="41" y="50"/>
                    </a:lnTo>
                    <a:lnTo>
                      <a:pt x="23" y="0"/>
                    </a:lnTo>
                    <a:lnTo>
                      <a:pt x="0" y="5"/>
                    </a:lnTo>
                    <a:lnTo>
                      <a:pt x="41" y="5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 flipH="1" flipV="1">
                <a:off x="7395840" y="4102560"/>
                <a:ext cx="208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 flipH="1">
                <a:off x="7368480" y="4102560"/>
                <a:ext cx="273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315560" y="4036680"/>
                <a:ext cx="80280" cy="72000"/>
              </a:xfrm>
              <a:custGeom>
                <a:avLst/>
                <a:gdLst/>
                <a:ahLst/>
                <a:rect l="l" t="t" r="r" b="b"/>
                <a:pathLst>
                  <a:path w="68" h="55">
                    <a:moveTo>
                      <a:pt x="45" y="55"/>
                    </a:moveTo>
                    <a:lnTo>
                      <a:pt x="68" y="50"/>
                    </a:lnTo>
                    <a:lnTo>
                      <a:pt x="4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5" y="5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 flipV="1">
                <a:off x="7368480" y="4102560"/>
                <a:ext cx="273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 flipH="1" flipV="1">
                <a:off x="7368480" y="4036680"/>
                <a:ext cx="273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 flipH="1">
                <a:off x="7315200" y="4036680"/>
                <a:ext cx="529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7341480" y="410904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64" h="49">
                    <a:moveTo>
                      <a:pt x="64" y="45"/>
                    </a:moveTo>
                    <a:lnTo>
                      <a:pt x="64" y="45"/>
                    </a:lnTo>
                    <a:lnTo>
                      <a:pt x="19" y="49"/>
                    </a:lnTo>
                    <a:lnTo>
                      <a:pt x="0" y="4"/>
                    </a:lnTo>
                    <a:lnTo>
                      <a:pt x="23" y="0"/>
                    </a:lnTo>
                    <a:lnTo>
                      <a:pt x="64" y="4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 flipH="1">
                <a:off x="7363800" y="4168080"/>
                <a:ext cx="529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 flipH="1" flipV="1">
                <a:off x="7341480" y="4114080"/>
                <a:ext cx="2232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 flipV="1">
                <a:off x="7341480" y="4109040"/>
                <a:ext cx="270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7315560" y="4048560"/>
                <a:ext cx="52920" cy="655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45" y="46"/>
                    </a:moveTo>
                    <a:lnTo>
                      <a:pt x="22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5" y="4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 flipH="1">
                <a:off x="7341120" y="4109040"/>
                <a:ext cx="270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H="1" flipV="1">
                <a:off x="7315560" y="4048560"/>
                <a:ext cx="2592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7277400" y="4126320"/>
                <a:ext cx="31680" cy="4176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32"/>
                    </a:moveTo>
                    <a:lnTo>
                      <a:pt x="27" y="32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3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 flipH="1" flipV="1">
                <a:off x="7277400" y="4126320"/>
                <a:ext cx="3168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7277400" y="4126320"/>
                <a:ext cx="31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7256160" y="4048560"/>
                <a:ext cx="59040" cy="77760"/>
              </a:xfrm>
              <a:custGeom>
                <a:avLst/>
                <a:gdLst/>
                <a:ahLst/>
                <a:rect l="l" t="t" r="r" b="b"/>
                <a:pathLst>
                  <a:path w="50" h="59">
                    <a:moveTo>
                      <a:pt x="45" y="59"/>
                    </a:moveTo>
                    <a:lnTo>
                      <a:pt x="18" y="59"/>
                    </a:lnTo>
                    <a:lnTo>
                      <a:pt x="0" y="37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5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 flipH="1">
                <a:off x="7277400" y="4126320"/>
                <a:ext cx="31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H="1" flipV="1">
                <a:off x="7255800" y="4097160"/>
                <a:ext cx="2124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 flipV="1">
                <a:off x="7256160" y="4048200"/>
                <a:ext cx="59040" cy="48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7309440" y="4114440"/>
                <a:ext cx="54360" cy="586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45"/>
                    </a:moveTo>
                    <a:lnTo>
                      <a:pt x="46" y="45"/>
                    </a:lnTo>
                    <a:lnTo>
                      <a:pt x="0" y="41"/>
                    </a:lnTo>
                    <a:lnTo>
                      <a:pt x="0" y="9"/>
                    </a:lnTo>
                    <a:lnTo>
                      <a:pt x="27" y="0"/>
                    </a:lnTo>
                    <a:lnTo>
                      <a:pt x="46" y="4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H="1" flipV="1">
                <a:off x="7309080" y="4168080"/>
                <a:ext cx="543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 flipV="1">
                <a:off x="7309440" y="411408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7341480" y="4114440"/>
                <a:ext cx="2232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7309440" y="4048560"/>
                <a:ext cx="31680" cy="77760"/>
              </a:xfrm>
              <a:custGeom>
                <a:avLst/>
                <a:gdLst/>
                <a:ahLst/>
                <a:rect l="l" t="t" r="r" b="b"/>
                <a:pathLst>
                  <a:path w="27" h="59">
                    <a:moveTo>
                      <a:pt x="27" y="50"/>
                    </a:moveTo>
                    <a:lnTo>
                      <a:pt x="0" y="5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7" y="5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3" name=""/>
            <p:cNvSpPr/>
            <p:nvPr/>
          </p:nvSpPr>
          <p:spPr>
            <a:xfrm flipH="1">
              <a:off x="7309440" y="4114800"/>
              <a:ext cx="31680" cy="11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315560" y="4048920"/>
              <a:ext cx="25920" cy="6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202880" y="4126680"/>
              <a:ext cx="52920" cy="11268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40" y="86"/>
                  </a:moveTo>
                  <a:lnTo>
                    <a:pt x="40" y="86"/>
                  </a:lnTo>
                  <a:lnTo>
                    <a:pt x="0" y="36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40" y="8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 flipH="1" flipV="1">
              <a:off x="7202520" y="4173480"/>
              <a:ext cx="47160" cy="6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V="1">
              <a:off x="7202880" y="4126680"/>
              <a:ext cx="36360" cy="4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239600" y="4126680"/>
              <a:ext cx="1656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239600" y="4097520"/>
              <a:ext cx="16560" cy="288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22"/>
                  </a:moveTo>
                  <a:lnTo>
                    <a:pt x="0" y="2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7239600" y="4126680"/>
              <a:ext cx="1656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 flipV="1">
              <a:off x="7239600" y="4097520"/>
              <a:ext cx="16560" cy="28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250040" y="4126680"/>
              <a:ext cx="59040" cy="11268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0" y="86"/>
                  </a:moveTo>
                  <a:lnTo>
                    <a:pt x="0" y="86"/>
                  </a:lnTo>
                  <a:lnTo>
                    <a:pt x="50" y="32"/>
                  </a:lnTo>
                  <a:lnTo>
                    <a:pt x="23" y="0"/>
                  </a:lnTo>
                  <a:lnTo>
                    <a:pt x="5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V="1">
              <a:off x="7250040" y="4168440"/>
              <a:ext cx="59040" cy="70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H="1" flipV="1">
              <a:off x="7277760" y="4126680"/>
              <a:ext cx="31680" cy="41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H="1">
              <a:off x="7255800" y="4126680"/>
              <a:ext cx="212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256160" y="4097520"/>
              <a:ext cx="21240" cy="288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0" y="22"/>
                  </a:moveTo>
                  <a:lnTo>
                    <a:pt x="18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256160" y="4126680"/>
              <a:ext cx="212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 flipH="1" flipV="1">
              <a:off x="7255800" y="4097520"/>
              <a:ext cx="21240" cy="28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143480" y="4173480"/>
              <a:ext cx="106560" cy="124560"/>
            </a:xfrm>
            <a:custGeom>
              <a:avLst/>
              <a:gdLst/>
              <a:ahLst/>
              <a:rect l="l" t="t" r="r" b="b"/>
              <a:pathLst>
                <a:path w="90" h="95">
                  <a:moveTo>
                    <a:pt x="50" y="0"/>
                  </a:moveTo>
                  <a:lnTo>
                    <a:pt x="0" y="55"/>
                  </a:lnTo>
                  <a:lnTo>
                    <a:pt x="41" y="95"/>
                  </a:lnTo>
                  <a:lnTo>
                    <a:pt x="9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084440" y="4246200"/>
              <a:ext cx="107640" cy="9432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50" y="0"/>
                  </a:moveTo>
                  <a:lnTo>
                    <a:pt x="0" y="36"/>
                  </a:lnTo>
                  <a:lnTo>
                    <a:pt x="41" y="72"/>
                  </a:lnTo>
                  <a:lnTo>
                    <a:pt x="91" y="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025040" y="4293360"/>
              <a:ext cx="107640" cy="82440"/>
            </a:xfrm>
            <a:custGeom>
              <a:avLst/>
              <a:gdLst/>
              <a:ahLst/>
              <a:rect l="l" t="t" r="r" b="b"/>
              <a:pathLst>
                <a:path w="91" h="63">
                  <a:moveTo>
                    <a:pt x="50" y="0"/>
                  </a:moveTo>
                  <a:lnTo>
                    <a:pt x="0" y="32"/>
                  </a:lnTo>
                  <a:lnTo>
                    <a:pt x="41" y="63"/>
                  </a:lnTo>
                  <a:lnTo>
                    <a:pt x="91" y="36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6966000" y="4335480"/>
              <a:ext cx="107640" cy="64080"/>
            </a:xfrm>
            <a:custGeom>
              <a:avLst/>
              <a:gdLst/>
              <a:ahLst/>
              <a:rect l="l" t="t" r="r" b="b"/>
              <a:pathLst>
                <a:path w="91" h="49">
                  <a:moveTo>
                    <a:pt x="50" y="0"/>
                  </a:moveTo>
                  <a:lnTo>
                    <a:pt x="0" y="27"/>
                  </a:lnTo>
                  <a:lnTo>
                    <a:pt x="41" y="49"/>
                  </a:lnTo>
                  <a:lnTo>
                    <a:pt x="91" y="3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6901920" y="4370760"/>
              <a:ext cx="112320" cy="5364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54" y="0"/>
                  </a:moveTo>
                  <a:lnTo>
                    <a:pt x="0" y="22"/>
                  </a:lnTo>
                  <a:lnTo>
                    <a:pt x="41" y="41"/>
                  </a:lnTo>
                  <a:lnTo>
                    <a:pt x="95" y="2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782120" y="4185720"/>
              <a:ext cx="95760" cy="2988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41" y="0"/>
                  </a:moveTo>
                  <a:lnTo>
                    <a:pt x="0" y="10"/>
                  </a:lnTo>
                  <a:lnTo>
                    <a:pt x="41" y="23"/>
                  </a:lnTo>
                  <a:lnTo>
                    <a:pt x="81" y="1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733520" y="4198680"/>
              <a:ext cx="97200" cy="28800"/>
            </a:xfrm>
            <a:custGeom>
              <a:avLst/>
              <a:gdLst/>
              <a:ahLst/>
              <a:rect l="l" t="t" r="r" b="b"/>
              <a:pathLst>
                <a:path w="82" h="22">
                  <a:moveTo>
                    <a:pt x="41" y="0"/>
                  </a:moveTo>
                  <a:lnTo>
                    <a:pt x="0" y="9"/>
                  </a:lnTo>
                  <a:lnTo>
                    <a:pt x="41" y="22"/>
                  </a:lnTo>
                  <a:lnTo>
                    <a:pt x="82" y="1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7680240" y="4204080"/>
              <a:ext cx="101520" cy="23400"/>
            </a:xfrm>
            <a:custGeom>
              <a:avLst/>
              <a:gdLst/>
              <a:ahLst/>
              <a:rect l="l" t="t" r="r" b="b"/>
              <a:pathLst>
                <a:path w="86" h="18">
                  <a:moveTo>
                    <a:pt x="45" y="5"/>
                  </a:moveTo>
                  <a:lnTo>
                    <a:pt x="0" y="0"/>
                  </a:lnTo>
                  <a:lnTo>
                    <a:pt x="45" y="18"/>
                  </a:lnTo>
                  <a:lnTo>
                    <a:pt x="86" y="18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7631640" y="4185720"/>
              <a:ext cx="101520" cy="41760"/>
            </a:xfrm>
            <a:custGeom>
              <a:avLst/>
              <a:gdLst/>
              <a:ahLst/>
              <a:rect l="l" t="t" r="r" b="b"/>
              <a:pathLst>
                <a:path w="86" h="32">
                  <a:moveTo>
                    <a:pt x="41" y="14"/>
                  </a:moveTo>
                  <a:lnTo>
                    <a:pt x="0" y="0"/>
                  </a:lnTo>
                  <a:lnTo>
                    <a:pt x="41" y="10"/>
                  </a:lnTo>
                  <a:lnTo>
                    <a:pt x="86" y="32"/>
                  </a:lnTo>
                  <a:lnTo>
                    <a:pt x="41" y="14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578360" y="4126680"/>
              <a:ext cx="101520" cy="72000"/>
            </a:xfrm>
            <a:custGeom>
              <a:avLst/>
              <a:gdLst/>
              <a:ahLst/>
              <a:rect l="l" t="t" r="r" b="b"/>
              <a:pathLst>
                <a:path w="86" h="55">
                  <a:moveTo>
                    <a:pt x="45" y="45"/>
                  </a:moveTo>
                  <a:lnTo>
                    <a:pt x="0" y="0"/>
                  </a:lnTo>
                  <a:lnTo>
                    <a:pt x="45" y="55"/>
                  </a:lnTo>
                  <a:lnTo>
                    <a:pt x="86" y="55"/>
                  </a:lnTo>
                  <a:lnTo>
                    <a:pt x="45" y="45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7529760" y="4126680"/>
              <a:ext cx="101520" cy="8892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41" y="0"/>
                  </a:moveTo>
                  <a:lnTo>
                    <a:pt x="0" y="23"/>
                  </a:lnTo>
                  <a:lnTo>
                    <a:pt x="41" y="68"/>
                  </a:lnTo>
                  <a:lnTo>
                    <a:pt x="86" y="5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7476480" y="4144680"/>
              <a:ext cx="101880" cy="77400"/>
            </a:xfrm>
            <a:custGeom>
              <a:avLst/>
              <a:gdLst/>
              <a:ahLst/>
              <a:rect l="l" t="t" r="r" b="b"/>
              <a:pathLst>
                <a:path w="86" h="59">
                  <a:moveTo>
                    <a:pt x="45" y="9"/>
                  </a:moveTo>
                  <a:lnTo>
                    <a:pt x="0" y="0"/>
                  </a:lnTo>
                  <a:lnTo>
                    <a:pt x="40" y="59"/>
                  </a:lnTo>
                  <a:lnTo>
                    <a:pt x="86" y="54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417440" y="4144680"/>
              <a:ext cx="106560" cy="101160"/>
            </a:xfrm>
            <a:custGeom>
              <a:avLst/>
              <a:gdLst/>
              <a:ahLst/>
              <a:rect l="l" t="t" r="r" b="b"/>
              <a:pathLst>
                <a:path w="90" h="77">
                  <a:moveTo>
                    <a:pt x="50" y="0"/>
                  </a:moveTo>
                  <a:lnTo>
                    <a:pt x="0" y="18"/>
                  </a:lnTo>
                  <a:lnTo>
                    <a:pt x="45" y="77"/>
                  </a:lnTo>
                  <a:lnTo>
                    <a:pt x="90" y="59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364160" y="4168440"/>
              <a:ext cx="106200" cy="9432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45" y="0"/>
                  </a:moveTo>
                  <a:lnTo>
                    <a:pt x="0" y="4"/>
                  </a:lnTo>
                  <a:lnTo>
                    <a:pt x="40" y="72"/>
                  </a:lnTo>
                  <a:lnTo>
                    <a:pt x="90" y="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309440" y="4168440"/>
              <a:ext cx="101520" cy="1008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46" y="4"/>
                  </a:moveTo>
                  <a:lnTo>
                    <a:pt x="0" y="0"/>
                  </a:lnTo>
                  <a:lnTo>
                    <a:pt x="41" y="77"/>
                  </a:lnTo>
                  <a:lnTo>
                    <a:pt x="86" y="72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250040" y="4168440"/>
              <a:ext cx="107640" cy="14292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50" y="0"/>
                  </a:moveTo>
                  <a:lnTo>
                    <a:pt x="0" y="54"/>
                  </a:lnTo>
                  <a:lnTo>
                    <a:pt x="41" y="109"/>
                  </a:lnTo>
                  <a:lnTo>
                    <a:pt x="91" y="77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192080" y="4239360"/>
              <a:ext cx="106560" cy="100800"/>
            </a:xfrm>
            <a:custGeom>
              <a:avLst/>
              <a:gdLst/>
              <a:ahLst/>
              <a:rect l="l" t="t" r="r" b="b"/>
              <a:pathLst>
                <a:path w="90" h="77">
                  <a:moveTo>
                    <a:pt x="49" y="0"/>
                  </a:moveTo>
                  <a:lnTo>
                    <a:pt x="0" y="45"/>
                  </a:lnTo>
                  <a:lnTo>
                    <a:pt x="40" y="77"/>
                  </a:lnTo>
                  <a:lnTo>
                    <a:pt x="90" y="55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7133040" y="4298400"/>
              <a:ext cx="106200" cy="77400"/>
            </a:xfrm>
            <a:custGeom>
              <a:avLst/>
              <a:gdLst/>
              <a:ahLst/>
              <a:rect l="l" t="t" r="r" b="b"/>
              <a:pathLst>
                <a:path w="90" h="59">
                  <a:moveTo>
                    <a:pt x="50" y="0"/>
                  </a:moveTo>
                  <a:lnTo>
                    <a:pt x="0" y="32"/>
                  </a:lnTo>
                  <a:lnTo>
                    <a:pt x="41" y="59"/>
                  </a:lnTo>
                  <a:lnTo>
                    <a:pt x="90" y="3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073640" y="4340520"/>
              <a:ext cx="107640" cy="5904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50" y="0"/>
                  </a:moveTo>
                  <a:lnTo>
                    <a:pt x="0" y="27"/>
                  </a:lnTo>
                  <a:lnTo>
                    <a:pt x="41" y="45"/>
                  </a:lnTo>
                  <a:lnTo>
                    <a:pt x="91" y="27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7014600" y="4375800"/>
              <a:ext cx="107640" cy="4860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50" y="0"/>
                  </a:moveTo>
                  <a:lnTo>
                    <a:pt x="0" y="18"/>
                  </a:lnTo>
                  <a:lnTo>
                    <a:pt x="41" y="37"/>
                  </a:lnTo>
                  <a:lnTo>
                    <a:pt x="91" y="1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6950520" y="4399920"/>
              <a:ext cx="111960" cy="48240"/>
            </a:xfrm>
            <a:custGeom>
              <a:avLst/>
              <a:gdLst/>
              <a:ahLst/>
              <a:rect l="l" t="t" r="r" b="b"/>
              <a:pathLst>
                <a:path w="95" h="37">
                  <a:moveTo>
                    <a:pt x="54" y="0"/>
                  </a:moveTo>
                  <a:lnTo>
                    <a:pt x="0" y="19"/>
                  </a:lnTo>
                  <a:lnTo>
                    <a:pt x="41" y="37"/>
                  </a:lnTo>
                  <a:lnTo>
                    <a:pt x="95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830720" y="4204080"/>
              <a:ext cx="101520" cy="29880"/>
            </a:xfrm>
            <a:custGeom>
              <a:avLst/>
              <a:gdLst/>
              <a:ahLst/>
              <a:rect l="l" t="t" r="r" b="b"/>
              <a:pathLst>
                <a:path w="86" h="23">
                  <a:moveTo>
                    <a:pt x="40" y="0"/>
                  </a:moveTo>
                  <a:lnTo>
                    <a:pt x="0" y="9"/>
                  </a:lnTo>
                  <a:lnTo>
                    <a:pt x="45" y="23"/>
                  </a:lnTo>
                  <a:lnTo>
                    <a:pt x="86" y="1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782120" y="4215600"/>
              <a:ext cx="101520" cy="30240"/>
            </a:xfrm>
            <a:custGeom>
              <a:avLst/>
              <a:gdLst/>
              <a:ahLst/>
              <a:rect l="l" t="t" r="r" b="b"/>
              <a:pathLst>
                <a:path w="86" h="23">
                  <a:moveTo>
                    <a:pt x="41" y="0"/>
                  </a:moveTo>
                  <a:lnTo>
                    <a:pt x="0" y="9"/>
                  </a:lnTo>
                  <a:lnTo>
                    <a:pt x="45" y="23"/>
                  </a:lnTo>
                  <a:lnTo>
                    <a:pt x="86" y="1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733520" y="4227480"/>
              <a:ext cx="101880" cy="30240"/>
            </a:xfrm>
            <a:custGeom>
              <a:avLst/>
              <a:gdLst/>
              <a:ahLst/>
              <a:rect l="l" t="t" r="r" b="b"/>
              <a:pathLst>
                <a:path w="86" h="23">
                  <a:moveTo>
                    <a:pt x="41" y="0"/>
                  </a:moveTo>
                  <a:lnTo>
                    <a:pt x="0" y="0"/>
                  </a:lnTo>
                  <a:lnTo>
                    <a:pt x="41" y="23"/>
                  </a:lnTo>
                  <a:lnTo>
                    <a:pt x="86" y="1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680240" y="4198680"/>
              <a:ext cx="101520" cy="5904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45" y="22"/>
                  </a:moveTo>
                  <a:lnTo>
                    <a:pt x="0" y="0"/>
                  </a:lnTo>
                  <a:lnTo>
                    <a:pt x="45" y="45"/>
                  </a:lnTo>
                  <a:lnTo>
                    <a:pt x="86" y="45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7631640" y="4198680"/>
              <a:ext cx="101520" cy="6408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41" y="0"/>
                  </a:moveTo>
                  <a:lnTo>
                    <a:pt x="0" y="0"/>
                  </a:lnTo>
                  <a:lnTo>
                    <a:pt x="41" y="49"/>
                  </a:lnTo>
                  <a:lnTo>
                    <a:pt x="86" y="4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7578360" y="4198680"/>
              <a:ext cx="101520" cy="7596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45" y="0"/>
                  </a:moveTo>
                  <a:lnTo>
                    <a:pt x="0" y="13"/>
                  </a:lnTo>
                  <a:lnTo>
                    <a:pt x="40" y="58"/>
                  </a:lnTo>
                  <a:lnTo>
                    <a:pt x="86" y="4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524000" y="4215600"/>
              <a:ext cx="101520" cy="70920"/>
            </a:xfrm>
            <a:custGeom>
              <a:avLst/>
              <a:gdLst/>
              <a:ahLst/>
              <a:rect l="l" t="t" r="r" b="b"/>
              <a:pathLst>
                <a:path w="86" h="54">
                  <a:moveTo>
                    <a:pt x="46" y="0"/>
                  </a:moveTo>
                  <a:lnTo>
                    <a:pt x="0" y="5"/>
                  </a:lnTo>
                  <a:lnTo>
                    <a:pt x="41" y="54"/>
                  </a:lnTo>
                  <a:lnTo>
                    <a:pt x="86" y="4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470360" y="4222080"/>
              <a:ext cx="101880" cy="82800"/>
            </a:xfrm>
            <a:custGeom>
              <a:avLst/>
              <a:gdLst/>
              <a:ahLst/>
              <a:rect l="l" t="t" r="r" b="b"/>
              <a:pathLst>
                <a:path w="86" h="63">
                  <a:moveTo>
                    <a:pt x="45" y="0"/>
                  </a:moveTo>
                  <a:lnTo>
                    <a:pt x="0" y="18"/>
                  </a:lnTo>
                  <a:lnTo>
                    <a:pt x="41" y="63"/>
                  </a:lnTo>
                  <a:lnTo>
                    <a:pt x="86" y="4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411320" y="4246200"/>
              <a:ext cx="107640" cy="77400"/>
            </a:xfrm>
            <a:custGeom>
              <a:avLst/>
              <a:gdLst/>
              <a:ahLst/>
              <a:rect l="l" t="t" r="r" b="b"/>
              <a:pathLst>
                <a:path w="91" h="59">
                  <a:moveTo>
                    <a:pt x="50" y="0"/>
                  </a:moveTo>
                  <a:lnTo>
                    <a:pt x="0" y="13"/>
                  </a:lnTo>
                  <a:lnTo>
                    <a:pt x="46" y="59"/>
                  </a:lnTo>
                  <a:lnTo>
                    <a:pt x="91" y="45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358040" y="4263120"/>
              <a:ext cx="107640" cy="7236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45" y="0"/>
                  </a:moveTo>
                  <a:lnTo>
                    <a:pt x="0" y="5"/>
                  </a:lnTo>
                  <a:lnTo>
                    <a:pt x="41" y="55"/>
                  </a:lnTo>
                  <a:lnTo>
                    <a:pt x="91" y="4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298640" y="4269600"/>
              <a:ext cx="107640" cy="8928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50" y="0"/>
                  </a:moveTo>
                  <a:lnTo>
                    <a:pt x="0" y="32"/>
                  </a:lnTo>
                  <a:lnTo>
                    <a:pt x="46" y="68"/>
                  </a:lnTo>
                  <a:lnTo>
                    <a:pt x="91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7239600" y="4311720"/>
              <a:ext cx="113760" cy="70560"/>
            </a:xfrm>
            <a:custGeom>
              <a:avLst/>
              <a:gdLst/>
              <a:ahLst/>
              <a:rect l="l" t="t" r="r" b="b"/>
              <a:pathLst>
                <a:path w="96" h="54">
                  <a:moveTo>
                    <a:pt x="50" y="0"/>
                  </a:moveTo>
                  <a:lnTo>
                    <a:pt x="0" y="22"/>
                  </a:lnTo>
                  <a:lnTo>
                    <a:pt x="46" y="54"/>
                  </a:lnTo>
                  <a:lnTo>
                    <a:pt x="96" y="36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181280" y="4340520"/>
              <a:ext cx="112320" cy="6552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49" y="0"/>
                  </a:moveTo>
                  <a:lnTo>
                    <a:pt x="0" y="27"/>
                  </a:lnTo>
                  <a:lnTo>
                    <a:pt x="45" y="50"/>
                  </a:lnTo>
                  <a:lnTo>
                    <a:pt x="95" y="3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7122240" y="4375800"/>
              <a:ext cx="112320" cy="5364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50" y="0"/>
                  </a:moveTo>
                  <a:lnTo>
                    <a:pt x="0" y="18"/>
                  </a:lnTo>
                  <a:lnTo>
                    <a:pt x="45" y="41"/>
                  </a:lnTo>
                  <a:lnTo>
                    <a:pt x="95" y="2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062840" y="4399920"/>
              <a:ext cx="112320" cy="48240"/>
            </a:xfrm>
            <a:custGeom>
              <a:avLst/>
              <a:gdLst/>
              <a:ahLst/>
              <a:rect l="l" t="t" r="r" b="b"/>
              <a:pathLst>
                <a:path w="95" h="37">
                  <a:moveTo>
                    <a:pt x="50" y="0"/>
                  </a:moveTo>
                  <a:lnTo>
                    <a:pt x="0" y="19"/>
                  </a:lnTo>
                  <a:lnTo>
                    <a:pt x="41" y="37"/>
                  </a:lnTo>
                  <a:lnTo>
                    <a:pt x="95" y="2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6999120" y="4424760"/>
              <a:ext cx="112320" cy="4680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54" y="0"/>
                  </a:moveTo>
                  <a:lnTo>
                    <a:pt x="0" y="18"/>
                  </a:lnTo>
                  <a:lnTo>
                    <a:pt x="45" y="36"/>
                  </a:lnTo>
                  <a:lnTo>
                    <a:pt x="95" y="1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884000" y="4222080"/>
              <a:ext cx="101880" cy="29160"/>
            </a:xfrm>
            <a:custGeom>
              <a:avLst/>
              <a:gdLst/>
              <a:ahLst/>
              <a:rect l="l" t="t" r="r" b="b"/>
              <a:pathLst>
                <a:path w="86" h="22">
                  <a:moveTo>
                    <a:pt x="41" y="0"/>
                  </a:moveTo>
                  <a:lnTo>
                    <a:pt x="0" y="9"/>
                  </a:lnTo>
                  <a:lnTo>
                    <a:pt x="45" y="22"/>
                  </a:lnTo>
                  <a:lnTo>
                    <a:pt x="86" y="1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835400" y="4233960"/>
              <a:ext cx="101520" cy="28800"/>
            </a:xfrm>
            <a:custGeom>
              <a:avLst/>
              <a:gdLst/>
              <a:ahLst/>
              <a:rect l="l" t="t" r="r" b="b"/>
              <a:pathLst>
                <a:path w="86" h="22">
                  <a:moveTo>
                    <a:pt x="41" y="0"/>
                  </a:moveTo>
                  <a:lnTo>
                    <a:pt x="0" y="9"/>
                  </a:lnTo>
                  <a:lnTo>
                    <a:pt x="45" y="22"/>
                  </a:lnTo>
                  <a:lnTo>
                    <a:pt x="86" y="1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782120" y="4246200"/>
              <a:ext cx="106560" cy="28800"/>
            </a:xfrm>
            <a:custGeom>
              <a:avLst/>
              <a:gdLst/>
              <a:ahLst/>
              <a:rect l="l" t="t" r="r" b="b"/>
              <a:pathLst>
                <a:path w="90" h="22">
                  <a:moveTo>
                    <a:pt x="45" y="0"/>
                  </a:moveTo>
                  <a:lnTo>
                    <a:pt x="0" y="9"/>
                  </a:lnTo>
                  <a:lnTo>
                    <a:pt x="45" y="22"/>
                  </a:lnTo>
                  <a:lnTo>
                    <a:pt x="90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733520" y="4258080"/>
              <a:ext cx="101880" cy="28800"/>
            </a:xfrm>
            <a:custGeom>
              <a:avLst/>
              <a:gdLst/>
              <a:ahLst/>
              <a:rect l="l" t="t" r="r" b="b"/>
              <a:pathLst>
                <a:path w="86" h="22">
                  <a:moveTo>
                    <a:pt x="41" y="0"/>
                  </a:moveTo>
                  <a:lnTo>
                    <a:pt x="0" y="0"/>
                  </a:lnTo>
                  <a:lnTo>
                    <a:pt x="45" y="22"/>
                  </a:lnTo>
                  <a:lnTo>
                    <a:pt x="86" y="1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680240" y="4258080"/>
              <a:ext cx="106560" cy="40320"/>
            </a:xfrm>
            <a:custGeom>
              <a:avLst/>
              <a:gdLst/>
              <a:ahLst/>
              <a:rect l="l" t="t" r="r" b="b"/>
              <a:pathLst>
                <a:path w="90" h="31">
                  <a:moveTo>
                    <a:pt x="45" y="0"/>
                  </a:moveTo>
                  <a:lnTo>
                    <a:pt x="0" y="4"/>
                  </a:lnTo>
                  <a:lnTo>
                    <a:pt x="45" y="31"/>
                  </a:lnTo>
                  <a:lnTo>
                    <a:pt x="90" y="2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7625880" y="4263120"/>
              <a:ext cx="107640" cy="5364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46" y="0"/>
                  </a:moveTo>
                  <a:lnTo>
                    <a:pt x="0" y="9"/>
                  </a:lnTo>
                  <a:lnTo>
                    <a:pt x="46" y="41"/>
                  </a:lnTo>
                  <a:lnTo>
                    <a:pt x="91" y="2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7572600" y="4275000"/>
              <a:ext cx="107640" cy="5364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45" y="0"/>
                  </a:moveTo>
                  <a:lnTo>
                    <a:pt x="0" y="9"/>
                  </a:lnTo>
                  <a:lnTo>
                    <a:pt x="45" y="41"/>
                  </a:lnTo>
                  <a:lnTo>
                    <a:pt x="91" y="3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518960" y="4286880"/>
              <a:ext cx="106560" cy="6012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45" y="0"/>
                  </a:moveTo>
                  <a:lnTo>
                    <a:pt x="0" y="14"/>
                  </a:lnTo>
                  <a:lnTo>
                    <a:pt x="45" y="46"/>
                  </a:lnTo>
                  <a:lnTo>
                    <a:pt x="90" y="3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466040" y="4304880"/>
              <a:ext cx="106560" cy="59040"/>
            </a:xfrm>
            <a:custGeom>
              <a:avLst/>
              <a:gdLst/>
              <a:ahLst/>
              <a:rect l="l" t="t" r="r" b="b"/>
              <a:pathLst>
                <a:path w="90" h="45">
                  <a:moveTo>
                    <a:pt x="45" y="0"/>
                  </a:moveTo>
                  <a:lnTo>
                    <a:pt x="0" y="14"/>
                  </a:lnTo>
                  <a:lnTo>
                    <a:pt x="45" y="45"/>
                  </a:lnTo>
                  <a:lnTo>
                    <a:pt x="90" y="3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406640" y="4323600"/>
              <a:ext cx="112320" cy="5220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50" y="0"/>
                  </a:moveTo>
                  <a:lnTo>
                    <a:pt x="0" y="9"/>
                  </a:lnTo>
                  <a:lnTo>
                    <a:pt x="45" y="40"/>
                  </a:lnTo>
                  <a:lnTo>
                    <a:pt x="95" y="3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353360" y="4335480"/>
              <a:ext cx="106560" cy="58680"/>
            </a:xfrm>
            <a:custGeom>
              <a:avLst/>
              <a:gdLst/>
              <a:ahLst/>
              <a:rect l="l" t="t" r="r" b="b"/>
              <a:pathLst>
                <a:path w="90" h="45">
                  <a:moveTo>
                    <a:pt x="45" y="0"/>
                  </a:moveTo>
                  <a:lnTo>
                    <a:pt x="0" y="18"/>
                  </a:lnTo>
                  <a:lnTo>
                    <a:pt x="40" y="45"/>
                  </a:lnTo>
                  <a:lnTo>
                    <a:pt x="90" y="3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293960" y="4358880"/>
              <a:ext cx="106560" cy="5220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50" y="0"/>
                  </a:moveTo>
                  <a:lnTo>
                    <a:pt x="0" y="18"/>
                  </a:lnTo>
                  <a:lnTo>
                    <a:pt x="40" y="40"/>
                  </a:lnTo>
                  <a:lnTo>
                    <a:pt x="90" y="27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234920" y="4382640"/>
              <a:ext cx="106560" cy="5364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50" y="0"/>
                  </a:moveTo>
                  <a:lnTo>
                    <a:pt x="0" y="18"/>
                  </a:lnTo>
                  <a:lnTo>
                    <a:pt x="41" y="41"/>
                  </a:lnTo>
                  <a:lnTo>
                    <a:pt x="90" y="2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175520" y="4406400"/>
              <a:ext cx="107640" cy="4716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50" y="0"/>
                  </a:moveTo>
                  <a:lnTo>
                    <a:pt x="0" y="18"/>
                  </a:lnTo>
                  <a:lnTo>
                    <a:pt x="41" y="36"/>
                  </a:lnTo>
                  <a:lnTo>
                    <a:pt x="91" y="2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111440" y="4429800"/>
              <a:ext cx="112320" cy="41760"/>
            </a:xfrm>
            <a:custGeom>
              <a:avLst/>
              <a:gdLst/>
              <a:ahLst/>
              <a:rect l="l" t="t" r="r" b="b"/>
              <a:pathLst>
                <a:path w="95" h="32">
                  <a:moveTo>
                    <a:pt x="54" y="0"/>
                  </a:moveTo>
                  <a:lnTo>
                    <a:pt x="0" y="14"/>
                  </a:lnTo>
                  <a:lnTo>
                    <a:pt x="45" y="32"/>
                  </a:lnTo>
                  <a:lnTo>
                    <a:pt x="95" y="1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052400" y="4448160"/>
              <a:ext cx="112320" cy="4716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50" y="0"/>
                  </a:moveTo>
                  <a:lnTo>
                    <a:pt x="0" y="18"/>
                  </a:lnTo>
                  <a:lnTo>
                    <a:pt x="41" y="36"/>
                  </a:lnTo>
                  <a:lnTo>
                    <a:pt x="95" y="1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 flipV="1">
              <a:off x="8007120" y="2889720"/>
              <a:ext cx="31680" cy="133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8007120" y="42274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8013240" y="4043880"/>
              <a:ext cx="20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017920" y="385956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024040" y="3669120"/>
              <a:ext cx="20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8028360" y="3472200"/>
              <a:ext cx="21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8028360" y="3281760"/>
              <a:ext cx="2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8034480" y="3085920"/>
              <a:ext cx="21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039160" y="2890080"/>
              <a:ext cx="20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045280" y="4161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049960" y="3978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055720" y="3794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060400" y="36046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063640" y="34063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063640" y="3219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070120" y="30204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074800" y="28245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233200" y="3502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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295840" y="3506400"/>
              <a:ext cx="23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g/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466840" y="34837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363000" y="2515680"/>
              <a:ext cx="173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ncentraciones con Estánd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5684040" y="3252600"/>
              <a:ext cx="353880" cy="1099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722200" y="3312000"/>
              <a:ext cx="48240" cy="5328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796000" y="32832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30-3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722200" y="3466800"/>
              <a:ext cx="48240" cy="5220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796000" y="34365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25-3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722200" y="3620520"/>
              <a:ext cx="48240" cy="5364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5796000" y="35917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20-2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5722200" y="3775680"/>
              <a:ext cx="48240" cy="5364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5796000" y="3746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15-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5722200" y="3935880"/>
              <a:ext cx="48240" cy="5364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5796000" y="390708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10-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5722200" y="4091040"/>
              <a:ext cx="48240" cy="5328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796720" y="40608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5-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5722200" y="4246200"/>
              <a:ext cx="48240" cy="522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5796720" y="421560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0-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5486400" y="2438280"/>
              <a:ext cx="3352680" cy="2514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"/>
          <p:cNvSpPr/>
          <p:nvPr/>
        </p:nvSpPr>
        <p:spPr>
          <a:xfrm>
            <a:off x="257184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8746560" y="59007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1" name=""/>
          <p:cNvGrpSpPr/>
          <p:nvPr/>
        </p:nvGrpSpPr>
        <p:grpSpPr>
          <a:xfrm>
            <a:off x="1295280" y="1981080"/>
            <a:ext cx="7619760" cy="4176360"/>
            <a:chOff x="1295280" y="1981080"/>
            <a:chExt cx="7619760" cy="4176360"/>
          </a:xfrm>
        </p:grpSpPr>
        <p:sp>
          <p:nvSpPr>
            <p:cNvPr id="3362" name=""/>
            <p:cNvSpPr/>
            <p:nvPr/>
          </p:nvSpPr>
          <p:spPr>
            <a:xfrm>
              <a:off x="2050560" y="2090880"/>
              <a:ext cx="5991480" cy="34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2050560" y="2090880"/>
              <a:ext cx="5991480" cy="34311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2050560" y="2673360"/>
              <a:ext cx="5991480" cy="2848680"/>
            </a:xfrm>
            <a:custGeom>
              <a:avLst/>
              <a:gdLst/>
              <a:ahLst/>
              <a:rect l="l" t="t" r="r" b="b"/>
              <a:pathLst>
                <a:path w="3506" h="1555">
                  <a:moveTo>
                    <a:pt x="0" y="1555"/>
                  </a:moveTo>
                  <a:lnTo>
                    <a:pt x="0" y="1555"/>
                  </a:lnTo>
                  <a:lnTo>
                    <a:pt x="220" y="1555"/>
                  </a:lnTo>
                  <a:lnTo>
                    <a:pt x="441" y="1520"/>
                  </a:lnTo>
                  <a:lnTo>
                    <a:pt x="656" y="1460"/>
                  </a:lnTo>
                  <a:lnTo>
                    <a:pt x="877" y="1314"/>
                  </a:lnTo>
                  <a:lnTo>
                    <a:pt x="1097" y="1213"/>
                  </a:lnTo>
                  <a:lnTo>
                    <a:pt x="1317" y="594"/>
                  </a:lnTo>
                  <a:lnTo>
                    <a:pt x="1533" y="0"/>
                  </a:lnTo>
                  <a:lnTo>
                    <a:pt x="1753" y="785"/>
                  </a:lnTo>
                  <a:lnTo>
                    <a:pt x="1973" y="1203"/>
                  </a:lnTo>
                  <a:lnTo>
                    <a:pt x="2189" y="1384"/>
                  </a:lnTo>
                  <a:lnTo>
                    <a:pt x="2409" y="1530"/>
                  </a:lnTo>
                  <a:lnTo>
                    <a:pt x="2630" y="1495"/>
                  </a:lnTo>
                  <a:lnTo>
                    <a:pt x="2845" y="1485"/>
                  </a:lnTo>
                  <a:lnTo>
                    <a:pt x="3065" y="1017"/>
                  </a:lnTo>
                  <a:lnTo>
                    <a:pt x="3286" y="1072"/>
                  </a:lnTo>
                  <a:lnTo>
                    <a:pt x="3506" y="1238"/>
                  </a:lnTo>
                  <a:lnTo>
                    <a:pt x="3506" y="1555"/>
                  </a:lnTo>
                  <a:lnTo>
                    <a:pt x="3286" y="1555"/>
                  </a:lnTo>
                  <a:lnTo>
                    <a:pt x="3065" y="1555"/>
                  </a:lnTo>
                  <a:lnTo>
                    <a:pt x="2845" y="1555"/>
                  </a:lnTo>
                  <a:lnTo>
                    <a:pt x="2630" y="1555"/>
                  </a:lnTo>
                  <a:lnTo>
                    <a:pt x="2409" y="1555"/>
                  </a:lnTo>
                  <a:lnTo>
                    <a:pt x="2189" y="1555"/>
                  </a:lnTo>
                  <a:lnTo>
                    <a:pt x="1973" y="1555"/>
                  </a:lnTo>
                  <a:lnTo>
                    <a:pt x="1753" y="1555"/>
                  </a:lnTo>
                  <a:lnTo>
                    <a:pt x="1533" y="1555"/>
                  </a:lnTo>
                  <a:lnTo>
                    <a:pt x="1317" y="1555"/>
                  </a:lnTo>
                  <a:lnTo>
                    <a:pt x="1097" y="1555"/>
                  </a:lnTo>
                  <a:lnTo>
                    <a:pt x="877" y="1555"/>
                  </a:lnTo>
                  <a:lnTo>
                    <a:pt x="656" y="1555"/>
                  </a:lnTo>
                  <a:lnTo>
                    <a:pt x="441" y="1555"/>
                  </a:lnTo>
                  <a:lnTo>
                    <a:pt x="220" y="1555"/>
                  </a:lnTo>
                  <a:lnTo>
                    <a:pt x="0" y="1555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2050560" y="2673360"/>
              <a:ext cx="5991480" cy="2848680"/>
            </a:xfrm>
            <a:custGeom>
              <a:avLst/>
              <a:gdLst/>
              <a:ahLst/>
              <a:rect l="l" t="t" r="r" b="b"/>
              <a:pathLst>
                <a:path w="3506" h="1555">
                  <a:moveTo>
                    <a:pt x="0" y="1555"/>
                  </a:moveTo>
                  <a:lnTo>
                    <a:pt x="0" y="1555"/>
                  </a:lnTo>
                  <a:lnTo>
                    <a:pt x="220" y="1555"/>
                  </a:lnTo>
                  <a:lnTo>
                    <a:pt x="441" y="1520"/>
                  </a:lnTo>
                  <a:lnTo>
                    <a:pt x="656" y="1460"/>
                  </a:lnTo>
                  <a:lnTo>
                    <a:pt x="877" y="1314"/>
                  </a:lnTo>
                  <a:lnTo>
                    <a:pt x="1097" y="1213"/>
                  </a:lnTo>
                  <a:lnTo>
                    <a:pt x="1317" y="594"/>
                  </a:lnTo>
                  <a:lnTo>
                    <a:pt x="1533" y="0"/>
                  </a:lnTo>
                  <a:lnTo>
                    <a:pt x="1753" y="785"/>
                  </a:lnTo>
                  <a:lnTo>
                    <a:pt x="1973" y="1203"/>
                  </a:lnTo>
                  <a:lnTo>
                    <a:pt x="2189" y="1384"/>
                  </a:lnTo>
                  <a:lnTo>
                    <a:pt x="2409" y="1530"/>
                  </a:lnTo>
                  <a:lnTo>
                    <a:pt x="2630" y="1495"/>
                  </a:lnTo>
                  <a:lnTo>
                    <a:pt x="2845" y="1485"/>
                  </a:lnTo>
                  <a:lnTo>
                    <a:pt x="3065" y="1017"/>
                  </a:lnTo>
                  <a:lnTo>
                    <a:pt x="3286" y="1072"/>
                  </a:lnTo>
                  <a:lnTo>
                    <a:pt x="3506" y="1238"/>
                  </a:lnTo>
                  <a:lnTo>
                    <a:pt x="3506" y="1555"/>
                  </a:lnTo>
                  <a:lnTo>
                    <a:pt x="3286" y="1555"/>
                  </a:lnTo>
                  <a:lnTo>
                    <a:pt x="3065" y="1555"/>
                  </a:lnTo>
                  <a:lnTo>
                    <a:pt x="2845" y="1555"/>
                  </a:lnTo>
                  <a:lnTo>
                    <a:pt x="2630" y="1555"/>
                  </a:lnTo>
                  <a:lnTo>
                    <a:pt x="2409" y="1555"/>
                  </a:lnTo>
                  <a:lnTo>
                    <a:pt x="2189" y="1555"/>
                  </a:lnTo>
                  <a:lnTo>
                    <a:pt x="1973" y="1555"/>
                  </a:lnTo>
                  <a:lnTo>
                    <a:pt x="1753" y="1555"/>
                  </a:lnTo>
                  <a:lnTo>
                    <a:pt x="1533" y="1555"/>
                  </a:lnTo>
                  <a:lnTo>
                    <a:pt x="1317" y="1555"/>
                  </a:lnTo>
                  <a:lnTo>
                    <a:pt x="1097" y="1555"/>
                  </a:lnTo>
                  <a:lnTo>
                    <a:pt x="877" y="1555"/>
                  </a:lnTo>
                  <a:lnTo>
                    <a:pt x="656" y="1555"/>
                  </a:lnTo>
                  <a:lnTo>
                    <a:pt x="441" y="1555"/>
                  </a:lnTo>
                  <a:lnTo>
                    <a:pt x="220" y="1555"/>
                  </a:lnTo>
                  <a:lnTo>
                    <a:pt x="0" y="15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2050560" y="3983400"/>
              <a:ext cx="5991480" cy="1538640"/>
            </a:xfrm>
            <a:custGeom>
              <a:avLst/>
              <a:gdLst/>
              <a:ahLst/>
              <a:rect l="l" t="t" r="r" b="b"/>
              <a:pathLst>
                <a:path w="3506" h="840">
                  <a:moveTo>
                    <a:pt x="0" y="840"/>
                  </a:moveTo>
                  <a:lnTo>
                    <a:pt x="0" y="840"/>
                  </a:lnTo>
                  <a:lnTo>
                    <a:pt x="220" y="840"/>
                  </a:lnTo>
                  <a:lnTo>
                    <a:pt x="441" y="815"/>
                  </a:lnTo>
                  <a:lnTo>
                    <a:pt x="656" y="775"/>
                  </a:lnTo>
                  <a:lnTo>
                    <a:pt x="877" y="674"/>
                  </a:lnTo>
                  <a:lnTo>
                    <a:pt x="1097" y="644"/>
                  </a:lnTo>
                  <a:lnTo>
                    <a:pt x="1317" y="226"/>
                  </a:lnTo>
                  <a:lnTo>
                    <a:pt x="1533" y="0"/>
                  </a:lnTo>
                  <a:lnTo>
                    <a:pt x="1753" y="412"/>
                  </a:lnTo>
                  <a:lnTo>
                    <a:pt x="1973" y="634"/>
                  </a:lnTo>
                  <a:lnTo>
                    <a:pt x="2189" y="740"/>
                  </a:lnTo>
                  <a:lnTo>
                    <a:pt x="2409" y="825"/>
                  </a:lnTo>
                  <a:lnTo>
                    <a:pt x="2630" y="800"/>
                  </a:lnTo>
                  <a:lnTo>
                    <a:pt x="2845" y="795"/>
                  </a:lnTo>
                  <a:lnTo>
                    <a:pt x="3065" y="594"/>
                  </a:lnTo>
                  <a:lnTo>
                    <a:pt x="3286" y="584"/>
                  </a:lnTo>
                  <a:lnTo>
                    <a:pt x="3506" y="669"/>
                  </a:lnTo>
                  <a:lnTo>
                    <a:pt x="3506" y="840"/>
                  </a:lnTo>
                  <a:lnTo>
                    <a:pt x="3286" y="840"/>
                  </a:lnTo>
                  <a:lnTo>
                    <a:pt x="3065" y="840"/>
                  </a:lnTo>
                  <a:lnTo>
                    <a:pt x="2845" y="840"/>
                  </a:lnTo>
                  <a:lnTo>
                    <a:pt x="2630" y="840"/>
                  </a:lnTo>
                  <a:lnTo>
                    <a:pt x="2409" y="840"/>
                  </a:lnTo>
                  <a:lnTo>
                    <a:pt x="2189" y="840"/>
                  </a:lnTo>
                  <a:lnTo>
                    <a:pt x="1973" y="840"/>
                  </a:lnTo>
                  <a:lnTo>
                    <a:pt x="1753" y="840"/>
                  </a:lnTo>
                  <a:lnTo>
                    <a:pt x="1533" y="840"/>
                  </a:lnTo>
                  <a:lnTo>
                    <a:pt x="1317" y="840"/>
                  </a:lnTo>
                  <a:lnTo>
                    <a:pt x="1097" y="840"/>
                  </a:lnTo>
                  <a:lnTo>
                    <a:pt x="877" y="840"/>
                  </a:lnTo>
                  <a:lnTo>
                    <a:pt x="656" y="840"/>
                  </a:lnTo>
                  <a:lnTo>
                    <a:pt x="441" y="840"/>
                  </a:lnTo>
                  <a:lnTo>
                    <a:pt x="220" y="840"/>
                  </a:lnTo>
                  <a:lnTo>
                    <a:pt x="0" y="840"/>
                  </a:lnTo>
                </a:path>
              </a:pathLst>
            </a:custGeom>
            <a:noFill/>
            <a:ln w="31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2041920" y="5504040"/>
              <a:ext cx="34200" cy="27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2041920" y="5504040"/>
              <a:ext cx="20520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2375280" y="5504040"/>
              <a:ext cx="59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2409120" y="5494680"/>
              <a:ext cx="172800" cy="45360"/>
            </a:xfrm>
            <a:custGeom>
              <a:avLst/>
              <a:gdLst/>
              <a:ahLst/>
              <a:rect l="l" t="t" r="r" b="b"/>
              <a:pathLst>
                <a:path w="101" h="25">
                  <a:moveTo>
                    <a:pt x="0" y="5"/>
                  </a:moveTo>
                  <a:lnTo>
                    <a:pt x="91" y="0"/>
                  </a:lnTo>
                  <a:lnTo>
                    <a:pt x="101" y="20"/>
                  </a:lnTo>
                  <a:lnTo>
                    <a:pt x="5" y="2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2692800" y="5485680"/>
              <a:ext cx="119520" cy="45360"/>
            </a:xfrm>
            <a:custGeom>
              <a:avLst/>
              <a:gdLst/>
              <a:ahLst/>
              <a:rect l="l" t="t" r="r" b="b"/>
              <a:pathLst>
                <a:path w="70" h="25">
                  <a:moveTo>
                    <a:pt x="0" y="5"/>
                  </a:moveTo>
                  <a:lnTo>
                    <a:pt x="65" y="0"/>
                  </a:lnTo>
                  <a:lnTo>
                    <a:pt x="70" y="20"/>
                  </a:lnTo>
                  <a:lnTo>
                    <a:pt x="10" y="2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2778480" y="5458320"/>
              <a:ext cx="128160" cy="63720"/>
            </a:xfrm>
            <a:custGeom>
              <a:avLst/>
              <a:gdLst/>
              <a:ahLst/>
              <a:rect l="l" t="t" r="r" b="b"/>
              <a:pathLst>
                <a:path w="75" h="35">
                  <a:moveTo>
                    <a:pt x="0" y="15"/>
                  </a:moveTo>
                  <a:lnTo>
                    <a:pt x="70" y="0"/>
                  </a:lnTo>
                  <a:lnTo>
                    <a:pt x="75" y="20"/>
                  </a:lnTo>
                  <a:lnTo>
                    <a:pt x="10" y="3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026160" y="5412600"/>
              <a:ext cx="162360" cy="63720"/>
            </a:xfrm>
            <a:custGeom>
              <a:avLst/>
              <a:gdLst/>
              <a:ahLst/>
              <a:rect l="l" t="t" r="r" b="b"/>
              <a:pathLst>
                <a:path w="95" h="35">
                  <a:moveTo>
                    <a:pt x="0" y="15"/>
                  </a:moveTo>
                  <a:lnTo>
                    <a:pt x="85" y="0"/>
                  </a:lnTo>
                  <a:lnTo>
                    <a:pt x="95" y="20"/>
                  </a:lnTo>
                  <a:lnTo>
                    <a:pt x="5" y="3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146040" y="5384880"/>
              <a:ext cx="85320" cy="637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0" y="15"/>
                  </a:moveTo>
                  <a:lnTo>
                    <a:pt x="40" y="0"/>
                  </a:lnTo>
                  <a:lnTo>
                    <a:pt x="50" y="15"/>
                  </a:lnTo>
                  <a:lnTo>
                    <a:pt x="5" y="3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3333960" y="5218200"/>
              <a:ext cx="215280" cy="138960"/>
            </a:xfrm>
            <a:custGeom>
              <a:avLst/>
              <a:gdLst/>
              <a:ahLst/>
              <a:rect l="l" t="t" r="r" b="b"/>
              <a:pathLst>
                <a:path w="126" h="76">
                  <a:moveTo>
                    <a:pt x="0" y="61"/>
                  </a:moveTo>
                  <a:lnTo>
                    <a:pt x="121" y="0"/>
                  </a:lnTo>
                  <a:lnTo>
                    <a:pt x="126" y="20"/>
                  </a:lnTo>
                  <a:lnTo>
                    <a:pt x="5" y="76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3634560" y="5117400"/>
              <a:ext cx="222120" cy="910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30"/>
                  </a:moveTo>
                  <a:lnTo>
                    <a:pt x="125" y="0"/>
                  </a:lnTo>
                  <a:lnTo>
                    <a:pt x="130" y="20"/>
                  </a:lnTo>
                  <a:lnTo>
                    <a:pt x="5" y="5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3933720" y="4840920"/>
              <a:ext cx="128160" cy="230400"/>
            </a:xfrm>
            <a:custGeom>
              <a:avLst/>
              <a:gdLst/>
              <a:ahLst/>
              <a:rect l="l" t="t" r="r" b="b"/>
              <a:pathLst>
                <a:path w="75" h="126">
                  <a:moveTo>
                    <a:pt x="0" y="121"/>
                  </a:moveTo>
                  <a:lnTo>
                    <a:pt x="55" y="0"/>
                  </a:lnTo>
                  <a:lnTo>
                    <a:pt x="75" y="10"/>
                  </a:lnTo>
                  <a:lnTo>
                    <a:pt x="20" y="12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087800" y="4498200"/>
              <a:ext cx="110520" cy="230760"/>
            </a:xfrm>
            <a:custGeom>
              <a:avLst/>
              <a:gdLst/>
              <a:ahLst/>
              <a:rect l="l" t="t" r="r" b="b"/>
              <a:pathLst>
                <a:path w="65" h="126">
                  <a:moveTo>
                    <a:pt x="0" y="121"/>
                  </a:moveTo>
                  <a:lnTo>
                    <a:pt x="50" y="0"/>
                  </a:lnTo>
                  <a:lnTo>
                    <a:pt x="65" y="6"/>
                  </a:lnTo>
                  <a:lnTo>
                    <a:pt x="15" y="12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224600" y="4221360"/>
              <a:ext cx="93600" cy="16668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0" y="81"/>
                  </a:moveTo>
                  <a:lnTo>
                    <a:pt x="35" y="0"/>
                  </a:lnTo>
                  <a:lnTo>
                    <a:pt x="55" y="5"/>
                  </a:lnTo>
                  <a:lnTo>
                    <a:pt x="20" y="9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284000" y="4185000"/>
              <a:ext cx="59400" cy="9324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0" y="46"/>
                  </a:moveTo>
                  <a:lnTo>
                    <a:pt x="15" y="0"/>
                  </a:lnTo>
                  <a:lnTo>
                    <a:pt x="35" y="10"/>
                  </a:lnTo>
                  <a:lnTo>
                    <a:pt x="20" y="5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343760" y="3825720"/>
              <a:ext cx="93960" cy="249120"/>
            </a:xfrm>
            <a:custGeom>
              <a:avLst/>
              <a:gdLst/>
              <a:ahLst/>
              <a:rect l="l" t="t" r="r" b="b"/>
              <a:pathLst>
                <a:path w="55" h="136">
                  <a:moveTo>
                    <a:pt x="0" y="131"/>
                  </a:moveTo>
                  <a:lnTo>
                    <a:pt x="35" y="0"/>
                  </a:lnTo>
                  <a:lnTo>
                    <a:pt x="55" y="5"/>
                  </a:lnTo>
                  <a:lnTo>
                    <a:pt x="15" y="136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438080" y="3457800"/>
              <a:ext cx="93600" cy="24696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0" y="130"/>
                  </a:moveTo>
                  <a:lnTo>
                    <a:pt x="35" y="0"/>
                  </a:lnTo>
                  <a:lnTo>
                    <a:pt x="55" y="5"/>
                  </a:lnTo>
                  <a:lnTo>
                    <a:pt x="20" y="135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4531680" y="3087720"/>
              <a:ext cx="95400" cy="248760"/>
            </a:xfrm>
            <a:custGeom>
              <a:avLst/>
              <a:gdLst/>
              <a:ahLst/>
              <a:rect l="l" t="t" r="r" b="b"/>
              <a:pathLst>
                <a:path w="56" h="136">
                  <a:moveTo>
                    <a:pt x="0" y="131"/>
                  </a:moveTo>
                  <a:lnTo>
                    <a:pt x="41" y="0"/>
                  </a:lnTo>
                  <a:lnTo>
                    <a:pt x="56" y="5"/>
                  </a:lnTo>
                  <a:lnTo>
                    <a:pt x="21" y="136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644720" y="2856600"/>
              <a:ext cx="51480" cy="11160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0" y="56"/>
                  </a:moveTo>
                  <a:lnTo>
                    <a:pt x="10" y="0"/>
                  </a:lnTo>
                  <a:lnTo>
                    <a:pt x="30" y="5"/>
                  </a:lnTo>
                  <a:lnTo>
                    <a:pt x="15" y="61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661640" y="2856600"/>
              <a:ext cx="68400" cy="14796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0" y="0"/>
                  </a:moveTo>
                  <a:lnTo>
                    <a:pt x="20" y="76"/>
                  </a:lnTo>
                  <a:lnTo>
                    <a:pt x="40" y="81"/>
                  </a:lnTo>
                  <a:lnTo>
                    <a:pt x="2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730040" y="3124080"/>
              <a:ext cx="84960" cy="249120"/>
            </a:xfrm>
            <a:custGeom>
              <a:avLst/>
              <a:gdLst/>
              <a:ahLst/>
              <a:rect l="l" t="t" r="r" b="b"/>
              <a:pathLst>
                <a:path w="50" h="136">
                  <a:moveTo>
                    <a:pt x="0" y="0"/>
                  </a:moveTo>
                  <a:lnTo>
                    <a:pt x="30" y="131"/>
                  </a:lnTo>
                  <a:lnTo>
                    <a:pt x="50" y="136"/>
                  </a:lnTo>
                  <a:lnTo>
                    <a:pt x="1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4815360" y="3485160"/>
              <a:ext cx="93960" cy="257760"/>
            </a:xfrm>
            <a:custGeom>
              <a:avLst/>
              <a:gdLst/>
              <a:ahLst/>
              <a:rect l="l" t="t" r="r" b="b"/>
              <a:pathLst>
                <a:path w="55" h="141">
                  <a:moveTo>
                    <a:pt x="0" y="0"/>
                  </a:moveTo>
                  <a:lnTo>
                    <a:pt x="35" y="136"/>
                  </a:lnTo>
                  <a:lnTo>
                    <a:pt x="55" y="141"/>
                  </a:lnTo>
                  <a:lnTo>
                    <a:pt x="15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4909680" y="3853440"/>
              <a:ext cx="84960" cy="258120"/>
            </a:xfrm>
            <a:custGeom>
              <a:avLst/>
              <a:gdLst/>
              <a:ahLst/>
              <a:rect l="l" t="t" r="r" b="b"/>
              <a:pathLst>
                <a:path w="50" h="141">
                  <a:moveTo>
                    <a:pt x="0" y="0"/>
                  </a:moveTo>
                  <a:lnTo>
                    <a:pt x="30" y="131"/>
                  </a:lnTo>
                  <a:lnTo>
                    <a:pt x="50" y="141"/>
                  </a:lnTo>
                  <a:lnTo>
                    <a:pt x="15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4995000" y="4221360"/>
              <a:ext cx="68400" cy="203400"/>
            </a:xfrm>
            <a:custGeom>
              <a:avLst/>
              <a:gdLst/>
              <a:ahLst/>
              <a:rect l="l" t="t" r="r" b="b"/>
              <a:pathLst>
                <a:path w="40" h="111">
                  <a:moveTo>
                    <a:pt x="0" y="0"/>
                  </a:moveTo>
                  <a:lnTo>
                    <a:pt x="25" y="106"/>
                  </a:lnTo>
                  <a:lnTo>
                    <a:pt x="40" y="111"/>
                  </a:lnTo>
                  <a:lnTo>
                    <a:pt x="1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020920" y="4370040"/>
              <a:ext cx="68040" cy="4536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0" y="0"/>
                  </a:moveTo>
                  <a:lnTo>
                    <a:pt x="15" y="20"/>
                  </a:lnTo>
                  <a:lnTo>
                    <a:pt x="40" y="25"/>
                  </a:lnTo>
                  <a:lnTo>
                    <a:pt x="25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123160" y="4536720"/>
              <a:ext cx="153720" cy="201240"/>
            </a:xfrm>
            <a:custGeom>
              <a:avLst/>
              <a:gdLst/>
              <a:ahLst/>
              <a:rect l="l" t="t" r="r" b="b"/>
              <a:pathLst>
                <a:path w="90" h="110">
                  <a:moveTo>
                    <a:pt x="0" y="0"/>
                  </a:moveTo>
                  <a:lnTo>
                    <a:pt x="65" y="105"/>
                  </a:lnTo>
                  <a:lnTo>
                    <a:pt x="90" y="110"/>
                  </a:lnTo>
                  <a:lnTo>
                    <a:pt x="2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5311080" y="4840920"/>
              <a:ext cx="128160" cy="164880"/>
            </a:xfrm>
            <a:custGeom>
              <a:avLst/>
              <a:gdLst/>
              <a:ahLst/>
              <a:rect l="l" t="t" r="r" b="b"/>
              <a:pathLst>
                <a:path w="75" h="90">
                  <a:moveTo>
                    <a:pt x="0" y="0"/>
                  </a:moveTo>
                  <a:lnTo>
                    <a:pt x="50" y="80"/>
                  </a:lnTo>
                  <a:lnTo>
                    <a:pt x="75" y="90"/>
                  </a:lnTo>
                  <a:lnTo>
                    <a:pt x="25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5388120" y="4959720"/>
              <a:ext cx="59400" cy="7344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0" y="25"/>
                  </a:moveTo>
                  <a:lnTo>
                    <a:pt x="30" y="40"/>
                  </a:lnTo>
                  <a:lnTo>
                    <a:pt x="35" y="15"/>
                  </a:lnTo>
                  <a:lnTo>
                    <a:pt x="5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5560560" y="5071320"/>
              <a:ext cx="204840" cy="173880"/>
            </a:xfrm>
            <a:custGeom>
              <a:avLst/>
              <a:gdLst/>
              <a:ahLst/>
              <a:rect l="l" t="t" r="r" b="b"/>
              <a:pathLst>
                <a:path w="120" h="95">
                  <a:moveTo>
                    <a:pt x="0" y="25"/>
                  </a:moveTo>
                  <a:lnTo>
                    <a:pt x="110" y="95"/>
                  </a:lnTo>
                  <a:lnTo>
                    <a:pt x="120" y="70"/>
                  </a:lnTo>
                  <a:lnTo>
                    <a:pt x="5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5816880" y="5264280"/>
              <a:ext cx="213840" cy="16632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0" y="26"/>
                  </a:moveTo>
                  <a:lnTo>
                    <a:pt x="120" y="91"/>
                  </a:lnTo>
                  <a:lnTo>
                    <a:pt x="125" y="66"/>
                  </a:lnTo>
                  <a:lnTo>
                    <a:pt x="5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6132960" y="5458320"/>
              <a:ext cx="59760" cy="637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20"/>
                  </a:moveTo>
                  <a:lnTo>
                    <a:pt x="25" y="35"/>
                  </a:lnTo>
                  <a:lnTo>
                    <a:pt x="35" y="15"/>
                  </a:lnTo>
                  <a:lnTo>
                    <a:pt x="1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6150240" y="5448960"/>
              <a:ext cx="179280" cy="73080"/>
            </a:xfrm>
            <a:custGeom>
              <a:avLst/>
              <a:gdLst/>
              <a:ahLst/>
              <a:rect l="l" t="t" r="r" b="b"/>
              <a:pathLst>
                <a:path w="105" h="40">
                  <a:moveTo>
                    <a:pt x="0" y="20"/>
                  </a:moveTo>
                  <a:lnTo>
                    <a:pt x="100" y="0"/>
                  </a:lnTo>
                  <a:lnTo>
                    <a:pt x="105" y="20"/>
                  </a:lnTo>
                  <a:lnTo>
                    <a:pt x="5" y="4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6449400" y="5403240"/>
              <a:ext cx="104040" cy="5472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0" y="15"/>
                  </a:moveTo>
                  <a:lnTo>
                    <a:pt x="56" y="0"/>
                  </a:lnTo>
                  <a:lnTo>
                    <a:pt x="61" y="20"/>
                  </a:lnTo>
                  <a:lnTo>
                    <a:pt x="5" y="3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6536520" y="5403240"/>
              <a:ext cx="1281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6784200" y="5394240"/>
              <a:ext cx="1450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6895440" y="5338800"/>
              <a:ext cx="84960" cy="918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40"/>
                  </a:moveTo>
                  <a:lnTo>
                    <a:pt x="25" y="0"/>
                  </a:lnTo>
                  <a:lnTo>
                    <a:pt x="50" y="5"/>
                  </a:lnTo>
                  <a:lnTo>
                    <a:pt x="25" y="5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014960" y="5014800"/>
              <a:ext cx="153720" cy="221400"/>
            </a:xfrm>
            <a:custGeom>
              <a:avLst/>
              <a:gdLst/>
              <a:ahLst/>
              <a:rect l="l" t="t" r="r" b="b"/>
              <a:pathLst>
                <a:path w="90" h="121">
                  <a:moveTo>
                    <a:pt x="0" y="111"/>
                  </a:moveTo>
                  <a:lnTo>
                    <a:pt x="65" y="0"/>
                  </a:lnTo>
                  <a:lnTo>
                    <a:pt x="90" y="5"/>
                  </a:lnTo>
                  <a:lnTo>
                    <a:pt x="25" y="12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194600" y="4765680"/>
              <a:ext cx="119160" cy="12996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0" y="66"/>
                  </a:moveTo>
                  <a:lnTo>
                    <a:pt x="45" y="0"/>
                  </a:lnTo>
                  <a:lnTo>
                    <a:pt x="70" y="6"/>
                  </a:lnTo>
                  <a:lnTo>
                    <a:pt x="25" y="71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271280" y="4785840"/>
              <a:ext cx="93960" cy="5472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0" y="20"/>
                  </a:moveTo>
                  <a:lnTo>
                    <a:pt x="50" y="30"/>
                  </a:lnTo>
                  <a:lnTo>
                    <a:pt x="55" y="15"/>
                  </a:lnTo>
                  <a:lnTo>
                    <a:pt x="5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467840" y="4840920"/>
              <a:ext cx="206640" cy="91080"/>
            </a:xfrm>
            <a:custGeom>
              <a:avLst/>
              <a:gdLst/>
              <a:ahLst/>
              <a:rect l="l" t="t" r="r" b="b"/>
              <a:pathLst>
                <a:path w="121" h="50">
                  <a:moveTo>
                    <a:pt x="0" y="20"/>
                  </a:moveTo>
                  <a:lnTo>
                    <a:pt x="116" y="50"/>
                  </a:lnTo>
                  <a:lnTo>
                    <a:pt x="121" y="30"/>
                  </a:lnTo>
                  <a:lnTo>
                    <a:pt x="1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632000" y="4895640"/>
              <a:ext cx="42480" cy="453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0"/>
                  </a:moveTo>
                  <a:lnTo>
                    <a:pt x="20" y="25"/>
                  </a:lnTo>
                  <a:lnTo>
                    <a:pt x="25" y="10"/>
                  </a:lnTo>
                  <a:lnTo>
                    <a:pt x="5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785360" y="4978440"/>
              <a:ext cx="213840" cy="138960"/>
            </a:xfrm>
            <a:custGeom>
              <a:avLst/>
              <a:gdLst/>
              <a:ahLst/>
              <a:rect l="l" t="t" r="r" b="b"/>
              <a:pathLst>
                <a:path w="125" h="76">
                  <a:moveTo>
                    <a:pt x="0" y="20"/>
                  </a:moveTo>
                  <a:lnTo>
                    <a:pt x="115" y="76"/>
                  </a:lnTo>
                  <a:lnTo>
                    <a:pt x="125" y="56"/>
                  </a:lnTo>
                  <a:lnTo>
                    <a:pt x="5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8025120" y="5172480"/>
              <a:ext cx="33840" cy="240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803000" y="5504040"/>
              <a:ext cx="221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657560" y="5504040"/>
              <a:ext cx="169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467840" y="5504040"/>
              <a:ext cx="20664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279920" y="5504040"/>
              <a:ext cx="59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143120" y="5504040"/>
              <a:ext cx="153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6903720" y="5504040"/>
              <a:ext cx="1108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6810120" y="5504040"/>
              <a:ext cx="1191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6536520" y="5504040"/>
              <a:ext cx="1450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6474960" y="5504040"/>
              <a:ext cx="784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6158520" y="5504040"/>
              <a:ext cx="1879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6150240" y="5504040"/>
              <a:ext cx="259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5791320" y="5504040"/>
              <a:ext cx="230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5464800" y="5504040"/>
              <a:ext cx="2239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5131800" y="5504040"/>
              <a:ext cx="221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4798440" y="5504040"/>
              <a:ext cx="2221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4661640" y="5504040"/>
              <a:ext cx="864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4472280" y="5504040"/>
              <a:ext cx="2152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284000" y="5504040"/>
              <a:ext cx="5940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138920" y="5504040"/>
              <a:ext cx="17064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3916800" y="5504040"/>
              <a:ext cx="9360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3805560" y="5504040"/>
              <a:ext cx="1281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3540960" y="5504040"/>
              <a:ext cx="1360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3470760" y="5504040"/>
              <a:ext cx="871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162960" y="5504040"/>
              <a:ext cx="1792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3146040" y="5504040"/>
              <a:ext cx="424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2795760" y="5504040"/>
              <a:ext cx="221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2590560" y="5504040"/>
              <a:ext cx="221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2418120" y="5504040"/>
              <a:ext cx="424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255760" y="5504040"/>
              <a:ext cx="1792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2041920" y="5504040"/>
              <a:ext cx="853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2050560" y="2090880"/>
              <a:ext cx="1800" cy="343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999080" y="552204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1999080" y="494136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1999080" y="437004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1999080" y="380772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1999080" y="323604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999080" y="266436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1999080" y="209088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2050560" y="5522040"/>
              <a:ext cx="5991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 flipV="1">
              <a:off x="205056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V="1">
              <a:off x="242676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 flipV="1">
              <a:off x="280404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V="1">
              <a:off x="317160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 flipV="1">
              <a:off x="354924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 flipV="1">
              <a:off x="392544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 flipV="1">
              <a:off x="430128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 flipV="1">
              <a:off x="467064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flipV="1">
              <a:off x="504648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V="1">
              <a:off x="542232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 flipV="1">
              <a:off x="579132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V="1">
              <a:off x="616716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flipV="1">
              <a:off x="654516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 flipV="1">
              <a:off x="691236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V="1">
              <a:off x="728820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 flipV="1">
              <a:off x="766620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 flipV="1">
              <a:off x="804204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1681200" y="5412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1681200" y="4840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1681200" y="42692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1681200" y="37051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6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1681200" y="31334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1578960" y="2561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1578960" y="19810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2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200664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38320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276120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12768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350388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388152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425808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462636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500220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531792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569556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07248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44832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81696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19280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57080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93764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865400" y="597456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 rot="16200000">
              <a:off x="1008360" y="4037400"/>
              <a:ext cx="75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ir quality [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91" name="" descr=""/>
            <p:cNvPicPr/>
            <p:nvPr/>
          </p:nvPicPr>
          <p:blipFill>
            <a:blip r:embed="rId1"/>
            <a:stretch/>
          </p:blipFill>
          <p:spPr>
            <a:xfrm>
              <a:off x="1297080" y="3530880"/>
              <a:ext cx="196200" cy="1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2" name="" descr=""/>
            <p:cNvPicPr/>
            <p:nvPr/>
          </p:nvPicPr>
          <p:blipFill>
            <a:blip r:embed="rId2"/>
            <a:stretch/>
          </p:blipFill>
          <p:spPr>
            <a:xfrm>
              <a:off x="1297080" y="3530880"/>
              <a:ext cx="196200" cy="1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3" name=""/>
            <p:cNvSpPr/>
            <p:nvPr/>
          </p:nvSpPr>
          <p:spPr>
            <a:xfrm rot="16200000">
              <a:off x="1194840" y="324108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g/m3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8281080" y="3400920"/>
              <a:ext cx="633960" cy="829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8349840" y="3503520"/>
              <a:ext cx="102240" cy="1094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8493120" y="3437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8349840" y="4012920"/>
              <a:ext cx="81720" cy="874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8493120" y="37159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8341200" y="3749040"/>
              <a:ext cx="110520" cy="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8435160" y="3749040"/>
              <a:ext cx="33840" cy="1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8341200" y="3849480"/>
              <a:ext cx="110520" cy="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8341200" y="3749040"/>
              <a:ext cx="25560" cy="1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8493840" y="39924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T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8349840" y="3749040"/>
              <a:ext cx="81720" cy="87480"/>
            </a:xfrm>
            <a:prstGeom prst="rect">
              <a:avLst/>
            </a:prstGeom>
            <a:solidFill>
              <a:srgbClr val="ff000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5" name=""/>
          <p:cNvSpPr/>
          <p:nvPr/>
        </p:nvSpPr>
        <p:spPr>
          <a:xfrm>
            <a:off x="1066680" y="174600"/>
            <a:ext cx="784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Calidad del aire logrados al aplicar instrumentos que reducen las concentraciones en 36% en la peor ce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3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6" name=""/>
          <p:cNvGraphicFramePr/>
          <p:nvPr/>
        </p:nvGraphicFramePr>
        <p:xfrm>
          <a:off x="2362320" y="1219320"/>
          <a:ext cx="464184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219320"/>
                    <a:ext cx="46418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8" name=""/>
          <p:cNvSpPr/>
          <p:nvPr/>
        </p:nvSpPr>
        <p:spPr>
          <a:xfrm>
            <a:off x="1295280" y="361800"/>
            <a:ext cx="754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stos unitarios de efectos en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3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9" name=""/>
          <p:cNvGrpSpPr/>
          <p:nvPr/>
        </p:nvGrpSpPr>
        <p:grpSpPr>
          <a:xfrm>
            <a:off x="1219320" y="1523880"/>
            <a:ext cx="7850880" cy="4346280"/>
            <a:chOff x="1219320" y="1523880"/>
            <a:chExt cx="7850880" cy="4346280"/>
          </a:xfrm>
        </p:grpSpPr>
        <p:sp>
          <p:nvSpPr>
            <p:cNvPr id="3510" name=""/>
            <p:cNvSpPr/>
            <p:nvPr/>
          </p:nvSpPr>
          <p:spPr>
            <a:xfrm>
              <a:off x="1753560" y="1603080"/>
              <a:ext cx="6470640" cy="377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1753560" y="4959720"/>
              <a:ext cx="64706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1753560" y="4542120"/>
              <a:ext cx="64706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753560" y="4119840"/>
              <a:ext cx="64706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1753560" y="3701880"/>
              <a:ext cx="64706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1753560" y="3280680"/>
              <a:ext cx="64706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1753560" y="2862720"/>
              <a:ext cx="64706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1753560" y="2442240"/>
              <a:ext cx="64706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1753560" y="2024280"/>
              <a:ext cx="64706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753560" y="1603080"/>
              <a:ext cx="64706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402640" y="1603080"/>
              <a:ext cx="108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3047040" y="1603080"/>
              <a:ext cx="144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3696120" y="1603080"/>
              <a:ext cx="108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340520" y="1603080"/>
              <a:ext cx="144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4989600" y="1603080"/>
              <a:ext cx="108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637240" y="1603080"/>
              <a:ext cx="144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6283080" y="1603080"/>
              <a:ext cx="108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6930720" y="1603080"/>
              <a:ext cx="144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576560" y="1603080"/>
              <a:ext cx="108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8224200" y="1603080"/>
              <a:ext cx="144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1753560" y="1603080"/>
              <a:ext cx="1440" cy="377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1722240" y="5380560"/>
              <a:ext cx="30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1722240" y="4959720"/>
              <a:ext cx="30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722240" y="4542120"/>
              <a:ext cx="30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1722240" y="4119840"/>
              <a:ext cx="30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1722240" y="3701880"/>
              <a:ext cx="30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722240" y="3280680"/>
              <a:ext cx="30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1722240" y="2862720"/>
              <a:ext cx="30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1722240" y="2442240"/>
              <a:ext cx="30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1722240" y="2024280"/>
              <a:ext cx="30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1722240" y="1603080"/>
              <a:ext cx="30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1753560" y="5380560"/>
              <a:ext cx="647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 flipV="1">
              <a:off x="1753560" y="5380560"/>
              <a:ext cx="144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 flipV="1">
              <a:off x="2402640" y="5380560"/>
              <a:ext cx="108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 flipV="1">
              <a:off x="3047040" y="5380560"/>
              <a:ext cx="144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 flipV="1">
              <a:off x="3696120" y="5380560"/>
              <a:ext cx="108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V="1">
              <a:off x="4340520" y="5380560"/>
              <a:ext cx="144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 flipV="1">
              <a:off x="4989600" y="5380560"/>
              <a:ext cx="108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 flipV="1">
              <a:off x="5637240" y="5380560"/>
              <a:ext cx="144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 flipV="1">
              <a:off x="6283080" y="5380560"/>
              <a:ext cx="108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V="1">
              <a:off x="6930720" y="5380560"/>
              <a:ext cx="144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 flipV="1">
              <a:off x="7576560" y="5380560"/>
              <a:ext cx="108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V="1">
              <a:off x="8224200" y="5380560"/>
              <a:ext cx="144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 flipV="1">
              <a:off x="2562840" y="3444120"/>
              <a:ext cx="158040" cy="126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 flipV="1">
              <a:off x="2720880" y="3430800"/>
              <a:ext cx="325800" cy="136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 flipV="1">
              <a:off x="3047040" y="3417480"/>
              <a:ext cx="321120" cy="126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 flipV="1">
              <a:off x="3368520" y="3385440"/>
              <a:ext cx="327600" cy="324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 flipV="1">
              <a:off x="3696120" y="3343320"/>
              <a:ext cx="321120" cy="417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 flipV="1">
              <a:off x="4017600" y="3330360"/>
              <a:ext cx="321120" cy="126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 flipV="1">
              <a:off x="4339080" y="3274200"/>
              <a:ext cx="325800" cy="55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 flipV="1">
              <a:off x="4665240" y="3232800"/>
              <a:ext cx="321120" cy="417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 flipV="1">
              <a:off x="4986720" y="3176280"/>
              <a:ext cx="325800" cy="561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5312520" y="3176280"/>
              <a:ext cx="321120" cy="90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 flipV="1">
              <a:off x="5634000" y="3169800"/>
              <a:ext cx="321120" cy="154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 flipV="1">
              <a:off x="5955480" y="3071520"/>
              <a:ext cx="327600" cy="982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6283080" y="3071880"/>
              <a:ext cx="321120" cy="590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6604560" y="3131280"/>
              <a:ext cx="325800" cy="1227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6930720" y="3254400"/>
              <a:ext cx="321120" cy="1245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252200" y="3378960"/>
              <a:ext cx="111240" cy="2242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 flipV="1">
              <a:off x="2562840" y="2957760"/>
              <a:ext cx="165960" cy="505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2728800" y="2728800"/>
              <a:ext cx="317880" cy="2289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 flipV="1">
              <a:off x="3047040" y="2561760"/>
              <a:ext cx="321120" cy="1666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flipV="1">
              <a:off x="3368520" y="2549520"/>
              <a:ext cx="327600" cy="122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 flipV="1">
              <a:off x="3696120" y="2537280"/>
              <a:ext cx="321120" cy="122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 flipV="1">
              <a:off x="4017600" y="2435400"/>
              <a:ext cx="321120" cy="1011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 flipV="1">
              <a:off x="4339080" y="2308320"/>
              <a:ext cx="325800" cy="127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 flipV="1">
              <a:off x="4665240" y="2170800"/>
              <a:ext cx="329040" cy="1375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 flipV="1">
              <a:off x="4994280" y="2114280"/>
              <a:ext cx="313560" cy="558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 flipV="1">
              <a:off x="5307840" y="2105280"/>
              <a:ext cx="325800" cy="93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5634000" y="2105280"/>
              <a:ext cx="327600" cy="360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5961960" y="2141280"/>
              <a:ext cx="321120" cy="90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283080" y="2150640"/>
              <a:ext cx="321120" cy="3103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604560" y="2460960"/>
              <a:ext cx="325800" cy="1242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6930720" y="2585520"/>
              <a:ext cx="440280" cy="946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 flipV="1">
              <a:off x="2562840" y="3382200"/>
              <a:ext cx="257040" cy="806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 flipV="1">
              <a:off x="2819880" y="3130920"/>
              <a:ext cx="236520" cy="2509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 flipV="1">
              <a:off x="3056760" y="2999880"/>
              <a:ext cx="141120" cy="13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 flipV="1">
              <a:off x="3197880" y="2872440"/>
              <a:ext cx="133200" cy="127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 flipV="1">
              <a:off x="3331080" y="2784960"/>
              <a:ext cx="350640" cy="871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 flipV="1">
              <a:off x="3682080" y="2427840"/>
              <a:ext cx="326160" cy="35676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 flipV="1">
              <a:off x="4008600" y="2370240"/>
              <a:ext cx="120240" cy="576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flipV="1">
              <a:off x="4128840" y="2328480"/>
              <a:ext cx="677160" cy="4176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 flipV="1">
              <a:off x="4806360" y="2307960"/>
              <a:ext cx="38880" cy="19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V="1">
              <a:off x="4845240" y="2233080"/>
              <a:ext cx="454680" cy="748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5300280" y="2233080"/>
              <a:ext cx="377640" cy="5436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5677920" y="2287800"/>
              <a:ext cx="84600" cy="1339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762880" y="2421720"/>
              <a:ext cx="735120" cy="2916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498000" y="2713320"/>
              <a:ext cx="827640" cy="35496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325640" y="3068640"/>
              <a:ext cx="37440" cy="3492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2528280" y="3414600"/>
              <a:ext cx="70200" cy="8424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2" y="0"/>
                  </a:moveTo>
                  <a:lnTo>
                    <a:pt x="45" y="27"/>
                  </a:lnTo>
                  <a:lnTo>
                    <a:pt x="22" y="54"/>
                  </a:lnTo>
                  <a:lnTo>
                    <a:pt x="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685240" y="3402360"/>
              <a:ext cx="72000" cy="838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23" y="0"/>
                  </a:moveTo>
                  <a:lnTo>
                    <a:pt x="46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012480" y="3388320"/>
              <a:ext cx="7056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2" y="0"/>
                  </a:moveTo>
                  <a:lnTo>
                    <a:pt x="45" y="27"/>
                  </a:lnTo>
                  <a:lnTo>
                    <a:pt x="22" y="55"/>
                  </a:lnTo>
                  <a:lnTo>
                    <a:pt x="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333960" y="3375720"/>
              <a:ext cx="7056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2" y="0"/>
                  </a:moveTo>
                  <a:lnTo>
                    <a:pt x="45" y="27"/>
                  </a:lnTo>
                  <a:lnTo>
                    <a:pt x="22" y="54"/>
                  </a:lnTo>
                  <a:lnTo>
                    <a:pt x="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3660480" y="334332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981600" y="330120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4303080" y="3287160"/>
              <a:ext cx="70200" cy="8532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3" y="0"/>
                  </a:moveTo>
                  <a:lnTo>
                    <a:pt x="45" y="28"/>
                  </a:lnTo>
                  <a:lnTo>
                    <a:pt x="23" y="55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4629240" y="3232800"/>
              <a:ext cx="72000" cy="838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23" y="0"/>
                  </a:moveTo>
                  <a:lnTo>
                    <a:pt x="46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4950720" y="3188880"/>
              <a:ext cx="72000" cy="856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23" y="0"/>
                  </a:moveTo>
                  <a:lnTo>
                    <a:pt x="46" y="28"/>
                  </a:lnTo>
                  <a:lnTo>
                    <a:pt x="23" y="55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5277960" y="3134520"/>
              <a:ext cx="7056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2" y="0"/>
                  </a:moveTo>
                  <a:lnTo>
                    <a:pt x="45" y="27"/>
                  </a:lnTo>
                  <a:lnTo>
                    <a:pt x="22" y="54"/>
                  </a:lnTo>
                  <a:lnTo>
                    <a:pt x="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5599440" y="3143520"/>
              <a:ext cx="7056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2" y="0"/>
                  </a:moveTo>
                  <a:lnTo>
                    <a:pt x="45" y="27"/>
                  </a:lnTo>
                  <a:lnTo>
                    <a:pt x="22" y="55"/>
                  </a:lnTo>
                  <a:lnTo>
                    <a:pt x="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5920920" y="3128040"/>
              <a:ext cx="7056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2" y="0"/>
                  </a:moveTo>
                  <a:lnTo>
                    <a:pt x="45" y="27"/>
                  </a:lnTo>
                  <a:lnTo>
                    <a:pt x="22" y="54"/>
                  </a:lnTo>
                  <a:lnTo>
                    <a:pt x="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247440" y="302976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568920" y="308916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894720" y="3212280"/>
              <a:ext cx="7020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3" y="0"/>
                  </a:moveTo>
                  <a:lnTo>
                    <a:pt x="45" y="27"/>
                  </a:lnTo>
                  <a:lnTo>
                    <a:pt x="23" y="55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7216200" y="333684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327440" y="3561480"/>
              <a:ext cx="72000" cy="856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23" y="0"/>
                  </a:moveTo>
                  <a:lnTo>
                    <a:pt x="46" y="27"/>
                  </a:lnTo>
                  <a:lnTo>
                    <a:pt x="23" y="55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528280" y="3421080"/>
              <a:ext cx="70200" cy="856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694240" y="2916000"/>
              <a:ext cx="70560" cy="838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012480" y="2686680"/>
              <a:ext cx="70560" cy="838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333960" y="2520000"/>
              <a:ext cx="70560" cy="856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660480" y="2507400"/>
              <a:ext cx="70200" cy="838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981600" y="2493360"/>
              <a:ext cx="70200" cy="856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4303080" y="2392200"/>
              <a:ext cx="70200" cy="8532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4629240" y="2265840"/>
              <a:ext cx="72000" cy="8424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4959720" y="2128680"/>
              <a:ext cx="70560" cy="8424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5272200" y="2072880"/>
              <a:ext cx="70200" cy="8532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5599440" y="2063160"/>
              <a:ext cx="70560" cy="838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5925960" y="2099160"/>
              <a:ext cx="70200" cy="838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247440" y="2108520"/>
              <a:ext cx="70200" cy="856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568920" y="2418840"/>
              <a:ext cx="70200" cy="8532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894720" y="2543400"/>
              <a:ext cx="70200" cy="8424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7336800" y="3489840"/>
              <a:ext cx="70560" cy="856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528280" y="3421080"/>
              <a:ext cx="7020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2" y="0"/>
                  </a:moveTo>
                  <a:lnTo>
                    <a:pt x="45" y="55"/>
                  </a:lnTo>
                  <a:lnTo>
                    <a:pt x="0" y="5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2783880" y="334008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020400" y="3089160"/>
              <a:ext cx="7056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161520" y="2958120"/>
              <a:ext cx="72000" cy="8424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23" y="0"/>
                  </a:moveTo>
                  <a:lnTo>
                    <a:pt x="46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294720" y="2830320"/>
              <a:ext cx="72000" cy="853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23" y="0"/>
                  </a:moveTo>
                  <a:lnTo>
                    <a:pt x="46" y="55"/>
                  </a:lnTo>
                  <a:lnTo>
                    <a:pt x="0" y="5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646080" y="2743200"/>
              <a:ext cx="72000" cy="838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23" y="0"/>
                  </a:moveTo>
                  <a:lnTo>
                    <a:pt x="46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973680" y="2386080"/>
              <a:ext cx="7056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2" y="0"/>
                  </a:moveTo>
                  <a:lnTo>
                    <a:pt x="45" y="55"/>
                  </a:lnTo>
                  <a:lnTo>
                    <a:pt x="0" y="5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4093200" y="232848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4771800" y="2284560"/>
              <a:ext cx="7020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2" y="0"/>
                  </a:moveTo>
                  <a:lnTo>
                    <a:pt x="45" y="55"/>
                  </a:lnTo>
                  <a:lnTo>
                    <a:pt x="0" y="5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4809600" y="2265840"/>
              <a:ext cx="70200" cy="8424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5264280" y="219132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641920" y="2245680"/>
              <a:ext cx="72000" cy="856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23" y="0"/>
                  </a:moveTo>
                  <a:lnTo>
                    <a:pt x="46" y="55"/>
                  </a:lnTo>
                  <a:lnTo>
                    <a:pt x="0" y="5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5726880" y="2379600"/>
              <a:ext cx="7020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3" y="0"/>
                  </a:moveTo>
                  <a:lnTo>
                    <a:pt x="45" y="55"/>
                  </a:lnTo>
                  <a:lnTo>
                    <a:pt x="0" y="5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462000" y="2669760"/>
              <a:ext cx="70200" cy="8532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3" y="0"/>
                  </a:moveTo>
                  <a:lnTo>
                    <a:pt x="45" y="55"/>
                  </a:lnTo>
                  <a:lnTo>
                    <a:pt x="0" y="5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7289640" y="3026520"/>
              <a:ext cx="70200" cy="8424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7327440" y="3375720"/>
              <a:ext cx="72000" cy="838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23" y="0"/>
                  </a:moveTo>
                  <a:lnTo>
                    <a:pt x="46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441920" y="35460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4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3721320" y="34275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3707280" y="23968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451280" y="34740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4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3727800" y="27882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7423200" y="32482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4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1462320" y="530280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1401480" y="48805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1401480" y="44625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1401480" y="40413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1401480" y="3623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1401480" y="32029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401480" y="27835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1401480" y="23641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7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1401480" y="19461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1401480" y="1523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9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164520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229284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293796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358524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6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423144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8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487872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552816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17220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82020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6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746676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8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811440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3770280" y="5717520"/>
              <a:ext cx="289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Percentage Reduction Relative to the Worst 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 rot="16200000">
              <a:off x="533160" y="3418200"/>
              <a:ext cx="152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Net Benefits MMUS$/y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8457840" y="3182400"/>
              <a:ext cx="604800" cy="620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8497080" y="3283920"/>
              <a:ext cx="267840" cy="10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8597520" y="3245040"/>
              <a:ext cx="64080" cy="7776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21" y="0"/>
                  </a:moveTo>
                  <a:lnTo>
                    <a:pt x="41" y="25"/>
                  </a:lnTo>
                  <a:lnTo>
                    <a:pt x="21" y="50"/>
                  </a:lnTo>
                  <a:lnTo>
                    <a:pt x="0" y="2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8790480" y="321228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P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8497080" y="3489840"/>
              <a:ext cx="267840" cy="1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8597520" y="3450960"/>
              <a:ext cx="64080" cy="777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8790480" y="341784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P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8497080" y="3695400"/>
              <a:ext cx="267840" cy="1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8597520" y="3656520"/>
              <a:ext cx="64080" cy="7776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21" y="0"/>
                  </a:moveTo>
                  <a:lnTo>
                    <a:pt x="41" y="50"/>
                  </a:lnTo>
                  <a:lnTo>
                    <a:pt x="0" y="5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8790480" y="362376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T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7" name=""/>
          <p:cNvSpPr/>
          <p:nvPr/>
        </p:nvSpPr>
        <p:spPr>
          <a:xfrm>
            <a:off x="1295280" y="141120"/>
            <a:ext cx="7543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Beneficios Netos de Reducir Material Particulado en Santiago Considerando Diferentes Instrumentos de 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"/>
          <p:cNvSpPr/>
          <p:nvPr/>
        </p:nvSpPr>
        <p:spPr>
          <a:xfrm>
            <a:off x="1203480" y="992160"/>
            <a:ext cx="763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1127160" y="1371600"/>
            <a:ext cx="7254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a valoración entrega información respecto de la posibilidad de exigir mayores reducciones 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umando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 los beneficios de diversos impactos en salud (a diferencia del caso 2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e  confirma que utilizar EPS es una buena op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Para seguir avanzando en esta línea es crítico consensu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valores de dosis-respues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valor monetario de cada efecto (el “valor de la vida” por ejempl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114300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nclus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0" dur="1" fill="hold"/>
                                  <p:tgtEl>
                                    <p:spTgt spid="36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"/>
          <p:cNvSpPr/>
          <p:nvPr/>
        </p:nvSpPr>
        <p:spPr>
          <a:xfrm>
            <a:off x="1143000" y="22096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Arial Black"/>
              </a:rPr>
              <a:t>INSTRUMENTOS DE REGULACIÓN AMBIENTAL: EL NUEVO MODELO Y CASOS PARA CH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0" dur="1" fill="hold"/>
                                  <p:tgtEl>
                                    <p:spTgt spid="36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"/>
          <p:cNvSpPr/>
          <p:nvPr/>
        </p:nvSpPr>
        <p:spPr>
          <a:xfrm>
            <a:off x="1295280" y="385920"/>
            <a:ext cx="754380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L NUEVO MODELO DE REGUL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3" name=""/>
          <p:cNvGrpSpPr/>
          <p:nvPr/>
        </p:nvGrpSpPr>
        <p:grpSpPr>
          <a:xfrm>
            <a:off x="1065600" y="1066680"/>
            <a:ext cx="8130600" cy="5562360"/>
            <a:chOff x="1065600" y="1066680"/>
            <a:chExt cx="8130600" cy="5562360"/>
          </a:xfrm>
        </p:grpSpPr>
        <p:sp>
          <p:nvSpPr>
            <p:cNvPr id="3694" name=""/>
            <p:cNvSpPr/>
            <p:nvPr/>
          </p:nvSpPr>
          <p:spPr>
            <a:xfrm>
              <a:off x="1072800" y="1066680"/>
              <a:ext cx="7974360" cy="55623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1839600" y="5726520"/>
              <a:ext cx="15188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3785040" y="5726520"/>
              <a:ext cx="2309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785040" y="5726520"/>
              <a:ext cx="2309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1228320" y="2070720"/>
              <a:ext cx="3564000" cy="4314600"/>
            </a:xfrm>
            <a:custGeom>
              <a:avLst/>
              <a:gdLst/>
              <a:ahLst/>
              <a:rect l="l" t="t" r="r" b="b"/>
              <a:pathLst>
                <a:path w="2292" h="2600">
                  <a:moveTo>
                    <a:pt x="0" y="0"/>
                  </a:moveTo>
                  <a:lnTo>
                    <a:pt x="2283" y="898"/>
                  </a:lnTo>
                  <a:lnTo>
                    <a:pt x="2291" y="2599"/>
                  </a:lnTo>
                  <a:lnTo>
                    <a:pt x="0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4791240" y="2070720"/>
              <a:ext cx="3591720" cy="4327920"/>
            </a:xfrm>
            <a:custGeom>
              <a:avLst/>
              <a:gdLst/>
              <a:ahLst/>
              <a:rect l="l" t="t" r="r" b="b"/>
              <a:pathLst>
                <a:path w="2310" h="2608">
                  <a:moveTo>
                    <a:pt x="2309" y="0"/>
                  </a:moveTo>
                  <a:lnTo>
                    <a:pt x="0" y="2607"/>
                  </a:lnTo>
                  <a:lnTo>
                    <a:pt x="0" y="897"/>
                  </a:lnTo>
                  <a:lnTo>
                    <a:pt x="2309" y="0"/>
                  </a:lnTo>
                </a:path>
              </a:pathLst>
            </a:custGeom>
            <a:solidFill>
              <a:srgbClr val="fb697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1239120" y="2070720"/>
              <a:ext cx="7126920" cy="1501560"/>
            </a:xfrm>
            <a:custGeom>
              <a:avLst/>
              <a:gdLst/>
              <a:ahLst/>
              <a:rect l="l" t="t" r="r" b="b"/>
              <a:pathLst>
                <a:path w="4583" h="905">
                  <a:moveTo>
                    <a:pt x="0" y="0"/>
                  </a:moveTo>
                  <a:lnTo>
                    <a:pt x="2277" y="904"/>
                  </a:lnTo>
                  <a:lnTo>
                    <a:pt x="4582" y="5"/>
                  </a:lnTo>
                  <a:lnTo>
                    <a:pt x="0" y="0"/>
                  </a:lnTo>
                </a:path>
              </a:pathLst>
            </a:custGeom>
            <a:solidFill>
              <a:srgbClr val="60ff0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01" name=""/>
            <p:cNvGraphicFramePr/>
            <p:nvPr/>
          </p:nvGraphicFramePr>
          <p:xfrm>
            <a:off x="3753720" y="2970000"/>
            <a:ext cx="2142720" cy="79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3720" y="2970000"/>
                      <a:ext cx="2142720" cy="79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3" name=""/>
            <p:cNvSpPr/>
            <p:nvPr/>
          </p:nvSpPr>
          <p:spPr>
            <a:xfrm rot="2880000">
              <a:off x="2277360" y="3856320"/>
              <a:ext cx="23292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Mercado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 rot="18720000">
              <a:off x="4728600" y="3853800"/>
              <a:ext cx="27514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Comunida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101840" y="2174760"/>
              <a:ext cx="1681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Estad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150440" y="28918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an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2634120" y="1089360"/>
              <a:ext cx="44038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Instrum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ando y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conóm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formación Públic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1065600" y="3911040"/>
              <a:ext cx="196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sumid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2631600" y="5902560"/>
              <a:ext cx="189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versionis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1292040" y="4546440"/>
              <a:ext cx="157464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Elem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pu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réd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ananc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468400" y="5902560"/>
              <a:ext cx="907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O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185960" y="3672000"/>
              <a:ext cx="1641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iudada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6963480" y="4466880"/>
              <a:ext cx="223272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Elem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rmas Social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goci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3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95280" y="385920"/>
            <a:ext cx="754380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INTRODU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2193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Arial Black"/>
              </a:rPr>
              <a:t>Temas transversales a las áreas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Criterios de selección de instrumentos para la regulación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Problema de la incertid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Diseño de instr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Impacto distrib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Evaluaciones parciales vs 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Problema de la optimalidad intertemporal (eficiencia dinámica vs eficiencia estát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Técnicas de val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1" dur="1" fill="hold"/>
                                  <p:tgtEl>
                                    <p:spTgt spid="5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"/>
          <p:cNvSpPr/>
          <p:nvPr/>
        </p:nvSpPr>
        <p:spPr>
          <a:xfrm>
            <a:off x="1295280" y="304920"/>
            <a:ext cx="7543800" cy="642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1143000" y="236232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 Black"/>
              </a:rPr>
              <a:t>Estrategia para el Control de Sustancias Agotadoras de la Capa de Ozono: no exactamente lo que ordenó el do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7" dur="1" fill="hold"/>
                                  <p:tgtEl>
                                    <p:spTgt spid="37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"/>
          <p:cNvSpPr/>
          <p:nvPr/>
        </p:nvSpPr>
        <p:spPr>
          <a:xfrm>
            <a:off x="1143000" y="1143000"/>
            <a:ext cx="777240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n Marzo de 1990 Chile ratificó el Protocolo de Montreal sobre sustancias que Agotan la Capa de Ozono (SA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hile es básicamente un país importador de SA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FC-11 38% del consumo PA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FC-12 32% del consumo PA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Bromuro de metilo </a:t>
            </a:r>
            <a:r>
              <a:rPr b="0" lang="es-CL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22% 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del consumo PA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a importación de CFC está concentrada en pocas empresas importad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os usuarios finales de CFC se concentran en empresas grandes y medianas (55%) y el resto está atomizado en empresas pequeñ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1295280" y="228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Antecedentes Sustancias Agotadoras de la Capa de Ozono en Ch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7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7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7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3" dur="1" fill="hold"/>
                                  <p:tgtEl>
                                    <p:spTgt spid="3716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"/>
          <p:cNvSpPr/>
          <p:nvPr/>
        </p:nvSpPr>
        <p:spPr>
          <a:xfrm>
            <a:off x="1143000" y="1143000"/>
            <a:ext cx="77724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Se pretende responder las siguientes pregunta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¿qué atributos son relevantes para la autoridad ambiental al momento de seleccionar instrumentos que permitan cumplir las obligaciones contraídas en el Protocol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¿Cuales son los costos de cumplir con las reducciones comprometida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¿Hace una diferencia significativa el aplicar instrumentos flexibl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1295280" y="152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Antecedentes Sustancias Agotadoras de la Capa de Ozono en Ch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1" dur="1" fill="hold"/>
                                  <p:tgtEl>
                                    <p:spTgt spid="37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"/>
          <p:cNvSpPr/>
          <p:nvPr/>
        </p:nvSpPr>
        <p:spPr>
          <a:xfrm>
            <a:off x="1584360" y="1339920"/>
            <a:ext cx="733104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Los economistas prefieren usar instrumentos flexibles porque ellos son costo-efec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Los reguladores valoran atributos com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Efectiv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Simplicidad administrativa, legal e institu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Posibilidades de monitoreo y fiscaliz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Veremos que en este caso la costo efectividad no es lo más relevante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114300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Uso de Instru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1" dur="1" fill="hold"/>
                                  <p:tgtEl>
                                    <p:spTgt spid="372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"/>
          <p:cNvSpPr/>
          <p:nvPr/>
        </p:nvSpPr>
        <p:spPr>
          <a:xfrm>
            <a:off x="176688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3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8001000" cy="4011480"/>
          </a:xfrm>
          <a:prstGeom prst="rect">
            <a:avLst/>
          </a:prstGeom>
          <a:ln w="0">
            <a:noFill/>
          </a:ln>
        </p:spPr>
      </p:pic>
      <p:sp>
        <p:nvSpPr>
          <p:cNvPr id="3724" name=""/>
          <p:cNvSpPr/>
          <p:nvPr/>
        </p:nvSpPr>
        <p:spPr>
          <a:xfrm>
            <a:off x="1295280" y="228600"/>
            <a:ext cx="7543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mparación de Escenarios con Oblig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3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5" name=""/>
          <p:cNvGraphicFramePr/>
          <p:nvPr/>
        </p:nvGraphicFramePr>
        <p:xfrm>
          <a:off x="1143000" y="1295280"/>
          <a:ext cx="8001000" cy="433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800100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7" name=""/>
          <p:cNvSpPr/>
          <p:nvPr/>
        </p:nvSpPr>
        <p:spPr>
          <a:xfrm>
            <a:off x="1295280" y="228600"/>
            <a:ext cx="7543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valuación Cualitativa de Instrumentos Regulato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3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8" name=""/>
          <p:cNvGraphicFramePr/>
          <p:nvPr/>
        </p:nvGraphicFramePr>
        <p:xfrm>
          <a:off x="1371600" y="1219320"/>
          <a:ext cx="7620120" cy="50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7620120" cy="50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0" name=""/>
          <p:cNvSpPr/>
          <p:nvPr/>
        </p:nvSpPr>
        <p:spPr>
          <a:xfrm>
            <a:off x="1295280" y="228600"/>
            <a:ext cx="7543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valuación Cualitativa de Instrumentos Regulato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3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"/>
          <p:cNvSpPr/>
          <p:nvPr/>
        </p:nvSpPr>
        <p:spPr>
          <a:xfrm>
            <a:off x="1295280" y="228600"/>
            <a:ext cx="7543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stos de las opciones regulatorias para cada escen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2" name=""/>
          <p:cNvGraphicFramePr/>
          <p:nvPr/>
        </p:nvGraphicFramePr>
        <p:xfrm>
          <a:off x="1371600" y="2125800"/>
          <a:ext cx="7467480" cy="16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125800"/>
                    <a:ext cx="746748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3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"/>
          <p:cNvSpPr/>
          <p:nvPr/>
        </p:nvSpPr>
        <p:spPr>
          <a:xfrm>
            <a:off x="1295280" y="1219320"/>
            <a:ext cx="7635960" cy="44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os ahorros de costos de aplicar un SPIT no son muy significativ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Discusiones con las autoridades de CONAMA señalan que este gasto adicional es un “mal menor” si con ello se evita llevar la discusión de la estrategia al Congr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a autoridad no estima importantes los usos potenciales que se pueden dejar de realizar por adelantar prohibi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Al sopesar tanto los antecedentes cuantitativos y cualitativos, </a:t>
            </a:r>
            <a:r>
              <a:rPr b="0" i="1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a autoridad se inclina por aplicar prohibiciones por sustancia, adelantando la de CFC12 al 2007</a:t>
            </a: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.  No exactamente lo que ordenó “el do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114300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nclus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7" dur="1" fill="hold"/>
                                  <p:tgtEl>
                                    <p:spTgt spid="373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"/>
          <p:cNvSpPr/>
          <p:nvPr/>
        </p:nvSpPr>
        <p:spPr>
          <a:xfrm>
            <a:off x="1295280" y="196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QUILIBRIO PARCIAL VS EQUILIBRI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1143000" y="23623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 Black"/>
              </a:rPr>
              <a:t>El Modelo ECOGEM-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7" dur="1" fill="hold"/>
                                  <p:tgtEl>
                                    <p:spTgt spid="37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385920"/>
            <a:ext cx="754380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CONTENIDOS PRESENT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143000"/>
            <a:ext cx="769608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nfoques para la Regulación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aso 1: Costo Efectividad de Instrumentos para Reducir las Emisiones en Santi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aso 2: Análisis Riesgo Costo de una Regulación Ambiental para el Arsé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aso 3: Beneficios Netos de Reducir la Contaminación en Santi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Instrumentos de Regulación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l Nuevo Modelo de Regulación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aso 4: Estrategia para el Control de Sustancias Agotadoras de la Capa de Ozono: no exactamente lo que ordenó el do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quilibrio parcial vs Equilibrio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l Modelo ECOGEM-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aso 5: Impuestos Ambient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onclusiones y comentarios fi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1" dur="1" fill="hold"/>
                                  <p:tgtEl>
                                    <p:spTgt spid="53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"/>
          <p:cNvSpPr/>
          <p:nvPr/>
        </p:nvSpPr>
        <p:spPr>
          <a:xfrm>
            <a:off x="1219320" y="1380960"/>
            <a:ext cx="7467480" cy="4956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2055960" y="4267080"/>
            <a:ext cx="901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2120760" y="3827520"/>
            <a:ext cx="965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1541520" y="2949480"/>
            <a:ext cx="1930320" cy="138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1541520" y="2949480"/>
            <a:ext cx="1930320" cy="1381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1876320" y="3075120"/>
            <a:ext cx="1658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istribución del Ingr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or Quin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1541520" y="3325680"/>
            <a:ext cx="10303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y 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1541520" y="3678120"/>
            <a:ext cx="155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Trabaj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alificado y no Califi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6948360" y="4392720"/>
            <a:ext cx="1287720" cy="941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el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nter-Indust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 flipV="1">
            <a:off x="7205760" y="4078080"/>
            <a:ext cx="0" cy="37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7978680" y="401652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9" name=""/>
          <p:cNvGrpSpPr/>
          <p:nvPr/>
        </p:nvGrpSpPr>
        <p:grpSpPr>
          <a:xfrm>
            <a:off x="2763720" y="4330800"/>
            <a:ext cx="3862440" cy="250560"/>
            <a:chOff x="2763720" y="4330800"/>
            <a:chExt cx="3862440" cy="250560"/>
          </a:xfrm>
        </p:grpSpPr>
        <p:sp>
          <p:nvSpPr>
            <p:cNvPr id="3750" name=""/>
            <p:cNvSpPr/>
            <p:nvPr/>
          </p:nvSpPr>
          <p:spPr>
            <a:xfrm>
              <a:off x="2763720" y="4581360"/>
              <a:ext cx="386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2763720" y="4330800"/>
              <a:ext cx="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 flipV="1">
              <a:off x="6626160" y="4330800"/>
              <a:ext cx="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3" name=""/>
          <p:cNvGrpSpPr/>
          <p:nvPr/>
        </p:nvGrpSpPr>
        <p:grpSpPr>
          <a:xfrm>
            <a:off x="2378160" y="4330440"/>
            <a:ext cx="4441680" cy="501840"/>
            <a:chOff x="2378160" y="4330440"/>
            <a:chExt cx="4441680" cy="501840"/>
          </a:xfrm>
        </p:grpSpPr>
        <p:sp>
          <p:nvSpPr>
            <p:cNvPr id="3754" name=""/>
            <p:cNvSpPr/>
            <p:nvPr/>
          </p:nvSpPr>
          <p:spPr>
            <a:xfrm>
              <a:off x="6819840" y="433080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 flipH="1">
              <a:off x="2378160" y="4832280"/>
              <a:ext cx="444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 flipV="1">
              <a:off x="2378160" y="433044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7" name=""/>
          <p:cNvSpPr/>
          <p:nvPr/>
        </p:nvSpPr>
        <p:spPr>
          <a:xfrm>
            <a:off x="3987720" y="4957920"/>
            <a:ext cx="15447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alarios y Re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8" name=""/>
          <p:cNvGrpSpPr/>
          <p:nvPr/>
        </p:nvGrpSpPr>
        <p:grpSpPr>
          <a:xfrm>
            <a:off x="2635200" y="2322360"/>
            <a:ext cx="4184640" cy="501840"/>
            <a:chOff x="2635200" y="2322360"/>
            <a:chExt cx="4184640" cy="501840"/>
          </a:xfrm>
        </p:grpSpPr>
        <p:sp>
          <p:nvSpPr>
            <p:cNvPr id="3759" name=""/>
            <p:cNvSpPr/>
            <p:nvPr/>
          </p:nvSpPr>
          <p:spPr>
            <a:xfrm flipV="1">
              <a:off x="6819840" y="2322360"/>
              <a:ext cx="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 flipH="1">
              <a:off x="2635200" y="2322360"/>
              <a:ext cx="418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635200" y="2322360"/>
              <a:ext cx="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2" name=""/>
          <p:cNvSpPr/>
          <p:nvPr/>
        </p:nvSpPr>
        <p:spPr>
          <a:xfrm>
            <a:off x="4116240" y="2133720"/>
            <a:ext cx="141624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Biene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3" name=""/>
          <p:cNvGrpSpPr/>
          <p:nvPr/>
        </p:nvGrpSpPr>
        <p:grpSpPr>
          <a:xfrm>
            <a:off x="2892600" y="2572920"/>
            <a:ext cx="3670200" cy="313200"/>
            <a:chOff x="2892600" y="2572920"/>
            <a:chExt cx="3670200" cy="313200"/>
          </a:xfrm>
        </p:grpSpPr>
        <p:sp>
          <p:nvSpPr>
            <p:cNvPr id="3764" name=""/>
            <p:cNvSpPr/>
            <p:nvPr/>
          </p:nvSpPr>
          <p:spPr>
            <a:xfrm flipV="1">
              <a:off x="2892600" y="2572920"/>
              <a:ext cx="0" cy="25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2892600" y="2573280"/>
              <a:ext cx="367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6562800" y="257328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7" name=""/>
          <p:cNvSpPr/>
          <p:nvPr/>
        </p:nvSpPr>
        <p:spPr>
          <a:xfrm>
            <a:off x="4245120" y="2384280"/>
            <a:ext cx="10936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nsu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8" name=""/>
          <p:cNvGrpSpPr/>
          <p:nvPr/>
        </p:nvGrpSpPr>
        <p:grpSpPr>
          <a:xfrm>
            <a:off x="6497640" y="2949480"/>
            <a:ext cx="1932120" cy="1381320"/>
            <a:chOff x="6497640" y="2949480"/>
            <a:chExt cx="1932120" cy="1381320"/>
          </a:xfrm>
        </p:grpSpPr>
        <p:sp>
          <p:nvSpPr>
            <p:cNvPr id="3769" name=""/>
            <p:cNvSpPr/>
            <p:nvPr/>
          </p:nvSpPr>
          <p:spPr>
            <a:xfrm>
              <a:off x="6497640" y="2949480"/>
              <a:ext cx="1932120" cy="138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6720480" y="3363840"/>
              <a:ext cx="148608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Empres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1" name=""/>
          <p:cNvSpPr/>
          <p:nvPr/>
        </p:nvSpPr>
        <p:spPr>
          <a:xfrm>
            <a:off x="4373640" y="3263760"/>
            <a:ext cx="1093680" cy="689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2" name=""/>
          <p:cNvGrpSpPr/>
          <p:nvPr/>
        </p:nvGrpSpPr>
        <p:grpSpPr>
          <a:xfrm>
            <a:off x="1219320" y="1066680"/>
            <a:ext cx="7467480" cy="5334120"/>
            <a:chOff x="1219320" y="1066680"/>
            <a:chExt cx="7467480" cy="5334120"/>
          </a:xfrm>
        </p:grpSpPr>
        <p:sp>
          <p:nvSpPr>
            <p:cNvPr id="3773" name=""/>
            <p:cNvSpPr/>
            <p:nvPr/>
          </p:nvSpPr>
          <p:spPr>
            <a:xfrm>
              <a:off x="1219320" y="1066680"/>
              <a:ext cx="7467480" cy="533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412280" y="1191960"/>
              <a:ext cx="12873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Resto del Mu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5" name=""/>
          <p:cNvSpPr/>
          <p:nvPr/>
        </p:nvSpPr>
        <p:spPr>
          <a:xfrm>
            <a:off x="6562800" y="1506600"/>
            <a:ext cx="901800" cy="627120"/>
          </a:xfrm>
          <a:prstGeom prst="rightArrow">
            <a:avLst>
              <a:gd name="adj1" fmla="val 50000"/>
              <a:gd name="adj2" fmla="val 3595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Export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2249640" y="5584680"/>
            <a:ext cx="901440" cy="627120"/>
          </a:xfrm>
          <a:prstGeom prst="rightArrow">
            <a:avLst>
              <a:gd name="adj1" fmla="val 50000"/>
              <a:gd name="adj2" fmla="val 3593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Import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7" name=""/>
          <p:cNvGrpSpPr/>
          <p:nvPr/>
        </p:nvGrpSpPr>
        <p:grpSpPr>
          <a:xfrm>
            <a:off x="3600360" y="2760480"/>
            <a:ext cx="2639880" cy="1703160"/>
            <a:chOff x="3600360" y="2760480"/>
            <a:chExt cx="2639880" cy="1703160"/>
          </a:xfrm>
        </p:grpSpPr>
        <p:sp>
          <p:nvSpPr>
            <p:cNvPr id="3778" name=""/>
            <p:cNvSpPr/>
            <p:nvPr/>
          </p:nvSpPr>
          <p:spPr>
            <a:xfrm flipV="1">
              <a:off x="4888080" y="2760480"/>
              <a:ext cx="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4888080" y="4078080"/>
              <a:ext cx="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 flipH="1">
              <a:off x="3600360" y="3576240"/>
              <a:ext cx="51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 flipH="1">
              <a:off x="5725440" y="3576240"/>
              <a:ext cx="51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2" name=""/>
          <p:cNvSpPr/>
          <p:nvPr/>
        </p:nvSpPr>
        <p:spPr>
          <a:xfrm>
            <a:off x="3600360" y="4643280"/>
            <a:ext cx="22543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Trabajo y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6713640" y="2514600"/>
            <a:ext cx="725040" cy="874800"/>
          </a:xfrm>
          <a:prstGeom prst="upArrow">
            <a:avLst>
              <a:gd name="adj1" fmla="val 50000"/>
              <a:gd name="adj2" fmla="val 3016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>
            <a:off x="7185960" y="2573280"/>
            <a:ext cx="1455120" cy="80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natu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 rot="10800000">
            <a:off x="1538280" y="4265640"/>
            <a:ext cx="725040" cy="874800"/>
          </a:xfrm>
          <a:prstGeom prst="upArrow">
            <a:avLst>
              <a:gd name="adj1" fmla="val 50000"/>
              <a:gd name="adj2" fmla="val 3016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 rot="10800000">
            <a:off x="2418120" y="4265280"/>
            <a:ext cx="1455840" cy="80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natu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4438800" y="5735520"/>
            <a:ext cx="115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ECO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838080" y="1522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Arial Black"/>
              </a:rPr>
              <a:t>CONCEPTUALIZACION MODELO ECOGEM: </a:t>
            </a:r>
            <a:r>
              <a:rPr b="0" lang="es-ES" sz="2700" spc="-1" strike="noStrike">
                <a:solidFill>
                  <a:srgbClr val="ffffff"/>
                </a:solidFill>
                <a:latin typeface="Arial Black"/>
              </a:rPr>
              <a:t>FLUJO CIRCULAR DE LA REN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4" dur="500"/>
                                        <p:tgtEl>
                                          <p:spTgt spid="3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6" dur="500"/>
                                        <p:tgtEl>
                                          <p:spTgt spid="3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000"/>
                            </p:stCondLst>
                            <p:childTnLst>
                              <p:par>
                                <p:cTn id="9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3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"/>
          <p:cNvSpPr/>
          <p:nvPr/>
        </p:nvSpPr>
        <p:spPr>
          <a:xfrm>
            <a:off x="1295280" y="304920"/>
            <a:ext cx="7543800" cy="642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1143000" y="23623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 Black"/>
              </a:rPr>
              <a:t>Impuestos Ambient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3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1" dur="1" fill="hold"/>
                                  <p:tgtEl>
                                    <p:spTgt spid="37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"/>
          <p:cNvSpPr/>
          <p:nvPr/>
        </p:nvSpPr>
        <p:spPr>
          <a:xfrm>
            <a:off x="1295280" y="152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Impactos de Incluir Impuestos al PM10 y Derivados del Petró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2" name=""/>
          <p:cNvGraphicFramePr/>
          <p:nvPr/>
        </p:nvGraphicFramePr>
        <p:xfrm>
          <a:off x="2133720" y="1193760"/>
          <a:ext cx="54864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193760"/>
                    <a:ext cx="5486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3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4" name=""/>
          <p:cNvGraphicFramePr/>
          <p:nvPr/>
        </p:nvGraphicFramePr>
        <p:xfrm>
          <a:off x="2209680" y="1916280"/>
          <a:ext cx="5639040" cy="361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16280"/>
                    <a:ext cx="563904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6" name=""/>
          <p:cNvSpPr/>
          <p:nvPr/>
        </p:nvSpPr>
        <p:spPr>
          <a:xfrm>
            <a:off x="1295280" y="152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Impactos de Incluir Impuestos al PM10 y Derivados del Petró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3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"/>
          <p:cNvSpPr/>
          <p:nvPr/>
        </p:nvSpPr>
        <p:spPr>
          <a:xfrm>
            <a:off x="1295280" y="228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nclusiones y futuros desarrollos de la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>
            <a:off x="1143000" y="1295280"/>
            <a:ext cx="784872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l análisis de equilibrio general entrega información útil para el análisis de políticas en que hay múltiples sectores involucr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ntre las falencias del modelo actual se cuenta su estaticidad, obviando las relaciones dinámicas de la economía, en especial la inver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Se está trabajando actualmente en el desarrollo de un modelo dinámico que permita capturar dichas interrelaciones de mediano y largo plaz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También se está trabajando en la estimación de parámetros del modelo, en especial las elasticidades que este emple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Adicionalmente se está trabajando en la incorporación de la calidad ambiental en la función de utilidad (preferencias de los consumidores por una mejor calidad ambien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3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3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3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3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9" dur="1" fill="hold"/>
                                  <p:tgtEl>
                                    <p:spTgt spid="379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"/>
          <p:cNvSpPr/>
          <p:nvPr/>
        </p:nvSpPr>
        <p:spPr>
          <a:xfrm>
            <a:off x="129528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NCLUS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1143000" y="1295280"/>
            <a:ext cx="784872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s fundamental incorporar más evaluaciones empíricas que permitan asegurar que las políticas aplicadas sean relativamente eficientes y eficaces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l diseño e implementación de los instrumentos debe mejorarse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Hace falta mayor investigación en “hacer cumplir” (enforcement), la que está desarrollándose en forma muy incipiente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s necesario conocer los mercados con los que se está trabajando. No bastan las recetas simplistas de modelos de equilibrio parcial. Los economistas deben salir a terren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e requiere una mayor capacidad para trabajo interdisciplinario (economistas, ingenieros, abogados), mejor información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os APL han permitido poner bajo control a algunos sectores que con otro tipo de instrumentos serían ineficaces debido a las dificultades de monitoreo y fiscalización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3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3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3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38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38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9" dur="1" fill="hold"/>
                                  <p:tgtEl>
                                    <p:spTgt spid="380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"/>
          <p:cNvSpPr/>
          <p:nvPr/>
        </p:nvSpPr>
        <p:spPr>
          <a:xfrm>
            <a:off x="129528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NCLUS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1143000" y="1295280"/>
            <a:ext cx="784872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Por ahora la teoría económica ofrece pocas luces respecto de cuando conviene aplicar los APL, qué forma deben tomar y su comparación con la aplicación de instrumentos más tradicionales de regul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Chile ha sido extremadamente descuidado en el tema de las exigencias ambientales internacionales a las que se están viendo sometidas las export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ntender la economía política detrás de ello es crítico para diseñar las instituciones, políticas e instrumentos que permitan defender nuestras exportaciones.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l campo del manejo de recursos está prácticamente virgen (ejemplo cobre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n forma creciente veremos que la aplicación de buena economía a los problemas ambientales será una forma en que los académicos de Latinoamérica publiquen en los mejores Journals del área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3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3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3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38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3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3" dur="1" fill="hold"/>
                                  <p:tgtEl>
                                    <p:spTgt spid="38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92200" y="152280"/>
            <a:ext cx="516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Black"/>
              </a:rPr>
              <a:t>ENFOQUES DE REGUL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Black"/>
              </a:rPr>
              <a:t>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60020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600200"/>
            <a:ext cx="59436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(1) Asignación de Derechos de Prop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(2) Análisis Costo-Benef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     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(Enfoque optimiz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(3) Análisis de Costo-Efe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(4) Análisis de Ries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(5) Enfoques Volu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10560" y="3132000"/>
            <a:ext cx="163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_tradnl" sz="2200" spc="-1" strike="noStrike">
                <a:solidFill>
                  <a:srgbClr val="000099"/>
                </a:solidFill>
                <a:latin typeface="Arial Black"/>
              </a:rPr>
              <a:t>Enfo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 Black"/>
              </a:rPr>
              <a:t>      </a:t>
            </a:r>
            <a:r>
              <a:rPr b="0" lang="es-ES_tradnl" sz="2200" spc="-1" strike="noStrike">
                <a:solidFill>
                  <a:srgbClr val="000099"/>
                </a:solidFill>
                <a:latin typeface="Arial Black"/>
              </a:rPr>
              <a:t>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 Black"/>
              </a:rPr>
              <a:t>Regul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2895480"/>
            <a:ext cx="380880" cy="2057400"/>
          </a:xfrm>
          <a:custGeom>
            <a:avLst/>
            <a:gdLst>
              <a:gd name="textAreaLeft" fmla="*/ 0 w 380880"/>
              <a:gd name="textAreaRight" fmla="*/ 13752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2286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 Black"/>
              </a:rPr>
              <a:t>Acuerdos de Producción Limpia: Compromisos Asociados a Aspectos Normados y no Normado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1676520"/>
          <a:ext cx="7772400" cy="36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777240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304920"/>
            <a:ext cx="7543800" cy="642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23623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Costo Efectividad de Instrumentos para Reducir las Emisiones en Santiago</a:t>
            </a:r>
            <a:r>
              <a:rPr b="0" lang="es-ES" sz="28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4" dur="1" fill="hold"/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95280" y="1447920"/>
            <a:ext cx="762012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istema de compensaciones (desde 199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Una de las primeras aplicaciones urbanas significativas en el m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Información disponible escasa (inventarios de emi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Información de opciones d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Modelos emisiones – concentraciones (incipientes en la époc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l problema de la información y de los modelos es un problema hasta el día de hoy en este ámb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28600"/>
            <a:ext cx="800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valuación de la costo efectividad del uso de permisos transables para Santiag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4" dur="1" fill="hold"/>
                                  <p:tgtEl>
                                    <p:spTgt spid="6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95280" y="1295280"/>
            <a:ext cx="7620120" cy="47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e consideraron 4 instrumentos y se compararon los costos asociados a cumplir diferentes m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Arial Black"/>
                <a:ea typeface="Times New Roman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PA: Aplicación teóricamente óptima (de mínimo costo) de permisos trans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PE: Aplicación subóptima acepta intercambiar permisos sin importar localización de fu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Arial Black"/>
                <a:ea typeface="Times New Roman"/>
              </a:rPr>
              <a:t>Regulación dir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PER: Exige reducción porcentual igual a cada f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TD: Aplicación de estándares de emisión uniformes a las fu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METODOLOGIA DE EVALU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0" dur="1" fill="hold"/>
                                  <p:tgtEl>
                                    <p:spTgt spid="66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4T19:05:05Z</dcterms:created>
  <dc:creator>V_Lira</dc:creator>
  <dc:description/>
  <dc:language>en-US</dc:language>
  <cp:lastModifiedBy>.</cp:lastModifiedBy>
  <cp:lastPrinted>2002-04-01T16:27:05Z</cp:lastPrinted>
  <dcterms:modified xsi:type="dcterms:W3CDTF">2006-10-25T00:28:39Z</dcterms:modified>
  <cp:revision>112</cp:revision>
  <dc:subject/>
  <dc:title>Sin título de diapositiva</dc:title>
</cp:coreProperties>
</file>