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D83952-343F-4E43-9CB7-675ED36940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264D2-D273-4F98-94CE-C22A6B09B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F87490-3E70-4352-B9DF-0C67612FCF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93391F-7A25-4950-A09B-AF8E454FDB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9C04C-64D5-4E8F-86AB-29768AD49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58103-9C51-4FE4-8A9E-896AB6AFB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EFDE8-DF6D-47E2-867E-F979FCE21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C55CF-F55F-4943-8873-430472BF3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D152A-D09E-444F-8101-7937CC14F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50F46-E411-4F02-88F3-E792BAF3B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254BC-1AFE-480E-8E28-DAAC88E7D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30ECE-F280-455D-B40F-DAAA89BD5B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274B6-9EBD-4ADA-A1E3-C407DE73AE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1557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000000"/>
                </a:solidFill>
                <a:latin typeface="Arial"/>
              </a:rPr>
              <a:t>Las manos invisibles de Adam Smith</a:t>
            </a:r>
            <a:endParaRPr b="0" lang="en-US" sz="6000" spc="-1" strike="noStrike">
              <a:solidFill>
                <a:srgbClr val="000000"/>
              </a:solidFill>
              <a:latin typeface="Arial"/>
            </a:endParaRPr>
          </a:p>
        </p:txBody>
      </p:sp>
      <p:sp>
        <p:nvSpPr>
          <p:cNvPr id="42" name="PlaceHolder 2"/>
          <p:cNvSpPr>
            <a:spLocks noGrp="1"/>
          </p:cNvSpPr>
          <p:nvPr>
            <p:ph type="subTitle"/>
          </p:nvPr>
        </p:nvSpPr>
        <p:spPr>
          <a:xfrm>
            <a:off x="1403280" y="47239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onidas Monte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versidad Adolfo Ibáñe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5400"/>
            <a:ext cx="80755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PlaceHolder 2"/>
          <p:cNvSpPr>
            <a:spLocks noGrp="1"/>
          </p:cNvSpPr>
          <p:nvPr>
            <p:ph/>
          </p:nvPr>
        </p:nvSpPr>
        <p:spPr>
          <a:xfrm>
            <a:off x="457200" y="836280"/>
            <a:ext cx="8075520" cy="5289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Él generalmente, es cierto, </a:t>
            </a:r>
            <a:r>
              <a:rPr b="1" lang="en-US" sz="2800" spc="-1" strike="noStrike" u="sng">
                <a:solidFill>
                  <a:srgbClr val="000000"/>
                </a:solidFill>
                <a:uFillTx/>
                <a:latin typeface="Arial"/>
              </a:rPr>
              <a:t>no intenta promover el interés público, ni sabe cuánto lo está promoviendo</a:t>
            </a:r>
            <a:r>
              <a:rPr b="0" lang="en-US" sz="2800" spc="-1" strike="noStrike">
                <a:solidFill>
                  <a:srgbClr val="000000"/>
                </a:solidFill>
                <a:latin typeface="Arial"/>
              </a:rPr>
              <a:t>. Al preferir apoyar la industria doméstica por sobre la extranjera, él sólo considera su propia seguridad, y al dirigir aquella industria de manera que su producto sea del mayor valor, sólo piensa en su propia ganancia, </a:t>
            </a:r>
            <a:r>
              <a:rPr b="1" lang="en-US" sz="2800" spc="-1" strike="noStrike">
                <a:solidFill>
                  <a:srgbClr val="000000"/>
                </a:solidFill>
                <a:latin typeface="Arial"/>
              </a:rPr>
              <a:t>y él es en éste, como en muchos otros casos, guiado por una mano invisible para promover </a:t>
            </a:r>
            <a:r>
              <a:rPr b="1" lang="en-US" sz="2800" spc="-1" strike="noStrike" u="sng">
                <a:solidFill>
                  <a:srgbClr val="000000"/>
                </a:solidFill>
                <a:uFillTx/>
                <a:latin typeface="Arial"/>
              </a:rPr>
              <a:t>un fin que no era parte de sus intencione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59760"/>
            <a:ext cx="8002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2" name="PlaceHolder 2"/>
          <p:cNvSpPr>
            <a:spLocks noGrp="1"/>
          </p:cNvSpPr>
          <p:nvPr>
            <p:ph/>
          </p:nvPr>
        </p:nvSpPr>
        <p:spPr>
          <a:xfrm>
            <a:off x="457200" y="620280"/>
            <a:ext cx="8075520" cy="5505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ampoco es siempre lo peor para la sociedad que este fin no haya sido parte de sus intenciones. Al perseguir su propio interés él frecuentemente promueve el de la sociedad más efectivamente que si realmente intentara promoverlo. Yo nunca he sabido de tanto bien realizado por aquellos que influyen en el comercio por el bien público. Es una influencia, ciertamente, no muy común entre los mercaderes, y unas pocas palabras deben ser empleadas para disuadirlos de dicho propósito’ (WN IV.ii. 9, p. 45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pretaciones</a:t>
            </a:r>
            <a:endParaRPr b="0" lang="en-US" sz="4000" spc="-1" strike="noStrike">
              <a:solidFill>
                <a:srgbClr val="000000"/>
              </a:solidFill>
              <a:latin typeface="Arial"/>
            </a:endParaRPr>
          </a:p>
        </p:txBody>
      </p:sp>
      <p:sp>
        <p:nvSpPr>
          <p:cNvPr id="64" name="PlaceHolder 2"/>
          <p:cNvSpPr>
            <a:spLocks noGrp="1"/>
          </p:cNvSpPr>
          <p:nvPr>
            <p:ph/>
          </p:nvPr>
        </p:nvSpPr>
        <p:spPr>
          <a:xfrm>
            <a:off x="456840" y="981000"/>
            <a:ext cx="8218440" cy="5145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Grampp (2000) ‘What did Smith Mean by the Invisible Hand’, JPE 108(3) simplemente defiende la tesis de un incentivo para los agentes económicos para mantener el capital en su país. Distingue y critica otras 9 interpretacion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terés propio-beneficio públic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ecanismo de preci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quilibrio general, welfare theore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239040"/>
            <a:ext cx="8147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457200" y="907560"/>
            <a:ext cx="8291520" cy="52182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secuencias no intencionadas de agentes individua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mpetencia, oferta y demand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s ventajas del intercamb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a broma de Smith (Rothschild (1994) “Adam Smith and the Invisible hand” AER 84)</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 proceso para adquirir conocimient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primer motor inmóvil, un fenómeno natur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a fuerza que restringe la salida de capit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68120"/>
            <a:ext cx="8147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PlaceHolder 2"/>
          <p:cNvSpPr>
            <a:spLocks noGrp="1"/>
          </p:cNvSpPr>
          <p:nvPr>
            <p:ph/>
          </p:nvPr>
        </p:nvSpPr>
        <p:spPr>
          <a:xfrm>
            <a:off x="457200" y="981000"/>
            <a:ext cx="8291520" cy="5145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tra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ozick (1994) “Invisible Hand Explanations” AER 84(2): la existencia del mercado como efecto de la MI (agentes económicos eligen racionalmen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vensky (2005) “Adam Smith`s Moral Philosophy” (CUP) cree en la MI como “la mano de la deidad” ya que Smith plantea “el plan liberal de la igualdad, la libertad y la justicia” (WN IV.ix.3, 66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es</a:t>
            </a:r>
            <a:endParaRPr b="0" lang="en-US" sz="4400" spc="-1" strike="noStrike">
              <a:solidFill>
                <a:srgbClr val="000000"/>
              </a:solidFill>
              <a:latin typeface="Arial"/>
            </a:endParaRPr>
          </a:p>
        </p:txBody>
      </p:sp>
      <p:sp>
        <p:nvSpPr>
          <p:cNvPr id="70" name="PlaceHolder 2"/>
          <p:cNvSpPr>
            <a:spLocks noGrp="1"/>
          </p:cNvSpPr>
          <p:nvPr>
            <p:ph/>
          </p:nvPr>
        </p:nvSpPr>
        <p:spPr>
          <a:xfrm>
            <a:off x="456840" y="1413000"/>
            <a:ext cx="8218440" cy="4713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métafora más importante de la historia del pensamiento económico tiene muchas car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efecto, actualmente Warren Samuels (Michigan University) se encuentra trabajando en un proyecto que ha detectado al menos 48 interpretaciones diferen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mo siempre en economía: usted elig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03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padre de la economía nace en Kirkcaldy 1723 y muere en Edinburgo en 179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texto: fenómeno intelectual de la Ilustración Escoce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bras principal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The Theory of Moral Sentiments</a:t>
            </a:r>
            <a:r>
              <a:rPr b="0" lang="es-ES" sz="2800" spc="-1" strike="noStrike">
                <a:solidFill>
                  <a:srgbClr val="000000"/>
                </a:solidFill>
                <a:latin typeface="Arial"/>
              </a:rPr>
              <a:t> (1759)</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An Inquiry into the Nature and Causes of the Wealth of Nations</a:t>
            </a:r>
            <a:r>
              <a:rPr b="0" lang="es-ES" sz="2800" spc="-1" strike="noStrike">
                <a:solidFill>
                  <a:srgbClr val="000000"/>
                </a:solidFill>
                <a:latin typeface="Arial"/>
              </a:rPr>
              <a:t> (177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1962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 name="PlaceHolder 2"/>
          <p:cNvSpPr>
            <a:spLocks noGrp="1"/>
          </p:cNvSpPr>
          <p:nvPr>
            <p:ph/>
          </p:nvPr>
        </p:nvSpPr>
        <p:spPr>
          <a:xfrm>
            <a:off x="611280" y="836640"/>
            <a:ext cx="8229600" cy="5678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era frase W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El trabajo anual de toda nación es el fondo que originalmente la provee de todas las necesidades y conveniencias de la vida que consume anualmente, y que consiste siempre o en el producto inmediato de ese trabajo o lo que es comprado con ese producto de otras nacion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bajo productivo y división del trabaj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bro I, Capítulo 1: división del trabajo, capítulo 2: Del Principio que origina la división del trabajo y en el capítulo 7: Del precio natural y de mercado de los bien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390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8" name="PlaceHolder 2"/>
          <p:cNvSpPr>
            <a:spLocks noGrp="1"/>
          </p:cNvSpPr>
          <p:nvPr>
            <p:ph/>
          </p:nvPr>
        </p:nvSpPr>
        <p:spPr>
          <a:xfrm>
            <a:off x="468360" y="692280"/>
            <a:ext cx="8207280" cy="5535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conomía Política: mercantilismo y fisiócrat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ibro IV trata el “sistema mercantil” y el “sistema agrícola”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riqueza de un país no está en sus reservas o en la naturaleza, sino en el trabajo productiv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idea de que un país ‘es generalmente rico de la misma manera que una persona’ (WN IV.i.2, p. 429) es una ‘noción popular’ (WN IV.i.5, p. 431) errónea que confunde las nociones de riqueza y dinero.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sistema agrícola “en el presente sólo existe en la especulación de unos pocos hombres de gran saber e ingenuidad en Francia” (WN IV.ix.2, p. 663)</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nos Invisibles</a:t>
            </a:r>
            <a:endParaRPr b="0" lang="en-US" sz="4000" spc="-1" strike="noStrike">
              <a:solidFill>
                <a:srgbClr val="000000"/>
              </a:solidFill>
              <a:latin typeface="Arial"/>
            </a:endParaRPr>
          </a:p>
        </p:txBody>
      </p:sp>
      <p:sp>
        <p:nvSpPr>
          <p:cNvPr id="50" name="PlaceHolder 2"/>
          <p:cNvSpPr>
            <a:spLocks noGrp="1"/>
          </p:cNvSpPr>
          <p:nvPr>
            <p:ph/>
          </p:nvPr>
        </p:nvSpPr>
        <p:spPr>
          <a:xfrm>
            <a:off x="394920" y="1125360"/>
            <a:ext cx="8280360" cy="511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primera vez que aparece la mano invisible en los textos de Adam Smith es en su “Ensayo de Astronomía” escrito antes del 1758, hablando del politeísmo como “aquella vulgar superstición que asigna los eventos irregulares de la naturaleza” a un dios, demonio.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ara Smith “el fuego quema o los cuerpos caen por la necesidad de su propia naturaleza”, “nunca la </a:t>
            </a:r>
            <a:r>
              <a:rPr b="1" lang="es-ES" sz="2800" spc="-1" strike="noStrike">
                <a:solidFill>
                  <a:srgbClr val="000000"/>
                </a:solidFill>
                <a:latin typeface="Arial"/>
              </a:rPr>
              <a:t>mano invisible</a:t>
            </a:r>
            <a:r>
              <a:rPr b="0" lang="es-ES" sz="2800" spc="-1" strike="noStrike">
                <a:solidFill>
                  <a:srgbClr val="000000"/>
                </a:solidFill>
                <a:latin typeface="Arial"/>
              </a:rPr>
              <a:t> de Jupiter fue empleada en estas materias” (EPS, p. 49)</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260280"/>
            <a:ext cx="799128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PlaceHolder 2"/>
          <p:cNvSpPr>
            <a:spLocks noGrp="1"/>
          </p:cNvSpPr>
          <p:nvPr>
            <p:ph/>
          </p:nvPr>
        </p:nvSpPr>
        <p:spPr>
          <a:xfrm>
            <a:off x="468000" y="1197000"/>
            <a:ext cx="8351640" cy="49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seguida aparece en TMS. En una dura crítica a los ricos que con “su natural egoísmo y rapacidad, pese a que sólo persiguen su propia conveniencia, donde el único fin del trabajo de miles empleados es la gratificación de sus vanos e insaciables deseos, ellos dividen con los pobres el producto de su trabajo”. Y continú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39040"/>
            <a:ext cx="78598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836280"/>
            <a:ext cx="8291520" cy="5289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es-ES" sz="3200" spc="-1" strike="noStrike">
                <a:solidFill>
                  <a:srgbClr val="000000"/>
                </a:solidFill>
                <a:latin typeface="Arial"/>
              </a:rPr>
              <a:t>Son guiados por una mano invisible para hacer casi la misma distribución de las necesidades de la vida que hubiera sido hecha si la tierra hubiese sido dividida en iguales partes entre sus habitantes, y entonces </a:t>
            </a:r>
            <a:r>
              <a:rPr b="1" lang="es-ES" sz="3200" spc="-1" strike="noStrike" u="sng">
                <a:solidFill>
                  <a:srgbClr val="000000"/>
                </a:solidFill>
                <a:uFillTx/>
                <a:latin typeface="Arial"/>
              </a:rPr>
              <a:t>sin intención alguna, sin saberlo</a:t>
            </a:r>
            <a:r>
              <a:rPr b="0" lang="es-ES" sz="3200" spc="-1" strike="noStrike">
                <a:solidFill>
                  <a:srgbClr val="000000"/>
                </a:solidFill>
                <a:latin typeface="Arial"/>
              </a:rPr>
              <a:t>, los ricos promueven el interés de la sociedad, y entregan los medios para la multiplicación de las especies” (TMS IV.I.11, pp. 184-5)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WN capítulo 2 del libro IV, acerca de las restricciones a las importaciones, en el contexto de la crítica al mercantilismo (libro IV), aparece la famosa Mano Invisible de la Riqueza de las Nacio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6840" y="404280"/>
            <a:ext cx="8218440" cy="5721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Pero el ingreso anual de toda sociedad es siempre precisamente igual al valor de cambio del producto total anual de su industria, o mejor dicho es precisamente la misma cosa que ese valor de cambio. Entonces, como todo individuo se empeña lo más que puede en emplear su capital para apoyar la industria doméstica, dirigiéndola a la industria cuyo producto tiene el mayor valor, todo individuo necesariamente trabaja para lograr el mayor ingreso anual para la socieda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5T18:47:55Z</dcterms:created>
  <dc:creator>Leonidas Montes</dc:creator>
  <dc:description/>
  <dc:language>en-US</dc:language>
  <cp:lastModifiedBy>Leonidas Montes</cp:lastModifiedBy>
  <dcterms:modified xsi:type="dcterms:W3CDTF">2006-08-28T21:00:35Z</dcterms:modified>
  <cp:revision>6</cp:revision>
  <dc:subject/>
  <dc:title>Las manos invisibles de Adam Smith</dc:title>
</cp:coreProperties>
</file>