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E7F-A48C-4D79-B896-5A712AA4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32F-5CCA-4E8F-A982-9AD0A10B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CA6-7E19-426B-98AF-0BCC2A7F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D3D-3A11-45C7-889A-DFC79C4A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EE7-872F-4532-B7D1-9B5A0338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7AA-27C8-4025-8172-AE8040E0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1B9-FFCD-48EE-976A-5B868B73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5DF-5CAC-4816-9E4D-D1E39D29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E15-3B41-4230-91DE-81338485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F89-0F94-4B38-B483-FE40262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5B2-C6E9-44E7-AA78-7F64957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5F4-EAC8-4647-8D73-EFB0FE8E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A7D-B1CB-4D0A-8E5F-1AEF6412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332000" y="112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332000" y="836640"/>
            <a:ext cx="309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34136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15640" y="2781360"/>
            <a:ext cx="431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16000" y="450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2491920"/>
            <a:ext cx="36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24360" y="836280"/>
            <a:ext cx="503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195640" y="1125000"/>
            <a:ext cx="1728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16000" y="2492280"/>
            <a:ext cx="2808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2491920"/>
            <a:ext cx="2376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781360"/>
            <a:ext cx="2016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16000" y="1341000"/>
            <a:ext cx="21600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16000" y="1125000"/>
            <a:ext cx="1079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836640"/>
            <a:ext cx="22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836280"/>
            <a:ext cx="3311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47640" y="836640"/>
            <a:ext cx="288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25360"/>
            <a:ext cx="1368360" cy="338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1125360"/>
            <a:ext cx="64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341360"/>
            <a:ext cx="2592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341360"/>
            <a:ext cx="2232000" cy="31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64000" y="836640"/>
            <a:ext cx="863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440" y="45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20" y="4724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11960" y="620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ñalo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6160" y="692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3800" y="1197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Joaqu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2565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5240" y="22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9:06Z</dcterms:created>
  <dc:creator>Sebastián A. Guzmán Silva</dc:creator>
  <dc:description/>
  <dc:language>en-US</dc:language>
  <cp:lastModifiedBy>Sebastián A. Guzmán Silva</cp:lastModifiedBy>
  <dcterms:modified xsi:type="dcterms:W3CDTF">2006-10-26T18:22:58Z</dcterms:modified>
  <cp:revision>2</cp:revision>
  <dc:subject/>
  <dc:title>Diapositiva 1</dc:title>
</cp:coreProperties>
</file>