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010-5B22-4925-8037-1EFD45B8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A9A-2A48-4C0D-B0F5-5C5E3ABE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B7D-96C3-4275-A5C0-27F02FC4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99A-7581-4C46-A1ED-0A64E9AF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EC0-06A0-46F6-B11D-EC8D0F0C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8EB-0D7B-4693-8BA6-963A8AC9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547-A907-44AD-B5DD-3C234B44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3CF-B309-447A-987E-8E218BE3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32B-3C13-43B9-B744-46388234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43C-EDA5-4A49-A36D-57A6E23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8FB-7CAD-42BD-82DA-021119CE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C0D-85C2-46FD-9566-BB8CCF3B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8398-5787-4917-B97D-A34D510DB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332000" y="1125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332000" y="836640"/>
            <a:ext cx="309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34136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15640" y="2781360"/>
            <a:ext cx="4316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116000" y="450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2491920"/>
            <a:ext cx="360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24360" y="836280"/>
            <a:ext cx="503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195640" y="1125000"/>
            <a:ext cx="1728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116000" y="2492280"/>
            <a:ext cx="2808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47640" y="2491920"/>
            <a:ext cx="2376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781360"/>
            <a:ext cx="2016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16000" y="1341000"/>
            <a:ext cx="21600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16000" y="1125000"/>
            <a:ext cx="107964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95640" y="836640"/>
            <a:ext cx="22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16000" y="836280"/>
            <a:ext cx="331164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47640" y="836640"/>
            <a:ext cx="288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125360"/>
            <a:ext cx="1368360" cy="338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640" y="1125360"/>
            <a:ext cx="648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341360"/>
            <a:ext cx="2592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341360"/>
            <a:ext cx="2232000" cy="31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64000" y="836640"/>
            <a:ext cx="863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440" y="4508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20" y="4724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11960" y="620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ñalo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6160" y="692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3800" y="1197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 Joaqu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3800" y="2565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5240" y="2276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9:06Z</dcterms:created>
  <dc:creator>Sebastián A. Guzmán Silva</dc:creator>
  <dc:description/>
  <dc:language>en-US</dc:language>
  <cp:lastModifiedBy>Sebastián A. Guzmán Silva</cp:lastModifiedBy>
  <dcterms:modified xsi:type="dcterms:W3CDTF">2006-10-26T18:22:58Z</dcterms:modified>
  <cp:revision>2</cp:revision>
  <dc:subject/>
  <dc:title>Diapositiva 1</dc:title>
</cp:coreProperties>
</file>