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712-B290-4DC6-9DE0-E0DDD846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E5A-C730-4FC4-819B-94C4E424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BE6-B8C3-4929-9725-7FF72F03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192-5831-4441-A2CB-77A00D26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689-CD08-4B19-8F76-2E8187FA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528-F7AB-4E19-A66E-5707447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28A-B896-4385-A3AF-0D77A7B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197-2BD6-4152-A463-08873CE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CC5-8AD1-4AAC-8938-D536468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057-5695-4738-A1F2-A7E178B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C87-A240-4C09-B464-3565A05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3D1-3AA9-44D5-9934-9EEB2B4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860D-FBCB-4092-9BE0-8CF8A216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332000" y="112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332000" y="836640"/>
            <a:ext cx="3095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134136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15640" y="2781360"/>
            <a:ext cx="431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16000" y="4508280"/>
            <a:ext cx="244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564000" y="2491920"/>
            <a:ext cx="36036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924360" y="836280"/>
            <a:ext cx="50328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195640" y="1125000"/>
            <a:ext cx="1728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16000" y="2492280"/>
            <a:ext cx="280836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2491920"/>
            <a:ext cx="2376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2781360"/>
            <a:ext cx="201636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16000" y="1341000"/>
            <a:ext cx="21600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116000" y="1125000"/>
            <a:ext cx="107964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195640" y="836640"/>
            <a:ext cx="2232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836280"/>
            <a:ext cx="3311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47640" y="836640"/>
            <a:ext cx="288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125360"/>
            <a:ext cx="1368360" cy="338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640" y="1125360"/>
            <a:ext cx="6480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341360"/>
            <a:ext cx="2592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341360"/>
            <a:ext cx="2232000" cy="31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64000" y="836640"/>
            <a:ext cx="863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440" y="4508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20" y="4724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int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1960" y="62064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ñalo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6160" y="692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3800" y="1197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 Joaqu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3800" y="2565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G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5240" y="2276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9:06Z</dcterms:created>
  <dc:creator>Sebastián A. Guzmán Silva</dc:creator>
  <dc:description/>
  <dc:language>en-US</dc:language>
  <cp:lastModifiedBy>Sebastián A. Guzmán Silva</cp:lastModifiedBy>
  <dcterms:modified xsi:type="dcterms:W3CDTF">2006-10-26T18:22:58Z</dcterms:modified>
  <cp:revision>2</cp:revision>
  <dc:subject/>
  <dc:title>Diapositiva 1</dc:title>
</cp:coreProperties>
</file>