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C717-8389-4306-B3F0-A7B75594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3C7-D66B-4C22-9B99-E3A2E54F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9660-FB28-4514-97D9-8096F044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BF4-53C9-4B20-A5F2-EFAEFDDE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239A-2D16-42FA-89D0-3DE83E09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3B3-03B2-4261-9571-6253FEBB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C86-3C84-4653-84E4-A8931278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E67-3980-4B52-8C8D-377252B8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01C-2BE1-430D-ADF1-978E0F9D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D898-897D-47EC-AFE4-DB247EC2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B7C-D9A3-4E24-B9A8-5A33F798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6A3-99E9-415F-81F0-D182205C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2288-248A-4634-A82D-675C47ADC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9308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332000" y="112536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332000" y="836640"/>
            <a:ext cx="3095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1341360"/>
            <a:ext cx="215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115640" y="2781360"/>
            <a:ext cx="43164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116000" y="4508280"/>
            <a:ext cx="244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564000" y="2491920"/>
            <a:ext cx="36036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924360" y="836280"/>
            <a:ext cx="503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195640" y="1125000"/>
            <a:ext cx="172872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116000" y="2492280"/>
            <a:ext cx="280836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47640" y="2491920"/>
            <a:ext cx="2376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2781360"/>
            <a:ext cx="201636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116000" y="1341000"/>
            <a:ext cx="21600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116000" y="1125000"/>
            <a:ext cx="107964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195640" y="836640"/>
            <a:ext cx="2232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116000" y="836280"/>
            <a:ext cx="331164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547640" y="836640"/>
            <a:ext cx="288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125360"/>
            <a:ext cx="1368360" cy="338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47640" y="1125360"/>
            <a:ext cx="64800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341360"/>
            <a:ext cx="2592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1341360"/>
            <a:ext cx="2232000" cy="31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564000" y="836640"/>
            <a:ext cx="86364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440" y="45086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nt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520" y="4724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int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11960" y="62064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ñalol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6160" y="692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c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3800" y="11970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 Joaqu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3800" y="2565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G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5240" y="22766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lo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8:09:06Z</dcterms:created>
  <dc:creator>Sebastián A. Guzmán Silva</dc:creator>
  <dc:description/>
  <dc:language>en-US</dc:language>
  <cp:lastModifiedBy>Sebastián A. Guzmán Silva</cp:lastModifiedBy>
  <dcterms:modified xsi:type="dcterms:W3CDTF">2006-10-26T18:22:58Z</dcterms:modified>
  <cp:revision>2</cp:revision>
  <dc:subject/>
  <dc:title>Diapositiva 1</dc:title>
</cp:coreProperties>
</file>