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97B-105B-4BE8-A9E8-948D30E8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686-98BD-40E7-9CD0-071CD439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820-8B43-4194-B4B9-2996B779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3C0-7E89-48E7-9210-D8239D3F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E9B-F5EF-4C86-B26D-E4150413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44B-A462-43F1-B4F0-07BA3FC7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25D-4465-4771-BCAC-C1E5FA27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211-D433-4865-88A1-F6FCC640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9EB-A76D-45CB-9CB8-DCF09853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0FF-A537-4617-9230-727DB27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668-C775-4E9A-9CC3-9071038D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09C-C28B-424C-B005-E7B5BC4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DF8E-A760-4092-841B-BACE6307D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332000" y="1125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332000" y="836640"/>
            <a:ext cx="309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34136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15640" y="2781360"/>
            <a:ext cx="4316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116000" y="450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2491920"/>
            <a:ext cx="360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24360" y="836280"/>
            <a:ext cx="503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195640" y="1125000"/>
            <a:ext cx="1728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116000" y="2492280"/>
            <a:ext cx="2808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47640" y="2491920"/>
            <a:ext cx="2376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781360"/>
            <a:ext cx="2016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16000" y="1341000"/>
            <a:ext cx="21600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16000" y="1125000"/>
            <a:ext cx="107964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95640" y="836640"/>
            <a:ext cx="22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16000" y="836280"/>
            <a:ext cx="331164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47640" y="836640"/>
            <a:ext cx="288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125360"/>
            <a:ext cx="1368360" cy="338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640" y="1125360"/>
            <a:ext cx="648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341360"/>
            <a:ext cx="2592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341360"/>
            <a:ext cx="2232000" cy="31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64000" y="836640"/>
            <a:ext cx="863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440" y="4508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20" y="4724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11960" y="620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ñalo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6160" y="692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3800" y="1197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 Joaqu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3800" y="2565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5240" y="2276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9:06Z</dcterms:created>
  <dc:creator>Sebastián A. Guzmán Silva</dc:creator>
  <dc:description/>
  <dc:language>en-US</dc:language>
  <cp:lastModifiedBy>Sebastián A. Guzmán Silva</cp:lastModifiedBy>
  <dcterms:modified xsi:type="dcterms:W3CDTF">2006-10-26T18:22:58Z</dcterms:modified>
  <cp:revision>2</cp:revision>
  <dc:subject/>
  <dc:title>Diapositiva 1</dc:title>
</cp:coreProperties>
</file>