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D4E-CBBA-4C80-B7D1-25A65BB3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3A4-E56A-4770-BC5E-48E93FE9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80F6-00F1-4ADA-A91C-B51E37E4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B74-4685-44C3-81EB-ED382877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BFD2-B0F9-4620-9A5D-24FABC1E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F1F8-F8D5-4297-BBAF-10AEE805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0E0D-41E5-49AF-9657-F81D262E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03C0-FA8A-48D9-A636-8E773C9A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7CA7-2996-4AA9-BD8D-BF3AE18E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CD0-CFFC-480C-BF0D-057F7425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518-DFE9-4695-AEA5-FE8F092C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A2E-259C-4A88-BC86-F5D76FDF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0EE1-F913-46AA-9F31-66801D88E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591560"/>
            <a:ext cx="814680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denomina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infiltració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l proceso mediante el cual una fracción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precipitada o que escurre superficialmente, penetra a través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el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a agua puede quedar retenida en el suelo o en la zona  de air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ón, o bien puede continuar su tránsito subterráneo hasta alcanz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zona saturada e incorporarse a lo que se denomina agua subterrá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uperada la capacidad de campo del suelo (capacidad de incorpor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en él) el agua desciende por la acción conjunta de la gravedad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las fuerzas capila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039680"/>
            <a:ext cx="81468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factores que controlan la capacidad de infiltración de un terre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n los siguient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naturaleza del suelo, especialmente sus características se-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mentológicas y estratigráficas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l grado de compactación natural o antrópico del suel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pendiente del terren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humedad inicial del suel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existencia de una cobertura vegetal genera esponjoc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el terreno y por consiguiente facilita la infiltración, su no 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istencia tiende a disminuirl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temperatura del suelo, si ésta es suficientemente baja pr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oca la congelación y en consecuencia reduce ostencible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 la permeabilida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si no existe suelo, el grado de fracturamiento y el tipo de frac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uras que presente el terreno condicionarán la infiltración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vés de és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049400"/>
            <a:ext cx="81468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unidad en que comúnmente se expresa la infiltración es mm/h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 mm/dí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medición directa de este fenómeno se puede realizar mediante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mplazamiento de infiltrómetros o a través de hidrogramas de es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rentí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instrumento de mayor difusión es el infiltrómetro tipo inundador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entrega buenos resultados cuando se desea estudiar el fenóm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desde la base de cuerpos de agua tales como embalses, tran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relave y ot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e instrumento consiste en dos cilindros de acero, concéntrico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se hincan en el suelo, de forma que entre ambos se genere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pacio anular. Se agrega agua en el cilindro interior hasta una alt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determinada, de manera que manteniendo dicha cota, se pue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terminar el caudal requerido para lograr la estabiliz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524240"/>
            <a:ext cx="81468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espacio anular debe mantenerse con una altura de agua análo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 la del cilindro interior, para evitar que desde la base de este últi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desvíe lateralmente el agua infiltrada en el subsuelo (cf. Croqu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djunt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n este caso no se requiere mantener un control sobre los caud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corporados al espacio anu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Infiltrómetro" descr=""/>
          <p:cNvPicPr/>
          <p:nvPr/>
        </p:nvPicPr>
        <p:blipFill>
          <a:blip r:embed="rId1"/>
          <a:stretch/>
        </p:blipFill>
        <p:spPr>
          <a:xfrm>
            <a:off x="914400" y="933480"/>
            <a:ext cx="77724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138320" y="202320"/>
            <a:ext cx="6880320" cy="6106320"/>
            <a:chOff x="1138320" y="202320"/>
            <a:chExt cx="6880320" cy="6106320"/>
          </a:xfrm>
        </p:grpSpPr>
        <p:sp>
          <p:nvSpPr>
            <p:cNvPr id="103" name=""/>
            <p:cNvSpPr/>
            <p:nvPr/>
          </p:nvSpPr>
          <p:spPr>
            <a:xfrm>
              <a:off x="3537000" y="3619440"/>
              <a:ext cx="158760" cy="763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51520" y="3686040"/>
              <a:ext cx="21564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86040" y="3686040"/>
              <a:ext cx="21600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13560" y="1562040"/>
              <a:ext cx="727200" cy="1460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26280" y="1117440"/>
              <a:ext cx="54000" cy="1905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13200" y="3695760"/>
              <a:ext cx="1119240" cy="431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86040" y="3695760"/>
              <a:ext cx="216000" cy="417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00600" y="3405240"/>
              <a:ext cx="1143000" cy="16765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95760" y="3405240"/>
              <a:ext cx="1566720" cy="1676520"/>
            </a:xfrm>
            <a:prstGeom prst="rect">
              <a:avLst/>
            </a:pr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38320" y="4124160"/>
              <a:ext cx="254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57800" y="4124160"/>
              <a:ext cx="2760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43040" y="1371600"/>
              <a:ext cx="762120" cy="1676520"/>
            </a:xfrm>
            <a:prstGeom prst="rect">
              <a:avLst/>
            </a:prstGeom>
            <a:noFill/>
            <a:ln w="22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04800" y="3048120"/>
              <a:ext cx="990720" cy="75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4800000">
              <a:off x="1871280" y="3580920"/>
              <a:ext cx="990720" cy="76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rot="16800000">
              <a:off x="1184760" y="3580920"/>
              <a:ext cx="990720" cy="76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477120" y="1371600"/>
              <a:ext cx="990360" cy="2742120"/>
              <a:chOff x="6477120" y="1371600"/>
              <a:chExt cx="990360" cy="2742120"/>
            </a:xfrm>
          </p:grpSpPr>
          <p:sp>
            <p:nvSpPr>
              <p:cNvPr id="119" name=""/>
              <p:cNvSpPr/>
              <p:nvPr/>
            </p:nvSpPr>
            <p:spPr>
              <a:xfrm>
                <a:off x="6586560" y="1371600"/>
                <a:ext cx="762120" cy="1676160"/>
              </a:xfrm>
              <a:prstGeom prst="rect">
                <a:avLst/>
              </a:prstGeom>
              <a:noFill/>
              <a:ln w="223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77120" y="3043080"/>
                <a:ext cx="990360" cy="76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4800000">
                <a:off x="6781320" y="3580920"/>
                <a:ext cx="990720" cy="76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rot="16800000">
                <a:off x="6137640" y="3580920"/>
                <a:ext cx="990720" cy="76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390760" y="2957400"/>
              <a:ext cx="1392120" cy="0"/>
            </a:xfrm>
            <a:prstGeom prst="line">
              <a:avLst/>
            </a:prstGeom>
            <a:ln w="69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59120" y="2935440"/>
              <a:ext cx="0" cy="672840"/>
            </a:xfrm>
            <a:prstGeom prst="line">
              <a:avLst/>
            </a:prstGeom>
            <a:ln w="69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933440" y="2954160"/>
              <a:ext cx="1644840" cy="0"/>
            </a:xfrm>
            <a:prstGeom prst="line">
              <a:avLst/>
            </a:prstGeom>
            <a:ln w="69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2781360"/>
              <a:ext cx="75960" cy="23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00720" y="2800440"/>
              <a:ext cx="76320" cy="23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536920" y="2638440"/>
              <a:ext cx="172800" cy="152280"/>
              <a:chOff x="2536920" y="2638440"/>
              <a:chExt cx="172800" cy="152280"/>
            </a:xfrm>
          </p:grpSpPr>
          <p:sp>
            <p:nvSpPr>
              <p:cNvPr id="129" name=""/>
              <p:cNvSpPr/>
              <p:nvPr/>
            </p:nvSpPr>
            <p:spPr>
              <a:xfrm>
                <a:off x="2616120" y="263844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36920" y="2678040"/>
                <a:ext cx="172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256440" y="2647800"/>
              <a:ext cx="172800" cy="152280"/>
              <a:chOff x="6256440" y="2647800"/>
              <a:chExt cx="172800" cy="152280"/>
            </a:xfrm>
          </p:grpSpPr>
          <p:sp>
            <p:nvSpPr>
              <p:cNvPr id="132" name=""/>
              <p:cNvSpPr/>
              <p:nvPr/>
            </p:nvSpPr>
            <p:spPr>
              <a:xfrm>
                <a:off x="6335640" y="264780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56440" y="2687400"/>
                <a:ext cx="172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4842000" y="3532320"/>
              <a:ext cx="187200" cy="1872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86240" y="3633840"/>
              <a:ext cx="457200" cy="3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52960" y="3557520"/>
              <a:ext cx="228600" cy="15264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44960" y="2933640"/>
              <a:ext cx="0" cy="601560"/>
            </a:xfrm>
            <a:prstGeom prst="line">
              <a:avLst/>
            </a:prstGeom>
            <a:ln w="69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05280" y="3686040"/>
              <a:ext cx="113040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86040" y="4124160"/>
              <a:ext cx="2160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41800" y="4124160"/>
              <a:ext cx="2160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0880" y="3695760"/>
              <a:ext cx="187560" cy="417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4124160"/>
              <a:ext cx="11448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08600" y="3705120"/>
              <a:ext cx="54000" cy="907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06920" y="4135320"/>
              <a:ext cx="179280" cy="928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57640" y="4133880"/>
              <a:ext cx="184320" cy="9288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14640" y="4130640"/>
              <a:ext cx="1119240" cy="9428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41600" y="5092560"/>
              <a:ext cx="254160" cy="1212840"/>
            </a:xfrm>
            <a:custGeom>
              <a:avLst/>
              <a:gdLst/>
              <a:ahLst/>
              <a:rect l="l" t="t" r="r" b="b"/>
              <a:pathLst>
                <a:path w="160" h="764">
                  <a:moveTo>
                    <a:pt x="160" y="0"/>
                  </a:moveTo>
                  <a:cubicBezTo>
                    <a:pt x="159" y="14"/>
                    <a:pt x="158" y="53"/>
                    <a:pt x="156" y="84"/>
                  </a:cubicBezTo>
                  <a:cubicBezTo>
                    <a:pt x="154" y="115"/>
                    <a:pt x="151" y="153"/>
                    <a:pt x="148" y="184"/>
                  </a:cubicBezTo>
                  <a:cubicBezTo>
                    <a:pt x="145" y="215"/>
                    <a:pt x="143" y="237"/>
                    <a:pt x="140" y="268"/>
                  </a:cubicBezTo>
                  <a:cubicBezTo>
                    <a:pt x="137" y="299"/>
                    <a:pt x="136" y="336"/>
                    <a:pt x="132" y="368"/>
                  </a:cubicBezTo>
                  <a:cubicBezTo>
                    <a:pt x="128" y="400"/>
                    <a:pt x="123" y="427"/>
                    <a:pt x="116" y="460"/>
                  </a:cubicBezTo>
                  <a:cubicBezTo>
                    <a:pt x="109" y="493"/>
                    <a:pt x="102" y="531"/>
                    <a:pt x="92" y="564"/>
                  </a:cubicBezTo>
                  <a:cubicBezTo>
                    <a:pt x="82" y="597"/>
                    <a:pt x="71" y="627"/>
                    <a:pt x="56" y="660"/>
                  </a:cubicBezTo>
                  <a:cubicBezTo>
                    <a:pt x="41" y="693"/>
                    <a:pt x="12" y="743"/>
                    <a:pt x="0" y="7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270400" y="5092560"/>
              <a:ext cx="254160" cy="1212840"/>
            </a:xfrm>
            <a:custGeom>
              <a:avLst/>
              <a:gdLst/>
              <a:ahLst/>
              <a:rect l="l" t="t" r="r" b="b"/>
              <a:pathLst>
                <a:path w="160" h="764">
                  <a:moveTo>
                    <a:pt x="160" y="0"/>
                  </a:moveTo>
                  <a:cubicBezTo>
                    <a:pt x="159" y="14"/>
                    <a:pt x="158" y="53"/>
                    <a:pt x="156" y="84"/>
                  </a:cubicBezTo>
                  <a:cubicBezTo>
                    <a:pt x="154" y="115"/>
                    <a:pt x="151" y="153"/>
                    <a:pt x="148" y="184"/>
                  </a:cubicBezTo>
                  <a:cubicBezTo>
                    <a:pt x="145" y="215"/>
                    <a:pt x="143" y="237"/>
                    <a:pt x="140" y="268"/>
                  </a:cubicBezTo>
                  <a:cubicBezTo>
                    <a:pt x="137" y="299"/>
                    <a:pt x="136" y="336"/>
                    <a:pt x="132" y="368"/>
                  </a:cubicBezTo>
                  <a:cubicBezTo>
                    <a:pt x="128" y="400"/>
                    <a:pt x="123" y="427"/>
                    <a:pt x="116" y="460"/>
                  </a:cubicBezTo>
                  <a:cubicBezTo>
                    <a:pt x="109" y="493"/>
                    <a:pt x="102" y="531"/>
                    <a:pt x="92" y="564"/>
                  </a:cubicBezTo>
                  <a:cubicBezTo>
                    <a:pt x="82" y="597"/>
                    <a:pt x="71" y="627"/>
                    <a:pt x="56" y="660"/>
                  </a:cubicBezTo>
                  <a:cubicBezTo>
                    <a:pt x="41" y="693"/>
                    <a:pt x="12" y="743"/>
                    <a:pt x="0" y="7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98800" y="5092560"/>
              <a:ext cx="0" cy="121608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41800" y="5092560"/>
              <a:ext cx="0" cy="121608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315400">
              <a:off x="3580920" y="5346720"/>
              <a:ext cx="381240" cy="15228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315400">
              <a:off x="4965120" y="5359320"/>
              <a:ext cx="380880" cy="152280"/>
            </a:xfrm>
            <a:custGeom>
              <a:avLst/>
              <a:gdLst>
                <a:gd name="textAreaLeft" fmla="*/ 47520 w 380880"/>
                <a:gd name="textAreaRight" fmla="*/ 333360 w 38088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4358400">
              <a:off x="5028840" y="5918040"/>
              <a:ext cx="380880" cy="152280"/>
            </a:xfrm>
            <a:custGeom>
              <a:avLst/>
              <a:gdLst>
                <a:gd name="textAreaLeft" fmla="*/ 47520 w 380880"/>
                <a:gd name="textAreaRight" fmla="*/ 333360 w 38088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rot="17241600">
              <a:off x="3530520" y="5918040"/>
              <a:ext cx="380880" cy="152280"/>
            </a:xfrm>
            <a:custGeom>
              <a:avLst/>
              <a:gdLst>
                <a:gd name="textAreaLeft" fmla="*/ 47520 w 380880"/>
                <a:gd name="textAreaRight" fmla="*/ 333360 w 38088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315400">
              <a:off x="3873240" y="5803560"/>
              <a:ext cx="381240" cy="15264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640"/>
                <a:gd name="textAreaBottom" fmla="*/ 114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315400">
              <a:off x="4279320" y="5981760"/>
              <a:ext cx="381240" cy="15228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315400">
              <a:off x="4266720" y="5295960"/>
              <a:ext cx="381240" cy="15228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315400">
              <a:off x="4685760" y="5803920"/>
              <a:ext cx="381240" cy="15228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34440" y="202320"/>
              <a:ext cx="2614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ffff"/>
                  </a:solidFill>
                  <a:latin typeface="Arial"/>
                </a:rPr>
                <a:t>HIDROLOGÍA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15840" y="951480"/>
              <a:ext cx="346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Infiltrómetro Método Munt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36000" y="1270080"/>
              <a:ext cx="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38880" y="142236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38880" y="157464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38880" y="172728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38880" y="187956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8880" y="203184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38880" y="218448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38880" y="233676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880" y="248904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38880" y="281952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38880" y="266688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55640" y="1562040"/>
              <a:ext cx="727200" cy="14605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301560" y="3657600"/>
              <a:ext cx="22860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28840" y="1179360"/>
            <a:ext cx="81054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Un método usual de cálculo de la infiltración es el denominado Mét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 de Porche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l sistema consiste en excavar una calicata en el suelo p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uego agregar agua en su interior, controlando el tiempo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curre entre dos elevaciones de agua en el interior 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ca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superficie a través de la cual se infiltra el agua 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S = </a:t>
            </a: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R ( 2 h + 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 es el radio de la calicata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 es la altura de agua en el interior de el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1720" y="1447560"/>
            <a:ext cx="80172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variación de volumen del agua al interior de la calicata, d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do a la infiltración a tasa constante a través de la superfic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dicada, permite definir la siguiente expresión diferencial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R ( 2h + R ) f = - </a:t>
            </a: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R</a:t>
            </a:r>
            <a:r>
              <a:rPr b="1" lang="es-ES_tradnl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dh/d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f es la infilt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Separando variables se obtien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d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f  dt  =  - R  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2 h  +  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0640" y="1652040"/>
            <a:ext cx="780984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La solución de la ecuación diferencial 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R                  2 h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+ 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  = ---------------  ln 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 ( t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- t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)           2 h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+ 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iendo de las unidades utilizadas, la tasa de infilt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da expresada en mm/s, m/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09480" y="1319040"/>
          <a:ext cx="77724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19040"/>
                    <a:ext cx="77724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21480" y="1501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1360" y="760680"/>
            <a:ext cx="764352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denomina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potranspiració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l conjunto de las pérdida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que se generan por evaporación y transpi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a última corresponde al proceso biológico mediante el c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plantas eliminan el agua utilizada en su metabolismo, a t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és de las hoj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transpiración está influida por los mismos factores que afec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n a la evaporación, sin embargo, existen también factores bi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ógicos, condicionados por la meteorología que contribuyen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umentar o disminuir la transpiración. La cantidad de luz, la tem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atura ambiental y la humedad atmosférica, son factores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rolan la abertura de los estomas desde donde se libera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que es transpir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or su parte, el tipo de especie vegetal, su edad, desarrollo foliar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maño de la planta y desarrollo radicular, son factores neta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 biológicos que también controlan la magnitud de la transpi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1469520"/>
            <a:ext cx="81468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escorrentía superficial constituyó el principal recurso hídrico 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lizado por el hombre antiguo, tanto para satisfacer sus requerimi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os fisiológicos como para la agricultura, comunicación y transpo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control de la fluviometría de una cuenca es una tarea hidroló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levante, ya que además de permitir evaluar los recursos hídr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perficiales, permite determinar la magnitud de la infiltración que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 desde los cursos de escurrimiento superficial, hacia los sis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s subterráne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 importante señalar que, usualmente, la principal fuente de recar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a de los acuíferos de una cuenca, proviene de la infiltración que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duce desde los cursos de escurrimiento superfic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334520"/>
            <a:ext cx="81468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control de la escorrentía superficial se realiza mediante la impl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ntación de estaciones limnimétricas o limnigráfic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entiende por estación limnimétrica a una sección transversal ub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da en un curso de escurrimiento superficial, en la cual se deter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an, sistemáticamente, los caudales que a través de ella circulan. 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e control se realiza mediante un limnímetro, se denomina limnimé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ica y si el control se ejecuta con un instrumento de registro cont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uo (limnígrafo), se habla de una estación limnigráfi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determinar el caudal que escurre a través de una sección tran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ersal, se debe conocer la geometría de la sección y la velocidad m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l agua en dicha se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341000"/>
            <a:ext cx="81468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producto entre el área de la sección y la velocidad, corresponde 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udal pasa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mantener un control sistemático de los caudales, se debe es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r una sección transversal adecuada en la cual se pueda imple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r una estación de aforo (limnimétrica o limnigráfica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criterios básicos para escoger una sección de control fluviomé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ico son los siguient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que el flujo en la sección sea de tipo laminar (no turbulento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que la geometría de la sección sea simple, ojalá sus pare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ngan pendientes similares y el fondo presente escasa rug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dad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que la sección sea estable, vale decir que sus paredes esté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ilizadas y no en retroces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618560"/>
            <a:ext cx="8146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la medición sistemática de los caudales es necesario imple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r una metodología que permita determinar los caudales medios di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ios mediante un sistema sencillo y de bajo cos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o se logra si se determina la Curva de Descarga de la sección, p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 lo cual es necesario instalar en ella un limníme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Curva de Descarga es aquella que se obtiene al relacionar el ca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l pasante en la sección con la altura del agua en la misma. Esto im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icará realizar numerosos aforos (determinación del caudal) de m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ra que a cada caudal se asocie la altura de agua respec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643760" y="1568160"/>
            <a:ext cx="5917680" cy="3524040"/>
            <a:chOff x="1643760" y="1568160"/>
            <a:chExt cx="5917680" cy="3524040"/>
          </a:xfrm>
        </p:grpSpPr>
        <p:grpSp>
          <p:nvGrpSpPr>
            <p:cNvPr id="193" name=""/>
            <p:cNvGrpSpPr/>
            <p:nvPr/>
          </p:nvGrpSpPr>
          <p:grpSpPr>
            <a:xfrm>
              <a:off x="1650600" y="2424240"/>
              <a:ext cx="5910840" cy="2667960"/>
              <a:chOff x="1650600" y="2424240"/>
              <a:chExt cx="5910840" cy="2667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1866960" y="2970720"/>
                <a:ext cx="5694480" cy="2121480"/>
                <a:chOff x="1866960" y="2970720"/>
                <a:chExt cx="5694480" cy="21214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866960" y="3423960"/>
                  <a:ext cx="5694480" cy="1552680"/>
                </a:xfrm>
                <a:custGeom>
                  <a:avLst/>
                  <a:gdLst/>
                  <a:ahLst/>
                  <a:rect l="l" t="t" r="r" b="b"/>
                  <a:pathLst>
                    <a:path w="3587" h="978">
                      <a:moveTo>
                        <a:pt x="0" y="51"/>
                      </a:moveTo>
                      <a:cubicBezTo>
                        <a:pt x="68" y="70"/>
                        <a:pt x="284" y="118"/>
                        <a:pt x="408" y="179"/>
                      </a:cubicBezTo>
                      <a:cubicBezTo>
                        <a:pt x="532" y="240"/>
                        <a:pt x="635" y="299"/>
                        <a:pt x="744" y="419"/>
                      </a:cubicBezTo>
                      <a:cubicBezTo>
                        <a:pt x="853" y="539"/>
                        <a:pt x="873" y="820"/>
                        <a:pt x="1064" y="899"/>
                      </a:cubicBezTo>
                      <a:cubicBezTo>
                        <a:pt x="1255" y="978"/>
                        <a:pt x="1693" y="927"/>
                        <a:pt x="1888" y="891"/>
                      </a:cubicBezTo>
                      <a:cubicBezTo>
                        <a:pt x="2083" y="855"/>
                        <a:pt x="2136" y="769"/>
                        <a:pt x="2233" y="682"/>
                      </a:cubicBezTo>
                      <a:cubicBezTo>
                        <a:pt x="2330" y="595"/>
                        <a:pt x="2392" y="455"/>
                        <a:pt x="2472" y="371"/>
                      </a:cubicBezTo>
                      <a:cubicBezTo>
                        <a:pt x="2552" y="287"/>
                        <a:pt x="2526" y="241"/>
                        <a:pt x="2712" y="179"/>
                      </a:cubicBezTo>
                      <a:cubicBezTo>
                        <a:pt x="2898" y="117"/>
                        <a:pt x="3405" y="37"/>
                        <a:pt x="3587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833560" y="3894120"/>
                  <a:ext cx="3048120" cy="0"/>
                </a:xfrm>
                <a:prstGeom prst="line">
                  <a:avLst/>
                </a:prstGeom>
                <a:ln w="22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10800000">
                  <a:off x="2044440" y="3517560"/>
                  <a:ext cx="228600" cy="152280"/>
                </a:xfrm>
                <a:custGeom>
                  <a:avLst/>
                  <a:gdLst>
                    <a:gd name="textAreaLeft" fmla="*/ 50040 w 228600"/>
                    <a:gd name="textAreaRight" fmla="*/ 178560 w 22860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158920" y="3462120"/>
                  <a:ext cx="0" cy="763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3441600" y="3301920"/>
                  <a:ext cx="74880" cy="1790280"/>
                  <a:chOff x="3441600" y="3301920"/>
                  <a:chExt cx="74880" cy="179028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441600" y="3301920"/>
                    <a:ext cx="74880" cy="17902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1790280"/>
                      <a:gd name="textAreaBottom" fmla="*/ 1786680 h 1790280"/>
                    </a:gdLst>
                    <a:ahLst/>
                    <a:rect l="textAreaLeft" t="textAreaTop" r="textAreaRight" b="textAreaBottom"/>
                    <a:pathLst>
                      <a:path w="21600" h="51405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510459"/>
                        </a:lnTo>
                        <a:arcTo wR="3600" hR="3600" stAng="10800000" swAng="-5400000"/>
                        <a:lnTo>
                          <a:pt x="18000" y="51405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00ffff"/>
                  </a:solidFill>
                  <a:ln w="223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441600" y="34574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441600" y="36129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441600" y="37688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441600" y="39243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441600" y="40802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441600" y="42361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441600" y="43916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441600" y="45471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441600" y="47030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441600" y="48589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>
                  <a:off x="3649320" y="2970720"/>
                  <a:ext cx="1151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Limnímetro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3582360" y="3276360"/>
                  <a:ext cx="454680" cy="177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650600" y="2424240"/>
                <a:ext cx="140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Arial"/>
                  </a:rPr>
                  <a:t>Punto d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Arial"/>
                  </a:rPr>
                  <a:t>Referencia de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Arial"/>
                  </a:rPr>
                  <a:t>Limnímetr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2183760" y="3158640"/>
                <a:ext cx="128160" cy="286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643760" y="1568160"/>
              <a:ext cx="566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CROQUIS ESQUEMÁTICO DE ESTACIÓN LIMNIMÉTRIC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1177920"/>
            <a:ext cx="81468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determinar el caudal pasante (aforar), es necesario definir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ometría de la sección, labor que se puede realizar mediante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ara graduada que se desplaza a lo largo de ésta o bien utilizan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sonar que permita determinar la profundidad del cauce en la mi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ocida la geometría de la sección, cada vez que se afore será 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rio determinar la velocidad media del agua, que atraviesa dich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ción. Para esto se utiliza un instrumento conocido como moli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distribución de la velocidad del agua en la sección es muy vari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le, de forma que es imprescindible medir este parámetro en un nú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ro importante de pun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Molinete" descr=""/>
          <p:cNvPicPr/>
          <p:nvPr/>
        </p:nvPicPr>
        <p:blipFill>
          <a:blip r:embed="rId1"/>
          <a:stretch/>
        </p:blipFill>
        <p:spPr>
          <a:xfrm>
            <a:off x="762120" y="909720"/>
            <a:ext cx="784836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Cable%20y%20molinete" descr=""/>
          <p:cNvPicPr/>
          <p:nvPr/>
        </p:nvPicPr>
        <p:blipFill>
          <a:blip r:embed="rId1"/>
          <a:stretch/>
        </p:blipFill>
        <p:spPr>
          <a:xfrm>
            <a:off x="533520" y="955800"/>
            <a:ext cx="8229600" cy="56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Secc_aforo1" descr=""/>
          <p:cNvPicPr/>
          <p:nvPr/>
        </p:nvPicPr>
        <p:blipFill>
          <a:blip r:embed="rId1"/>
          <a:stretch/>
        </p:blipFill>
        <p:spPr>
          <a:xfrm>
            <a:off x="584280" y="868320"/>
            <a:ext cx="8153280" cy="57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010520"/>
            <a:ext cx="814680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velocidad media de cada subsección queda definida por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guiente fórmula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CL" sz="1800" spc="-1" strike="noStrike" baseline="-10000">
                <a:solidFill>
                  <a:srgbClr val="990033"/>
                </a:solidFill>
                <a:latin typeface="Arial"/>
              </a:rPr>
              <a:t>x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= 0.5*( V</a:t>
            </a:r>
            <a:r>
              <a:rPr b="1" lang="es-CL" sz="1800" spc="-1" strike="noStrike" baseline="-10000">
                <a:solidFill>
                  <a:srgbClr val="990033"/>
                </a:solidFill>
                <a:latin typeface="Arial"/>
              </a:rPr>
              <a:t>0.8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+ V</a:t>
            </a:r>
            <a:r>
              <a:rPr b="1" lang="es-CL" sz="1800" spc="-1" strike="noStrike" baseline="-10000">
                <a:solidFill>
                  <a:srgbClr val="990033"/>
                </a:solidFill>
                <a:latin typeface="Arial"/>
              </a:rPr>
              <a:t>0.2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CL" sz="1800" spc="-1" strike="noStrike" baseline="-10000">
                <a:solidFill>
                  <a:srgbClr val="000000"/>
                </a:solidFill>
                <a:latin typeface="Arial"/>
              </a:rPr>
              <a:t>0.8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y V</a:t>
            </a:r>
            <a:r>
              <a:rPr b="1" lang="es-CL" sz="1800" spc="-1" strike="noStrike" baseline="-10000">
                <a:solidFill>
                  <a:srgbClr val="000000"/>
                </a:solidFill>
                <a:latin typeface="Arial"/>
              </a:rPr>
              <a:t>0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son las velocidades puntuales a un 80%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0% de la profundidad, de la respectiva subse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 El caudal en la sección será entonc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Q =  </a:t>
            </a:r>
            <a:r>
              <a:rPr b="1" lang="es-CL" sz="1800" spc="-1" strike="noStrike">
                <a:solidFill>
                  <a:srgbClr val="990033"/>
                </a:solidFill>
                <a:latin typeface="Symbol"/>
                <a:ea typeface="Symbol"/>
              </a:rPr>
              <a:t>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V</a:t>
            </a:r>
            <a:r>
              <a:rPr b="1" lang="es-CL" sz="1800" spc="-1" strike="noStrike" baseline="-25000">
                <a:solidFill>
                  <a:srgbClr val="990033"/>
                </a:solidFill>
                <a:latin typeface="Arial"/>
              </a:rPr>
              <a:t>x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*A</a:t>
            </a:r>
            <a:r>
              <a:rPr b="1" lang="es-CL" sz="1800" spc="-1" strike="noStrike" baseline="-25000">
                <a:solidFill>
                  <a:srgbClr val="990033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es el área de cada subse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21480" y="1501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0640" y="1163160"/>
            <a:ext cx="815292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denomina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potranspiración potenci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l límite máximo de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puede ser evaporada y transpirada de un área. La vegetación ti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 un desarrollo óptimo y el suelo disponibilidad constante de ag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entiende por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potranspiración re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 aquella que efectivam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produce en una zona, sin que necesariamente exista disponi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inua de agua en el suel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Medición e Instru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xisten dos formas básicas para determinar la evapotranspiración :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dición directa mediante instrumentos tales como los lisímetros y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ón mediante métodos teórico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instalación de lisímetros es una tarea compleja y los resultados,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 menos en Chile, no son altamente confia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8600" y="1352520"/>
            <a:ext cx="8610480" cy="4421160"/>
            <a:chOff x="228600" y="1352520"/>
            <a:chExt cx="8610480" cy="4421160"/>
          </a:xfrm>
        </p:grpSpPr>
        <p:graphicFrame>
          <p:nvGraphicFramePr>
            <p:cNvPr id="228" name=""/>
            <p:cNvGraphicFramePr/>
            <p:nvPr/>
          </p:nvGraphicFramePr>
          <p:xfrm>
            <a:off x="228600" y="2843280"/>
            <a:ext cx="1533600" cy="11714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843280"/>
                      <a:ext cx="1533600" cy="117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0" name=""/>
            <p:cNvGraphicFramePr/>
            <p:nvPr/>
          </p:nvGraphicFramePr>
          <p:xfrm>
            <a:off x="1981080" y="1352520"/>
            <a:ext cx="6858000" cy="44211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81080" y="1352520"/>
                      <a:ext cx="6858000" cy="442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464840"/>
            <a:ext cx="81468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sgraciadamente, en la mayoría de los casos no basta con est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cer sólo en forma inicial la curva de descarga, pues ésta pue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 variable en el tiempo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Luego es necesario efectuar aforos esporádicos, normalmente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z al mes, que permitan verificar la invariancia de la curva o detec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r cuándo ésta ha sufrido algún camb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En efecto, si utilizamos algún modelo hidráulico para representar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lación entre la altura de agua y el caudal, como por ejemplo, la 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cida </a:t>
            </a:r>
            <a:r>
              <a:rPr b="1" lang="es-CL" sz="1800" spc="-1" strike="noStrike">
                <a:solidFill>
                  <a:srgbClr val="cc6600"/>
                </a:solidFill>
                <a:latin typeface="Arial"/>
              </a:rPr>
              <a:t>Fórmula de Manning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, tendremos la relación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1469520"/>
            <a:ext cx="81468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J)</a:t>
            </a:r>
            <a:r>
              <a:rPr b="1" lang="es-CL" sz="1800" spc="-1" strike="noStrike" baseline="30000">
                <a:solidFill>
                  <a:srgbClr val="990033"/>
                </a:solidFill>
                <a:latin typeface="Arial"/>
              </a:rPr>
              <a:t>1/2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* </a:t>
            </a:r>
            <a:r>
              <a:rPr b="1" lang="es-CL" sz="1800" spc="-1" strike="noStrike">
                <a:solidFill>
                  <a:srgbClr val="990033"/>
                </a:solidFill>
                <a:latin typeface="Symbol"/>
                <a:ea typeface="Symbol"/>
              </a:rPr>
              <a:t>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*(</a:t>
            </a:r>
            <a:r>
              <a:rPr b="1" lang="es-CL" sz="1800" spc="-1" strike="noStrike">
                <a:solidFill>
                  <a:srgbClr val="990033"/>
                </a:solidFill>
                <a:latin typeface="Symbol"/>
                <a:ea typeface="Symbol"/>
              </a:rPr>
              <a:t>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) </a:t>
            </a:r>
            <a:r>
              <a:rPr b="1" lang="es-CL" sz="1800" spc="-1" strike="noStrike" baseline="30000">
                <a:solidFill>
                  <a:srgbClr val="990033"/>
                </a:solidFill>
                <a:latin typeface="Arial"/>
              </a:rPr>
              <a:t>2/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                             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Q  =  -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J es la pendiente del eje hidráulic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 es el coeficiente de rugosidad de Manning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s el área de la sección de escurrimient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s el radio hidráulico (cuociente entre el área mojada y el perí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tro del área mojad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052280"/>
            <a:ext cx="81468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l análisis de esta ecuación tenemos que funcionalmente, el ca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l depende d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= f (J, n, geometría de la sec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Luego, la Curva de Descarga sólo se mantendrá invariante, si perm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n constantes en el tiempo la pendiente del eje hidráulico, la r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osidad del lecho y la geometría de la se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Algunas secciones resultan muy estables y mantienen permanen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nte su curva de validez o al menos éstas se mantienen durante p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íodos muy largos. Otras, sin embargo, resultan tan cambiantes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sulta imposible establecer adecuadamente su curva de descarga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ben ser abandonadas como secciones de afo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1180800"/>
            <a:ext cx="81468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álculo de la Escorrent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n aquellos casos en que la escorrentía superficial es muy esporád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, no resulta adecuado implementar una estación de aforo, de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para determinar los caudales susceptibles de generarse dur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evento meteorológico específico, se requiere de metodologías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cialmente diseñadas para tales efec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os de estas metodologías son : el </a:t>
            </a:r>
            <a:r>
              <a:rPr b="1" lang="es-ES_tradnl" sz="1800" spc="-1" strike="noStrike">
                <a:solidFill>
                  <a:srgbClr val="cc6600"/>
                </a:solidFill>
                <a:latin typeface="Arial"/>
              </a:rPr>
              <a:t>Método de la Curva Númer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y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cc6600"/>
                </a:solidFill>
                <a:latin typeface="Arial"/>
              </a:rPr>
              <a:t>Método Racion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1800" spc="-1" strike="noStrike">
                <a:solidFill>
                  <a:srgbClr val="cc6600"/>
                </a:solidFill>
                <a:latin typeface="Arial"/>
              </a:rPr>
              <a:t>El Método de la Curva Númer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fue estructurado por el Departa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gricultura de USA y se aplica a eventos meteorológicos ext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s, para generar la escorrentía e infiltración que producen precip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ciones intensas, en períodos cortos de tiemp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1053720"/>
            <a:ext cx="8146800" cy="52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de la Curva Núm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   =   ------------    -  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 es el almacenamiento necesario para alcanzar saturación del suelo ; y C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 el valor de Curva Número adoptado según el tipo de terre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hora, si la precipitación acaecida cumple con Pp &gt; 0,2 * S ento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Pp - 0,2 * S)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   =    ---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p + 0,8 * 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 es la escorrentía expresada en pulgadas (1 pulgada = 2,54 cm) 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p es la precipitación expresada en pulgad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    Pp &lt; =  que 0,2 * S  entones Es 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748080"/>
            <a:ext cx="8146800" cy="58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de la Curva Númer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N varía entre 0 y 100, de forma que 0 corresponde a un terreno absolut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ente permeable y 100 a un terreno totalmente impermea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VALORES DE CN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600" spc="-1" strike="noStrike">
                <a:solidFill>
                  <a:srgbClr val="cc6600"/>
                </a:solidFill>
                <a:latin typeface="Arial"/>
              </a:rPr>
              <a:t>Tipo de suelo                              Tipo de Terreno         Valor C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voso o arenoso profundo (A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Praderas                         30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enoso de mediana profundidad (B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Praderas                         58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a profundidad con arcillas y limos             Praderas                         71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cilloso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Praderas                         7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voso o arenoso profundo (A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Bosques                         3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enoso de mediana profundidad (B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Bosques                        60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a profundidad con arcillas y limos             Bosques                         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cilloso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Bosques                         79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voso o arenoso profundo (A)                            No agrícola                     6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enoso de mediana profundidad (B)                    No agrícola                     7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a profundidad con arcillas y limos             No agrícola                     8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cilloso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No agrícola                     8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ota : en la cuenca de respaldo del embalse Sta. Juana se determinó una C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medio de 65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978480"/>
            <a:ext cx="8146800" cy="53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Este método es aplicable a cuencas cuyas superficies fluctuen, aproximad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ente, entre 25 y 500 k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La expresión mediante la cual se determina el caudal máximo escurrente du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ante una tormenta 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Q   =   F * C * i *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Q es el caudal de descarga en 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/seg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 es un factor de corrección cuyo valor es 0,278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 es el coeficiente de escorrentía (adimensional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 es la intensidad de la precipitación expresada en mm/hr, du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ante el tiempo de concentración de la cuenca o durante 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iempo mayor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 es la superficie de la cuenca de respaldo, expresada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975600"/>
            <a:ext cx="814680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El tiempo de concentración se define como el tiempo requerido para que u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ota de lluvia, caída en el punto de la cuenca más alejado de la sección d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se desea calcular el caudal generado por la tormenta, alcance dicha s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Según Kirpich (1940) el tiempo de concentración se puede determinar m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ante la siguiente expresión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t</a:t>
            </a:r>
            <a:r>
              <a:rPr b="1" lang="es-ES_tradnl" sz="1600" spc="-1" strike="noStrike" baseline="-10000">
                <a:solidFill>
                  <a:srgbClr val="990033"/>
                </a:solidFill>
                <a:latin typeface="Arial"/>
              </a:rPr>
              <a:t>c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= 0,0078 * L</a:t>
            </a:r>
            <a:r>
              <a:rPr b="1" lang="es-ES_tradnl" sz="1600" spc="-1" strike="noStrike" baseline="30000">
                <a:solidFill>
                  <a:srgbClr val="990033"/>
                </a:solidFill>
                <a:latin typeface="Arial"/>
              </a:rPr>
              <a:t>0,77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* S</a:t>
            </a:r>
            <a:r>
              <a:rPr b="1" lang="es-ES_tradnl" sz="1600" spc="-1" strike="noStrike" baseline="30000">
                <a:solidFill>
                  <a:srgbClr val="990033"/>
                </a:solidFill>
                <a:latin typeface="Arial"/>
              </a:rPr>
              <a:t>-0,38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 baseline="-10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es el tiempo de concentración en minuto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 es la distancia entre la sección de descarga y el punto de la cuen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ás alejado de ella, expresada en pies (1m = 3,28084 pies)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 es el gradiente topográfico entre la sección y el punto más alejado (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mensional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1615320"/>
            <a:ext cx="814680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étodo 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EFICIENTES DE ESCORRENTÍA (C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Tipo de Terreno          Pendiente (%)                    C</a:t>
            </a: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enoso con escasos fino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2                                 0,05 - 0,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- 7                               0,10 - 0,1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7                               0,15 - 0,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illosos                                         2                                 0,13 - 0,1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- 7                               0,18 - 0,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7                               0,25 - 0,3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2000" y="1811880"/>
            <a:ext cx="25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isímetro Enter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4120" y="2587320"/>
            <a:ext cx="5743800" cy="3342240"/>
            <a:chOff x="1374120" y="2587320"/>
            <a:chExt cx="5743800" cy="3342240"/>
          </a:xfrm>
        </p:grpSpPr>
        <p:sp>
          <p:nvSpPr>
            <p:cNvPr id="50" name=""/>
            <p:cNvSpPr/>
            <p:nvPr/>
          </p:nvSpPr>
          <p:spPr>
            <a:xfrm>
              <a:off x="6542640" y="35427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N.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19680" y="3357360"/>
              <a:ext cx="914400" cy="1752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14720" y="3457440"/>
              <a:ext cx="16761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62520" y="3457440"/>
              <a:ext cx="1676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67200" y="3457440"/>
              <a:ext cx="0" cy="1676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95920" y="3452760"/>
              <a:ext cx="0" cy="1675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86200" y="5138640"/>
              <a:ext cx="990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00400" y="3738240"/>
              <a:ext cx="160020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3738240"/>
              <a:ext cx="160020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19680" y="3738240"/>
              <a:ext cx="9144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05480" y="3281040"/>
              <a:ext cx="75960" cy="1447560"/>
            </a:xfrm>
            <a:prstGeom prst="rect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62680" y="3281040"/>
              <a:ext cx="75960" cy="1447560"/>
            </a:xfrm>
            <a:prstGeom prst="rect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27120" y="258732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Piezómetr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41160" y="559224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ilindro de Ace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4224240" y="508104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33920" y="2966760"/>
              <a:ext cx="0" cy="3045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86440" y="2962080"/>
              <a:ext cx="0" cy="3045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21480" y="34473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.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74120" y="3023640"/>
              <a:ext cx="197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uperficie Terre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4240" y="106596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34240" y="1065960"/>
            <a:ext cx="8280360" cy="5322240"/>
            <a:chOff x="534240" y="1065960"/>
            <a:chExt cx="8280360" cy="5322240"/>
          </a:xfrm>
        </p:grpSpPr>
        <p:grpSp>
          <p:nvGrpSpPr>
            <p:cNvPr id="73" name=""/>
            <p:cNvGrpSpPr/>
            <p:nvPr/>
          </p:nvGrpSpPr>
          <p:grpSpPr>
            <a:xfrm>
              <a:off x="534240" y="1065960"/>
              <a:ext cx="8115840" cy="2264040"/>
              <a:chOff x="534240" y="1065960"/>
              <a:chExt cx="8115840" cy="2264040"/>
            </a:xfrm>
          </p:grpSpPr>
          <p:sp>
            <p:nvSpPr>
              <p:cNvPr id="74" name=""/>
              <p:cNvSpPr/>
              <p:nvPr/>
            </p:nvSpPr>
            <p:spPr>
              <a:xfrm>
                <a:off x="564120" y="1599840"/>
                <a:ext cx="8085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- Entre las fórmulas empíricas que usualmente se utilizan en Chile, des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tacan las de Turc, Coutagne y Blaney - Criddle. Los dos primeros méto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os permiten determinar la evapotranspiración real de un área y el últi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o la evapotranspiración potencial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34240" y="1065960"/>
                <a:ext cx="3193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EVAPOTRANSPIRACIÓ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44480" y="2931120"/>
                <a:ext cx="207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0000"/>
                    </a:solidFill>
                    <a:latin typeface="Arial"/>
                  </a:rPr>
                  <a:t>Método de Tur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716760" y="3402000"/>
              <a:ext cx="8097840" cy="29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- Experimentando en un gran número de cuencas, en distintas partes 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undo, Turc definió la siguiente expresión 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6600"/>
                  </a:solidFill>
                  <a:latin typeface="Arial"/>
                </a:rPr>
                <a:t>                                          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ETR =</a:t>
              </a:r>
              <a:r>
                <a:rPr b="1" lang="es-ES_tradnl" sz="1600" spc="-1" strike="noStrike">
                  <a:solidFill>
                    <a:srgbClr val="cc66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10000"/>
                  </a:solidFill>
                  <a:latin typeface="Arial"/>
                </a:rPr>
                <a:t>---------------------------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6600"/>
                  </a:solidFill>
                  <a:latin typeface="Arial"/>
                </a:rPr>
                <a:t>                                                           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( 0,9 + P</a:t>
              </a:r>
              <a:r>
                <a:rPr b="1" lang="es-ES_tradnl" sz="16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/L</a:t>
              </a:r>
              <a:r>
                <a:rPr b="1" lang="es-ES_tradnl" sz="16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)</a:t>
              </a:r>
              <a:r>
                <a:rPr b="1" lang="es-ES_tradnl" sz="1600" spc="-1" strike="noStrike" baseline="30000">
                  <a:solidFill>
                    <a:srgbClr val="990033"/>
                  </a:solidFill>
                  <a:latin typeface="Arial"/>
                </a:rPr>
                <a:t>1/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onde :          ETR es la evapotranspiración real en mm/añ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 es la precipitación en mm/año 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L = 300 + 25 * t + 0,05 * t</a:t>
              </a:r>
              <a:r>
                <a:rPr b="1" lang="es-ES_tradnl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(t = temperatura media anual °C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4240" y="106596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79240" y="1675440"/>
            <a:ext cx="8213760" cy="4702320"/>
            <a:chOff x="579240" y="1675440"/>
            <a:chExt cx="8213760" cy="4702320"/>
          </a:xfrm>
        </p:grpSpPr>
        <p:sp>
          <p:nvSpPr>
            <p:cNvPr id="81" name=""/>
            <p:cNvSpPr/>
            <p:nvPr/>
          </p:nvSpPr>
          <p:spPr>
            <a:xfrm>
              <a:off x="579240" y="1675440"/>
              <a:ext cx="269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Método de Coutag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4760" y="2390040"/>
              <a:ext cx="8058240" cy="39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ste método es aplicable para valores de precipitación (m/año) comprendidos 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e el intervalo definido por 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1                            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------           y            -----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8 *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2 *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onde 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= -----------------------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0,8 + 0,14 * 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iendo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 = temperatura media anual en °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4240" y="106596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79240" y="1675440"/>
            <a:ext cx="7194960" cy="3768480"/>
            <a:chOff x="579240" y="1675440"/>
            <a:chExt cx="7194960" cy="3768480"/>
          </a:xfrm>
        </p:grpSpPr>
        <p:sp>
          <p:nvSpPr>
            <p:cNvPr id="86" name=""/>
            <p:cNvSpPr/>
            <p:nvPr/>
          </p:nvSpPr>
          <p:spPr>
            <a:xfrm>
              <a:off x="579240" y="1675440"/>
              <a:ext cx="269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Método de Coutag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49200" y="2363400"/>
              <a:ext cx="6525000" cy="30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ara dicho rango el autor propone la siguiente expresión 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                                    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ETR = P - 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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 * P</a:t>
              </a:r>
              <a:r>
                <a:rPr b="1" lang="es-ES_tradnl" sz="18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onde 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TP = Evapotranspiración real en m/año; 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 = Precipitación en m/añ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21480" y="1501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7120" y="716760"/>
            <a:ext cx="8061480" cy="57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de Blaney-Cridd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e método permite determinar l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evapotranspiración potenci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. 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igor, permite definir el consumo de agua de los cultivos y de alg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s tipos de vegetación, razón por la cual es utilizado para evalu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querimientos agrícol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método es aplicable mensualmente y depende de la temper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tmosférica, del número de horas de sol y del tipo de cultiv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relación propuesta por los autores señalados es la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EVP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m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= k * p * (0,457 * t + 8,1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la necesidad de agua del cultiv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k es un coeficiente mensual empírico propio del cultiv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 es el porcentaje de horas de Sol a lo largo del año (dep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de la latitud y el m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 es la temperatura media mensual en °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21480" y="1501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5680" y="789840"/>
            <a:ext cx="8007840" cy="55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de Blaney-Cridd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Para determinar la evapotranspiración total en el período de riego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crecimiento de las plantas, se deberá considerar lo siguient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EVP  =  </a:t>
            </a:r>
            <a:r>
              <a:rPr b="1" lang="es-ES_tradnl" sz="1600" spc="-1" strike="noStrike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(EVP</a:t>
            </a:r>
            <a:r>
              <a:rPr b="1" lang="es-ES_tradnl" sz="1600" spc="-1" strike="noStrike" baseline="-25000">
                <a:solidFill>
                  <a:srgbClr val="990033"/>
                </a:solidFill>
                <a:latin typeface="Arial"/>
              </a:rPr>
              <a:t>m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forma que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EVP  =  K * </a:t>
            </a:r>
            <a:r>
              <a:rPr b="1" lang="es-ES_tradnl" sz="1600" spc="-1" strike="noStrike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p * (0,457 * t + 8,13)  =  K * 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end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K = </a:t>
            </a:r>
            <a:r>
              <a:rPr b="1" lang="es-ES_tradnl" sz="1600" spc="-1" strike="noStrike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f  = p * (0,457 * t + 8,1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F = </a:t>
            </a:r>
            <a:r>
              <a:rPr b="1" lang="es-ES_tradnl" sz="1600" spc="-1" strike="noStrike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 esta forma, K corresponde al coeficiente de evapotranspi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cional para el período de riego o crecimiento del cultiv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arlos Parraguez</cp:lastModifiedBy>
  <dcterms:modified xsi:type="dcterms:W3CDTF">2005-08-31T17:29:46Z</dcterms:modified>
  <cp:revision>536</cp:revision>
  <dc:subject/>
  <dc:title>Sin título de diapositiva</dc:title>
</cp:coreProperties>
</file>