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7D5-691B-482A-86AE-9EC6A220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0A4-A01F-421B-BA6E-17A9652E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3AA-2B37-4ADC-AD90-ABCDDD39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BA2-C35D-4469-AF97-DBB698FA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7BC-EC92-4960-B9BF-F2F9F8F9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973-D34B-4ACE-8955-10DDA739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9D2-BDE8-4277-8E13-69DA9478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18F-2000-4114-A19E-39739D6B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154-2F15-4756-8871-CF5315CD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5B9-AAAB-4B0A-9B1E-18908B60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1B6-2A17-4CB7-ADBB-6FD7138D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29D-2E32-4903-BB2C-4A9B682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3A19-D397-4364-A023-8E287B222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ipsometricas_Elvira" descr=""/>
          <p:cNvPicPr/>
          <p:nvPr/>
        </p:nvPicPr>
        <p:blipFill>
          <a:blip r:embed="rId1"/>
          <a:stretch/>
        </p:blipFill>
        <p:spPr>
          <a:xfrm>
            <a:off x="3668760" y="101520"/>
            <a:ext cx="5122800" cy="662940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236880" y="1659960"/>
            <a:ext cx="2925360" cy="2014560"/>
            <a:chOff x="236880" y="1659960"/>
            <a:chExt cx="2925360" cy="2014560"/>
          </a:xfrm>
        </p:grpSpPr>
        <p:sp>
          <p:nvSpPr>
            <p:cNvPr id="72" name=""/>
            <p:cNvSpPr/>
            <p:nvPr/>
          </p:nvSpPr>
          <p:spPr>
            <a:xfrm>
              <a:off x="402120" y="1659960"/>
              <a:ext cx="26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880" y="2665800"/>
              <a:ext cx="292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Bandas Hipsométric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en la cuenca d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Salar Elvi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3680" y="2132640"/>
              <a:ext cx="25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PRECIPIT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7400" y="1536480"/>
            <a:ext cx="7754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proceso físico mediante el cual el agua pasa del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íquido al gaseoso, se denomina evapo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e cambio de estado requiere, necesariamente, de u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sión de calor, que alcanza más o menos a 600 calor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 gramo de agua que se evap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a energía calórica, directa o indirectamente, provi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 energía radiante del S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Para que las moléculas de agua, que se encuentran en co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cto con la atmósfera, pasen a incorporarse a ésta, deb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án tener la suficiente energía cinética y la atmósfera deb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á tener capacidad para admitir el vapor de a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9200" y="1689120"/>
            <a:ext cx="797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as variables de las cuales depende este proceso son las s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uient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 La presión de vapor de la atmósfe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 La velocidad del vient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 La composición química del agu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 La presión atmosféric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 La temperatura del aire y del agu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 El volumen de agua desde el que se produce la evap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6680" y="1384200"/>
            <a:ext cx="803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grado de humedad del aire en contacto con el agua y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novación de estas masas producto del viento, son parám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os relevantes en el proceso de evaporación. Por ejempl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las áreas altiplánicas (de baja humedad atmosférica), la 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poración es muy importante. En los salares de Ascotán, 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cama y Maricunga, desde la superficie de agua libre, se 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terminado tasas medias entre 3,5 y 4,0 mm/dí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Para aguas a igual temperatura, la tensión de vapor disminu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e en la medida en que aumenta la concentración de sales d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eltas. Se estima que un 1% de aumento de la 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minuye en igual porcentaje la evapo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960" y="1231560"/>
            <a:ext cx="8049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as tasas de evaporación desde un suelo saturado son mu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ilares a las que se verifican desde la superficie de agua l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re, siempre que las condiciones ambientales sean análog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a condición se cumple, por ejemplo, en zonas donde el n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l estático se encuentra próximo a la superfici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paso directo del estado sólido al estado gaseoso se den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a sublimación, siendo fuertemente dependiente de la vel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dad del viento. Algunos autores (Custodio-Llamas, 1996) i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an que se puede estimar en unos 15 mm/mes para veloc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des moderadas de viento y en unos 150 mm/mes para vel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dades cercanas a 5 m/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4520" y="1077840"/>
            <a:ext cx="8242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os instrumentos que permiten medir la evaporación se cl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fican en : estanques de evaporación, evaporímetros de b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nza y evaporímetros de superficie por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estanque de evaporación de mayor difusión correspo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Clase A diseñado por el U.S. Weather Bureau. Es un depó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to metálico cilíndrico y galvanizado, que tiene un diá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1,2 m y 25,4 cm de al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e instrumento se instala sobre un enrejado de madera (lis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nes) construido 15 cm sobre el sue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Evap-Bandeja" descr=""/>
          <p:cNvPicPr/>
          <p:nvPr/>
        </p:nvPicPr>
        <p:blipFill>
          <a:blip r:embed="rId1"/>
          <a:stretch/>
        </p:blipFill>
        <p:spPr>
          <a:xfrm>
            <a:off x="914400" y="1023840"/>
            <a:ext cx="7543800" cy="55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6680" y="1168200"/>
            <a:ext cx="807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Una variante de tanque de evaporación es el evaporí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orado”, que corresponde a un receptáculo de s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drada de lado equivalente a 91 cm y 46 cm de altura.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mplaza semienterrado en el terreno, de forma que sobr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alga de éste 10 c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Debido al reducido volumen de estos evaporímetros, los v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res que entregan siempre incorporan un error por exce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Para eliminar dicha inexactitud se utilizan coeficient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mbalse, según el modelo, que varían entre 0,6 y 0,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Evap_colorado" descr=""/>
          <p:cNvPicPr/>
          <p:nvPr/>
        </p:nvPicPr>
        <p:blipFill>
          <a:blip r:embed="rId1"/>
          <a:stretch/>
        </p:blipFill>
        <p:spPr>
          <a:xfrm>
            <a:off x="762120" y="1133640"/>
            <a:ext cx="7848360" cy="54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8840" y="1091880"/>
            <a:ext cx="81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evaporímetro de balanza de mayor uso es el denomin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o Wild, que corresponde a un pequeño receptáculo de á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 equivalente a 250 c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35 mm de altura. Se empla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una balanza, a la que puede adaptarse un tambor r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torio y una plumilla inscriptora, con el fin de obtener 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istr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Debido al reducido volumen de estos evaporímetros, los v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res que entregan incorporan errores, que pueden corregi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en base a los datos del evaporímetro de bande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os evaporímetros de superficie porosa más conocidos s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denominados “Piché” y “Livingston”. Son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evaporan a través de medios porosos que ponen el ag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contacto con la atmósf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60" y="1049040"/>
            <a:ext cx="86846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distribuir arealmente las precipitaciones en una cue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, se utilizan de preferencia el método de los Polígono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iessen y el Trazado de Isoye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lígonos de Thiess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ubican las estaciones en la cartografía disponible y se tra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ivisoria de aguas de la cuenc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trazan rectas que unan las estaciones meteorológicas de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ya hidrográfic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levantan las transversales de gravedad de cada rec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intersectan las transversales de manera que se gener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ígonos que encierren a las distintas estacion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asigna a dichos polígonos la precipitación de la estación r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240" y="1625760"/>
            <a:ext cx="8076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 usual instalar un evaporímetro tipo “Piché” en la cas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 meteorológica, junto al termómetro de máxima y míni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Algunas correlaciones establecidas entre los evaporíme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ché” y evaporímetros de tanque, indican factores de pr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cionalidad de 0,8. Autores como Remenieras (1960) h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lan de factores entre 0,45 y 0,6; la inexactitud puede ser al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9680" y="23911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Evaporímetros%20Sup.Porosa" descr=""/>
          <p:cNvPicPr/>
          <p:nvPr/>
        </p:nvPicPr>
        <p:blipFill>
          <a:blip r:embed="rId1"/>
          <a:stretch/>
        </p:blipFill>
        <p:spPr>
          <a:xfrm>
            <a:off x="2776680" y="152280"/>
            <a:ext cx="6130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oligonos_de_Thyessen2" descr=""/>
          <p:cNvPicPr/>
          <p:nvPr/>
        </p:nvPicPr>
        <p:blipFill>
          <a:blip r:embed="rId1"/>
          <a:stretch/>
        </p:blipFill>
        <p:spPr>
          <a:xfrm>
            <a:off x="1143000" y="1355760"/>
            <a:ext cx="7010280" cy="5030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640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69360" y="9133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Polígonos de Thies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3920" y="1628280"/>
            <a:ext cx="849708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Trazado de Isoye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isoyeta a la línea que une los puntos con ig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cipitació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base a los antecedentes de las estaciones meteorológic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ante interpolación, se trazan las isoyetas sobre la cuenc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asigna al área encerrada por dos isoyetas la media aritmé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 de ést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e es el método más utilizado y que distribuye de mej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ma las precipitaciones sobre una cuenca en estud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1840" y="287856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s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59320" y="304920"/>
          <a:ext cx="47466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9320" y="304920"/>
                    <a:ext cx="47466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400" y="2650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Trazado de Isoye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09840" y="304920"/>
          <a:ext cx="48801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304920"/>
                    <a:ext cx="48801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6320" y="926640"/>
            <a:ext cx="7829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rrelación de las Precipitaciones co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 muy usual tener que transponer las 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a estación dada hasta el área de estud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ta tarea se realiza teniendo en consideració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parámetro primordial y en ocasiones es interesa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 considerar, además, variables como la latitud y la lo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itud (correlación múltip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l gradiente pluviométrico que caracteriza al área de es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udio se obtiene mediante regresiones que suelen ser l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ales o en su defecto logarítmicas o exponenci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Es habitual que deban seleccionarse los datos a utiliz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a que suelen producirse dispersiones fuertes, gener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s por condiciones particulares de alguna estación (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. Estación Cebolla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8480" y="989640"/>
            <a:ext cx="59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rrelación de las Precipitaciones co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0160" y="1981080"/>
            <a:ext cx="8638920" cy="4057920"/>
            <a:chOff x="200160" y="1981080"/>
            <a:chExt cx="8638920" cy="4057920"/>
          </a:xfrm>
        </p:grpSpPr>
        <p:graphicFrame>
          <p:nvGraphicFramePr>
            <p:cNvPr id="64" name=""/>
            <p:cNvGraphicFramePr/>
            <p:nvPr/>
          </p:nvGraphicFramePr>
          <p:xfrm>
            <a:off x="2362320" y="1981080"/>
            <a:ext cx="6476760" cy="4057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1981080"/>
                      <a:ext cx="6476760" cy="40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200160" y="2840040"/>
            <a:ext cx="2057400" cy="1787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2840040"/>
                      <a:ext cx="2057400" cy="17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6320" y="1582560"/>
            <a:ext cx="7983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Correlación de las Precipitaciones con la Al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Una vez obtenida la relación matemática correspondie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, se subdivide la cuenca en bandas hipsométr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Luego a cada banda se le determina la precipitación se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ún la fórmula definida en la regres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Finalmente se calculan los volúmenes precipitados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banda hipsométrica (multiplicando el área de la ba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 por la precipitación asignada), para luego hacer la su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 to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2-07-26T01:57:24Z</dcterms:modified>
  <cp:revision>416</cp:revision>
  <dc:subject/>
  <dc:title>Sin título de diapositiva</dc:title>
</cp:coreProperties>
</file>