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358-7305-4382-AA71-7A05AD0C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8F6-9C10-49C8-AC03-CECF584E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B4D-D73B-4725-896E-A7B923B9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A6F-CC0E-4E92-B813-52ADF5E5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23A-B859-4682-9F4C-C21333E6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15F-4EBB-44A4-8B34-57340A59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998-DDBA-4EC3-A12B-1FFCDD47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447-4ED4-496B-A8CA-27DB35FE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630-5532-49E9-B37A-40FB8B2E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D91-5C48-4135-9AA3-93B7E0AE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882-387D-489A-8D10-E3246AD0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CCE-5250-4B5E-84EA-AD78CA15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CFA8-7F7B-482E-A4CC-D8967B22A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541600" y="94284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filtración desde la base de un emb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 través de un estrato perm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87640" y="26193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1560" y="1886040"/>
            <a:ext cx="6324480" cy="0"/>
          </a:xfrm>
          <a:prstGeom prst="line">
            <a:avLst/>
          </a:prstGeom>
          <a:ln w="2232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82960" y="31431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65320" y="4100400"/>
            <a:ext cx="6294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800" y="164160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Nivel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en el Embal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400" y="2352600"/>
            <a:ext cx="11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echo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680" y="29192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Base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720" y="384336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ivel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19920" y="2500200"/>
            <a:ext cx="113040" cy="723960"/>
            <a:chOff x="2419920" y="2500200"/>
            <a:chExt cx="113040" cy="723960"/>
          </a:xfrm>
        </p:grpSpPr>
        <p:sp>
          <p:nvSpPr>
            <p:cNvPr id="284" name=""/>
            <p:cNvSpPr/>
            <p:nvPr/>
          </p:nvSpPr>
          <p:spPr>
            <a:xfrm>
              <a:off x="2476440" y="250020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19920" y="306072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419920" y="256068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97680" y="27241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e = espesor satu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83040" y="1700280"/>
            <a:ext cx="164160" cy="1047240"/>
            <a:chOff x="2183040" y="1700280"/>
            <a:chExt cx="164160" cy="1047240"/>
          </a:xfrm>
        </p:grpSpPr>
        <p:sp>
          <p:nvSpPr>
            <p:cNvPr id="289" name=""/>
            <p:cNvSpPr/>
            <p:nvPr/>
          </p:nvSpPr>
          <p:spPr>
            <a:xfrm>
              <a:off x="2265120" y="1700280"/>
              <a:ext cx="0" cy="10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183040" y="25110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83040" y="17874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308680" y="20764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 = altura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81280" y="27288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6000" y="34909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55640" y="3030480"/>
            <a:ext cx="133200" cy="1190520"/>
            <a:chOff x="7055640" y="3030480"/>
            <a:chExt cx="133200" cy="1190520"/>
          </a:xfrm>
        </p:grpSpPr>
        <p:sp>
          <p:nvSpPr>
            <p:cNvPr id="296" name=""/>
            <p:cNvSpPr/>
            <p:nvPr/>
          </p:nvSpPr>
          <p:spPr>
            <a:xfrm>
              <a:off x="7122960" y="3030480"/>
              <a:ext cx="0" cy="1190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60680" y="4021200"/>
              <a:ext cx="12816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55640" y="3063960"/>
              <a:ext cx="12780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003520" y="1762200"/>
            <a:ext cx="137520" cy="2450880"/>
            <a:chOff x="8003520" y="1762200"/>
            <a:chExt cx="137520" cy="2450880"/>
          </a:xfrm>
        </p:grpSpPr>
        <p:sp>
          <p:nvSpPr>
            <p:cNvPr id="300" name=""/>
            <p:cNvSpPr/>
            <p:nvPr/>
          </p:nvSpPr>
          <p:spPr>
            <a:xfrm>
              <a:off x="8077320" y="1762200"/>
              <a:ext cx="0" cy="24508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13240" y="180216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03520" y="402624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83000" y="451656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radiente Hidráu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4906800"/>
            <a:ext cx="120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-------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50626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 = H +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41000" y="4888080"/>
            <a:ext cx="10861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  ------  +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240" y="5726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dal Infilt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5800" y="5719680"/>
            <a:ext cx="1000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1320" y="5724360"/>
            <a:ext cx="49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onde K es la permeabilidad vertical y A es la superficie inund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 altura H (K vertical = 0,1 * K horizonta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05960" y="2737440"/>
            <a:ext cx="564840" cy="115920"/>
          </a:xfrm>
          <a:custGeom>
            <a:avLst/>
            <a:gdLst>
              <a:gd name="textAreaLeft" fmla="*/ 70560 w 564840"/>
              <a:gd name="textAreaRight" fmla="*/ 494280 w 5648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31400" y="268596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ilt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43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49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71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93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94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8800" y="754920"/>
            <a:ext cx="8079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 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9520" y="837000"/>
            <a:ext cx="688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alidación de Resultados (Balance Aniónico-Catión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1893960"/>
            <a:ext cx="7772400" cy="3806640"/>
            <a:chOff x="647640" y="1893960"/>
            <a:chExt cx="7772400" cy="3806640"/>
          </a:xfrm>
        </p:grpSpPr>
        <p:graphicFrame>
          <p:nvGraphicFramePr>
            <p:cNvPr id="434" name=""/>
            <p:cNvGraphicFramePr/>
            <p:nvPr/>
          </p:nvGraphicFramePr>
          <p:xfrm>
            <a:off x="838080" y="1893960"/>
            <a:ext cx="7239240" cy="203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93960"/>
                      <a:ext cx="7239240" cy="20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647640" y="4230720"/>
            <a:ext cx="7772400" cy="1469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640" y="4230720"/>
                      <a:ext cx="777240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319680" y="5886360"/>
            <a:ext cx="83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 la diferencia entre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os aniones y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de los cationes, expresados en me/l, es menor de 6%, el análi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uede considerarse válid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lasificación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8200" y="1791000"/>
            <a:ext cx="7892280" cy="43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DUR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ureza del agua dice relación con la cantidad de cationes 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q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tenga. La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ureza tot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hace referencia a la suma de los dos cationes señ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dos; la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ureza carbonatad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e refiere a ambos cationes pero asociados 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encia de bicarbonato; y la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ureza no carbonatad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la presencia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sociada a otros aniones tales com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y SO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acuerdo a la definición de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ureza tot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las aguas se pueden clasificar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iguiente forma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&lt; 150 ppm de Ca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gua bland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 150 y 350 ppm de Ca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aguas de dureza medi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 350 y 600 ppm de Ca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aguas duras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&gt; de 600 ppm de Ca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aguas muy dur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814480" y="2514600"/>
            <a:ext cx="2836800" cy="2158920"/>
            <a:chOff x="2814480" y="2514600"/>
            <a:chExt cx="2836800" cy="2158920"/>
          </a:xfrm>
        </p:grpSpPr>
        <p:grpSp>
          <p:nvGrpSpPr>
            <p:cNvPr id="450" name=""/>
            <p:cNvGrpSpPr/>
            <p:nvPr/>
          </p:nvGrpSpPr>
          <p:grpSpPr>
            <a:xfrm>
              <a:off x="2814480" y="2514600"/>
              <a:ext cx="2836800" cy="2158920"/>
              <a:chOff x="2814480" y="2514600"/>
              <a:chExt cx="2836800" cy="2158920"/>
            </a:xfrm>
          </p:grpSpPr>
          <p:sp>
            <p:nvSpPr>
              <p:cNvPr id="451" name=""/>
              <p:cNvSpPr/>
              <p:nvPr/>
            </p:nvSpPr>
            <p:spPr>
              <a:xfrm>
                <a:off x="4244760" y="2514600"/>
                <a:ext cx="0" cy="2158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2814480" y="2695320"/>
                <a:ext cx="2835000" cy="84960"/>
                <a:chOff x="2814480" y="2695320"/>
                <a:chExt cx="2835000" cy="84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814480" y="27356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81448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962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0999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428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3858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5287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6716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81456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962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100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2429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3858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5288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6717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8146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9575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100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2416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375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5177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6415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816280" y="2971440"/>
                <a:ext cx="2835000" cy="84960"/>
                <a:chOff x="2816280" y="2971440"/>
                <a:chExt cx="2835000" cy="8496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816280" y="30117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81628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963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1017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2446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3876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5305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6734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81636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963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102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2447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3876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5306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6735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8164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9593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102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2434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376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5195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433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2816280" y="3238200"/>
                <a:ext cx="2835000" cy="84960"/>
                <a:chOff x="2816280" y="3238200"/>
                <a:chExt cx="2835000" cy="849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2816280" y="32785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81628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63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017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446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3876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5305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6734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81636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963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102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2447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3876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5306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6735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8164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9593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102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2434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76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5195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6433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>
              <a:off x="3286080" y="2733840"/>
              <a:ext cx="361800" cy="27972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3156840" y="3009600"/>
              <a:ext cx="493200" cy="271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4629960" y="2731320"/>
              <a:ext cx="570240" cy="28296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29600" y="3019320"/>
              <a:ext cx="261000" cy="25488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5643360" y="2593800"/>
            <a:ext cx="878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s-ES" sz="1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+ CO</a:t>
            </a:r>
            <a:r>
              <a:rPr b="1" lang="es-ES" sz="1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39400" y="2867040"/>
            <a:ext cx="439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s-ES" sz="1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637600" y="31561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20400" y="3157560"/>
            <a:ext cx="6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s-ES" sz="1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+ K</a:t>
            </a:r>
            <a:r>
              <a:rPr b="1" lang="es-ES" sz="1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37480" y="286704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es-ES" sz="10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33880" y="26082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es-ES" sz="1000" spc="-1" strike="noStrike" baseline="30000">
                <a:solidFill>
                  <a:srgbClr val="ffffff"/>
                </a:solidFill>
                <a:latin typeface="Arial"/>
              </a:rPr>
              <a:t>++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93680" y="172728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DIAGRAMA DE STIFF (meq/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4299120" y="-11698200"/>
          <a:ext cx="547560" cy="302562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r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ruro de magnes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lfato neut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ruro de cal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,1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ruro de potas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7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carbonat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2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rom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96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Ácido bóri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26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ruro de estron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24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luor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003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gua destilad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0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lilitr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1143000" y="1962000"/>
          <a:ext cx="6858000" cy="2689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r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ruro de magnes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lfato neut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ruro de cal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ruro de potas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7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carbonat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m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96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Ácido bóri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26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ruro de estron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24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uoruro de sod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03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m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ua destilad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0 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ilitr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4" name=""/>
          <p:cNvSpPr/>
          <p:nvPr/>
        </p:nvSpPr>
        <p:spPr>
          <a:xfrm>
            <a:off x="3612600" y="4912560"/>
            <a:ext cx="2779200" cy="246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(Salinidad aproximada 34.5%   -   pH 7.9-8.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67200" y="13953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mposición del Agua de M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</cp:lastModifiedBy>
  <dcterms:modified xsi:type="dcterms:W3CDTF">2006-10-24T16:43:49Z</dcterms:modified>
  <cp:revision>713</cp:revision>
  <dc:subject/>
  <dc:title>Sin título de diapositiva</dc:title>
</cp:coreProperties>
</file>