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1F78-637A-4B58-9AE4-A0D46E16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289-3C9B-4831-9BC9-9A1848BB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11B-FAF2-45BC-A6F1-84621A30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5BC-2979-4F3E-A381-D8A3D5A3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809-E4CF-4BC5-9F58-46267461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C61-C93F-4AC1-9596-F012C981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72F-4696-4ABC-913C-94DE3749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3BA-B5A3-46E5-AE7D-DA0D2B92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65E-F52E-4EC0-9579-E8729105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FFC-D0EB-49DD-8E9D-B05808B2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F75-EB10-49A5-BD29-36ECFAA2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4D3-F4C9-4CFA-9C0B-49ED02C6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1D5B-5003-48E7-ACB3-422D5BA8E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6160" y="1221480"/>
            <a:ext cx="8564400" cy="4285080"/>
            <a:chOff x="326160" y="1221480"/>
            <a:chExt cx="8564400" cy="4285080"/>
          </a:xfrm>
        </p:grpSpPr>
        <p:sp>
          <p:nvSpPr>
            <p:cNvPr id="140" name=""/>
            <p:cNvSpPr/>
            <p:nvPr/>
          </p:nvSpPr>
          <p:spPr>
            <a:xfrm>
              <a:off x="326160" y="1221480"/>
              <a:ext cx="856440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entregado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l caudal que entregará un dren, por metro de longitud y en condiciones de desequ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librio, depende de los siguientes parámetros : la permeabilidad del acuífero, el co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iciente de almacenamiento del mismo,  del radio del dren y de la magnitud del desc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 del nivel estático para alcanzar la clave de la tuberí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47840" y="3689280"/>
              <a:ext cx="6324480" cy="1817280"/>
              <a:chOff x="1347840" y="3689280"/>
              <a:chExt cx="6324480" cy="181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393920" y="3689280"/>
                <a:ext cx="614988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47840" y="387036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6000" y="3946680"/>
                <a:ext cx="308772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466520" y="395280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32160" y="4775040"/>
                <a:ext cx="48276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8760" y="47102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14280" y="471492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33960" y="5014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4280" y="5024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2480" y="5199480"/>
                <a:ext cx="25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481640" y="38858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81640" y="4433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9240" y="4170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760" y="1009800"/>
            <a:ext cx="840096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entregado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caudal por metro de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 * π  *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2000" spc="-1" strike="noStrike" baseline="-25000">
                <a:solidFill>
                  <a:srgbClr val="990033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Ln (0,88 * (K*t/S*r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(m) es el descenso del NE hasta la clave del dre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l dr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caudal aportado por todo el dren (Q), deberá hacerse el prod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tre 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el largo de la ob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1680" y="927360"/>
            <a:ext cx="804276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 la depresión generada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descenso de la superficie freática, en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ubicado a cierta distancia de un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                     0,882 * K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Δ =  ---------      Ln 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π * K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S *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Δ (m) es el descenso generado en el punto problem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 (m) es la distancia al dren del punto donde se calcula el descen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 del dren para el cual se calcula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en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4520" y="1370520"/>
            <a:ext cx="6972480" cy="3658320"/>
            <a:chOff x="704520" y="1370520"/>
            <a:chExt cx="6972480" cy="3658320"/>
          </a:xfrm>
        </p:grpSpPr>
        <p:sp>
          <p:nvSpPr>
            <p:cNvPr id="161" name=""/>
            <p:cNvSpPr/>
            <p:nvPr/>
          </p:nvSpPr>
          <p:spPr>
            <a:xfrm>
              <a:off x="704520" y="13705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la depresión generada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352520" y="2790720"/>
              <a:ext cx="6324480" cy="2238120"/>
              <a:chOff x="1352520" y="2790720"/>
              <a:chExt cx="6324480" cy="2238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28480" y="2790720"/>
                <a:ext cx="61495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52520" y="309528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60160" y="354780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541400" y="3554280"/>
                <a:ext cx="308736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98760" y="4365360"/>
                <a:ext cx="48204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1680" y="4344840"/>
                <a:ext cx="507600" cy="198360"/>
              </a:xfrm>
              <a:prstGeom prst="rightArrow">
                <a:avLst>
                  <a:gd name="adj1" fmla="val 50000"/>
                  <a:gd name="adj2" fmla="val 6397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47200" y="43448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814560" y="30902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14560" y="3728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9960" y="3390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990033"/>
                    </a:solidFill>
                    <a:latin typeface="Arial"/>
                  </a:rPr>
                  <a:t>Δ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19240" y="4474800"/>
                <a:ext cx="0" cy="5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8520" y="4619520"/>
                <a:ext cx="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19160" y="495288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04640" y="4675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080" y="849240"/>
            <a:ext cx="83768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ndo un río cruza un área de recuperación de agua subterránea, su caudal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imenta de los aportes provenientes del acuífero, de forma que si se proyecta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 partir de un pozo cercano, parte importante de los recursos obten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pueden estarse consiguiendo a expensas del rí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l impacto en el río se utiliza el método de Jenk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968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tiene los mismos supuestos de los métodos de interpretación de en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os de bombeo y en estricto rigor debiera aplicarse a acuíferos confinados, sin 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rgo es una válida aproximación para acuíferos lib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solución del problema el autor estructuró un ábaco al cual converg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uientes variabl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constante bombeado por el poz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derivado del rí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*t es el volumen bombeado hasta el tiempo t (días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) es el volumen total aportado por el río en el tiempo 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la transmisividad del acuíf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días) es el tiempo desde que se inicia el bombeo;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x (m) es la distancia del pozo al río o borde de recarg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17760" y="1294560"/>
            <a:ext cx="5986440" cy="5105880"/>
            <a:chOff x="1517760" y="1294560"/>
            <a:chExt cx="5986440" cy="5105880"/>
          </a:xfrm>
        </p:grpSpPr>
        <p:sp>
          <p:nvSpPr>
            <p:cNvPr id="181" name=""/>
            <p:cNvSpPr/>
            <p:nvPr/>
          </p:nvSpPr>
          <p:spPr>
            <a:xfrm>
              <a:off x="1593720" y="367200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9520" y="3672000"/>
              <a:ext cx="3379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1640" y="367200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760920" y="365256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62320" y="431640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7760" y="4100400"/>
              <a:ext cx="236376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3400" y="3519360"/>
              <a:ext cx="152280" cy="2881080"/>
              <a:chOff x="4613400" y="3519360"/>
              <a:chExt cx="152280" cy="2881080"/>
            </a:xfrm>
          </p:grpSpPr>
          <p:sp>
            <p:nvSpPr>
              <p:cNvPr id="188" name=""/>
              <p:cNvSpPr/>
              <p:nvPr/>
            </p:nvSpPr>
            <p:spPr>
              <a:xfrm>
                <a:off x="4613400" y="3519360"/>
                <a:ext cx="152280" cy="1800000"/>
              </a:xfrm>
              <a:prstGeom prst="rect">
                <a:avLst/>
              </a:prstGeom>
              <a:solidFill>
                <a:srgbClr val="ff99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613400" y="5321160"/>
                <a:ext cx="152280" cy="1079280"/>
                <a:chOff x="4613400" y="5321160"/>
                <a:chExt cx="152280" cy="1079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613400" y="5321160"/>
                  <a:ext cx="152280" cy="1079280"/>
                </a:xfrm>
                <a:prstGeom prst="rect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13400" y="54097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13400" y="54860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13400" y="55623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13400" y="5638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13400" y="57146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13400" y="57909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13400" y="5866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13400" y="59432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13400" y="60195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3400" y="60955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3400" y="61718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3400" y="62481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13400" y="63241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851280" y="4086360"/>
              <a:ext cx="754200" cy="1054080"/>
            </a:xfrm>
            <a:custGeom>
              <a:avLst/>
              <a:gdLst/>
              <a:ahLst/>
              <a:rect l="l" t="t" r="r" b="b"/>
              <a:pathLst>
                <a:path w="475" h="664">
                  <a:moveTo>
                    <a:pt x="0" y="0"/>
                  </a:moveTo>
                  <a:cubicBezTo>
                    <a:pt x="32" y="12"/>
                    <a:pt x="63" y="22"/>
                    <a:pt x="96" y="48"/>
                  </a:cubicBezTo>
                  <a:cubicBezTo>
                    <a:pt x="129" y="74"/>
                    <a:pt x="168" y="121"/>
                    <a:pt x="199" y="159"/>
                  </a:cubicBezTo>
                  <a:cubicBezTo>
                    <a:pt x="230" y="197"/>
                    <a:pt x="256" y="237"/>
                    <a:pt x="280" y="276"/>
                  </a:cubicBezTo>
                  <a:cubicBezTo>
                    <a:pt x="304" y="315"/>
                    <a:pt x="322" y="352"/>
                    <a:pt x="343" y="393"/>
                  </a:cubicBezTo>
                  <a:cubicBezTo>
                    <a:pt x="364" y="434"/>
                    <a:pt x="387" y="480"/>
                    <a:pt x="409" y="525"/>
                  </a:cubicBezTo>
                  <a:cubicBezTo>
                    <a:pt x="431" y="570"/>
                    <a:pt x="461" y="635"/>
                    <a:pt x="475" y="6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9000" y="5143680"/>
              <a:ext cx="179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65680" y="4129200"/>
              <a:ext cx="2682720" cy="1009440"/>
            </a:xfrm>
            <a:custGeom>
              <a:avLst/>
              <a:gdLst/>
              <a:ahLst/>
              <a:rect l="l" t="t" r="r" b="b"/>
              <a:pathLst>
                <a:path w="1690" h="636">
                  <a:moveTo>
                    <a:pt x="0" y="636"/>
                  </a:moveTo>
                  <a:cubicBezTo>
                    <a:pt x="22" y="618"/>
                    <a:pt x="84" y="562"/>
                    <a:pt x="135" y="527"/>
                  </a:cubicBezTo>
                  <a:cubicBezTo>
                    <a:pt x="186" y="492"/>
                    <a:pt x="244" y="460"/>
                    <a:pt x="308" y="427"/>
                  </a:cubicBezTo>
                  <a:cubicBezTo>
                    <a:pt x="372" y="394"/>
                    <a:pt x="452" y="356"/>
                    <a:pt x="517" y="327"/>
                  </a:cubicBezTo>
                  <a:cubicBezTo>
                    <a:pt x="582" y="298"/>
                    <a:pt x="634" y="278"/>
                    <a:pt x="699" y="254"/>
                  </a:cubicBezTo>
                  <a:cubicBezTo>
                    <a:pt x="764" y="230"/>
                    <a:pt x="838" y="205"/>
                    <a:pt x="909" y="182"/>
                  </a:cubicBezTo>
                  <a:cubicBezTo>
                    <a:pt x="980" y="159"/>
                    <a:pt x="1046" y="139"/>
                    <a:pt x="1126" y="118"/>
                  </a:cubicBezTo>
                  <a:cubicBezTo>
                    <a:pt x="1206" y="97"/>
                    <a:pt x="1296" y="74"/>
                    <a:pt x="1390" y="54"/>
                  </a:cubicBezTo>
                  <a:cubicBezTo>
                    <a:pt x="1484" y="34"/>
                    <a:pt x="1640" y="9"/>
                    <a:pt x="1690" y="0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4800" y="4081320"/>
              <a:ext cx="35528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6160" y="4314960"/>
              <a:ext cx="676080" cy="1174680"/>
            </a:xfrm>
            <a:custGeom>
              <a:avLst/>
              <a:gdLst/>
              <a:ahLst/>
              <a:rect l="l" t="t" r="r" b="b"/>
              <a:pathLst>
                <a:path w="426" h="740">
                  <a:moveTo>
                    <a:pt x="0" y="0"/>
                  </a:moveTo>
                  <a:lnTo>
                    <a:pt x="44" y="176"/>
                  </a:lnTo>
                  <a:lnTo>
                    <a:pt x="135" y="395"/>
                  </a:lnTo>
                  <a:lnTo>
                    <a:pt x="235" y="577"/>
                  </a:lnTo>
                  <a:lnTo>
                    <a:pt x="426" y="74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0600" y="4262400"/>
              <a:ext cx="576720" cy="80964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2760" y="4314960"/>
              <a:ext cx="746280" cy="1490400"/>
            </a:xfrm>
            <a:custGeom>
              <a:avLst/>
              <a:gdLst/>
              <a:ahLst/>
              <a:rect l="l" t="t" r="r" b="b"/>
              <a:pathLst>
                <a:path w="470" h="939">
                  <a:moveTo>
                    <a:pt x="0" y="0"/>
                  </a:moveTo>
                  <a:lnTo>
                    <a:pt x="37" y="236"/>
                  </a:lnTo>
                  <a:lnTo>
                    <a:pt x="73" y="436"/>
                  </a:lnTo>
                  <a:lnTo>
                    <a:pt x="155" y="618"/>
                  </a:lnTo>
                  <a:lnTo>
                    <a:pt x="237" y="754"/>
                  </a:lnTo>
                  <a:lnTo>
                    <a:pt x="337" y="854"/>
                  </a:lnTo>
                  <a:lnTo>
                    <a:pt x="470" y="939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6560" y="4314960"/>
              <a:ext cx="1079280" cy="603000"/>
            </a:xfrm>
            <a:custGeom>
              <a:avLst/>
              <a:gdLst/>
              <a:ahLst/>
              <a:rect l="l" t="t" r="r" b="b"/>
              <a:pathLst>
                <a:path w="680" h="380">
                  <a:moveTo>
                    <a:pt x="0" y="380"/>
                  </a:moveTo>
                  <a:lnTo>
                    <a:pt x="170" y="345"/>
                  </a:lnTo>
                  <a:lnTo>
                    <a:pt x="352" y="254"/>
                  </a:lnTo>
                  <a:lnTo>
                    <a:pt x="498" y="154"/>
                  </a:lnTo>
                  <a:lnTo>
                    <a:pt x="68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4230720"/>
              <a:ext cx="75096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9120" y="131436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84560" y="1314360"/>
              <a:ext cx="33800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7040" y="131436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855960" y="129528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7720" y="196704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2800" y="1743120"/>
              <a:ext cx="58914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05240" y="1871640"/>
              <a:ext cx="75060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9800" y="1990800"/>
              <a:ext cx="1185840" cy="563400"/>
            </a:xfrm>
            <a:custGeom>
              <a:avLst/>
              <a:gdLst/>
              <a:ahLst/>
              <a:rect l="l" t="t" r="r" b="b"/>
              <a:pathLst>
                <a:path w="747" h="355">
                  <a:moveTo>
                    <a:pt x="0" y="355"/>
                  </a:moveTo>
                  <a:lnTo>
                    <a:pt x="227" y="319"/>
                  </a:lnTo>
                  <a:lnTo>
                    <a:pt x="419" y="254"/>
                  </a:lnTo>
                  <a:lnTo>
                    <a:pt x="565" y="154"/>
                  </a:lnTo>
                  <a:lnTo>
                    <a:pt x="747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400" y="2117880"/>
              <a:ext cx="1434960" cy="87300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595680" y="2123640"/>
              <a:ext cx="0" cy="76212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766320" y="2147760"/>
              <a:ext cx="1435320" cy="87336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81600" y="1893960"/>
              <a:ext cx="2438280" cy="706320"/>
            </a:xfrm>
            <a:custGeom>
              <a:avLst/>
              <a:gdLst/>
              <a:ahLst/>
              <a:rect l="l" t="t" r="r" b="b"/>
              <a:pathLst>
                <a:path w="1536" h="445">
                  <a:moveTo>
                    <a:pt x="1536" y="445"/>
                  </a:moveTo>
                  <a:lnTo>
                    <a:pt x="1209" y="445"/>
                  </a:lnTo>
                  <a:lnTo>
                    <a:pt x="927" y="418"/>
                  </a:lnTo>
                  <a:lnTo>
                    <a:pt x="691" y="364"/>
                  </a:lnTo>
                  <a:lnTo>
                    <a:pt x="463" y="291"/>
                  </a:lnTo>
                  <a:lnTo>
                    <a:pt x="227" y="17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7560" y="12945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26040" y="36662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9080" y="374904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2880" y="4503600"/>
              <a:ext cx="2435400" cy="870120"/>
            </a:xfrm>
            <a:custGeom>
              <a:avLst/>
              <a:gdLst/>
              <a:ahLst/>
              <a:rect l="l" t="t" r="r" b="b"/>
              <a:pathLst>
                <a:path w="1534" h="548">
                  <a:moveTo>
                    <a:pt x="1534" y="0"/>
                  </a:moveTo>
                  <a:lnTo>
                    <a:pt x="1180" y="73"/>
                  </a:lnTo>
                  <a:lnTo>
                    <a:pt x="952" y="128"/>
                  </a:lnTo>
                  <a:lnTo>
                    <a:pt x="725" y="191"/>
                  </a:lnTo>
                  <a:lnTo>
                    <a:pt x="489" y="282"/>
                  </a:lnTo>
                  <a:lnTo>
                    <a:pt x="261" y="382"/>
                  </a:lnTo>
                  <a:lnTo>
                    <a:pt x="0" y="54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8200" y="5254560"/>
              <a:ext cx="2425680" cy="441360"/>
            </a:xfrm>
            <a:custGeom>
              <a:avLst/>
              <a:gdLst/>
              <a:ahLst/>
              <a:rect l="l" t="t" r="r" b="b"/>
              <a:pathLst>
                <a:path w="1528" h="278">
                  <a:moveTo>
                    <a:pt x="1528" y="0"/>
                  </a:moveTo>
                  <a:lnTo>
                    <a:pt x="1346" y="18"/>
                  </a:lnTo>
                  <a:lnTo>
                    <a:pt x="1101" y="45"/>
                  </a:lnTo>
                  <a:lnTo>
                    <a:pt x="792" y="91"/>
                  </a:lnTo>
                  <a:lnTo>
                    <a:pt x="510" y="145"/>
                  </a:lnTo>
                  <a:lnTo>
                    <a:pt x="265" y="200"/>
                  </a:lnTo>
                  <a:lnTo>
                    <a:pt x="0" y="27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16200000">
              <a:off x="4632480" y="3358080"/>
              <a:ext cx="277920" cy="266760"/>
            </a:xfrm>
            <a:custGeom>
              <a:avLst/>
              <a:gdLst>
                <a:gd name="textAreaLeft" fmla="*/ 92520 w 277920"/>
                <a:gd name="textAreaRight" fmla="*/ 238320 w 277920"/>
                <a:gd name="textAreaTop" fmla="*/ 153360 h 266760"/>
                <a:gd name="textAreaBottom" fmla="*/ 22824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79800" y="3275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0080" y="751320"/>
            <a:ext cx="8376840" cy="5878080"/>
            <a:chOff x="370080" y="751320"/>
            <a:chExt cx="8376840" cy="5878080"/>
          </a:xfrm>
        </p:grpSpPr>
        <p:sp>
          <p:nvSpPr>
            <p:cNvPr id="234" name=""/>
            <p:cNvSpPr/>
            <p:nvPr/>
          </p:nvSpPr>
          <p:spPr>
            <a:xfrm>
              <a:off x="370080" y="751320"/>
              <a:ext cx="837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aportado por un río drenante al bombeo de un pozo aledañ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1978200" y="1523880"/>
            <a:ext cx="5062320" cy="510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8200" y="1523880"/>
                      <a:ext cx="506232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80" y="1407600"/>
            <a:ext cx="83768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consiste en determinar el parámetro auxiliar del ábac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    </a:t>
            </a:r>
            <a:r>
              <a:rPr b="1" lang="es-ES" sz="2000" spc="-1" strike="noStrike" u="sng">
                <a:solidFill>
                  <a:srgbClr val="990033"/>
                </a:solidFill>
                <a:uFillTx/>
                <a:latin typeface="Arial"/>
              </a:rPr>
              <a:t>T * t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es-ES" sz="20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*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valor de dicho parámetro se entra al ábaco para determina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*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diante los cuales se pueden determinar las variables de interés (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y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y t son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0440" y="863640"/>
            <a:ext cx="8338680" cy="5634360"/>
            <a:chOff x="370440" y="863640"/>
            <a:chExt cx="8338680" cy="5634360"/>
          </a:xfrm>
        </p:grpSpPr>
        <p:sp>
          <p:nvSpPr>
            <p:cNvPr id="241" name=""/>
            <p:cNvSpPr/>
            <p:nvPr/>
          </p:nvSpPr>
          <p:spPr>
            <a:xfrm>
              <a:off x="370440" y="863640"/>
              <a:ext cx="8338680" cy="56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Interferencia generada por una serie de drenes paralel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uando se requiere deprimir la superficie freática en un área, con el objeto de util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zar los terrenos en actividades agrícolas, industriales o urbanas, el método más 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iente consiste en diseñar sistemas de drenes, que al interferirse, generen la depr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ón necesaria en cada cas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La depresión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que se produce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en el punto medio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entre dos drenes consecutiv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da definida por la si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* Q                  1,764 * K * t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1" lang="es-ES" sz="2400" spc="-1" strike="noStrike" baseline="30000">
                  <a:solidFill>
                    <a:srgbClr val="990033"/>
                  </a:solidFill>
                  <a:latin typeface="Arial"/>
                </a:rPr>
                <a:t>n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=   -----------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Ln        ---------------------    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π * K                       S * D                (2n - 1) 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on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 (m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/día) es el caudal que entrega cada dren por unidad de longitud al tiempo t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K (m/día) es la permeabilidad del acuífero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 es el coeficiente de almacenamiento y D (m) la distancia entre drenes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 (días) es el tiempo de extracción para el cual se desea calcular la depresión Δ (m); 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es el número de drenes existentes hacia cada costado del punto problem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7600" y="39625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2280" y="39625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96252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8680" y="396252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04760" y="1407600"/>
            <a:ext cx="6858000" cy="2580120"/>
            <a:chOff x="1004760" y="1407600"/>
            <a:chExt cx="6858000" cy="2580120"/>
          </a:xfrm>
        </p:grpSpPr>
        <p:sp>
          <p:nvSpPr>
            <p:cNvPr id="248" name=""/>
            <p:cNvSpPr/>
            <p:nvPr/>
          </p:nvSpPr>
          <p:spPr>
            <a:xfrm>
              <a:off x="1393920" y="2338200"/>
              <a:ext cx="61498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7840" y="2643120"/>
              <a:ext cx="632448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004760" y="3024000"/>
              <a:ext cx="6858000" cy="963720"/>
              <a:chOff x="1004760" y="3024000"/>
              <a:chExt cx="6858000" cy="9637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004760" y="3024000"/>
                <a:ext cx="6858000" cy="638280"/>
                <a:chOff x="1004760" y="3024000"/>
                <a:chExt cx="6858000" cy="638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574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543480" y="3385800"/>
                  <a:ext cx="26640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436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548400" y="339552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004760" y="30240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87720" y="3133440"/>
                  <a:ext cx="73152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95480" y="3133440"/>
                  <a:ext cx="787680" cy="247680"/>
                </a:xfrm>
                <a:custGeom>
                  <a:avLst/>
                  <a:gdLst/>
                  <a:ahLst/>
                  <a:rect l="l" t="t" r="r" b="b"/>
                  <a:pathLst>
                    <a:path w="496" h="156">
                      <a:moveTo>
                        <a:pt x="0" y="0"/>
                      </a:moveTo>
                      <a:cubicBezTo>
                        <a:pt x="15" y="1"/>
                        <a:pt x="63" y="2"/>
                        <a:pt x="93" y="6"/>
                      </a:cubicBezTo>
                      <a:cubicBezTo>
                        <a:pt x="123" y="10"/>
                        <a:pt x="149" y="16"/>
                        <a:pt x="183" y="24"/>
                      </a:cubicBezTo>
                      <a:cubicBezTo>
                        <a:pt x="217" y="32"/>
                        <a:pt x="259" y="43"/>
                        <a:pt x="296" y="57"/>
                      </a:cubicBezTo>
                      <a:cubicBezTo>
                        <a:pt x="333" y="71"/>
                        <a:pt x="371" y="88"/>
                        <a:pt x="404" y="105"/>
                      </a:cubicBezTo>
                      <a:cubicBezTo>
                        <a:pt x="437" y="122"/>
                        <a:pt x="477" y="146"/>
                        <a:pt x="49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672000" y="3133440"/>
                  <a:ext cx="73188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395960" y="3133440"/>
                  <a:ext cx="771480" cy="247680"/>
                </a:xfrm>
                <a:custGeom>
                  <a:avLst/>
                  <a:gdLst/>
                  <a:ahLst/>
                  <a:rect l="l" t="t" r="r" b="b"/>
                  <a:pathLst>
                    <a:path w="486" h="156">
                      <a:moveTo>
                        <a:pt x="0" y="0"/>
                      </a:moveTo>
                      <a:cubicBezTo>
                        <a:pt x="14" y="0"/>
                        <a:pt x="54" y="2"/>
                        <a:pt x="83" y="6"/>
                      </a:cubicBezTo>
                      <a:cubicBezTo>
                        <a:pt x="112" y="10"/>
                        <a:pt x="139" y="16"/>
                        <a:pt x="173" y="24"/>
                      </a:cubicBezTo>
                      <a:cubicBezTo>
                        <a:pt x="207" y="32"/>
                        <a:pt x="249" y="43"/>
                        <a:pt x="286" y="57"/>
                      </a:cubicBezTo>
                      <a:cubicBezTo>
                        <a:pt x="323" y="71"/>
                        <a:pt x="361" y="88"/>
                        <a:pt x="394" y="105"/>
                      </a:cubicBezTo>
                      <a:cubicBezTo>
                        <a:pt x="427" y="122"/>
                        <a:pt x="467" y="146"/>
                        <a:pt x="48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81480" y="3143160"/>
                  <a:ext cx="731880" cy="24264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15160" y="3143160"/>
                  <a:ext cx="761760" cy="247680"/>
                </a:xfrm>
                <a:custGeom>
                  <a:avLst/>
                  <a:gdLst/>
                  <a:ahLst/>
                  <a:rect l="l" t="t" r="r" b="b"/>
                  <a:pathLst>
                    <a:path w="480" h="156">
                      <a:moveTo>
                        <a:pt x="0" y="0"/>
                      </a:moveTo>
                      <a:cubicBezTo>
                        <a:pt x="12" y="1"/>
                        <a:pt x="49" y="2"/>
                        <a:pt x="77" y="6"/>
                      </a:cubicBezTo>
                      <a:cubicBezTo>
                        <a:pt x="105" y="10"/>
                        <a:pt x="133" y="16"/>
                        <a:pt x="167" y="24"/>
                      </a:cubicBezTo>
                      <a:cubicBezTo>
                        <a:pt x="201" y="32"/>
                        <a:pt x="243" y="43"/>
                        <a:pt x="280" y="57"/>
                      </a:cubicBezTo>
                      <a:cubicBezTo>
                        <a:pt x="317" y="71"/>
                        <a:pt x="355" y="88"/>
                        <a:pt x="388" y="105"/>
                      </a:cubicBezTo>
                      <a:cubicBezTo>
                        <a:pt x="421" y="122"/>
                        <a:pt x="461" y="146"/>
                        <a:pt x="480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6676920" y="30384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218592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668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9320" y="3862440"/>
                <a:ext cx="163656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94320" y="3499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381920" y="2680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251928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363200" y="307944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363200" y="257940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3040" y="140760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terferencia de Dre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956880"/>
            <a:ext cx="83386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l Radio de Influencia del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requerimiento usual en hidrogeología es la determinación del Radio de Influ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ue el bombeo de un pozo determinado genera en el tiemp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régimen de desequilibrio la expresión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= 1,5 * (T * t / S)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 Influencia (RI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) es la transmisiv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bombeo para el que se calcula el RI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finir el radio de protección de un sondaje, la DGA exige la determin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, el cual suele determinarse para el tiempo que fue requerido para que el ND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evidenciara tendencia a estabilizarse. Este antecedente se obtiene del reg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o de la prueba de bombeo de caudal constante practicada en el poz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541600" y="942840"/>
            <a:ext cx="40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filtración desde la base de un emb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 través de un estrato perm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87640" y="26193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41560" y="1886040"/>
            <a:ext cx="6324480" cy="0"/>
          </a:xfrm>
          <a:prstGeom prst="line">
            <a:avLst/>
          </a:prstGeom>
          <a:ln w="2232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82960" y="31431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65320" y="4100400"/>
            <a:ext cx="6294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2800" y="164160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Nivel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en el Embal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1400" y="2352600"/>
            <a:ext cx="118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Techo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9680" y="29192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Base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4720" y="3843360"/>
            <a:ext cx="96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Nivel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ferenc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419920" y="2500200"/>
            <a:ext cx="113040" cy="723960"/>
            <a:chOff x="2419920" y="2500200"/>
            <a:chExt cx="113040" cy="723960"/>
          </a:xfrm>
        </p:grpSpPr>
        <p:sp>
          <p:nvSpPr>
            <p:cNvPr id="284" name=""/>
            <p:cNvSpPr/>
            <p:nvPr/>
          </p:nvSpPr>
          <p:spPr>
            <a:xfrm>
              <a:off x="2476440" y="250020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419920" y="306072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419920" y="256068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497680" y="27241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e = espesor satu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83040" y="1700280"/>
            <a:ext cx="164160" cy="1047240"/>
            <a:chOff x="2183040" y="1700280"/>
            <a:chExt cx="164160" cy="1047240"/>
          </a:xfrm>
        </p:grpSpPr>
        <p:sp>
          <p:nvSpPr>
            <p:cNvPr id="289" name=""/>
            <p:cNvSpPr/>
            <p:nvPr/>
          </p:nvSpPr>
          <p:spPr>
            <a:xfrm>
              <a:off x="2265120" y="1700280"/>
              <a:ext cx="0" cy="10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183040" y="25110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183040" y="17874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308680" y="20764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 = altura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81280" y="27288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6000" y="34909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55640" y="3030480"/>
            <a:ext cx="133200" cy="1190520"/>
            <a:chOff x="7055640" y="3030480"/>
            <a:chExt cx="133200" cy="1190520"/>
          </a:xfrm>
        </p:grpSpPr>
        <p:sp>
          <p:nvSpPr>
            <p:cNvPr id="296" name=""/>
            <p:cNvSpPr/>
            <p:nvPr/>
          </p:nvSpPr>
          <p:spPr>
            <a:xfrm>
              <a:off x="7122960" y="3030480"/>
              <a:ext cx="0" cy="1190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060680" y="4021200"/>
              <a:ext cx="12816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055640" y="3063960"/>
              <a:ext cx="12780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003520" y="1762200"/>
            <a:ext cx="137520" cy="2450880"/>
            <a:chOff x="8003520" y="1762200"/>
            <a:chExt cx="137520" cy="2450880"/>
          </a:xfrm>
        </p:grpSpPr>
        <p:sp>
          <p:nvSpPr>
            <p:cNvPr id="300" name=""/>
            <p:cNvSpPr/>
            <p:nvPr/>
          </p:nvSpPr>
          <p:spPr>
            <a:xfrm>
              <a:off x="8077320" y="1762200"/>
              <a:ext cx="0" cy="24508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013240" y="180216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03520" y="402624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83000" y="451656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Gradiente Hidrául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63520" y="4906800"/>
            <a:ext cx="120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-------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89280" y="506268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 = H +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41000" y="4888080"/>
            <a:ext cx="10861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  ------  +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40240" y="572616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dal Infilt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15800" y="5719680"/>
            <a:ext cx="1000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1320" y="5724360"/>
            <a:ext cx="49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onde K es la permeabilidad vertical y A es la superficie inund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 altura H (K vertical = 0,1 * K horizonta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4305960" y="2737440"/>
            <a:ext cx="564840" cy="115920"/>
          </a:xfrm>
          <a:custGeom>
            <a:avLst/>
            <a:gdLst>
              <a:gd name="textAreaLeft" fmla="*/ 70560 w 564840"/>
              <a:gd name="textAreaRight" fmla="*/ 494280 w 564840"/>
              <a:gd name="textAreaTop" fmla="*/ 28800 h 115920"/>
              <a:gd name="textAreaBottom" fmla="*/ 87120 h 115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31400" y="268596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nfilt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3840" y="1015920"/>
            <a:ext cx="85215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potencial hidrogeológico de una cuenca es necesario estable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balance respec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concepto involucra un análisis comparativo de los ingresos y egresos de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sistema subterráneo, estableciendo la variación del volumen almacenado, todo e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 enmarcado en un período de tiempo determin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structuración de un balance es imperioso definir el sistema físico sobre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l se ejecutará éste. Deben determinarse con claridad los límites de dicho sistem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objeto de acotarlo y definir para éste, las recargas y descargas correspond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general del balance hidrogeológico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ntra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Re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= Sali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Des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± Δ V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Variación del volumen almacena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un intervalo de tiempo determinado, deberán evaluarse todas las entradas y 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s de agua al sistema definido, lo que deberá resultar compatible con la vari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de agua subterránea embalsada en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600" y="2634120"/>
            <a:ext cx="7186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 un porcentaje de las precipitaciones (Recarga por Pp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sde los cursos de escurrimiento superficial (Recarga rí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a partir de los derrames de riego (Recarga por rieg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al sistema de un caudal subterráneo (Caudal Subt Entrante);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de agua artificialmente incorporada (Recarga antrópica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Des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0720" y="2755800"/>
            <a:ext cx="73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uperaciones en el lecho de los cursos de escurrimiento superfici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 desde superficies de agua libre o con el NE poco profund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a través de la actividad veget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udal subterráneo saliente del sistema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rtificial de los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0280" y="1185840"/>
            <a:ext cx="8626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se indicara anteriormente, para estructurar un balance hidrogeológico, es ne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rio definir el sistema hidrogeológico correspondiente. Esto implica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 geometría de los acuíferos y de las unidades impermeables ex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t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s relaciones que pudiesen existir entre las distintas unidades perme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les e imperme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s características hidráulicas de los acuíferos, vale decir el gr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finamiento y las constantes elásticas respectivas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 disposición, en profundidad, de la superficie equipotenci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vez ejecutadas las tareas precedentes, se deberán evaluar las recargas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, para el período de tiempo durante el cual se ejecutará el balance, y en fun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ultado se podrá determinar si para dicho período hubo aumento o disminu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embals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200" y="827640"/>
            <a:ext cx="843336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tarea que se ejecuta, si no existen antecedentes confiables a escala a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da, es un levantamiento fotogeológico del área de interés. Los objetivos primo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les de éste so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extensión y características (sedimentológicas y geomorf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ógicas) de los depósitos detríticos susceptibles de constituir acuífero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 implica trazar el contacto entre las unidades líticas y los depós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dimentarios permeables (contacto roca-rellen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 los tipos litológicos relevantes y las estructuras existentes, de pr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rencia aquellas que puedan controlar la geometría de los acuífer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red hidrográfica y la divisoria de aguas de la cuenca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bicar en el mapa las captaciones existentes y definir áreas homogén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de una perspectiva hidrogeológica (zonas de recarga, de recuper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vertientes, espejos de agua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álisis de toda la información de sondajes que exista en el área. Estructuració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columnas estratigráficas respectivas y definición de las unidades permeables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s datos permitan identific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800" y="1071000"/>
            <a:ext cx="848808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cobertura y densidad de los datos de sondajes es escasa, suele ser conven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 complementar estos antecedentes con información proveniente de levan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ofísicos tales como gravimetría y transiente electromagnética (TE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respecto es importante advertir que siempre es necesario calibrar los datos ge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ísicos con los antecedentes estratigráficos aportados por los sondajes. Una int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tación geofísica sin apoyo geológico real es, generalmente, poco confi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la gravimetría, técnica consistente en medir con gran precisión la gr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dad en un punto, con el objeto de determinar el espesor sedimentario y consecu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mente la profundidad de la roca basal, es siempre importante y necesario consi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r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perfiles gravimétricos deben anclarse en su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xtremos en afloram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tos de ro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de forma que se asegure que en esos puntos el espesor se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ntario es nulo. Esto facilita la adecuada interpretación de los puntos in-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ed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760" y="949320"/>
            <a:ext cx="8739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stos puntos extremos deben colectarse muestras de roca con el ob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practicar en ella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nálisis de densida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e parámetro es altamente s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ble en el cálculo del espesor sedimentario, de forma que su adecuada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inación es importante en la obtención de resultados confi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fuertes desniveles topográficos que suelen existir en los puntos ubic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s en los extremos de los perfiles, hacen siempre recomendable deter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r dich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desniveles utilizando la plantilla de Hamme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n círculos A y B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consideración ayuda luego a la determinación de la corrección de t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reno, cálculo siempre importante de ejecutar en áreas donde los altos top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s afectan las mediciones de gravedad, y consecuentemente, la b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 de los resultados fi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nalmente, siempre es imprescindible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calibrar los resultad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btenidos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nte los cálculos gravimétricos, con valores reales entregados por son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es que hayan alcanzado la roca que hace de zócalo a los depósitos sedim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rios, cuyo espesor se requiere conoc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1000" y="1353600"/>
            <a:ext cx="8547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ondeos geoeléctr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tipo transiente electromagnética son muy útiles p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eterminación de la geología de subsuperficie, ya que entregan información de b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 calidad respecto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osición del nivel estát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stratigrafí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los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rofundidad de la roca bas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toda la información aportada por las labores indicadas, deberán levantarse per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s geológicos, que permitan definir unidades de carácter hidrogeológico, las rel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y características de permeabilidad de cada una y la geometría de las mism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7600" y="761760"/>
            <a:ext cx="68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erfilGeológico%20L1-L1'_01" descr=""/>
          <p:cNvPicPr/>
          <p:nvPr/>
        </p:nvPicPr>
        <p:blipFill>
          <a:blip r:embed="rId1"/>
          <a:stretch/>
        </p:blipFill>
        <p:spPr>
          <a:xfrm>
            <a:off x="276120" y="1757520"/>
            <a:ext cx="868212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41080" y="913320"/>
            <a:ext cx="7402680" cy="5061960"/>
            <a:chOff x="541080" y="913320"/>
            <a:chExt cx="7402680" cy="5061960"/>
          </a:xfrm>
        </p:grpSpPr>
        <p:sp>
          <p:nvSpPr>
            <p:cNvPr id="48" name=""/>
            <p:cNvSpPr/>
            <p:nvPr/>
          </p:nvSpPr>
          <p:spPr>
            <a:xfrm>
              <a:off x="541080" y="9133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l Radio de Influencia del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127160" y="2004840"/>
              <a:ext cx="6816600" cy="3970440"/>
              <a:chOff x="1127160" y="2004840"/>
              <a:chExt cx="6816600" cy="3970440"/>
            </a:xfrm>
          </p:grpSpPr>
          <p:sp>
            <p:nvSpPr>
              <p:cNvPr id="50" name=""/>
              <p:cNvSpPr/>
              <p:nvPr/>
            </p:nvSpPr>
            <p:spPr>
              <a:xfrm>
                <a:off x="1127160" y="2209680"/>
                <a:ext cx="681660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286160" y="2004840"/>
                <a:ext cx="228600" cy="3562560"/>
                <a:chOff x="4286160" y="2004840"/>
                <a:chExt cx="228600" cy="35625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286160" y="2004840"/>
                  <a:ext cx="228600" cy="1324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286160" y="3328920"/>
                  <a:ext cx="228600" cy="749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286160" y="4057560"/>
                  <a:ext cx="228600" cy="388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286160" y="4441680"/>
                  <a:ext cx="228600" cy="74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86160" y="5178240"/>
                  <a:ext cx="228600" cy="389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238400" y="2362320"/>
                <a:ext cx="66466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507920" y="237636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95560" y="237636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390920" y="5562720"/>
                <a:ext cx="0" cy="3808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62320" y="5791320"/>
                <a:ext cx="367056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2376360"/>
                <a:ext cx="0" cy="359892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40280" y="5513760"/>
                <a:ext cx="211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0033"/>
                    </a:solidFill>
                    <a:latin typeface="Arial"/>
                  </a:rPr>
                  <a:t>Radio de Influencia (R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3760" y="8823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8760" y="2467080"/>
            <a:ext cx="23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Hidrogeologia_MM2" descr=""/>
          <p:cNvPicPr/>
          <p:nvPr/>
        </p:nvPicPr>
        <p:blipFill>
          <a:blip r:embed="rId1"/>
          <a:srcRect l="0" t="0" r="5332" b="5557"/>
          <a:stretch/>
        </p:blipFill>
        <p:spPr>
          <a:xfrm>
            <a:off x="3560760" y="190440"/>
            <a:ext cx="54118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600280" y="10728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4600" y="756720"/>
            <a:ext cx="872280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proc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determinación de la recarga de los acuíferos de una cuenca, el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miento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más confiable se basa e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los datos aportados po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control sistemático de 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niveles estát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área. Debido a ésto es que dicha maniobra siempre es aconsej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ementarla, ya que los datos que aporta en el largo y mediano plazo, tienen gran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idrogeo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a lo largo del tiempo los niveles presentan fluctuaciones (ascensos y descensos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dinámica sólo puede explicarse por la existencia de procesos de recarga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 de los sistemas subterráne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atos de niveles estáticos permiten determinar el gradiente de la superficie equ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tencial en distintos sectores del acuífero. Este parámetro es indispensable a la h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definir la magnitud del flujo subterráneo y permite evidenciar la dinámica hídrica sub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ráne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ortante es indicar que la existencia de gradientes hidráulicos en un acuífero, impl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 que existió recarga en épocas pretéritas, pero que no necesariamente ésta se verif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forma sistemática y periódica. Existen cuencas en el sector norte del país donde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de recarga datan de mucho tiempo y que actualmente se encuentran en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 de drenado natural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3520" y="866160"/>
            <a:ext cx="873612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 la recarga que se produce por infiltración profunda,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fracción de las precipitaciones, se suelen emplear dos metodologí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consiste en la implementación de un modelo de simulación hidrológica,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jecuta un balance a nivel de suelo generando infiltración y escorrentía. Estos modelo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endiendo del tipo (pluvial o nivopluvial), manejan varios parámetros entre los c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taca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cipitación, obtenida de las estadísticas disponi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, obtenida de las estadístic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transposición de las precipitacion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pote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acidad de camp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de marchitez permanen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cultivo;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segunda metodología consiste en estudiar un período determinado de precipi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analizando paralelamente las fluctuaciones del nivel estático durante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0640" y="688680"/>
            <a:ext cx="869076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el análisis de los niveles permite determinar el ascenso generado por la infiltr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una fracción de las precipitaciones y se conoce el coeficiente de almacenamiento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uífero, se podrá determinar la cantidad de agua incorporada al sistema subterráneo,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consiguiente la tasa de recarga por este concep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14400" y="3256920"/>
            <a:ext cx="7242840" cy="2935440"/>
            <a:chOff x="914400" y="3256920"/>
            <a:chExt cx="7242840" cy="2935440"/>
          </a:xfrm>
        </p:grpSpPr>
        <p:sp>
          <p:nvSpPr>
            <p:cNvPr id="343" name=""/>
            <p:cNvSpPr/>
            <p:nvPr/>
          </p:nvSpPr>
          <p:spPr>
            <a:xfrm>
              <a:off x="914400" y="3952800"/>
              <a:ext cx="614988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14400" y="4495680"/>
              <a:ext cx="6149880" cy="0"/>
            </a:xfrm>
            <a:prstGeom prst="line">
              <a:avLst/>
            </a:prstGeom>
            <a:ln w="22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14400" y="4672080"/>
              <a:ext cx="6149880" cy="0"/>
            </a:xfrm>
            <a:prstGeom prst="line">
              <a:avLst/>
            </a:prstGeom>
            <a:ln w="2232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14400" y="5815080"/>
              <a:ext cx="6149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17680" y="5885280"/>
              <a:ext cx="17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Imperme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143000" y="3529080"/>
              <a:ext cx="2684520" cy="357120"/>
              <a:chOff x="1143000" y="3529080"/>
              <a:chExt cx="2684520" cy="357120"/>
            </a:xfrm>
          </p:grpSpPr>
          <p:sp>
            <p:nvSpPr>
              <p:cNvPr id="349" name=""/>
              <p:cNvSpPr/>
              <p:nvPr/>
            </p:nvSpPr>
            <p:spPr>
              <a:xfrm rot="5400000">
                <a:off x="3604320" y="365832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400000">
                <a:off x="2308680" y="3663000"/>
                <a:ext cx="352440" cy="9396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960"/>
                  <a:gd name="textAreaBottom" fmla="*/ 7056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5400000">
                <a:off x="1013400" y="366300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9564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59092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5400000">
              <a:off x="13942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32230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44480" y="408708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filtración (Recarg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70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00080" y="37868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Terre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37520" y="43300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NE fin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87840" y="45378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99"/>
                  </a:solidFill>
                  <a:latin typeface="Arial"/>
                </a:rPr>
                <a:t>NE inic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05560" y="3776760"/>
              <a:ext cx="352440" cy="9360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55800" y="366804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correntí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4538160" y="3672720"/>
              <a:ext cx="352080" cy="93600"/>
            </a:xfrm>
            <a:custGeom>
              <a:avLst/>
              <a:gdLst>
                <a:gd name="textAreaLeft" fmla="*/ 43920 w 352080"/>
                <a:gd name="textAreaRight" fmla="*/ 308160 w 35208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1120" y="32569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por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8480" y="946080"/>
            <a:ext cx="85730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jor opción para determinar la recarga por este mecanismo ocurre cuando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nta con antecedentes fluviométricos, confiables y completos, tanto aguas arri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aguas abajo del sistema hidrogeológico estudi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estación de aforo de aguas arriba presenta siempre caudales mayores que aq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la ubicada hacia aguas abajo, y no existen canales u otras captaciones que extraig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gua en el tramo que media entre las estaciones, la zona corresponderá a un área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arga; en caso contrario será una zona de recu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de recarga suele ser muy importante en gran número de cuen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zona central (Aconcagua, Cachapoal, Mataquito, Maule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tra forma de aproximación para cuantificar este proceso, es el análisis de las fluc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uaciones de niveles asociadas a variaciones fluviométricas detectadas en la es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de control. Conociendo la variación del volumen de acuífero saturado y el coe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ente de almacenamiento, se determina el volumen de recarga en el perío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5600" y="762120"/>
            <a:ext cx="6898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112760" y="2601720"/>
            <a:ext cx="6683400" cy="2406240"/>
            <a:chOff x="1112760" y="2601720"/>
            <a:chExt cx="6683400" cy="2406240"/>
          </a:xfrm>
        </p:grpSpPr>
        <p:sp>
          <p:nvSpPr>
            <p:cNvPr id="371" name=""/>
            <p:cNvSpPr/>
            <p:nvPr/>
          </p:nvSpPr>
          <p:spPr>
            <a:xfrm>
              <a:off x="1112760" y="2601720"/>
              <a:ext cx="6683400" cy="1017360"/>
            </a:xfrm>
            <a:custGeom>
              <a:avLst/>
              <a:gdLst/>
              <a:ahLst/>
              <a:rect l="l" t="t" r="r" b="b"/>
              <a:pathLst>
                <a:path w="4210" h="641">
                  <a:moveTo>
                    <a:pt x="0" y="641"/>
                  </a:moveTo>
                  <a:cubicBezTo>
                    <a:pt x="36" y="622"/>
                    <a:pt x="132" y="555"/>
                    <a:pt x="226" y="528"/>
                  </a:cubicBezTo>
                  <a:cubicBezTo>
                    <a:pt x="320" y="501"/>
                    <a:pt x="458" y="488"/>
                    <a:pt x="562" y="480"/>
                  </a:cubicBezTo>
                  <a:cubicBezTo>
                    <a:pt x="666" y="472"/>
                    <a:pt x="760" y="476"/>
                    <a:pt x="850" y="480"/>
                  </a:cubicBezTo>
                  <a:cubicBezTo>
                    <a:pt x="940" y="484"/>
                    <a:pt x="1017" y="496"/>
                    <a:pt x="1105" y="504"/>
                  </a:cubicBezTo>
                  <a:cubicBezTo>
                    <a:pt x="1193" y="512"/>
                    <a:pt x="1288" y="518"/>
                    <a:pt x="1378" y="528"/>
                  </a:cubicBezTo>
                  <a:cubicBezTo>
                    <a:pt x="1468" y="538"/>
                    <a:pt x="1557" y="556"/>
                    <a:pt x="1645" y="564"/>
                  </a:cubicBezTo>
                  <a:cubicBezTo>
                    <a:pt x="1733" y="572"/>
                    <a:pt x="1813" y="580"/>
                    <a:pt x="1906" y="576"/>
                  </a:cubicBezTo>
                  <a:cubicBezTo>
                    <a:pt x="1999" y="572"/>
                    <a:pt x="2092" y="556"/>
                    <a:pt x="2203" y="538"/>
                  </a:cubicBezTo>
                  <a:cubicBezTo>
                    <a:pt x="2314" y="520"/>
                    <a:pt x="2456" y="509"/>
                    <a:pt x="2571" y="470"/>
                  </a:cubicBezTo>
                  <a:cubicBezTo>
                    <a:pt x="2686" y="431"/>
                    <a:pt x="2798" y="354"/>
                    <a:pt x="2895" y="305"/>
                  </a:cubicBezTo>
                  <a:cubicBezTo>
                    <a:pt x="2992" y="256"/>
                    <a:pt x="3068" y="210"/>
                    <a:pt x="3152" y="176"/>
                  </a:cubicBezTo>
                  <a:cubicBezTo>
                    <a:pt x="3236" y="142"/>
                    <a:pt x="3312" y="117"/>
                    <a:pt x="3401" y="99"/>
                  </a:cubicBezTo>
                  <a:cubicBezTo>
                    <a:pt x="3490" y="81"/>
                    <a:pt x="3589" y="79"/>
                    <a:pt x="3685" y="67"/>
                  </a:cubicBezTo>
                  <a:cubicBezTo>
                    <a:pt x="3781" y="55"/>
                    <a:pt x="3890" y="35"/>
                    <a:pt x="3977" y="24"/>
                  </a:cubicBezTo>
                  <a:cubicBezTo>
                    <a:pt x="4064" y="13"/>
                    <a:pt x="4162" y="5"/>
                    <a:pt x="421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51600" y="3357360"/>
              <a:ext cx="2139840" cy="1368000"/>
            </a:xfrm>
            <a:custGeom>
              <a:avLst/>
              <a:gdLst/>
              <a:ahLst/>
              <a:rect l="l" t="t" r="r" b="b"/>
              <a:pathLst>
                <a:path w="1348" h="862">
                  <a:moveTo>
                    <a:pt x="0" y="0"/>
                  </a:moveTo>
                  <a:cubicBezTo>
                    <a:pt x="38" y="13"/>
                    <a:pt x="174" y="55"/>
                    <a:pt x="248" y="86"/>
                  </a:cubicBezTo>
                  <a:cubicBezTo>
                    <a:pt x="322" y="117"/>
                    <a:pt x="369" y="159"/>
                    <a:pt x="445" y="189"/>
                  </a:cubicBezTo>
                  <a:cubicBezTo>
                    <a:pt x="521" y="219"/>
                    <a:pt x="613" y="236"/>
                    <a:pt x="703" y="266"/>
                  </a:cubicBezTo>
                  <a:cubicBezTo>
                    <a:pt x="793" y="296"/>
                    <a:pt x="898" y="333"/>
                    <a:pt x="985" y="369"/>
                  </a:cubicBezTo>
                  <a:cubicBezTo>
                    <a:pt x="1072" y="405"/>
                    <a:pt x="1168" y="403"/>
                    <a:pt x="1228" y="485"/>
                  </a:cubicBezTo>
                  <a:cubicBezTo>
                    <a:pt x="1288" y="567"/>
                    <a:pt x="1323" y="784"/>
                    <a:pt x="1348" y="86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88120" y="3392280"/>
              <a:ext cx="12204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30960" y="313524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48000" y="334476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4320" y="27576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71480" y="35244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9000" y="288432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7054200" y="4309200"/>
              <a:ext cx="102960" cy="324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2832120" y="3246840"/>
              <a:ext cx="435960" cy="680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304680" y="2627280"/>
              <a:ext cx="434520" cy="781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14520" y="4255920"/>
              <a:ext cx="352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l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arga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1720" y="4637160"/>
              <a:ext cx="406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g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uperación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95520" y="3562200"/>
              <a:ext cx="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57720" y="3371760"/>
              <a:ext cx="0" cy="52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33600" y="3809880"/>
              <a:ext cx="36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3880" y="3772080"/>
              <a:ext cx="14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mo de análi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2800" y="1432800"/>
            <a:ext cx="861012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 Derrames de Rie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valuación de la recarga por este mecanismo, al igual que en los otros caso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necesario asociar las variaciones del nivel estático durante el período, a las lab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rieg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tasa promedio de riego por tendido en la zona central es de aproximadamen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10.000 m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Ha al añ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o equivale a 1.000 mm de precipitación anual, aporte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 durante 6 o 7 me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es aplicable a las áreas donde el riego se materializa por tendido,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 decir, en las zonas con riego tecnificado (goteo o microaspersión) el efecto no se g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7760" y="687600"/>
            <a:ext cx="8506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audal subterráneo entrante desde aguas arriba, a través de una sección transv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l, se determina mediante Darc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057040" y="2895120"/>
            <a:ext cx="5944320" cy="3657600"/>
            <a:chOff x="2057040" y="2895120"/>
            <a:chExt cx="5944320" cy="3657600"/>
          </a:xfrm>
        </p:grpSpPr>
        <p:grpSp>
          <p:nvGrpSpPr>
            <p:cNvPr id="393" name=""/>
            <p:cNvGrpSpPr/>
            <p:nvPr/>
          </p:nvGrpSpPr>
          <p:grpSpPr>
            <a:xfrm>
              <a:off x="2057040" y="2895120"/>
              <a:ext cx="4419720" cy="3657600"/>
              <a:chOff x="2057040" y="2895120"/>
              <a:chExt cx="4419720" cy="3657600"/>
            </a:xfrm>
          </p:grpSpPr>
          <p:sp>
            <p:nvSpPr>
              <p:cNvPr id="394" name=""/>
              <p:cNvSpPr/>
              <p:nvPr/>
            </p:nvSpPr>
            <p:spPr>
              <a:xfrm>
                <a:off x="4132800" y="452304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4132800" y="380664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4132800" y="543492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06280" y="380700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2057040" y="523980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2057040" y="361152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68200" y="361152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3530160" y="2895480"/>
                <a:ext cx="207576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057400" y="2895120"/>
                <a:ext cx="147276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132800" y="4588200"/>
                <a:ext cx="1473120" cy="7160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2057040" y="4067640"/>
                <a:ext cx="2075400" cy="1236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530160" y="2895480"/>
                <a:ext cx="0" cy="162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3530160" y="4522680"/>
                <a:ext cx="2075760" cy="91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057400" y="4523040"/>
                <a:ext cx="1472760" cy="71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3530160" y="3350520"/>
                <a:ext cx="2075760" cy="1237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057400" y="3350880"/>
                <a:ext cx="1472760" cy="716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7880000">
                <a:off x="5174640" y="5261400"/>
                <a:ext cx="260280" cy="736560"/>
              </a:xfrm>
              <a:prstGeom prst="downArrow">
                <a:avLst>
                  <a:gd name="adj1" fmla="val 50000"/>
                  <a:gd name="adj2" fmla="val 70747"/>
                </a:avLst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44320" y="6162120"/>
                <a:ext cx="87012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06280" y="5435280"/>
                <a:ext cx="87048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534920" y="5630400"/>
                <a:ext cx="1874880" cy="91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11240" y="595512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597120" y="530460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585960" y="614052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31040" y="5435280"/>
                <a:ext cx="0" cy="97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524760" y="5891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>
                <a:off x="2057040" y="4393080"/>
                <a:ext cx="207540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86600" y="441504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66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50480" y="52164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993300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3530160" y="3676680"/>
                <a:ext cx="207576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2057400" y="3676320"/>
                <a:ext cx="1472760" cy="71604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85600" y="47163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29240" y="43704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273720" y="3304800"/>
              <a:ext cx="1727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A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e * L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3300"/>
                  </a:solidFill>
                  <a:latin typeface="Arial"/>
                </a:rPr>
                <a:t>Q = T * i * 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3480" y="1109880"/>
            <a:ext cx="811152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esta evaluación se requiere conocer el gradiente de la superficie equipot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al, lo que se determina con la información de niveles estáticos del área; la tra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sividad media en la sección, parámetro que debe determinarse con la inform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ón de ensayos de bombeo; y el largo de la sección, variable que se determina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se la geología de subsuperfici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Artifi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existir este mecanismo de recarga, los datos se deben obtener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organismo o empresa a cargo del proceso de infilt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8800" y="754920"/>
            <a:ext cx="80794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lementos químicos en el agua subterrá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las aguas naturales, superficiales y subterráneas, es posible reconocer si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 los siguientes cationes y aniones mayoritarios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Cat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An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lcio (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Bicarbonatos (HC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gnesio (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Sulfatos (S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odio (N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Cloruros (Cl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otasio (K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Nitratos (N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emás de los elementos mayores indicados, suelen presentarse elementos 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ritarios (traza) tales com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Elementos tr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rsén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Fluo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elen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ercu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o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ier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ianu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eril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obr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ngan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Níqu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Zinc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r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dm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lu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at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ar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Lit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Vana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- 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1320" y="971280"/>
            <a:ext cx="8264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 un sondaje se pueden utilizar varios métodos.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recurrido corresponde al método de determinar el descenso teórico que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iera experimentar el nivel dinámico, de acuerdo a las constantes elásticas del 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ífero y al diámetro de pozo, para luego comparar éste con el descenso real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 experimentado dicho nivel durante las pruebas ejecutadas en el sond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asegurar un cálculo representativo en el mediano plazo, se deben determin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escensos del nivel dinámico a un tiempo largo de bombeo. Para esto se p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n extrapolar los descensos obtenidos en los ensayos de caudal variable y co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nte hasta un tiempo de bombeo de 10.000 minutos, para luego comparar é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los descensos teóricos obtenidos para igual período (10.000 minutos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descenso teórico, para los distintos caudales, se determina utilizando las ex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ones de Theis y las constantes elásticas del acuífero sometido a extracción.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ecto es importante recordar que en las fórmulas de Theis está considerada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 existente entre el pozo de bombeo y un pozo de observación, de f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utilizar sólo los datos del pozo de bombeo deberá considerarse la distancia c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 equivalente al radio del pozo, incluyendo el espacio anular relleno con gravill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9520" y="837000"/>
            <a:ext cx="688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Validación de Resultados (Balance Aniónico-Catiónic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47640" y="1893960"/>
            <a:ext cx="7772400" cy="3806640"/>
            <a:chOff x="647640" y="1893960"/>
            <a:chExt cx="7772400" cy="3806640"/>
          </a:xfrm>
        </p:grpSpPr>
        <p:graphicFrame>
          <p:nvGraphicFramePr>
            <p:cNvPr id="434" name=""/>
            <p:cNvGraphicFramePr/>
            <p:nvPr/>
          </p:nvGraphicFramePr>
          <p:xfrm>
            <a:off x="838080" y="1893960"/>
            <a:ext cx="7239240" cy="203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893960"/>
                      <a:ext cx="7239240" cy="203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647640" y="4230720"/>
            <a:ext cx="7772400" cy="14698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640" y="4230720"/>
                      <a:ext cx="777240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8" name=""/>
          <p:cNvSpPr/>
          <p:nvPr/>
        </p:nvSpPr>
        <p:spPr>
          <a:xfrm>
            <a:off x="319680" y="5886360"/>
            <a:ext cx="835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i la diferencia entre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los aniones y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de los cationes, expresados en me/l, es menor de 6%, el análi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uede considerarse válid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9872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07840" y="74196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rmas Chilenas Vig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541600" y="1541520"/>
          <a:ext cx="405936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0" y="1541520"/>
                    <a:ext cx="40593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PPER" descr=""/>
          <p:cNvPicPr/>
          <p:nvPr/>
        </p:nvPicPr>
        <p:blipFill>
          <a:blip r:embed="rId1"/>
          <a:srcRect l="0" t="3471" r="2830" b="3471"/>
          <a:stretch/>
        </p:blipFill>
        <p:spPr>
          <a:xfrm>
            <a:off x="500040" y="657360"/>
            <a:ext cx="784872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89872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07840" y="74196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lasificación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8200" y="1791000"/>
            <a:ext cx="7892280" cy="43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DURE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ureza del agua dice relación con la cantidad de cationes 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qu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tenga. La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ureza tot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hace referencia a la suma de los dos cationes señ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dos; la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ureza carbonatad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se refiere a ambos cationes pero asociados a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encia de bicarbonato; y la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ureza no carbonatad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la presencia d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sociada a otros aniones tales como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y SO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acuerdo a la definición de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ureza tot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las aguas se pueden clasificar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siguiente forma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&lt; 150 ppm de CaC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gua bland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re 150 y 350 ppm de CaC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aguas de dureza medi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re 350 y 600 ppm de CaC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aguas duras;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&gt; de 600 ppm de CaC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aguas muy dur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814480" y="2514600"/>
            <a:ext cx="2836800" cy="2158920"/>
            <a:chOff x="2814480" y="2514600"/>
            <a:chExt cx="2836800" cy="2158920"/>
          </a:xfrm>
        </p:grpSpPr>
        <p:grpSp>
          <p:nvGrpSpPr>
            <p:cNvPr id="450" name=""/>
            <p:cNvGrpSpPr/>
            <p:nvPr/>
          </p:nvGrpSpPr>
          <p:grpSpPr>
            <a:xfrm>
              <a:off x="2814480" y="2514600"/>
              <a:ext cx="2836800" cy="2158920"/>
              <a:chOff x="2814480" y="2514600"/>
              <a:chExt cx="2836800" cy="2158920"/>
            </a:xfrm>
          </p:grpSpPr>
          <p:sp>
            <p:nvSpPr>
              <p:cNvPr id="451" name=""/>
              <p:cNvSpPr/>
              <p:nvPr/>
            </p:nvSpPr>
            <p:spPr>
              <a:xfrm>
                <a:off x="4244760" y="2514600"/>
                <a:ext cx="0" cy="2158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2814480" y="2695320"/>
                <a:ext cx="2835000" cy="84960"/>
                <a:chOff x="2814480" y="2695320"/>
                <a:chExt cx="2835000" cy="849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2814480" y="27356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81448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962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0999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428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3858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5287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6716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81456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962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100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2429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3858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5288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6717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8146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9575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100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2416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375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5177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6415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816280" y="2971440"/>
                <a:ext cx="2835000" cy="84960"/>
                <a:chOff x="2816280" y="2971440"/>
                <a:chExt cx="2835000" cy="8496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816280" y="30117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81628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963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1017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2446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3876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5305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6734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81636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963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102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2447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3876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5306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6735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8164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9593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102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2434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376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5195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433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2816280" y="3238200"/>
                <a:ext cx="2835000" cy="84960"/>
                <a:chOff x="2816280" y="3238200"/>
                <a:chExt cx="2835000" cy="849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2816280" y="32785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81628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63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017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2446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3876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5305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6734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81636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963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102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2447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3876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5306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46735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8164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9593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102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2434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76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5195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6433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1" name=""/>
            <p:cNvSpPr/>
            <p:nvPr/>
          </p:nvSpPr>
          <p:spPr>
            <a:xfrm>
              <a:off x="3286080" y="2733840"/>
              <a:ext cx="361800" cy="27972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3156840" y="3009600"/>
              <a:ext cx="493200" cy="271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4629960" y="2731320"/>
              <a:ext cx="570240" cy="28296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29600" y="3019320"/>
              <a:ext cx="261000" cy="25488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5643360" y="2593800"/>
            <a:ext cx="8784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1" lang="es-ES" sz="1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 + CO</a:t>
            </a:r>
            <a:r>
              <a:rPr b="1" lang="es-ES" sz="1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39400" y="2867040"/>
            <a:ext cx="439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s-ES" sz="1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637600" y="31561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20400" y="3157560"/>
            <a:ext cx="69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s-ES" sz="1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 + K</a:t>
            </a:r>
            <a:r>
              <a:rPr b="1" lang="es-ES" sz="1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37480" y="2867040"/>
            <a:ext cx="48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lang="es-ES" sz="1000" spc="-1" strike="noStrike" baseline="30000">
                <a:solidFill>
                  <a:srgbClr val="ffffff"/>
                </a:solidFill>
                <a:latin typeface="Arial"/>
              </a:rPr>
              <a:t>++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33880" y="26082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es-ES" sz="1000" spc="-1" strike="noStrike" baseline="30000">
                <a:solidFill>
                  <a:srgbClr val="ffffff"/>
                </a:solidFill>
                <a:latin typeface="Arial"/>
              </a:rPr>
              <a:t>++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93680" y="172728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DIAGRAMA DE STIFF (meq/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4299120" y="-11698200"/>
          <a:ext cx="547560" cy="302562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25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rur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,0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ruro de magnes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,0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lfato neutr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,0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ruro de calc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,1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3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ruro de potas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7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carbonat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2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omur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096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Ácido bóri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026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ruro de estronc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024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uorur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003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gua destilad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00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lilitr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1143000" y="1962000"/>
          <a:ext cx="6858000" cy="2689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rur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,0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ruro de magnes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lfato neutr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0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ruro de calc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1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ruro de potas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7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carbonat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mur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96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Ácido bóri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26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ruro de estronc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24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uorur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03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ua destilad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0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lilitr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4" name=""/>
          <p:cNvSpPr/>
          <p:nvPr/>
        </p:nvSpPr>
        <p:spPr>
          <a:xfrm>
            <a:off x="3612600" y="4912560"/>
            <a:ext cx="2779200" cy="2462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(Salinidad aproximada 34.5%   -   pH 7.9-8.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67200" y="13953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omposición del Agua de M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69360" y="889560"/>
            <a:ext cx="8481240" cy="5053680"/>
            <a:chOff x="369360" y="889560"/>
            <a:chExt cx="8481240" cy="5053680"/>
          </a:xfrm>
        </p:grpSpPr>
        <p:sp>
          <p:nvSpPr>
            <p:cNvPr id="68" name=""/>
            <p:cNvSpPr/>
            <p:nvPr/>
          </p:nvSpPr>
          <p:spPr>
            <a:xfrm>
              <a:off x="4338720" y="4556520"/>
              <a:ext cx="4511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360" y="88956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Determinación de la Eficiencia de un Sonda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920" y="2209680"/>
              <a:ext cx="68169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6280" y="2043000"/>
              <a:ext cx="228600" cy="13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6280" y="3367080"/>
              <a:ext cx="228600" cy="100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986280" y="4373640"/>
              <a:ext cx="230040" cy="1569600"/>
              <a:chOff x="3986280" y="4373640"/>
              <a:chExt cx="230040" cy="1569600"/>
            </a:xfrm>
          </p:grpSpPr>
          <p:sp>
            <p:nvSpPr>
              <p:cNvPr id="74" name=""/>
              <p:cNvSpPr/>
              <p:nvPr/>
            </p:nvSpPr>
            <p:spPr>
              <a:xfrm>
                <a:off x="3987720" y="4373640"/>
                <a:ext cx="228600" cy="388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86280" y="4749840"/>
                <a:ext cx="228600" cy="748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86280" y="5483160"/>
                <a:ext cx="228600" cy="460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938160" y="2362320"/>
              <a:ext cx="66470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100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1296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4880" y="2647800"/>
              <a:ext cx="1542960" cy="635040"/>
            </a:xfrm>
            <a:custGeom>
              <a:avLst/>
              <a:gdLst/>
              <a:ahLst/>
              <a:rect l="l" t="t" r="r" b="b"/>
              <a:pathLst>
                <a:path w="972" h="400">
                  <a:moveTo>
                    <a:pt x="0" y="400"/>
                  </a:moveTo>
                  <a:cubicBezTo>
                    <a:pt x="22" y="385"/>
                    <a:pt x="95" y="333"/>
                    <a:pt x="136" y="308"/>
                  </a:cubicBezTo>
                  <a:cubicBezTo>
                    <a:pt x="177" y="283"/>
                    <a:pt x="209" y="266"/>
                    <a:pt x="244" y="248"/>
                  </a:cubicBezTo>
                  <a:cubicBezTo>
                    <a:pt x="279" y="230"/>
                    <a:pt x="317" y="214"/>
                    <a:pt x="348" y="200"/>
                  </a:cubicBezTo>
                  <a:cubicBezTo>
                    <a:pt x="379" y="186"/>
                    <a:pt x="395" y="178"/>
                    <a:pt x="432" y="164"/>
                  </a:cubicBezTo>
                  <a:cubicBezTo>
                    <a:pt x="469" y="150"/>
                    <a:pt x="478" y="143"/>
                    <a:pt x="568" y="116"/>
                  </a:cubicBezTo>
                  <a:cubicBezTo>
                    <a:pt x="658" y="89"/>
                    <a:pt x="888" y="24"/>
                    <a:pt x="972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8520" y="2654280"/>
              <a:ext cx="1517760" cy="628560"/>
            </a:xfrm>
            <a:custGeom>
              <a:avLst/>
              <a:gdLst/>
              <a:ahLst/>
              <a:rect l="l" t="t" r="r" b="b"/>
              <a:pathLst>
                <a:path w="956" h="396">
                  <a:moveTo>
                    <a:pt x="956" y="396"/>
                  </a:moveTo>
                  <a:cubicBezTo>
                    <a:pt x="934" y="381"/>
                    <a:pt x="861" y="329"/>
                    <a:pt x="820" y="304"/>
                  </a:cubicBezTo>
                  <a:cubicBezTo>
                    <a:pt x="779" y="279"/>
                    <a:pt x="747" y="262"/>
                    <a:pt x="712" y="244"/>
                  </a:cubicBezTo>
                  <a:cubicBezTo>
                    <a:pt x="677" y="226"/>
                    <a:pt x="639" y="210"/>
                    <a:pt x="608" y="196"/>
                  </a:cubicBezTo>
                  <a:cubicBezTo>
                    <a:pt x="577" y="182"/>
                    <a:pt x="561" y="174"/>
                    <a:pt x="524" y="160"/>
                  </a:cubicBezTo>
                  <a:cubicBezTo>
                    <a:pt x="487" y="146"/>
                    <a:pt x="475" y="139"/>
                    <a:pt x="388" y="112"/>
                  </a:cubicBezTo>
                  <a:cubicBezTo>
                    <a:pt x="301" y="85"/>
                    <a:pt x="81" y="23"/>
                    <a:pt x="0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985920" y="405612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0200" y="2772720"/>
              <a:ext cx="314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Perfil de Descenso en Régimen de Dar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2000" y="3121920"/>
              <a:ext cx="191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erfil de Descenso Re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en el acuífe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32960" y="3910680"/>
              <a:ext cx="32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vel Dinámico Medido al Interior del 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03240" y="4057560"/>
              <a:ext cx="21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911240" y="236196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1240" y="343044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1040" y="30452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79600" y="3625920"/>
              <a:ext cx="1604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71840" y="2362320"/>
              <a:ext cx="0" cy="51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7960" y="3138480"/>
              <a:ext cx="0" cy="47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09480" y="282924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1600" y="3282840"/>
              <a:ext cx="272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65600" y="298440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9440" y="2657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65600" y="236196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55880" y="4556520"/>
              <a:ext cx="2500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 = descenso según Darc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44000" y="4861080"/>
              <a:ext cx="295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= descenso real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59840" y="5185080"/>
              <a:ext cx="2309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descenso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9240" y="4923000"/>
              <a:ext cx="423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4600" y="17078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6200000">
              <a:off x="4047840" y="1850400"/>
              <a:ext cx="277560" cy="230040"/>
            </a:xfrm>
            <a:custGeom>
              <a:avLst/>
              <a:gdLst>
                <a:gd name="textAreaLeft" fmla="*/ 92520 w 277560"/>
                <a:gd name="textAreaRight" fmla="*/ 237960 w 277560"/>
                <a:gd name="textAreaTop" fmla="*/ 132120 h 230040"/>
                <a:gd name="textAreaBottom" fmla="*/ 19692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280" y="1214640"/>
            <a:ext cx="81284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puede advertirse en el croquis anterior, el nivel que se mide al interior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incorpora tanto las pérdidas de carga que se generan en el acuífero 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rcanías del pozo, como aquellas originadas en la circulación al interior del s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je y al ingreso de la bomba. Estas últimas (sondaje y bomba) suelen ser las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nificativ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descenso teórico se utilizan las expresiones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 * r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u  =  -----------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W(u) =  - 0,5772  -  ln u  +  u  -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---------  +  ---------  -  ---------  +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4 * T * 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Q * W(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  =  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4 * </a:t>
            </a:r>
            <a:r>
              <a:rPr b="1" lang="es-E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880" y="1391400"/>
            <a:ext cx="79437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l pozo, asumiendo que las pérdidas mayores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n por efecto del sondaje, tendríamo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ficiencia (%) =  ------- * 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= descenso teórico según Theis (m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descenso real en el poz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9880" y="735120"/>
            <a:ext cx="8114760" cy="5805720"/>
            <a:chOff x="389880" y="735120"/>
            <a:chExt cx="8114760" cy="5805720"/>
          </a:xfrm>
        </p:grpSpPr>
        <p:sp>
          <p:nvSpPr>
            <p:cNvPr id="110" name=""/>
            <p:cNvSpPr/>
            <p:nvPr/>
          </p:nvSpPr>
          <p:spPr>
            <a:xfrm>
              <a:off x="389880" y="735120"/>
              <a:ext cx="8114760" cy="58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Un aspecto importante, que comúnmente es necesario determinar, dice rel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 los efectos que produce el bombeo de un pozo en otro o bien los efectos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enera una batería de sondajes de explotación, en un área específic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 se considera una batería de sondajes que habilitan un mismo acuífero, y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bombean de manera simultánea, sus conos de depresión se interfieren generan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censos distintos a los que se producirían con la explotación aislada de 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oz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plicando el principio de superposición y la ecuación de Theis se obtiene la s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Q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2,24 * T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=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Σ  ------------------   Ln   ------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4 * π * T                       r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* 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sta fórmula determina la depresión, que se produce en el acuífero, en un pu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 dista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r</a:t>
              </a:r>
              <a:r>
                <a:rPr b="1" lang="es-ES" sz="16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de los sondajes 1, 2,....... i, de los cuales se bombean cau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ales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.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durante un tiempo t.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4816440"/>
              <a:ext cx="76320" cy="517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6538320" y="4802040"/>
              <a:ext cx="75960" cy="51768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83600" y="1189440"/>
            <a:ext cx="6898680" cy="4317120"/>
            <a:chOff x="1083600" y="1189440"/>
            <a:chExt cx="6898680" cy="4317120"/>
          </a:xfrm>
        </p:grpSpPr>
        <p:sp>
          <p:nvSpPr>
            <p:cNvPr id="115" name=""/>
            <p:cNvSpPr/>
            <p:nvPr/>
          </p:nvSpPr>
          <p:spPr>
            <a:xfrm>
              <a:off x="1083600" y="118944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14440" y="347652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5160" y="500184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3320" y="439236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8200" y="248580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3520" y="212112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8320" y="311184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3320" y="45705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880" y="51357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0200" y="3357360"/>
              <a:ext cx="150480" cy="150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1800" y="264492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3560" y="3418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560" y="407844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6520" y="358956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406680" y="3493440"/>
              <a:ext cx="583560" cy="15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78960" y="3452040"/>
              <a:ext cx="145224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80960" y="260964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81320" y="3447720"/>
              <a:ext cx="2514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8760" y="3246840"/>
              <a:ext cx="153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unto probl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1840" y="43279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1480" y="492300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2560" y="33991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24037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</cp:lastModifiedBy>
  <dcterms:modified xsi:type="dcterms:W3CDTF">2006-10-24T16:43:49Z</dcterms:modified>
  <cp:revision>713</cp:revision>
  <dc:subject/>
  <dc:title>Sin título de diapositiva</dc:title>
</cp:coreProperties>
</file>