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media/image1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A509-1467-4270-870D-23D10268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4EB5-53A3-4BF9-AABE-2098B426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80BC-7545-4357-BB80-34D6CC453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242A-FF07-4C75-8741-60CD20FF8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E8B7-DF9A-498D-A007-26C7782A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4209-8BB5-4E52-B3FC-0D389195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1038-1D39-418F-9DC5-09257392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34D0-189F-4FAC-93DF-27F4113B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E493-5350-4F2B-ADFE-B35B999B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EB1B-BA41-4578-BFC4-7EEA173C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8DB7-23D6-4357-827F-715B104D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747D-FF70-49CF-AB84-EFCBC0BB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4691-437B-4846-8BA4-33C0708B6D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0280" y="1481040"/>
            <a:ext cx="4702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ÍDR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Departamento de Ge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591560"/>
            <a:ext cx="814680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INFIL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denomina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infiltració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al proceso mediante el cual una fracción 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gua precipitada o que escurre superficialmente, penetra a través 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el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sta agua puede quedar retenida en el suelo o en la zona  de aire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ión, o bien puede continuar su tránsito subterráneo hasta alcanz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zona saturada e incorporarse a lo que se denomina agua subterrá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e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uperada la capacidad de campo del suelo (capacidad de incorpor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gua en él) el agua desciende por la acción conjunta de la gravedad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las fuerzas capilar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1039680"/>
            <a:ext cx="814680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INFIL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os factores que controlan la capacidad de infiltración de un terre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on los siguiente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 naturaleza del suelo, especialmente sus características se-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mentológicas y estratigráficas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l grado de compactación natural o antrópico del suel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 pendiente del terren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 humedad inicial del suel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 existencia de una cobertura vegetal genera esponjoc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el terreno y por consiguiente facilita la infiltración, su no 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istencia tiende a disminuirl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 temperatura del suelo, si ésta es suficientemente baja pr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oca la congelación y en consecuencia reduce ostenciblem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e la permeabilida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si no existe suelo, el grado de fracturamiento y el tipo de frac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uras que presente el terreno condicionarán la infiltración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vés de és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049400"/>
            <a:ext cx="814680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INFIL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unidad en que comúnmente se expresa la infiltración es mm/ho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 mm/dí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medición directa de este fenómeno se puede realizar mediante 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mplazamiento de infiltrómetros o a través de hidrogramas de esc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rentí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instrumento de mayor difusión es el infiltrómetro tipo inundador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ue entrega buenos resultados cuando se desea estudiar el fenóm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 desde la base de cuerpos de agua tales como embalses, tran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relave y otr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ste instrumento consiste en dos cilindros de acero, concéntrico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ue se hincan en el suelo, de forma que entre ambos se genere 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pacio anular. Se agrega agua en el cilindro interior hasta una alt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edeterminada, de manera que manteniendo dicha cota, se pued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terminar el caudal requerido para lograr la estabiliza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524240"/>
            <a:ext cx="81468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INFIL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espacio anular debe mantenerse con una altura de agua análo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 la del cilindro interior, para evitar que desde la base de este últi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 desvíe lateralmente el agua infiltrada en el subsuelo (cf. Croqu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djunt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n este caso no se requiere mantener un control sobre los caud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corporados al espacio anula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Infiltrómetro" descr=""/>
          <p:cNvPicPr/>
          <p:nvPr/>
        </p:nvPicPr>
        <p:blipFill>
          <a:blip r:embed="rId1"/>
          <a:stretch/>
        </p:blipFill>
        <p:spPr>
          <a:xfrm>
            <a:off x="914400" y="933480"/>
            <a:ext cx="7772400" cy="56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138320" y="202320"/>
            <a:ext cx="6880320" cy="6106320"/>
            <a:chOff x="1138320" y="202320"/>
            <a:chExt cx="6880320" cy="6106320"/>
          </a:xfrm>
        </p:grpSpPr>
        <p:sp>
          <p:nvSpPr>
            <p:cNvPr id="103" name=""/>
            <p:cNvSpPr/>
            <p:nvPr/>
          </p:nvSpPr>
          <p:spPr>
            <a:xfrm>
              <a:off x="3537000" y="3619440"/>
              <a:ext cx="158760" cy="763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51520" y="3686040"/>
              <a:ext cx="21564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86040" y="3686040"/>
              <a:ext cx="21600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13560" y="1562040"/>
              <a:ext cx="727200" cy="1460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26280" y="1117440"/>
              <a:ext cx="54000" cy="1905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13200" y="3695760"/>
              <a:ext cx="1119240" cy="431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86040" y="3695760"/>
              <a:ext cx="216000" cy="417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00600" y="3405240"/>
              <a:ext cx="1143000" cy="16765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95760" y="3405240"/>
              <a:ext cx="1566720" cy="1676520"/>
            </a:xfrm>
            <a:prstGeom prst="rect">
              <a:avLst/>
            </a:prstGeom>
            <a:noFill/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38320" y="4124160"/>
              <a:ext cx="254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57800" y="4124160"/>
              <a:ext cx="2760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43040" y="1371600"/>
              <a:ext cx="762120" cy="1676520"/>
            </a:xfrm>
            <a:prstGeom prst="rect">
              <a:avLst/>
            </a:prstGeom>
            <a:noFill/>
            <a:ln w="22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04800" y="3048120"/>
              <a:ext cx="990720" cy="75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4800000">
              <a:off x="1871280" y="3580920"/>
              <a:ext cx="990720" cy="76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rot="16800000">
              <a:off x="1184760" y="3580920"/>
              <a:ext cx="990720" cy="76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6477120" y="1371600"/>
              <a:ext cx="990360" cy="2742120"/>
              <a:chOff x="6477120" y="1371600"/>
              <a:chExt cx="990360" cy="2742120"/>
            </a:xfrm>
          </p:grpSpPr>
          <p:sp>
            <p:nvSpPr>
              <p:cNvPr id="119" name=""/>
              <p:cNvSpPr/>
              <p:nvPr/>
            </p:nvSpPr>
            <p:spPr>
              <a:xfrm>
                <a:off x="6586560" y="1371600"/>
                <a:ext cx="762120" cy="1676160"/>
              </a:xfrm>
              <a:prstGeom prst="rect">
                <a:avLst/>
              </a:prstGeom>
              <a:noFill/>
              <a:ln w="2232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477120" y="3043080"/>
                <a:ext cx="990360" cy="763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4800000">
                <a:off x="6781320" y="3580920"/>
                <a:ext cx="990720" cy="763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rot="16800000">
                <a:off x="6137640" y="3580920"/>
                <a:ext cx="990720" cy="763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2390760" y="2957400"/>
              <a:ext cx="1392120" cy="0"/>
            </a:xfrm>
            <a:prstGeom prst="line">
              <a:avLst/>
            </a:prstGeom>
            <a:ln w="69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59120" y="2935440"/>
              <a:ext cx="0" cy="672840"/>
            </a:xfrm>
            <a:prstGeom prst="line">
              <a:avLst/>
            </a:prstGeom>
            <a:ln w="69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4933440" y="2954160"/>
              <a:ext cx="1644840" cy="0"/>
            </a:xfrm>
            <a:prstGeom prst="line">
              <a:avLst/>
            </a:prstGeom>
            <a:ln w="69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2781360"/>
              <a:ext cx="75960" cy="233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00720" y="2800440"/>
              <a:ext cx="76320" cy="233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2536920" y="2638440"/>
              <a:ext cx="172800" cy="152280"/>
              <a:chOff x="2536920" y="2638440"/>
              <a:chExt cx="172800" cy="152280"/>
            </a:xfrm>
          </p:grpSpPr>
          <p:sp>
            <p:nvSpPr>
              <p:cNvPr id="129" name=""/>
              <p:cNvSpPr/>
              <p:nvPr/>
            </p:nvSpPr>
            <p:spPr>
              <a:xfrm>
                <a:off x="2616120" y="263844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536920" y="2678040"/>
                <a:ext cx="172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6256440" y="2647800"/>
              <a:ext cx="172800" cy="152280"/>
              <a:chOff x="6256440" y="2647800"/>
              <a:chExt cx="172800" cy="152280"/>
            </a:xfrm>
          </p:grpSpPr>
          <p:sp>
            <p:nvSpPr>
              <p:cNvPr id="132" name=""/>
              <p:cNvSpPr/>
              <p:nvPr/>
            </p:nvSpPr>
            <p:spPr>
              <a:xfrm>
                <a:off x="6335640" y="264780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256440" y="2687400"/>
                <a:ext cx="172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4842000" y="3532320"/>
              <a:ext cx="187200" cy="1872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86240" y="3633840"/>
              <a:ext cx="457200" cy="3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52960" y="3557520"/>
              <a:ext cx="228600" cy="15264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44960" y="2933640"/>
              <a:ext cx="0" cy="601560"/>
            </a:xfrm>
            <a:prstGeom prst="line">
              <a:avLst/>
            </a:prstGeom>
            <a:ln w="69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05280" y="3686040"/>
              <a:ext cx="113040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86040" y="4124160"/>
              <a:ext cx="2160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41800" y="4124160"/>
              <a:ext cx="2160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0880" y="3695760"/>
              <a:ext cx="187560" cy="417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95560" y="4124160"/>
              <a:ext cx="11448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08600" y="3705120"/>
              <a:ext cx="54000" cy="907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06920" y="4135320"/>
              <a:ext cx="179280" cy="9288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57640" y="4133880"/>
              <a:ext cx="184320" cy="9288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14640" y="4130640"/>
              <a:ext cx="1119240" cy="9428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41600" y="5092560"/>
              <a:ext cx="254160" cy="1212840"/>
            </a:xfrm>
            <a:custGeom>
              <a:avLst/>
              <a:gdLst/>
              <a:ahLst/>
              <a:rect l="l" t="t" r="r" b="b"/>
              <a:pathLst>
                <a:path w="160" h="764">
                  <a:moveTo>
                    <a:pt x="160" y="0"/>
                  </a:moveTo>
                  <a:cubicBezTo>
                    <a:pt x="159" y="14"/>
                    <a:pt x="158" y="53"/>
                    <a:pt x="156" y="84"/>
                  </a:cubicBezTo>
                  <a:cubicBezTo>
                    <a:pt x="154" y="115"/>
                    <a:pt x="151" y="153"/>
                    <a:pt x="148" y="184"/>
                  </a:cubicBezTo>
                  <a:cubicBezTo>
                    <a:pt x="145" y="215"/>
                    <a:pt x="143" y="237"/>
                    <a:pt x="140" y="268"/>
                  </a:cubicBezTo>
                  <a:cubicBezTo>
                    <a:pt x="137" y="299"/>
                    <a:pt x="136" y="336"/>
                    <a:pt x="132" y="368"/>
                  </a:cubicBezTo>
                  <a:cubicBezTo>
                    <a:pt x="128" y="400"/>
                    <a:pt x="123" y="427"/>
                    <a:pt x="116" y="460"/>
                  </a:cubicBezTo>
                  <a:cubicBezTo>
                    <a:pt x="109" y="493"/>
                    <a:pt x="102" y="531"/>
                    <a:pt x="92" y="564"/>
                  </a:cubicBezTo>
                  <a:cubicBezTo>
                    <a:pt x="82" y="597"/>
                    <a:pt x="71" y="627"/>
                    <a:pt x="56" y="660"/>
                  </a:cubicBezTo>
                  <a:cubicBezTo>
                    <a:pt x="41" y="693"/>
                    <a:pt x="12" y="743"/>
                    <a:pt x="0" y="764"/>
                  </a:cubicBezTo>
                </a:path>
              </a:pathLst>
            </a:custGeom>
            <a:noFill/>
            <a:ln w="223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5270400" y="5092560"/>
              <a:ext cx="254160" cy="1212840"/>
            </a:xfrm>
            <a:custGeom>
              <a:avLst/>
              <a:gdLst/>
              <a:ahLst/>
              <a:rect l="l" t="t" r="r" b="b"/>
              <a:pathLst>
                <a:path w="160" h="764">
                  <a:moveTo>
                    <a:pt x="160" y="0"/>
                  </a:moveTo>
                  <a:cubicBezTo>
                    <a:pt x="159" y="14"/>
                    <a:pt x="158" y="53"/>
                    <a:pt x="156" y="84"/>
                  </a:cubicBezTo>
                  <a:cubicBezTo>
                    <a:pt x="154" y="115"/>
                    <a:pt x="151" y="153"/>
                    <a:pt x="148" y="184"/>
                  </a:cubicBezTo>
                  <a:cubicBezTo>
                    <a:pt x="145" y="215"/>
                    <a:pt x="143" y="237"/>
                    <a:pt x="140" y="268"/>
                  </a:cubicBezTo>
                  <a:cubicBezTo>
                    <a:pt x="137" y="299"/>
                    <a:pt x="136" y="336"/>
                    <a:pt x="132" y="368"/>
                  </a:cubicBezTo>
                  <a:cubicBezTo>
                    <a:pt x="128" y="400"/>
                    <a:pt x="123" y="427"/>
                    <a:pt x="116" y="460"/>
                  </a:cubicBezTo>
                  <a:cubicBezTo>
                    <a:pt x="109" y="493"/>
                    <a:pt x="102" y="531"/>
                    <a:pt x="92" y="564"/>
                  </a:cubicBezTo>
                  <a:cubicBezTo>
                    <a:pt x="82" y="597"/>
                    <a:pt x="71" y="627"/>
                    <a:pt x="56" y="660"/>
                  </a:cubicBezTo>
                  <a:cubicBezTo>
                    <a:pt x="41" y="693"/>
                    <a:pt x="12" y="743"/>
                    <a:pt x="0" y="764"/>
                  </a:cubicBezTo>
                </a:path>
              </a:pathLst>
            </a:custGeom>
            <a:noFill/>
            <a:ln w="223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98800" y="5092560"/>
              <a:ext cx="0" cy="121608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41800" y="5092560"/>
              <a:ext cx="0" cy="121608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315400">
              <a:off x="3580920" y="5346720"/>
              <a:ext cx="381240" cy="152280"/>
            </a:xfrm>
            <a:custGeom>
              <a:avLst/>
              <a:gdLst>
                <a:gd name="textAreaLeft" fmla="*/ 47520 w 381240"/>
                <a:gd name="textAreaRight" fmla="*/ 333720 w 38124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315400">
              <a:off x="4965120" y="5359320"/>
              <a:ext cx="380880" cy="152280"/>
            </a:xfrm>
            <a:custGeom>
              <a:avLst/>
              <a:gdLst>
                <a:gd name="textAreaLeft" fmla="*/ 47520 w 380880"/>
                <a:gd name="textAreaRight" fmla="*/ 333360 w 38088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4358400">
              <a:off x="5028840" y="5918040"/>
              <a:ext cx="380880" cy="152280"/>
            </a:xfrm>
            <a:custGeom>
              <a:avLst/>
              <a:gdLst>
                <a:gd name="textAreaLeft" fmla="*/ 47520 w 380880"/>
                <a:gd name="textAreaRight" fmla="*/ 333360 w 38088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rot="17241600">
              <a:off x="3530520" y="5918040"/>
              <a:ext cx="380880" cy="152280"/>
            </a:xfrm>
            <a:custGeom>
              <a:avLst/>
              <a:gdLst>
                <a:gd name="textAreaLeft" fmla="*/ 47520 w 380880"/>
                <a:gd name="textAreaRight" fmla="*/ 333360 w 38088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5315400">
              <a:off x="3873240" y="5803560"/>
              <a:ext cx="381240" cy="152640"/>
            </a:xfrm>
            <a:custGeom>
              <a:avLst/>
              <a:gdLst>
                <a:gd name="textAreaLeft" fmla="*/ 47520 w 381240"/>
                <a:gd name="textAreaRight" fmla="*/ 333720 w 381240"/>
                <a:gd name="textAreaTop" fmla="*/ 38160 h 152640"/>
                <a:gd name="textAreaBottom" fmla="*/ 11448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5315400">
              <a:off x="4279320" y="5981760"/>
              <a:ext cx="381240" cy="152280"/>
            </a:xfrm>
            <a:custGeom>
              <a:avLst/>
              <a:gdLst>
                <a:gd name="textAreaLeft" fmla="*/ 47520 w 381240"/>
                <a:gd name="textAreaRight" fmla="*/ 333720 w 38124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315400">
              <a:off x="4266720" y="5295960"/>
              <a:ext cx="381240" cy="152280"/>
            </a:xfrm>
            <a:custGeom>
              <a:avLst/>
              <a:gdLst>
                <a:gd name="textAreaLeft" fmla="*/ 47520 w 381240"/>
                <a:gd name="textAreaRight" fmla="*/ 333720 w 38124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5315400">
              <a:off x="4685760" y="5803920"/>
              <a:ext cx="381240" cy="152280"/>
            </a:xfrm>
            <a:custGeom>
              <a:avLst/>
              <a:gdLst>
                <a:gd name="textAreaLeft" fmla="*/ 47520 w 381240"/>
                <a:gd name="textAreaRight" fmla="*/ 333720 w 38124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34440" y="202320"/>
              <a:ext cx="2614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ffff"/>
                  </a:solidFill>
                  <a:latin typeface="Arial"/>
                </a:rPr>
                <a:t>HIDROLOGÍA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15840" y="951480"/>
              <a:ext cx="346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Infiltrómetro Método Muntz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36000" y="1270080"/>
              <a:ext cx="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38880" y="142236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38880" y="157464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238880" y="172728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38880" y="187956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38880" y="203184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38880" y="218448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38880" y="233676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880" y="248904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38880" y="281952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38880" y="266688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55640" y="1562040"/>
              <a:ext cx="727200" cy="14605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301560" y="3657600"/>
              <a:ext cx="228600" cy="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28840" y="1179360"/>
            <a:ext cx="810540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INFIL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Un método usual de cálculo de la infiltración es el denominado Mét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 de Porche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l sistema consiste en excavar una calicata en el suelo p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uego agregar agua en su interior, controlando el tiempo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nscurre entre dos elevaciones de agua en el interior de 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licat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 superficie a través de la cual se infiltra el agua e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S = </a:t>
            </a: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R ( 2 h + 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 es el radio de la calicata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 es la altura de agua en el interior de el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31720" y="1447560"/>
            <a:ext cx="801720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INFIL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 variación de volumen del agua al interior de la calicata, d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do a la infiltración a tasa constante a través de la superfic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dicada, permite definir la siguiente expresión diferencial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R ( 2h + R ) f = - </a:t>
            </a: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R</a:t>
            </a:r>
            <a:r>
              <a:rPr b="1" lang="es-ES_tradnl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 dh/d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nde f es la infiltra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Separando variables se obtiene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             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d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f  dt  =  - R  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        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2 h  +  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30640" y="1652040"/>
            <a:ext cx="780984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IL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La solución de la ecuación diferencial e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R                  2 h</a:t>
            </a:r>
            <a:r>
              <a:rPr b="1" lang="en-US" sz="1800" spc="-1" strike="noStrike" baseline="-25000">
                <a:solidFill>
                  <a:srgbClr val="990033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+ 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  = ---------------  ln --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 ( t</a:t>
            </a:r>
            <a:r>
              <a:rPr b="1" lang="en-US" sz="1800" spc="-1" strike="noStrike" baseline="-25000">
                <a:solidFill>
                  <a:srgbClr val="990033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- t</a:t>
            </a:r>
            <a:r>
              <a:rPr b="1" lang="en-US" sz="1800" spc="-1" strike="noStrike" baseline="-25000">
                <a:solidFill>
                  <a:srgbClr val="990033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)           2 h</a:t>
            </a:r>
            <a:r>
              <a:rPr b="1" lang="en-US" sz="1800" spc="-1" strike="noStrike" baseline="-25000">
                <a:solidFill>
                  <a:srgbClr val="990033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+ 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iendo de las unidades utilizadas, la tasa de infilt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da expresada en mm/s, m/s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09480" y="1319040"/>
          <a:ext cx="777240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19040"/>
                    <a:ext cx="777240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21480" y="1501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1360" y="760680"/>
            <a:ext cx="7643520" cy="59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VAPOTRANSPI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denomina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vapotranspiració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al conjunto de las pérdidas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gua que se generan por evaporación y transpira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sta última corresponde al proceso biológico mediante el cu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s plantas eliminan el agua utilizada en su metabolismo, a t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és de las hoj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transpiración está influida por los mismos factores que afec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an a la evaporación, sin embargo, existen también factores bi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ógicos, condicionados por la meteorología que contribuyen 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umentar o disminuir la transpiración. La cantidad de luz, la tem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atura ambiental y la humedad atmosférica, son factores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trolan la abertura de los estomas desde donde se libera 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gua que es transpira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or su parte, el tipo de especie vegetal, su edad, desarrollo foliar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amaño de la planta y desarrollo radicular, son factores netam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e biológicos que también controlan la magnitud de la transpi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1469520"/>
            <a:ext cx="814680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escorrentía superficial constituyó el principal recurso hídrico 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ilizado por el hombre antiguo, tanto para satisfacer sus requerimi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os fisiológicos como para la agricultura, comunicación y transpor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control de la fluviometría de una cuenca es una tarea hidroló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levante, ya que además de permitir evaluar los recursos hídr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perficiales, permite determinar la magnitud de la infiltración que 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enera desde los cursos de escurrimiento superficial, hacia los sist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s subterráne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s importante señalar que, usualmente, la principal fuente de recar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a de los acuíferos de una cuenca, proviene de la infiltración que 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duce desde los cursos de escurrimiento superfici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1334520"/>
            <a:ext cx="814680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control de la escorrentía superficial se realiza mediante la impl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ntación de estaciones limnimétricas o limnigráfic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entiende por estación limnimétrica a una sección transversal ub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da en un curso de escurrimiento superficial, en la cual se determ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an, sistemáticamente, los caudales que a través de ella circulan. 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e control se realiza mediante un limnímetro, se denomina limnimé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ica y si el control se ejecuta con un instrumento de registro cont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uo (limnígrafo), se habla de una estación limnigráfic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ción de la Escorrentí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ara determinar el caudal que escurre a través de una sección tran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ersal, se debe conocer la geometría de la sección y la velocidad m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l agua en dicha sec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1341000"/>
            <a:ext cx="814680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ción de la Escorrentía (Continu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producto entre el área de la sección y la velocidad, corresponde 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udal pasa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ara mantener un control sistemático de los caudales, se debe esc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er una sección transversal adecuada en la cual se pueda implem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ar una estación de aforo (limnimétrica o limnigráfica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os criterios básicos para escoger una sección de control fluviomé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ico son los siguiente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que el flujo en la sección sea de tipo laminar (no turbulento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que la geometría de la sección sea simple, ojalá sus pare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engan pendientes similares y el fondo presente escasa rug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dad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que la sección sea estable, vale decir que sus paredes esté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bilizadas y no en retroces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1618560"/>
            <a:ext cx="81468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ción de la Escorrentía (Continu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ara la medición sistemática de los caudales es necesario implem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ar una metodología que permita determinar los caudales medios di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ios mediante un sistema sencillo y de bajo cos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sto se logra si se determina la Curva de Descarga de la sección, p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a lo cual es necesario instalar en ella un limnímetr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Curva de Descarga es aquella que se obtiene al relacionar el ca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al pasante en la sección con la altura del agua en la misma. Esto im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icará realizar numerosos aforos (determinación del caudal) de m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era que a cada caudal se asocie la altura de agua respectiv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643760" y="1568160"/>
            <a:ext cx="5917680" cy="3524040"/>
            <a:chOff x="1643760" y="1568160"/>
            <a:chExt cx="5917680" cy="3524040"/>
          </a:xfrm>
        </p:grpSpPr>
        <p:grpSp>
          <p:nvGrpSpPr>
            <p:cNvPr id="193" name=""/>
            <p:cNvGrpSpPr/>
            <p:nvPr/>
          </p:nvGrpSpPr>
          <p:grpSpPr>
            <a:xfrm>
              <a:off x="1650600" y="2424240"/>
              <a:ext cx="5910840" cy="2667960"/>
              <a:chOff x="1650600" y="2424240"/>
              <a:chExt cx="5910840" cy="2667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1866960" y="2970720"/>
                <a:ext cx="5694480" cy="2121480"/>
                <a:chOff x="1866960" y="2970720"/>
                <a:chExt cx="5694480" cy="212148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1866960" y="3423960"/>
                  <a:ext cx="5694480" cy="1552680"/>
                </a:xfrm>
                <a:custGeom>
                  <a:avLst/>
                  <a:gdLst/>
                  <a:ahLst/>
                  <a:rect l="l" t="t" r="r" b="b"/>
                  <a:pathLst>
                    <a:path w="3587" h="978">
                      <a:moveTo>
                        <a:pt x="0" y="51"/>
                      </a:moveTo>
                      <a:cubicBezTo>
                        <a:pt x="68" y="70"/>
                        <a:pt x="284" y="118"/>
                        <a:pt x="408" y="179"/>
                      </a:cubicBezTo>
                      <a:cubicBezTo>
                        <a:pt x="532" y="240"/>
                        <a:pt x="635" y="299"/>
                        <a:pt x="744" y="419"/>
                      </a:cubicBezTo>
                      <a:cubicBezTo>
                        <a:pt x="853" y="539"/>
                        <a:pt x="873" y="820"/>
                        <a:pt x="1064" y="899"/>
                      </a:cubicBezTo>
                      <a:cubicBezTo>
                        <a:pt x="1255" y="978"/>
                        <a:pt x="1693" y="927"/>
                        <a:pt x="1888" y="891"/>
                      </a:cubicBezTo>
                      <a:cubicBezTo>
                        <a:pt x="2083" y="855"/>
                        <a:pt x="2136" y="769"/>
                        <a:pt x="2233" y="682"/>
                      </a:cubicBezTo>
                      <a:cubicBezTo>
                        <a:pt x="2330" y="595"/>
                        <a:pt x="2392" y="455"/>
                        <a:pt x="2472" y="371"/>
                      </a:cubicBezTo>
                      <a:cubicBezTo>
                        <a:pt x="2552" y="287"/>
                        <a:pt x="2526" y="241"/>
                        <a:pt x="2712" y="179"/>
                      </a:cubicBezTo>
                      <a:cubicBezTo>
                        <a:pt x="2898" y="117"/>
                        <a:pt x="3405" y="37"/>
                        <a:pt x="3587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833560" y="3894120"/>
                  <a:ext cx="3048120" cy="0"/>
                </a:xfrm>
                <a:prstGeom prst="line">
                  <a:avLst/>
                </a:prstGeom>
                <a:ln w="22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rot="10800000">
                  <a:off x="2044440" y="3517560"/>
                  <a:ext cx="228600" cy="152280"/>
                </a:xfrm>
                <a:custGeom>
                  <a:avLst/>
                  <a:gdLst>
                    <a:gd name="textAreaLeft" fmla="*/ 50040 w 228600"/>
                    <a:gd name="textAreaRight" fmla="*/ 178560 w 228600"/>
                    <a:gd name="textAreaTop" fmla="*/ 33480 h 152280"/>
                    <a:gd name="textAreaBottom" fmla="*/ 118800 h 152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158920" y="3462120"/>
                  <a:ext cx="0" cy="763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9" name=""/>
                <p:cNvGrpSpPr/>
                <p:nvPr/>
              </p:nvGrpSpPr>
              <p:grpSpPr>
                <a:xfrm>
                  <a:off x="3441600" y="3301920"/>
                  <a:ext cx="74880" cy="1790280"/>
                  <a:chOff x="3441600" y="3301920"/>
                  <a:chExt cx="74880" cy="179028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441600" y="3301920"/>
                    <a:ext cx="74880" cy="1790280"/>
                  </a:xfrm>
                  <a:custGeom>
                    <a:avLst/>
                    <a:gdLst>
                      <a:gd name="textAreaLeft" fmla="*/ 3600 w 74880"/>
                      <a:gd name="textAreaRight" fmla="*/ 71280 w 74880"/>
                      <a:gd name="textAreaTop" fmla="*/ 3600 h 1790280"/>
                      <a:gd name="textAreaBottom" fmla="*/ 1786680 h 1790280"/>
                    </a:gdLst>
                    <a:ahLst/>
                    <a:rect l="textAreaLeft" t="textAreaTop" r="textAreaRight" b="textAreaBottom"/>
                    <a:pathLst>
                      <a:path w="21600" h="51405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510459"/>
                        </a:lnTo>
                        <a:arcTo wR="3600" hR="3600" stAng="10800000" swAng="-5400000"/>
                        <a:lnTo>
                          <a:pt x="18000" y="51405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00ffff"/>
                  </a:solidFill>
                  <a:ln w="223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441600" y="345744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441600" y="361296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441600" y="376884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441600" y="392436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3441600" y="408024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441600" y="423612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3441600" y="439164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3441600" y="454716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441600" y="470304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441600" y="485892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1" name=""/>
                <p:cNvSpPr/>
                <p:nvPr/>
              </p:nvSpPr>
              <p:spPr>
                <a:xfrm>
                  <a:off x="3649320" y="2970720"/>
                  <a:ext cx="1151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Arial"/>
                    </a:rPr>
                    <a:t>Limnímetro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>
                  <a:off x="3582360" y="3276360"/>
                  <a:ext cx="454680" cy="1774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1650600" y="2424240"/>
                <a:ext cx="140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ffff"/>
                    </a:solidFill>
                    <a:latin typeface="Arial"/>
                  </a:rPr>
                  <a:t>Punto d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ffff"/>
                    </a:solidFill>
                    <a:latin typeface="Arial"/>
                  </a:rPr>
                  <a:t>Referencia de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ffff"/>
                    </a:solidFill>
                    <a:latin typeface="Arial"/>
                  </a:rPr>
                  <a:t>Limnímetr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2183760" y="3158640"/>
                <a:ext cx="128160" cy="286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1643760" y="1568160"/>
              <a:ext cx="566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CROQUIS ESQUEMÁTICO DE ESTACIÓN LIMNIMÉTRIC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1177920"/>
            <a:ext cx="814680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ción de la Escorrentía (Continu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ara determinar el caudal pasante (aforar), es necesario definir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eometría de la sección, labor que se puede realizar mediante u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ara graduada que se desplaza a lo largo de ésta o bien utilizan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 sonar que permita determinar la profundidad del cauce en la mi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Conocida la geometría de la sección, cada vez que se afore será n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rio determinar la velocidad media del agua, que atraviesa dich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cción. Para esto se utiliza un instrumento conocido como molin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distribución de la velocidad del agua en la sección es muy vari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le, de forma que es imprescindible medir este parámetro en un nú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ro importante de pun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Molinete" descr=""/>
          <p:cNvPicPr/>
          <p:nvPr/>
        </p:nvPicPr>
        <p:blipFill>
          <a:blip r:embed="rId1"/>
          <a:stretch/>
        </p:blipFill>
        <p:spPr>
          <a:xfrm>
            <a:off x="762120" y="909720"/>
            <a:ext cx="7848360" cy="55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Cable%20y%20molinete" descr=""/>
          <p:cNvPicPr/>
          <p:nvPr/>
        </p:nvPicPr>
        <p:blipFill>
          <a:blip r:embed="rId1"/>
          <a:stretch/>
        </p:blipFill>
        <p:spPr>
          <a:xfrm>
            <a:off x="533520" y="955800"/>
            <a:ext cx="8229600" cy="56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Secc_aforo1" descr=""/>
          <p:cNvPicPr/>
          <p:nvPr/>
        </p:nvPicPr>
        <p:blipFill>
          <a:blip r:embed="rId1"/>
          <a:stretch/>
        </p:blipFill>
        <p:spPr>
          <a:xfrm>
            <a:off x="584280" y="868320"/>
            <a:ext cx="8153280" cy="57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1010520"/>
            <a:ext cx="8146800" cy="54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ción de la Escorrentía (Continu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velocidad media de cada subsección queda definida por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guiente fórmula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es-CL" sz="1800" spc="-1" strike="noStrike" baseline="-10000">
                <a:solidFill>
                  <a:srgbClr val="990033"/>
                </a:solidFill>
                <a:latin typeface="Arial"/>
              </a:rPr>
              <a:t>x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 = 0.5*( V</a:t>
            </a:r>
            <a:r>
              <a:rPr b="1" lang="es-CL" sz="1800" spc="-1" strike="noStrike" baseline="-10000">
                <a:solidFill>
                  <a:srgbClr val="990033"/>
                </a:solidFill>
                <a:latin typeface="Arial"/>
              </a:rPr>
              <a:t>0.8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 + V</a:t>
            </a:r>
            <a:r>
              <a:rPr b="1" lang="es-CL" sz="1800" spc="-1" strike="noStrike" baseline="-10000">
                <a:solidFill>
                  <a:srgbClr val="990033"/>
                </a:solidFill>
                <a:latin typeface="Arial"/>
              </a:rPr>
              <a:t>0.2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CL" sz="1800" spc="-1" strike="noStrike" baseline="-10000">
                <a:solidFill>
                  <a:srgbClr val="000000"/>
                </a:solidFill>
                <a:latin typeface="Arial"/>
              </a:rPr>
              <a:t>0.8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y V</a:t>
            </a:r>
            <a:r>
              <a:rPr b="1" lang="es-CL" sz="1800" spc="-1" strike="noStrike" baseline="-10000">
                <a:solidFill>
                  <a:srgbClr val="000000"/>
                </a:solidFill>
                <a:latin typeface="Arial"/>
              </a:rPr>
              <a:t>0.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son las velocidades puntuales a un 80%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0% de la profundidad, de la respectiva subsec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-  El caudal en la sección será entonce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Q =  </a:t>
            </a:r>
            <a:r>
              <a:rPr b="1" lang="es-CL" sz="1800" spc="-1" strike="noStrike">
                <a:solidFill>
                  <a:srgbClr val="990033"/>
                </a:solidFill>
                <a:latin typeface="Symbol"/>
                <a:ea typeface="Symbol"/>
              </a:rPr>
              <a:t>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 V</a:t>
            </a:r>
            <a:r>
              <a:rPr b="1" lang="es-CL" sz="1800" spc="-1" strike="noStrike" baseline="-25000">
                <a:solidFill>
                  <a:srgbClr val="990033"/>
                </a:solidFill>
                <a:latin typeface="Arial"/>
              </a:rPr>
              <a:t>x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*A</a:t>
            </a:r>
            <a:r>
              <a:rPr b="1" lang="es-CL" sz="1800" spc="-1" strike="noStrike" baseline="-25000">
                <a:solidFill>
                  <a:srgbClr val="990033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es el área de cada subse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21480" y="1501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0640" y="1163160"/>
            <a:ext cx="8152920" cy="51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VAPOTRANSPI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denomina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vapotranspiración potencial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al límite máximo de agu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ue puede ser evaporada y transpirada de un área. La vegetación ti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e un desarrollo óptimo y el suelo disponibilidad constante de agu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entiende por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vapotranspiración real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a aquella que efectivam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 produce en una zona, sin que necesariamente exista disponi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tinua de agua en el suel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Medición e Instrum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xisten dos formas básicas para determinar la evapotranspiración :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dición directa mediante instrumentos tales como los lisímetros y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valuación mediante métodos teórico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instalación de lisímetros es una tarea compleja y los resultados,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 menos en Chile, no son altamente confiab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28600" y="1352520"/>
            <a:ext cx="8610480" cy="4421160"/>
            <a:chOff x="228600" y="1352520"/>
            <a:chExt cx="8610480" cy="4421160"/>
          </a:xfrm>
        </p:grpSpPr>
        <p:graphicFrame>
          <p:nvGraphicFramePr>
            <p:cNvPr id="228" name=""/>
            <p:cNvGraphicFramePr/>
            <p:nvPr/>
          </p:nvGraphicFramePr>
          <p:xfrm>
            <a:off x="228600" y="2843280"/>
            <a:ext cx="1533600" cy="11714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2843280"/>
                      <a:ext cx="1533600" cy="117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0" name=""/>
            <p:cNvGraphicFramePr/>
            <p:nvPr/>
          </p:nvGraphicFramePr>
          <p:xfrm>
            <a:off x="1981080" y="1352520"/>
            <a:ext cx="6858000" cy="44211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2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81080" y="1352520"/>
                      <a:ext cx="6858000" cy="442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1464840"/>
            <a:ext cx="814680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ción de la Escorrentía (Continu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Desgraciadamente, en la mayoría de los casos no basta con est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lecer sólo en forma inicial la curva de descarga, pues ésta pue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r variable en el tiempo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- Luego es necesario efectuar aforos esporádicos, normalmente u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ez al mes, que permitan verificar la invariancia de la curva o detec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r cuándo ésta ha sufrido algún camb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- En efecto, si utilizamos algún modelo hidráulico para representar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lación entre la altura de agua y el caudal, como por ejemplo, la c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ocida </a:t>
            </a:r>
            <a:r>
              <a:rPr b="1" lang="es-CL" sz="1800" spc="-1" strike="noStrike">
                <a:solidFill>
                  <a:srgbClr val="cc6600"/>
                </a:solidFill>
                <a:latin typeface="Arial"/>
              </a:rPr>
              <a:t>Fórmula de Manning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, tendremos la relación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1469520"/>
            <a:ext cx="814680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ción de la Escorrentía (Continu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(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J)</a:t>
            </a:r>
            <a:r>
              <a:rPr b="1" lang="es-CL" sz="1800" spc="-1" strike="noStrike" baseline="30000">
                <a:solidFill>
                  <a:srgbClr val="990033"/>
                </a:solidFill>
                <a:latin typeface="Arial"/>
              </a:rPr>
              <a:t>1/2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 * </a:t>
            </a:r>
            <a:r>
              <a:rPr b="1" lang="es-CL" sz="1800" spc="-1" strike="noStrike">
                <a:solidFill>
                  <a:srgbClr val="990033"/>
                </a:solidFill>
                <a:latin typeface="Symbol"/>
                <a:ea typeface="Symbol"/>
              </a:rPr>
              <a:t>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*(</a:t>
            </a:r>
            <a:r>
              <a:rPr b="1" lang="es-CL" sz="1800" spc="-1" strike="noStrike">
                <a:solidFill>
                  <a:srgbClr val="990033"/>
                </a:solidFill>
                <a:latin typeface="Symbol"/>
                <a:ea typeface="Symbol"/>
              </a:rPr>
              <a:t>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) </a:t>
            </a:r>
            <a:r>
              <a:rPr b="1" lang="es-CL" sz="1800" spc="-1" strike="noStrike" baseline="30000">
                <a:solidFill>
                  <a:srgbClr val="990033"/>
                </a:solidFill>
                <a:latin typeface="Arial"/>
              </a:rPr>
              <a:t>2/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                              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Q  =  -------------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                                                     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J es la pendiente del eje hidráulic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 es el coeficiente de rugosidad de Manning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s el área de la sección de escurrimiento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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s el radio hidráulico (cuociente entre el área mojada y el perí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metro del área mojad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1052280"/>
            <a:ext cx="814680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ción de la Escorrentía (Continu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Del análisis de esta ecuación tenemos que funcionalmente, el ca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l depende de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 = f (J, n, geometría de la sec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- Luego, la Curva de Descarga sólo se mantendrá invariante, si perm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ecen constantes en el tiempo la pendiente del eje hidráulico, la r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osidad del lecho y la geometría de la sec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- Algunas secciones resultan muy estables y mantienen permanent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mente su curva de validez o al menos éstas se mantienen durante p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íodos muy largos. Otras, sin embargo, resultan tan cambiantes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sulta imposible establecer adecuadamente su curva de descarga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ben ser abandonadas como secciones de afor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3520" y="1180800"/>
            <a:ext cx="814680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álculo de la Escorrentí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n aquellos casos en que la escorrentía superficial es muy esporád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, no resulta adecuado implementar una estación de aforo, de for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ue para determinar los caudales susceptibles de generarse dura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 evento meteorológico específico, se requiere de metodologías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cialmente diseñadas para tales efec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Dos de estas metodologías son : el </a:t>
            </a:r>
            <a:r>
              <a:rPr b="1" lang="es-ES_tradnl" sz="1800" spc="-1" strike="noStrike">
                <a:solidFill>
                  <a:srgbClr val="cc6600"/>
                </a:solidFill>
                <a:latin typeface="Arial"/>
              </a:rPr>
              <a:t>Método de la Curva Número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y 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cc6600"/>
                </a:solidFill>
                <a:latin typeface="Arial"/>
              </a:rPr>
              <a:t>Método Racional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_tradnl" sz="1800" spc="-1" strike="noStrike">
                <a:solidFill>
                  <a:srgbClr val="cc6600"/>
                </a:solidFill>
                <a:latin typeface="Arial"/>
              </a:rPr>
              <a:t>El Método de la Curva Número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fue estructurado por el Departam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Agricultura de USA y se aplica a eventos meteorológicos extr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os, para generar la escorrentía e infiltración que producen precip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aciones intensas, en períodos cortos de tiemp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1053720"/>
            <a:ext cx="8146800" cy="52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étodo de la Curva Núm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.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   =   ------------    -  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 es el almacenamiento necesario para alcanzar saturación del suelo ; y C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 el valor de Curva Número adoptado según el tipo de terren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hora, si la precipitación acaecida cumple con Pp &gt; 0,2 * S enton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(Pp - 0,2 * S)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   =    ---------------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p + 0,8 * 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 es la escorrentía expresada en pulgadas (1 pulgada = 2,54 cm) 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p es la precipitación expresada en pulgad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     Pp &lt; =  que 0,2 * S  entones Es =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748080"/>
            <a:ext cx="8146800" cy="58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étodo de la Curva Número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N varía entre 0 y 100, de forma que 0 corresponde a un terreno absolut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ente permeable y 100 a un terreno totalmente impermea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VALORES DE CN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600" spc="-1" strike="noStrike">
                <a:solidFill>
                  <a:srgbClr val="cc6600"/>
                </a:solidFill>
                <a:latin typeface="Arial"/>
              </a:rPr>
              <a:t>Tipo de suelo                              Tipo de Terreno         Valor C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ravoso o arenoso profundo (A)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      Praderas                         30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renoso de mediana profundidad (B)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Praderas                         58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diana profundidad con arcillas y limos             Praderas                         71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rcillosos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Praderas                         7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ravoso o arenoso profundo (A)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      Bosques                         3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renoso de mediana profundidad (B)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Bosques                        60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diana profundidad con arcillas y limos             Bosques                         7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rcillosos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Bosques                         79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ravoso o arenoso profundo (A)                            No agrícola                     6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renoso de mediana profundidad (B)                    No agrícola                     7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diana profundidad con arcillas y limos             No agrícola                     8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rcillosos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No agrícola                     8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Nota : en la cuenca de respaldo del embalse Sta. Juana se determinó una C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romedio de 65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3520" y="978480"/>
            <a:ext cx="8146800" cy="53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étodo R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Este método es aplicable a cuencas cuyas superficies fluctuen, aproximad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ente, entre 25 y 500 km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La expresión mediante la cual se determina el caudal máximo escurrente du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ante una tormenta 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                                           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Q   =   F * C * i * 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Q es el caudal de descarga en m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/seg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 es un factor de corrección cuyo valor es 0,278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 es el coeficiente de escorrentía (adimensional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 es la intensidad de la precipitación expresada en mm/hr, du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ante el tiempo de concentración de la cuenca o durante u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iempo mayor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 es la superficie de la cuenca de respaldo, expresada 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975600"/>
            <a:ext cx="814680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étodo R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El tiempo de concentración se define como el tiempo requerido para que u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ota de lluvia, caída en el punto de la cuenca más alejado de la sección do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 se desea calcular el caudal generado por la tormenta, alcance dicha s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Según Kirpich (1940) el tiempo de concentración se puede determinar m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ante la siguiente expresión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t</a:t>
            </a:r>
            <a:r>
              <a:rPr b="1" lang="es-ES_tradnl" sz="1600" spc="-1" strike="noStrike" baseline="-10000">
                <a:solidFill>
                  <a:srgbClr val="990033"/>
                </a:solidFill>
                <a:latin typeface="Arial"/>
              </a:rPr>
              <a:t>c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  = 0,0078 * L</a:t>
            </a:r>
            <a:r>
              <a:rPr b="1" lang="es-ES_tradnl" sz="1600" spc="-1" strike="noStrike" baseline="30000">
                <a:solidFill>
                  <a:srgbClr val="990033"/>
                </a:solidFill>
                <a:latin typeface="Arial"/>
              </a:rPr>
              <a:t>0,77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* S</a:t>
            </a:r>
            <a:r>
              <a:rPr b="1" lang="es-ES_tradnl" sz="1600" spc="-1" strike="noStrike" baseline="30000">
                <a:solidFill>
                  <a:srgbClr val="990033"/>
                </a:solidFill>
                <a:latin typeface="Arial"/>
              </a:rPr>
              <a:t>-0,38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600" spc="-1" strike="noStrike" baseline="-10000">
                <a:solidFill>
                  <a:srgbClr val="000000"/>
                </a:solidFill>
                <a:latin typeface="Arial"/>
              </a:rPr>
              <a:t>c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es el tiempo de concentración en minuto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 es la distancia entre la sección de descarga y el punto de la cuen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ás alejado de ella, expresada en pies (1m = 3,28084 pies)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 es el gradiente topográfico entre la sección y el punto más alejado (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mensional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3520" y="1615320"/>
            <a:ext cx="814680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étodo R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EFICIENTES DE ESCORRENTÍA (C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Tipo de Terreno          Pendiente (%)                    C</a:t>
            </a: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enoso con escasos fino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2                                 0,05 - 0,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- 7                               0,10 - 0,1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 7                               0,15 - 0,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illosos                                         2                                 0,13 - 0,1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- 7                               0,18 - 0,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 7                               0,25 - 0,3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2000" y="1811880"/>
            <a:ext cx="25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isímetro Enterr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374120" y="2587320"/>
            <a:ext cx="5743800" cy="3342240"/>
            <a:chOff x="1374120" y="2587320"/>
            <a:chExt cx="5743800" cy="3342240"/>
          </a:xfrm>
        </p:grpSpPr>
        <p:sp>
          <p:nvSpPr>
            <p:cNvPr id="50" name=""/>
            <p:cNvSpPr/>
            <p:nvPr/>
          </p:nvSpPr>
          <p:spPr>
            <a:xfrm>
              <a:off x="6542640" y="354276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N.E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19680" y="3357360"/>
              <a:ext cx="914400" cy="1752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14720" y="3457440"/>
              <a:ext cx="16761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862520" y="3457440"/>
              <a:ext cx="1676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867200" y="3457440"/>
              <a:ext cx="0" cy="1676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95920" y="3452760"/>
              <a:ext cx="0" cy="1675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86200" y="5138640"/>
              <a:ext cx="990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00400" y="3738240"/>
              <a:ext cx="160020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3738240"/>
              <a:ext cx="160020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19680" y="3738240"/>
              <a:ext cx="9144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05480" y="3281040"/>
              <a:ext cx="75960" cy="1447560"/>
            </a:xfrm>
            <a:prstGeom prst="rect">
              <a:avLst/>
            </a:pr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62680" y="3281040"/>
              <a:ext cx="75960" cy="1447560"/>
            </a:xfrm>
            <a:prstGeom prst="rect">
              <a:avLst/>
            </a:pr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227120" y="2587320"/>
              <a:ext cx="138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Piezómetr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41160" y="5592240"/>
              <a:ext cx="186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Cilindro de Acer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4224240" y="5081040"/>
              <a:ext cx="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633920" y="2966760"/>
              <a:ext cx="0" cy="3045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86440" y="2962080"/>
              <a:ext cx="0" cy="3045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21480" y="344736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N.E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74120" y="3023640"/>
              <a:ext cx="197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uperficie Terren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4240" y="1065960"/>
            <a:ext cx="31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VAPOTRANSPI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34240" y="1065960"/>
            <a:ext cx="8280360" cy="5322240"/>
            <a:chOff x="534240" y="1065960"/>
            <a:chExt cx="8280360" cy="5322240"/>
          </a:xfrm>
        </p:grpSpPr>
        <p:grpSp>
          <p:nvGrpSpPr>
            <p:cNvPr id="73" name=""/>
            <p:cNvGrpSpPr/>
            <p:nvPr/>
          </p:nvGrpSpPr>
          <p:grpSpPr>
            <a:xfrm>
              <a:off x="534240" y="1065960"/>
              <a:ext cx="8115840" cy="2264040"/>
              <a:chOff x="534240" y="1065960"/>
              <a:chExt cx="8115840" cy="2264040"/>
            </a:xfrm>
          </p:grpSpPr>
          <p:sp>
            <p:nvSpPr>
              <p:cNvPr id="74" name=""/>
              <p:cNvSpPr/>
              <p:nvPr/>
            </p:nvSpPr>
            <p:spPr>
              <a:xfrm>
                <a:off x="564120" y="1599840"/>
                <a:ext cx="80859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- Entre las fórmulas empíricas que usualmente se utilizan en Chile, des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tacan las de Turc, Coutagne y Blaney - Criddle. Los dos primeros méto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dos permiten determinar la evapotranspiración real de un área y el últi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mo la evapotranspiración potencial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34240" y="1065960"/>
                <a:ext cx="3193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00"/>
                    </a:solidFill>
                    <a:latin typeface="Arial"/>
                  </a:rPr>
                  <a:t>EVAPOTRANSPIRACIÓ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44480" y="2931120"/>
                <a:ext cx="207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0000"/>
                    </a:solidFill>
                    <a:latin typeface="Arial"/>
                  </a:rPr>
                  <a:t>Método de Turc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716760" y="3402000"/>
              <a:ext cx="8097840" cy="29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- Experimentando en un gran número de cuencas, en distintas partes 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mundo, Turc definió la siguiente expresión 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Arial"/>
                </a:rPr>
                <a:t>                                                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6600"/>
                  </a:solidFill>
                  <a:latin typeface="Arial"/>
                </a:rPr>
                <a:t>                                           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ETR =</a:t>
              </a:r>
              <a:r>
                <a:rPr b="1" lang="es-ES_tradnl" sz="1600" spc="-1" strike="noStrike">
                  <a:solidFill>
                    <a:srgbClr val="cc66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10000"/>
                  </a:solidFill>
                  <a:latin typeface="Arial"/>
                </a:rPr>
                <a:t>---------------------------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6600"/>
                  </a:solidFill>
                  <a:latin typeface="Arial"/>
                </a:rPr>
                <a:t>                                                            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( 0,9 + P</a:t>
              </a:r>
              <a:r>
                <a:rPr b="1" lang="es-ES_tradnl" sz="1600" spc="-1" strike="noStrike" baseline="30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/L</a:t>
              </a:r>
              <a:r>
                <a:rPr b="1" lang="es-ES_tradnl" sz="1600" spc="-1" strike="noStrike" baseline="30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)</a:t>
              </a:r>
              <a:r>
                <a:rPr b="1" lang="es-ES_tradnl" sz="1600" spc="-1" strike="noStrike" baseline="30000">
                  <a:solidFill>
                    <a:srgbClr val="990033"/>
                  </a:solidFill>
                  <a:latin typeface="Arial"/>
                </a:rPr>
                <a:t>1/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onde :          ETR es la evapotranspiración real en mm/añ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 es la precipitación en mm/año 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L = 300 + 25 * t + 0,05 * t</a:t>
              </a:r>
              <a:r>
                <a:rPr b="1" lang="es-ES_tradnl" sz="16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(t = temperatura media anual °C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4240" y="1065960"/>
            <a:ext cx="31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VAPOTRANSPI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79240" y="1675440"/>
            <a:ext cx="8213760" cy="4702320"/>
            <a:chOff x="579240" y="1675440"/>
            <a:chExt cx="8213760" cy="4702320"/>
          </a:xfrm>
        </p:grpSpPr>
        <p:sp>
          <p:nvSpPr>
            <p:cNvPr id="81" name=""/>
            <p:cNvSpPr/>
            <p:nvPr/>
          </p:nvSpPr>
          <p:spPr>
            <a:xfrm>
              <a:off x="579240" y="1675440"/>
              <a:ext cx="269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Método de Coutag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4760" y="2390040"/>
              <a:ext cx="8058240" cy="39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ste método es aplicable para valores de precipitación (m/año) comprendidos en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re el intervalo definido por 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1                             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------           y            -----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8 *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2 *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onde 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= -----------------------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0,8 + 0,14 * 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iendo 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 = temperatura media anual en °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4240" y="1065960"/>
            <a:ext cx="31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VAPOTRANSPI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79240" y="1675440"/>
            <a:ext cx="7194960" cy="3768480"/>
            <a:chOff x="579240" y="1675440"/>
            <a:chExt cx="7194960" cy="3768480"/>
          </a:xfrm>
        </p:grpSpPr>
        <p:sp>
          <p:nvSpPr>
            <p:cNvPr id="86" name=""/>
            <p:cNvSpPr/>
            <p:nvPr/>
          </p:nvSpPr>
          <p:spPr>
            <a:xfrm>
              <a:off x="579240" y="1675440"/>
              <a:ext cx="269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Método de Coutag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49200" y="2363400"/>
              <a:ext cx="6525000" cy="30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ara dicho rango el autor propone la siguiente expresión 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                                    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ETR = P - 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Symbol"/>
                  <a:ea typeface="Symbol"/>
                </a:rPr>
                <a:t>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 * P</a:t>
              </a:r>
              <a:r>
                <a:rPr b="1" lang="es-ES_tradnl" sz="1800" spc="-1" strike="noStrike" baseline="30000">
                  <a:solidFill>
                    <a:srgbClr val="990033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onde 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TP = Evapotranspiración real en m/año; 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 = Precipitación en m/añ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21480" y="1501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7120" y="716760"/>
            <a:ext cx="8061480" cy="57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VAPOTRANSPI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étodo de Blaney-Cridd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e método permite determinar la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evapotranspiración potencial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. 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igor, permite definir el consumo de agua de los cultivos y de alg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s tipos de vegetación, razón por la cual es utilizado para evalu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querimientos agrícol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método es aplicable mensualmente y depende de la tempera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tmosférica, del número de horas de sol y del tipo de cultiv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relación propuesta por los autores señalados es la siguient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EVP</a:t>
            </a:r>
            <a:r>
              <a:rPr b="1" lang="es-ES_tradnl" sz="1800" spc="-1" strike="noStrike" baseline="-25000">
                <a:solidFill>
                  <a:srgbClr val="990033"/>
                </a:solidFill>
                <a:latin typeface="Arial"/>
              </a:rPr>
              <a:t>m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= k * p * (0,457 * t + 8,1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nde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VP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es la necesidad de agua del cultiv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k es un coeficiente mensual empírico propio del cultiv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 es el porcentaje de horas de Sol a lo largo del año (dep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de la latitud y el m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 es la temperatura media mensual en °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21480" y="1501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5680" y="789840"/>
            <a:ext cx="8007840" cy="55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VAPOTRANSPI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étodo de Blaney-Cridd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Para determinar la evapotranspiración total en el período de riego 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crecimiento de las plantas, se deberá considerar lo siguiente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EVP  =  </a:t>
            </a:r>
            <a:r>
              <a:rPr b="1" lang="es-ES_tradnl" sz="1600" spc="-1" strike="noStrike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(EVP</a:t>
            </a:r>
            <a:r>
              <a:rPr b="1" lang="es-ES_tradnl" sz="1600" spc="-1" strike="noStrike" baseline="-25000">
                <a:solidFill>
                  <a:srgbClr val="990033"/>
                </a:solidFill>
                <a:latin typeface="Arial"/>
              </a:rPr>
              <a:t>m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 forma que 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EVP  =  K * </a:t>
            </a:r>
            <a:r>
              <a:rPr b="1" lang="es-ES_tradnl" sz="1600" spc="-1" strike="noStrike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p * (0,457 * t + 8,13)  =  K * 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end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K = </a:t>
            </a:r>
            <a:r>
              <a:rPr b="1" lang="es-ES_tradnl" sz="1600" spc="-1" strike="noStrike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                                          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f  = p * (0,457 * t + 8,1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F = </a:t>
            </a:r>
            <a:r>
              <a:rPr b="1" lang="es-ES_tradnl" sz="1600" spc="-1" strike="noStrike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De esta forma, K corresponde al coeficiente de evapotranspi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cional para el período de riego o crecimiento del cultiv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3:27:49Z</dcterms:created>
  <dc:creator>usuario</dc:creator>
  <dc:description/>
  <dc:language>en-US</dc:language>
  <cp:lastModifiedBy>Carlos Parraguez</cp:lastModifiedBy>
  <dcterms:modified xsi:type="dcterms:W3CDTF">2005-08-31T17:29:46Z</dcterms:modified>
  <cp:revision>536</cp:revision>
  <dc:subject/>
  <dc:title>Sin título de diapositiva</dc:title>
</cp:coreProperties>
</file>