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80D-EC3E-4F97-9B68-81923119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0CE-BB5E-4E86-A6E3-135F123D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CF4-27CD-461B-9F3D-9315412D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322-150A-432C-AC3A-67670879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C6E-A7B2-47A6-82B6-EFDE09F8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8E1-EDC1-472E-99B8-6BA45CE0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F6B-C950-4AAC-AA48-B15F5AD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C87-BC7F-4BF1-B6CC-2D32D76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F7D-499F-4211-A61C-C45DB1C1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C9D-0650-43E8-B074-0BEDADC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AB8-4E62-4A70-8F1B-563E1FC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E1F-032F-446A-9034-E61070D6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EFF2-97E9-4305-BF08-5E6F10D3E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ipsometricas_Elvira" descr=""/>
          <p:cNvPicPr/>
          <p:nvPr/>
        </p:nvPicPr>
        <p:blipFill>
          <a:blip r:embed="rId1"/>
          <a:stretch/>
        </p:blipFill>
        <p:spPr>
          <a:xfrm>
            <a:off x="3668760" y="101520"/>
            <a:ext cx="51228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236880" y="1659960"/>
            <a:ext cx="2925360" cy="2014560"/>
            <a:chOff x="236880" y="1659960"/>
            <a:chExt cx="2925360" cy="2014560"/>
          </a:xfrm>
        </p:grpSpPr>
        <p:sp>
          <p:nvSpPr>
            <p:cNvPr id="72" name=""/>
            <p:cNvSpPr/>
            <p:nvPr/>
          </p:nvSpPr>
          <p:spPr>
            <a:xfrm>
              <a:off x="402120" y="165996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880" y="2665800"/>
              <a:ext cx="292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Bandas Hipsométric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en la cuenca 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Salar Elvi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3680" y="2132640"/>
              <a:ext cx="25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PRECIPIT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7400" y="1536480"/>
            <a:ext cx="7754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proceso físico mediante el cual el agua pasa de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íquido al gaseoso, se denomina evapo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e cambio de estado requiere, necesariamente, de 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sión de calor, que alcanza más o menos a 600 calor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 gramo de agua que se evap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energía calórica, directa o indirectamente, provi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energía radiante del S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que las moléculas de agua, que se encuentran en c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cto con la atmósfera, pasen a incorporarse a ésta, deb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án tener la suficiente energía cinética y la atmósfera deb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á tener capacidad para admitir el vapor de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9200" y="1689120"/>
            <a:ext cx="797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as variables de las cuales depende este proceso son las s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ent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 La presión de vapor de la atmósfe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 La velocidad del vien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 La composición química del a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 La presión atmosféric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 La temperatura del aire y del a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 El volumen de agua desde el que se produce la evap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680" y="1384200"/>
            <a:ext cx="803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grado de humedad del aire en contacto con el agua y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novación de estas masas producto del viento, son parám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os relevantes en el proceso de evaporación. Por ejempl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as áreas altiplánicas (de baja humedad atmosférica), la 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poración es muy importante. En los salares de Ascotán, 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cama y Maricunga, desde la superficie de agua libre, se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terminado tasas medias entre 3,5 y 4,0 mm/d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aguas a igual temperatura, la tensión de vapor disminu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e en la medida en que aumenta la concentración de sales d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eltas. Se estima que un 1% de aumento de la 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minuye en igual porcentaje la evapo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960" y="1231560"/>
            <a:ext cx="804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as tasas de evaporación desde un suelo saturado son mu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ilares a las que se verifican desde la superficie de agua l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, siempre que las condiciones ambientales sean análog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condición se cumple, por ejemplo, en zonas donde el n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l estático se encuentra próximo a la superfic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paso directo del estado sólido al estado gaseoso se den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a sublimación, siendo fuertemente dependiente de la vel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dad del viento. Algunos autores (Custodio-Llamas, 1996) i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an que se puede estimar en unos 15 mm/mes para veloc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des moderadas de viento y en unos 150 mm/mes para vel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dades cercanas a 5 m/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4520" y="1077840"/>
            <a:ext cx="8242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os instrumentos que permiten medir la evaporación se cl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fican en : estanques de evaporación, evaporímetros de b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nza y evaporímetros de superficie por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estanque de evaporación de mayor difusión correspo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Clase A diseñado por el U.S. Weather Bureau. Es un depó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o metálico cilíndrico y galvanizado, que tiene un diá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1,2 m y 25,4 cm de al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e instrumento se instala sobre un enrejado de madera (li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nes) construido 15 cm sobre 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Evap-Bandeja" descr=""/>
          <p:cNvPicPr/>
          <p:nvPr/>
        </p:nvPicPr>
        <p:blipFill>
          <a:blip r:embed="rId1"/>
          <a:stretch/>
        </p:blipFill>
        <p:spPr>
          <a:xfrm>
            <a:off x="914400" y="1023840"/>
            <a:ext cx="7543800" cy="55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6680" y="1168200"/>
            <a:ext cx="807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Una variante de tanque de evaporación es el evaporí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orado”, que corresponde a un receptáculo de s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drada de lado equivalente a 91 cm y 46 cm de altura.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mplaza semienterrado en el terreno, de forma que sobr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alga de éste 10 c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Debido al reducido volumen de estos evaporímetros, los v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res que entregan siempre incorporan un error por ex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eliminar dicha inexactitud se utilizan coeficient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mbalse, según el modelo, que varían entre 0,6 y 0,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Evap_colorado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84836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8840" y="1091880"/>
            <a:ext cx="81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evaporímetro de balanza de mayor uso es el denomin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 Wild, que corresponde a un pequeño receptáculo de á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 equivalente a 250 c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35 mm de altura. Se empla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una balanza, a la que puede adaptarse un tambor 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torio y una plumilla inscriptora, con el fin de obtener 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istr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Debido al reducido volumen de estos evaporímetros, los v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res que entregan incorporan errores, que pueden corregi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en base a los datos del evaporímetro de bande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os evaporímetros de superficie porosa más conocidos 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denominados “Piché” y “Livingston”. Son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evaporan a través de medios porosos que ponen el a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ontacto con la atmósf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240" y="1625760"/>
            <a:ext cx="8076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usual instalar un evaporímetro tipo “Piché” en la cas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 meteorológica, junto al termómetro de máxima y míni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Algunas correlaciones establecidas entre los evaporíme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ché” y evaporímetros de tanque, indican factores de p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cionalidad de 0,8. Autores como Remenieras (1960) h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lan de factores entre 0,45 y 0,6; la inexactitud puede ser al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9680" y="23911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Evaporímetros%20Sup.Porosa" descr=""/>
          <p:cNvPicPr/>
          <p:nvPr/>
        </p:nvPicPr>
        <p:blipFill>
          <a:blip r:embed="rId1"/>
          <a:stretch/>
        </p:blipFill>
        <p:spPr>
          <a:xfrm>
            <a:off x="2776680" y="152280"/>
            <a:ext cx="6130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6320" y="926640"/>
            <a:ext cx="7829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muy usual tener que transponer las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a estación dada hasta el área de estu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tarea se realiza teniendo en consideració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parámetro primordial y en ocasiones es interes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 considerar, además, variables como la latitud y la l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itud (correlación múltip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gradiente pluviométrico que caracteriza al área de e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udio se obtiene mediante regresiones que suelen ser l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les o en su defecto logarítmicas o exponen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habitual que deban seleccionarse los datos a utiliz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a que suelen producirse dispersiones fuertes, gener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s por condiciones particulares de alguna estación (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. Estación Cebolla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8480" y="989640"/>
            <a:ext cx="59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0160" y="1981080"/>
            <a:ext cx="8638920" cy="4057920"/>
            <a:chOff x="200160" y="1981080"/>
            <a:chExt cx="8638920" cy="4057920"/>
          </a:xfrm>
        </p:grpSpPr>
        <p:graphicFrame>
          <p:nvGraphicFramePr>
            <p:cNvPr id="64" name=""/>
            <p:cNvGraphicFramePr/>
            <p:nvPr/>
          </p:nvGraphicFramePr>
          <p:xfrm>
            <a:off x="2362320" y="1981080"/>
            <a:ext cx="6476760" cy="4057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1981080"/>
                      <a:ext cx="6476760" cy="40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200160" y="2840040"/>
            <a:ext cx="2057400" cy="1787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2840040"/>
                      <a:ext cx="2057400" cy="17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320" y="1582560"/>
            <a:ext cx="7983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Una vez obtenida la relación matemática correspondie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, se subdivide la cuenca en bandas hipsométr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uego a cada banda se le determina la precipitación s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ún la fórmula definida en la regres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Finalmente se calculan los volúmenes precipitados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banda hipsométrica (multiplicando el área de la b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 por la precipitación asignada), para luego hacer la su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 to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2-07-26T01:57:24Z</dcterms:modified>
  <cp:revision>416</cp:revision>
  <dc:subject/>
  <dc:title>Sin título de diapositiva</dc:title>
</cp:coreProperties>
</file>