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38E-7993-43EC-8BFC-BC12830F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9AD-317F-4706-BCFB-852D0EC3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977-94E9-440B-A6FE-7854F6C4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042-7BC7-4485-84C0-82F85CAA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D60-4129-4593-AAFB-B1B73DAC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68D-180D-4084-85C6-0CF5763A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8B6-8AE6-4EBD-9730-075F099F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F7F-8C41-4111-8F93-3A0D6F49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8C7-9024-4078-9ED5-CD2B489B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F1E-A2EB-4F5A-9FDE-0B1C9F0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206-6047-4C1E-9564-651EA46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E61-5042-465C-A2B1-16C12F9D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C921-E4D2-49AC-8FB1-632CC346C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II. 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SRGIS</cp:lastModifiedBy>
  <dcterms:modified xsi:type="dcterms:W3CDTF">2006-08-28T20:52:10Z</dcterms:modified>
  <cp:revision>7</cp:revision>
  <dc:subject/>
  <dc:title>Diapositiva 1</dc:title>
</cp:coreProperties>
</file>