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ABEA-A188-4B2C-8D3C-475884A5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8CB0-9727-4BE6-BDB0-E9E1E3EE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9BEF-732C-4190-A339-DCE4FDF4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15CF-D5ED-4E2F-807F-AF511578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AF0F-F461-4CEE-A726-14A32860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2F47-66A7-442D-861D-CD1E0E81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4D11-6ECE-4E23-B3BA-C54E21F1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A814-028A-49D2-A101-05C50989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609E-5266-44E6-B924-3111ED77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65AC-9B37-4D64-B24E-7CCA95E1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3CFE-E3F9-4BF1-B1BC-BC07DFF4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7753-9B35-4F3E-8C70-212A5157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5FF8-3E52-4BEA-947E-C1BAEC8A6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052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III. Las Imágenes Satelitales y sus Capac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916280"/>
            <a:ext cx="828036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ara comprender las capacidades que puede tener una imagen satelital, es necesario conocer dos datos important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Resolución espa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Resolución e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Estudiaremos los detalles referentes a 4 tipos de imágenes satelitales, ampliamente utilizadas hoy en d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Land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Ik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Quick 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4105080" cy="3908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122800" y="1628640"/>
            <a:ext cx="3409920" cy="388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03280" y="9810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Imagen IKONOS                                    Imagen QuickBi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98560" y="595008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¿ A que minas corresponde cada image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ANDS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213372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28 mts. multiespectral / 14 mts.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7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26920" y="3068640"/>
            <a:ext cx="732816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1268280"/>
            <a:ext cx="842472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Landsat podemos trabajar a escala 1:100.000 con comodidad, llegando incluso a poder trabajar 1:50.000 utilizando la banda pancro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rc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Oxidos de Fe (Hematita / Jaros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ada escena Landsat abarca un área de 180 x 180 km lo que permite tener una visión distrital/regional de cualquier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124000" y="1504800"/>
            <a:ext cx="5113440" cy="4948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58920" y="944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scena Landsat P001R0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13372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15 (VNIR), 30 (SWIR) y 90 (TIR) mts. multie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14 bandas multiespectrales / 1 banda estereoscóp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484360" y="3319560"/>
            <a:ext cx="431496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1268280"/>
            <a:ext cx="842472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Aster podemos trabajar a escala 1:50.000, 1:100.000 y 1:250.000, según el rango en el que trabaje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rcillas de alta y baja temperatura (Alunita, Kaolinita, Il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Minerales Fe3+ y Fe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Carbonatos y alteración propi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Silic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Gra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estudios detallados se puede llegar a identificar más minerales o asociaciones minerales. Cada escena Aster abarca un área de 60 x 60 km lo que permite tener una visión local/distrital de un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47640" y="1413000"/>
            <a:ext cx="5832720" cy="4917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58920" y="944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scena 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IKONOS &amp; QUICK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2133720"/>
            <a:ext cx="72741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IK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4 mts. multiespectral / 1 mts.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4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Quick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2.44 mts multiespectral / 0.61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4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Las bandas multiespectrales de ambos sensores s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CL" sz="1800" spc="-1" strike="noStrike">
                <a:solidFill>
                  <a:srgbClr val="ffffff"/>
                </a:solidFill>
                <a:latin typeface="Times New Roman"/>
              </a:rPr>
              <a:t>Azul, Verde, Rojo e Infrarrojo Cer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1268280"/>
            <a:ext cx="842472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IKONOS podemos trabajar a escala 1:8.000 (multiespectral) y 1:2.000 (pancromática), mientras con las imágenes QuickBIrd podemos trabajar a escala 1:5.000 (multiespectral) y 1:1.500 (pancromá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Óxidos de 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La ventaja de estas imágenes es su resolución espacial, lo que nos permite trabajar a una escala mucho más detallada para ordenamiento territorial, detección de cambios, mapeo local y distrital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Basta entonces imaginar lo que podríamos detectar con imágenes de alta resolución espacial y espectral. Hoy en día la mayoría de estas imágenes se obtiene desde sensores aerotransportados lo que las hace bastante ca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22:24:35Z</dcterms:created>
  <dc:creator>José Manuel Lattus</dc:creator>
  <dc:description/>
  <dc:language>en-US</dc:language>
  <cp:lastModifiedBy>SRGIS</cp:lastModifiedBy>
  <dcterms:modified xsi:type="dcterms:W3CDTF">2006-08-28T20:52:10Z</dcterms:modified>
  <cp:revision>7</cp:revision>
  <dc:subject/>
  <dc:title>Diapositiva 1</dc:title>
</cp:coreProperties>
</file>